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4EA-857B-4CEF-B26F-1357740B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0CB-0DC1-4569-8A9E-E7CBB432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A71-6B12-4DF5-9A19-7AC1E5E1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2E4-DA0F-49E6-BB7C-DA780C91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92C-B6B6-45AB-BFB2-4C2CD99B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102-38F5-4786-9EE1-94B22717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16C-26C3-4845-A9F6-938B3CBA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B63-9B71-4AF3-883E-4D6C8FC0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8AD-ABF0-4B58-99C1-EBD46BD3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C72-D78E-480E-9927-3E672FC5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BDE-9B43-4C44-B279-7EAE6621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D6E-A072-4832-AD27-EA967E4D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8818-C6C9-4503-8BBC-BEC3BE6872F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6AB1-A65F-4E7E-9C12-8509721F46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4902840" y="5079960"/>
            <a:ext cx="30852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394c"/>
                </a:solidFill>
                <a:latin typeface="微软雅黑"/>
              </a:rPr>
              <a:t>WorkInspir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4"/>
          <p:cNvSpPr/>
          <p:nvPr/>
        </p:nvSpPr>
        <p:spPr>
          <a:xfrm>
            <a:off x="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1520" y="92962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19400" y="18288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欧美创意风格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724680" y="8166240"/>
            <a:ext cx="708984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e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ols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nnovativ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de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177840" y="0"/>
            <a:ext cx="12826800" cy="7327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684720" y="8255160"/>
            <a:ext cx="983304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e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dventurer,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olver,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pion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760320" y="8255160"/>
            <a:ext cx="826740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at?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Leav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sland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4193640" y="3708360"/>
            <a:ext cx="87415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808992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e4e4e"/>
                </a:solidFill>
                <a:latin typeface="微软雅黑"/>
              </a:rPr>
              <a:t>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0899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8089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700" spc="-1" strike="noStrike">
                <a:solidFill>
                  <a:srgbClr val="4e4e4e"/>
                </a:solidFill>
                <a:latin typeface="微软雅黑"/>
              </a:rPr>
              <a:t>Y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6360" y="270000"/>
            <a:ext cx="116730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3720" y="1806480"/>
            <a:ext cx="12696840" cy="74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0363320" y="474840"/>
            <a:ext cx="1976400" cy="496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2F7-9B13-4BA4-8670-AFEE54701C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667440" y="8255160"/>
            <a:ext cx="50389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gether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nsp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705600" y="8255160"/>
            <a:ext cx="680688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grow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8102520" y="9220320"/>
            <a:ext cx="490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"/>
          <p:cNvSpPr/>
          <p:nvPr/>
        </p:nvSpPr>
        <p:spPr>
          <a:xfrm>
            <a:off x="0" y="5511960"/>
            <a:ext cx="13004640" cy="4241520"/>
          </a:xfrm>
          <a:prstGeom prst="pie">
            <a:avLst/>
          </a:prstGeom>
          <a:solidFill>
            <a:srgbClr val="544a5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7327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677160" y="8178840"/>
            <a:ext cx="54529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des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becom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reeform 3"/>
          <p:cNvSpPr/>
          <p:nvPr/>
        </p:nvSpPr>
        <p:spPr>
          <a:xfrm>
            <a:off x="0" y="5511960"/>
            <a:ext cx="13004640" cy="4241520"/>
          </a:xfrm>
          <a:prstGeom prst="pie">
            <a:avLst/>
          </a:prstGeom>
          <a:solidFill>
            <a:srgbClr val="544a5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73278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888840" y="8255160"/>
            <a:ext cx="102571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t’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easy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tuck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solated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Lost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Forgotten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lowly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725400" y="8255160"/>
            <a:ext cx="80103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ol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ethod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ol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710640" y="8255160"/>
            <a:ext cx="75891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nspire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ow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exp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775080" y="8255160"/>
            <a:ext cx="106603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ear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hat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peopl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lo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713880" y="8255160"/>
            <a:ext cx="82015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plac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pan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globe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Follow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856800" y="8255160"/>
            <a:ext cx="806040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can’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hav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b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05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