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08F-3D30-4ACB-A518-212173B6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11624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EEC-B43E-4C50-B42F-DD2D1B49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E85-60BF-4A95-BF29-B2CD7C98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DBB-2CEF-468B-8BC7-78BBEEDC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E2DF-261D-4C84-A39C-3F160FF9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677F-7E97-46A3-B5E4-A208B10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D6F1-E77D-4B94-B089-44BD3DA8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D1B2-46B7-402C-A801-AF09CAEA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A770-64B3-428C-9262-53CF3C22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53416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1D1F-E6D4-471A-8E47-3230F552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FC7B-8BE7-4438-BD34-366990DE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C93-D486-46A0-B505-B7226EA0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09C6-ED05-40F3-8240-E2CFEB10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A31F-E3D8-426C-902E-42D00BD2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11624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47AF-9C06-4282-9832-31BEF25E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7AA4-C008-4A96-A035-8F433733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24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56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24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756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D84A-B88D-4FE9-AFCF-38544DAC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397-FC8D-4197-AA0F-4979CD90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1E7-D302-4A1B-A9EF-A74C7423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CC9-6019-4155-9529-46227934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53416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CA5-96CC-4709-85FD-4F0F8A69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68E-4EF2-4CFE-BD65-50BE7473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06E-8DF8-4247-8C26-42AAFAAA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B2A-BE5D-4B9B-9904-35606F1C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4CA8-84FF-4682-9B9B-2065E235F76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1842-1135-4820-8A63-7D464AEFFEA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Bol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Bol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Copperplate Gothic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Radiosity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Bold"/>
              </a:rPr>
              <a:t>Your Subtitle Goes Here</a:t>
            </a: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062000"/>
            <a:ext cx="4318200" cy="4249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zzar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690480"/>
            <a:ext cx="5105160" cy="5024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zzar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1360" y="279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zzard"/>
              </a:rPr>
              <a:t>欧美</a:t>
            </a:r>
            <a:r>
              <a:rPr b="0" lang="zh-CN" sz="4000" spc="-1" strike="noStrike">
                <a:solidFill>
                  <a:srgbClr val="000000"/>
                </a:solidFill>
                <a:latin typeface="Wizzard"/>
                <a:ea typeface="宋体"/>
              </a:rPr>
              <a:t>风格</a:t>
            </a:r>
            <a:r>
              <a:rPr b="0" lang="en-US" sz="4000" spc="-1" strike="noStrike">
                <a:solidFill>
                  <a:srgbClr val="000000"/>
                </a:solidFill>
                <a:latin typeface="Wizzard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Wizzard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pic>
        <p:nvPicPr>
          <p:cNvPr id="90" name="radiosity_hiradik" descr=""/>
          <p:cNvPicPr/>
          <p:nvPr/>
        </p:nvPicPr>
        <p:blipFill>
          <a:blip r:embed="rId2"/>
          <a:stretch/>
        </p:blipFill>
        <p:spPr>
          <a:xfrm>
            <a:off x="8305920" y="5562720"/>
            <a:ext cx="7808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pic>
        <p:nvPicPr>
          <p:cNvPr id="96" name="radiosity_hiradik" descr=""/>
          <p:cNvPicPr/>
          <p:nvPr/>
        </p:nvPicPr>
        <p:blipFill>
          <a:blip r:embed="rId2"/>
          <a:stretch/>
        </p:blipFill>
        <p:spPr>
          <a:xfrm>
            <a:off x="8305920" y="5562720"/>
            <a:ext cx="7808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pperplate Gothic Bold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pperplate Gothic Bold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opperplate Gothic Bold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pperplate Gothic Bol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pperplate Gothic Bold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pperplate Gothic Bold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36F-577A-43AA-A36B-D96976220E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Element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1" name="radiosity_prt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02" name="radiosity_qx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03" name="radiosity_sld" descr=""/>
          <p:cNvPicPr/>
          <p:nvPr/>
        </p:nvPicPr>
        <p:blipFill>
          <a:blip r:embed="rId3"/>
          <a:stretch/>
        </p:blipFill>
        <p:spPr>
          <a:xfrm>
            <a:off x="2362320" y="1522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radiosity_trs" descr=""/>
          <p:cNvPicPr/>
          <p:nvPr/>
        </p:nvPicPr>
        <p:blipFill>
          <a:blip r:embed="rId4"/>
          <a:stretch/>
        </p:blipFill>
        <p:spPr>
          <a:xfrm>
            <a:off x="4724280" y="1522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radiosity_hiradik" descr=""/>
          <p:cNvPicPr/>
          <p:nvPr/>
        </p:nvPicPr>
        <p:blipFill>
          <a:blip r:embed="rId5"/>
          <a:stretch/>
        </p:blipFill>
        <p:spPr>
          <a:xfrm>
            <a:off x="4181400" y="365760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6:48:2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11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