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32C6-D394-4D93-822E-3472CD476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0CD2-8761-4AC0-9E83-0E7C53BC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59CF-E222-4EBB-B3A9-1BF2E0907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6200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31412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988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556200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731412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A6EB-D43D-44B0-8527-CD537F315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3809880" y="1905120"/>
            <a:ext cx="51818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6029-E0E3-4EEF-90F2-56159B8D3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56200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314120" y="495252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80988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556200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7314120" y="5151960"/>
            <a:ext cx="16682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5E22-46B5-4A64-95E3-F36E8F43C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3BC4-133B-433A-8A77-F9D550826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43F4-29BD-4998-B5DF-49E82ECE6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9880" y="1905120"/>
            <a:ext cx="51818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4D3C-0412-439E-8663-2F27D882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EE75-22F3-4884-8345-A7C42A176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65240" y="515196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F16C-83BA-46DD-A2BA-0F6A793BF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988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465240" y="4952520"/>
            <a:ext cx="2528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9880" y="5151960"/>
            <a:ext cx="51818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7347-90F4-44B9-813A-62849BEDC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99320"/>
            <a:ext cx="9144000" cy="69840"/>
          </a:xfrm>
          <a:prstGeom prst="rect">
            <a:avLst/>
          </a:prstGeom>
          <a:solidFill>
            <a:srgbClr val="c0c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54080" y="0"/>
            <a:ext cx="8089920" cy="801720"/>
          </a:xfrm>
          <a:prstGeom prst="rect">
            <a:avLst/>
          </a:prstGeom>
          <a:gradFill rotWithShape="0">
            <a:gsLst>
              <a:gs pos="0">
                <a:srgbClr val="52b47e"/>
              </a:gs>
              <a:gs pos="100000">
                <a:srgbClr val="2552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46160" y="782640"/>
            <a:ext cx="8097840" cy="317520"/>
          </a:xfrm>
          <a:prstGeom prst="rect">
            <a:avLst/>
          </a:prstGeom>
          <a:solidFill>
            <a:srgbClr val="b7e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054080" cy="11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54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" name=""/>
          <p:cNvGrpSpPr/>
          <p:nvPr/>
        </p:nvGrpSpPr>
        <p:grpSpPr>
          <a:xfrm>
            <a:off x="8027640" y="38160"/>
            <a:ext cx="912960" cy="936720"/>
            <a:chOff x="8027640" y="38160"/>
            <a:chExt cx="912960" cy="936720"/>
          </a:xfrm>
        </p:grpSpPr>
        <p:sp>
          <p:nvSpPr>
            <p:cNvPr id="6" name=""/>
            <p:cNvSpPr/>
            <p:nvPr/>
          </p:nvSpPr>
          <p:spPr>
            <a:xfrm flipH="1" flipV="1">
              <a:off x="8231760" y="191160"/>
              <a:ext cx="1800" cy="149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90360" y="232200"/>
              <a:ext cx="85320" cy="70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8390520" y="92160"/>
              <a:ext cx="87480" cy="6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240040" y="71640"/>
              <a:ext cx="383400" cy="10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8524440" y="149400"/>
              <a:ext cx="7560" cy="1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18680" y="146880"/>
              <a:ext cx="540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8429040" y="186480"/>
              <a:ext cx="720" cy="15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8289720" y="236520"/>
              <a:ext cx="225720" cy="6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290800" y="317520"/>
              <a:ext cx="22464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8582760" y="204840"/>
              <a:ext cx="144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29120" y="237960"/>
              <a:ext cx="142920" cy="10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29120" y="319680"/>
              <a:ext cx="141840" cy="111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 flipV="1">
              <a:off x="8604360" y="128160"/>
              <a:ext cx="150480" cy="110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8593560" y="151200"/>
              <a:ext cx="142920" cy="42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8531640" y="107280"/>
              <a:ext cx="142920" cy="42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8757000" y="250560"/>
              <a:ext cx="3960" cy="150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8686080" y="304200"/>
              <a:ext cx="14472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12560" y="811440"/>
              <a:ext cx="97200" cy="84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8562240" y="783360"/>
              <a:ext cx="72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8512560" y="740160"/>
              <a:ext cx="72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>
              <a:off x="8773560" y="774000"/>
              <a:ext cx="360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23800" y="793440"/>
              <a:ext cx="300600" cy="104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8785440" y="714600"/>
              <a:ext cx="141840" cy="4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8777160" y="762480"/>
              <a:ext cx="7920" cy="2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8777160" y="765360"/>
              <a:ext cx="0" cy="8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14080" y="698760"/>
              <a:ext cx="97920" cy="82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8571960" y="724320"/>
              <a:ext cx="144000" cy="47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8521200" y="681840"/>
              <a:ext cx="14292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8122680" y="690120"/>
              <a:ext cx="252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38800" y="681840"/>
              <a:ext cx="176040" cy="162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8118000" y="678240"/>
              <a:ext cx="4680" cy="3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flipV="1">
              <a:off x="8036640" y="603720"/>
              <a:ext cx="81360" cy="73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8123040" y="681480"/>
              <a:ext cx="1080" cy="8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8227440" y="794520"/>
              <a:ext cx="155520" cy="5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flipV="1">
              <a:off x="8300520" y="750240"/>
              <a:ext cx="72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flipV="1">
              <a:off x="8381880" y="723960"/>
              <a:ext cx="108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8166600" y="662040"/>
              <a:ext cx="154440" cy="50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flipV="1">
              <a:off x="8208360" y="661320"/>
              <a:ext cx="86760" cy="77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flipV="1">
              <a:off x="8290800" y="634680"/>
              <a:ext cx="86400" cy="75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58200" y="842400"/>
              <a:ext cx="396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8461800" y="844200"/>
              <a:ext cx="6840" cy="2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8449200" y="583920"/>
              <a:ext cx="144000" cy="122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453160" y="631440"/>
              <a:ext cx="150840" cy="50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69640" y="609840"/>
              <a:ext cx="88200" cy="74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58200" y="684720"/>
              <a:ext cx="468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462520" y="687600"/>
              <a:ext cx="7560" cy="1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483400" y="714600"/>
              <a:ext cx="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67920" y="771840"/>
              <a:ext cx="44640" cy="39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8336880" y="619560"/>
              <a:ext cx="86760" cy="75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32560" y="647280"/>
              <a:ext cx="8064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429760" y="708120"/>
              <a:ext cx="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3320" y="770760"/>
              <a:ext cx="70560" cy="23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139240" y="329040"/>
              <a:ext cx="86760" cy="71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078400" y="351720"/>
              <a:ext cx="14796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358480" y="365400"/>
              <a:ext cx="1080" cy="23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129160" y="438480"/>
              <a:ext cx="385200" cy="119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282880" y="386280"/>
              <a:ext cx="7920" cy="2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282880" y="388800"/>
              <a:ext cx="1080" cy="8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187480" y="310320"/>
              <a:ext cx="0" cy="7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87480" y="307800"/>
              <a:ext cx="7560" cy="1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8070120" y="405720"/>
              <a:ext cx="5400" cy="234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32680" y="483840"/>
              <a:ext cx="82440" cy="73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718120" y="413640"/>
              <a:ext cx="144000" cy="45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8762040" y="413280"/>
              <a:ext cx="97200" cy="73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30800" y="381600"/>
              <a:ext cx="5400" cy="4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835120" y="386280"/>
              <a:ext cx="1440" cy="7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27320" y="439560"/>
              <a:ext cx="249120" cy="19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77080" y="434160"/>
              <a:ext cx="0" cy="9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8670960" y="430920"/>
              <a:ext cx="5400" cy="2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856360" y="500400"/>
              <a:ext cx="7560" cy="237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788320" y="592200"/>
              <a:ext cx="144000" cy="4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38800" y="674640"/>
              <a:ext cx="3600" cy="7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35560" y="600120"/>
              <a:ext cx="4680" cy="148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40240" y="744840"/>
              <a:ext cx="396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039880" y="596520"/>
              <a:ext cx="3960" cy="148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5560" y="596520"/>
              <a:ext cx="4680" cy="7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76040" y="302760"/>
              <a:ext cx="13680" cy="7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8281800" y="227160"/>
              <a:ext cx="720" cy="154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274600" y="226080"/>
              <a:ext cx="1800" cy="150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74960" y="226440"/>
              <a:ext cx="13680" cy="7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8640" y="227520"/>
              <a:ext cx="1800" cy="15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77120" y="376920"/>
              <a:ext cx="13680" cy="93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4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23800" y="69840"/>
              <a:ext cx="756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8584200" y="38880"/>
              <a:ext cx="9540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79880" y="38160"/>
              <a:ext cx="684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86720" y="44640"/>
              <a:ext cx="9612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75280" y="107280"/>
              <a:ext cx="7920" cy="54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6200" y="9144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193240" y="38880"/>
              <a:ext cx="382320" cy="108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92160" y="14580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192160" y="43560"/>
              <a:ext cx="382320" cy="108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74840" y="3816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32120" y="181800"/>
              <a:ext cx="756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91440" y="151560"/>
              <a:ext cx="85320" cy="68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97200" y="146880"/>
              <a:ext cx="86760" cy="69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74960" y="216360"/>
              <a:ext cx="864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8188920" y="158040"/>
              <a:ext cx="8532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89280" y="146880"/>
              <a:ext cx="7560" cy="10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22200" y="176040"/>
              <a:ext cx="5400" cy="12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87560" y="153360"/>
              <a:ext cx="230760" cy="68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83960" y="146880"/>
              <a:ext cx="234360" cy="69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16520" y="146880"/>
              <a:ext cx="1800" cy="14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10"/>
                  </a:lnTo>
                  <a:lnTo>
                    <a:pt x="2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288640" y="160920"/>
              <a:ext cx="227520" cy="6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3960" y="216360"/>
              <a:ext cx="4680" cy="111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15440" y="23580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2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522280" y="160560"/>
              <a:ext cx="108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515440" y="160560"/>
              <a:ext cx="108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16520" y="160920"/>
              <a:ext cx="12240" cy="2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29120" y="163800"/>
              <a:ext cx="0" cy="155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15440" y="31752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74840" y="42840"/>
              <a:ext cx="11520" cy="18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89280" y="225720"/>
              <a:ext cx="396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8188200" y="154440"/>
              <a:ext cx="2520" cy="151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191800" y="151200"/>
              <a:ext cx="2520" cy="156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87480" y="151560"/>
              <a:ext cx="4680" cy="61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91440" y="305640"/>
              <a:ext cx="3600" cy="25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72400" y="347760"/>
              <a:ext cx="1368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78160" y="273240"/>
              <a:ext cx="1800" cy="154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671320" y="271440"/>
              <a:ext cx="3600" cy="159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75280" y="27180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685000" y="273600"/>
              <a:ext cx="3600" cy="1508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71320" y="424800"/>
              <a:ext cx="13680" cy="64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10" y="8"/>
                  </a:lnTo>
                  <a:lnTo>
                    <a:pt x="18" y="6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01120" y="205920"/>
              <a:ext cx="7920" cy="10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29120" y="154440"/>
              <a:ext cx="147600" cy="109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32000" y="149760"/>
              <a:ext cx="150840" cy="110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75280" y="260280"/>
              <a:ext cx="792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8528760" y="163440"/>
              <a:ext cx="145800" cy="107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29120" y="149760"/>
              <a:ext cx="2520" cy="14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2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55200" y="239040"/>
              <a:ext cx="576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686080" y="221760"/>
              <a:ext cx="14580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683200" y="216360"/>
              <a:ext cx="14364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6840" y="216360"/>
              <a:ext cx="5760" cy="12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688960" y="229680"/>
              <a:ext cx="14400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3200" y="260280"/>
              <a:ext cx="5400" cy="129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10" y="18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53040" y="162720"/>
              <a:ext cx="792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8680320" y="107280"/>
              <a:ext cx="152640" cy="110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200" y="113040"/>
              <a:ext cx="151560" cy="110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26840" y="216360"/>
              <a:ext cx="7920" cy="7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57000" y="401400"/>
              <a:ext cx="468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686800" y="387000"/>
              <a:ext cx="14292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685000" y="378360"/>
              <a:ext cx="143640" cy="45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29000" y="378720"/>
              <a:ext cx="396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690760" y="391680"/>
              <a:ext cx="14184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85000" y="42480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6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0800" y="302760"/>
              <a:ext cx="2520" cy="14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831880" y="226440"/>
              <a:ext cx="4680" cy="1540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829000" y="229680"/>
              <a:ext cx="3960" cy="149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32960" y="22392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29000" y="378720"/>
              <a:ext cx="2520" cy="2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62240" y="927000"/>
              <a:ext cx="6840" cy="5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2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14720" y="886680"/>
              <a:ext cx="97200" cy="85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12560" y="882720"/>
              <a:ext cx="96120" cy="85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09040" y="968400"/>
              <a:ext cx="7560" cy="5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12560" y="882720"/>
              <a:ext cx="4680" cy="54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09480" y="78228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622360" y="768240"/>
              <a:ext cx="148680" cy="49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8624520" y="774000"/>
              <a:ext cx="152640" cy="5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9840" y="812520"/>
              <a:ext cx="4680" cy="140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19840" y="763200"/>
              <a:ext cx="144000" cy="48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63840" y="763560"/>
              <a:ext cx="13320" cy="10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18"/>
                  </a:moveTo>
                  <a:lnTo>
                    <a:pt x="20" y="12"/>
                  </a:lnTo>
                  <a:lnTo>
                    <a:pt x="14" y="6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10120" y="896040"/>
              <a:ext cx="13680" cy="3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16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614440" y="826560"/>
              <a:ext cx="180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622360" y="826560"/>
              <a:ext cx="180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09040" y="968400"/>
              <a:ext cx="1332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2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09040" y="823320"/>
              <a:ext cx="2520" cy="144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11920" y="823680"/>
              <a:ext cx="1224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770680" y="916560"/>
              <a:ext cx="252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19840" y="868320"/>
              <a:ext cx="299520" cy="104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22720" y="865080"/>
              <a:ext cx="297720" cy="105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14680" y="865080"/>
              <a:ext cx="5760" cy="3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16960" y="970200"/>
              <a:ext cx="540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24400" y="79092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925480" y="711000"/>
              <a:ext cx="4680" cy="149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920440" y="714240"/>
              <a:ext cx="6840" cy="150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27280" y="711000"/>
              <a:ext cx="2520" cy="3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20440" y="85824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0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14680" y="858240"/>
              <a:ext cx="792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07320" y="706320"/>
              <a:ext cx="756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669880" y="677880"/>
              <a:ext cx="99000" cy="81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8664120" y="681480"/>
              <a:ext cx="99000" cy="81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64480" y="67176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72400" y="671760"/>
              <a:ext cx="101160" cy="80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63840" y="752400"/>
              <a:ext cx="9360" cy="111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6" y="18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63320" y="771840"/>
              <a:ext cx="8640" cy="111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15440" y="733680"/>
              <a:ext cx="98280" cy="83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21560" y="729000"/>
              <a:ext cx="97920" cy="83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11920" y="812520"/>
              <a:ext cx="756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513280" y="740160"/>
              <a:ext cx="98280" cy="835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3640" y="729000"/>
              <a:ext cx="7920" cy="10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4200" y="74484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4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26360" y="34128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89280" y="312120"/>
              <a:ext cx="85320" cy="71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91440" y="305640"/>
              <a:ext cx="85320" cy="71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69200" y="37692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8183160" y="316440"/>
              <a:ext cx="85320" cy="70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83520" y="305640"/>
              <a:ext cx="756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25920" y="832320"/>
              <a:ext cx="9360" cy="54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6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43480" y="756000"/>
              <a:ext cx="174960" cy="164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15560" y="915840"/>
              <a:ext cx="7560" cy="5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8049600" y="757080"/>
              <a:ext cx="173160" cy="164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41680" y="751320"/>
              <a:ext cx="8280" cy="54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0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14840" y="844200"/>
              <a:ext cx="12240" cy="2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8219160" y="775080"/>
              <a:ext cx="1800" cy="143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213400" y="771480"/>
              <a:ext cx="1800" cy="14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13760" y="771840"/>
              <a:ext cx="1260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26360" y="775080"/>
              <a:ext cx="2520" cy="143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15560" y="915840"/>
              <a:ext cx="1368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60120" y="713160"/>
              <a:ext cx="7560" cy="111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8127720" y="687600"/>
              <a:ext cx="87480" cy="77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8122680" y="690480"/>
              <a:ext cx="90360" cy="81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23040" y="684720"/>
              <a:ext cx="12240" cy="54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35640" y="684720"/>
              <a:ext cx="85680" cy="77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13760" y="762480"/>
              <a:ext cx="792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0520" y="892080"/>
              <a:ext cx="720" cy="46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8"/>
                  </a:move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227080" y="870480"/>
              <a:ext cx="154440" cy="5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3480" y="918360"/>
              <a:ext cx="5760" cy="3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2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229240" y="865800"/>
              <a:ext cx="153720" cy="5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81160" y="865800"/>
              <a:ext cx="180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95480" y="738360"/>
              <a:ext cx="468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10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224200" y="716760"/>
              <a:ext cx="156600" cy="50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226360" y="724320"/>
              <a:ext cx="155520" cy="504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1680" y="762480"/>
              <a:ext cx="4680" cy="1224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4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221680" y="710640"/>
              <a:ext cx="155520" cy="5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77200" y="711000"/>
              <a:ext cx="468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9520" y="643320"/>
              <a:ext cx="4680" cy="12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6" y="1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132040" y="630360"/>
              <a:ext cx="155520" cy="486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135640" y="635040"/>
              <a:ext cx="154800" cy="49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30960" y="672480"/>
              <a:ext cx="468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4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130960" y="622800"/>
              <a:ext cx="153720" cy="496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84680" y="622800"/>
              <a:ext cx="5760" cy="122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78720" y="853560"/>
              <a:ext cx="6840" cy="5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8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67920" y="846360"/>
              <a:ext cx="46800" cy="39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8467920" y="843120"/>
              <a:ext cx="44640" cy="39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65760" y="843480"/>
              <a:ext cx="1800" cy="25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4360" y="619920"/>
              <a:ext cx="756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8524080" y="557640"/>
              <a:ext cx="145800" cy="119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8518320" y="562320"/>
              <a:ext cx="145800" cy="119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18680" y="551520"/>
              <a:ext cx="8280" cy="11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6" y="1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27320" y="551520"/>
              <a:ext cx="144720" cy="120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29760" y="576720"/>
              <a:ext cx="396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366400" y="557280"/>
              <a:ext cx="14868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369280" y="562680"/>
              <a:ext cx="14868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64600" y="598320"/>
              <a:ext cx="4680" cy="11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20"/>
                  </a:moveTo>
                  <a:lnTo>
                    <a:pt x="4" y="16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364600" y="550080"/>
              <a:ext cx="149760" cy="4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14720" y="550440"/>
              <a:ext cx="396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79440" y="700560"/>
              <a:ext cx="7560" cy="10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67920" y="693360"/>
              <a:ext cx="47520" cy="403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70800" y="687600"/>
              <a:ext cx="50760" cy="41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467920" y="701640"/>
              <a:ext cx="45360" cy="38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65760" y="687600"/>
              <a:ext cx="4680" cy="140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2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54240" y="770400"/>
              <a:ext cx="13680" cy="14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62160" y="698760"/>
              <a:ext cx="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67920" y="701640"/>
              <a:ext cx="0" cy="14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54240" y="841680"/>
              <a:ext cx="13680" cy="18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454240" y="698760"/>
              <a:ext cx="0" cy="14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54240" y="698760"/>
              <a:ext cx="13680" cy="28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21120" y="852840"/>
              <a:ext cx="144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382240" y="844200"/>
              <a:ext cx="75600" cy="25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54240" y="841680"/>
              <a:ext cx="396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383320" y="841680"/>
              <a:ext cx="70560" cy="24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18240" y="698040"/>
              <a:ext cx="3960" cy="118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381160" y="691200"/>
              <a:ext cx="7668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377200" y="684360"/>
              <a:ext cx="80640" cy="26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54240" y="684720"/>
              <a:ext cx="3960" cy="14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381880" y="698760"/>
              <a:ext cx="7164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20680" y="611640"/>
              <a:ext cx="3960" cy="1224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6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287200" y="604080"/>
              <a:ext cx="78840" cy="262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90800" y="609840"/>
              <a:ext cx="78480" cy="25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284680" y="597960"/>
              <a:ext cx="79560" cy="241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5920" y="330840"/>
              <a:ext cx="396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033040" y="315000"/>
              <a:ext cx="150840" cy="439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32680" y="358920"/>
              <a:ext cx="3960" cy="4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032680" y="317160"/>
              <a:ext cx="154440" cy="4572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83520" y="315000"/>
              <a:ext cx="360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70480" y="39564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32680" y="365760"/>
              <a:ext cx="82440" cy="702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36640" y="360000"/>
              <a:ext cx="83520" cy="72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2600" y="432360"/>
              <a:ext cx="7560" cy="10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8028360" y="370080"/>
              <a:ext cx="83880" cy="72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14840" y="403200"/>
              <a:ext cx="468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123040" y="391320"/>
              <a:ext cx="15372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120160" y="386640"/>
              <a:ext cx="148680" cy="450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9200" y="387000"/>
              <a:ext cx="13320" cy="100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8" y="4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4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25560" y="397440"/>
              <a:ext cx="15660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20160" y="432360"/>
              <a:ext cx="5400" cy="11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14720" y="438840"/>
              <a:ext cx="12240" cy="2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521560" y="317160"/>
              <a:ext cx="720" cy="230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8514720" y="317520"/>
              <a:ext cx="720" cy="23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526960" y="319680"/>
              <a:ext cx="1800" cy="231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14720" y="548640"/>
              <a:ext cx="12240" cy="2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30520" y="47808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8027640" y="366120"/>
              <a:ext cx="7560" cy="2336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8032320" y="363600"/>
              <a:ext cx="7560" cy="23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28000" y="36360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15480" y="558000"/>
              <a:ext cx="12240" cy="18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8118000" y="444240"/>
              <a:ext cx="6840" cy="2325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8112240" y="442800"/>
              <a:ext cx="5400" cy="235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12600" y="442800"/>
              <a:ext cx="13320" cy="14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25920" y="444240"/>
              <a:ext cx="4680" cy="227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18360" y="672480"/>
              <a:ext cx="12240" cy="5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10" y="8"/>
                  </a:lnTo>
                  <a:lnTo>
                    <a:pt x="16" y="4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7040" y="465120"/>
              <a:ext cx="8640" cy="100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81040" y="438840"/>
              <a:ext cx="99000" cy="77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90760" y="437040"/>
              <a:ext cx="96120" cy="748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78600" y="511920"/>
              <a:ext cx="8640" cy="10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8676720" y="443520"/>
              <a:ext cx="101160" cy="784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77080" y="437040"/>
              <a:ext cx="13680" cy="64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9240" y="487440"/>
              <a:ext cx="4680" cy="12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790120" y="469800"/>
              <a:ext cx="14472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8787240" y="465120"/>
              <a:ext cx="14292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930160" y="465120"/>
              <a:ext cx="5400" cy="129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0"/>
                  </a:moveTo>
                  <a:lnTo>
                    <a:pt x="4" y="6"/>
                  </a:lnTo>
                  <a:lnTo>
                    <a:pt x="8" y="10"/>
                  </a:lnTo>
                  <a:lnTo>
                    <a:pt x="10" y="18"/>
                  </a:lnTo>
                  <a:lnTo>
                    <a:pt x="10" y="2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791920" y="478080"/>
              <a:ext cx="143640" cy="4680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87240" y="511920"/>
              <a:ext cx="4680" cy="129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8" y="18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869680" y="418320"/>
              <a:ext cx="6840" cy="64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2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8836200" y="389880"/>
              <a:ext cx="99000" cy="759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8832960" y="391320"/>
              <a:ext cx="97200" cy="7308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832960" y="390240"/>
              <a:ext cx="3600" cy="3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5120" y="393840"/>
              <a:ext cx="104040" cy="777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30160" y="465120"/>
              <a:ext cx="8640" cy="64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775720" y="639720"/>
              <a:ext cx="12240" cy="14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778600" y="524880"/>
              <a:ext cx="6840" cy="2343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773560" y="522000"/>
              <a:ext cx="4680" cy="2300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8600" y="522360"/>
              <a:ext cx="13680" cy="28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785080" y="525240"/>
              <a:ext cx="6840" cy="2372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3560" y="752400"/>
              <a:ext cx="11520" cy="100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4" y="8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2" y="1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932320" y="590040"/>
              <a:ext cx="3600" cy="2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8930160" y="475560"/>
              <a:ext cx="10440" cy="23544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927280" y="478080"/>
              <a:ext cx="8280" cy="236160"/>
            </a:xfrm>
            <a:prstGeom prst="line">
              <a:avLst/>
            </a:prstGeom>
            <a:ln w="3240">
              <a:solidFill>
                <a:srgbClr val="b7e4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935920" y="47160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40240" y="748440"/>
              <a:ext cx="9360" cy="82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6"/>
                  </a:moveTo>
                  <a:lnTo>
                    <a:pt x="12" y="14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41680" y="749520"/>
              <a:ext cx="4680" cy="5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1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81800" y="216360"/>
              <a:ext cx="1800" cy="111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76040" y="221760"/>
              <a:ext cx="12600" cy="180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575920" y="38160"/>
              <a:ext cx="10440" cy="64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2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6" y="6"/>
                  </a:lnTo>
                  <a:lnTo>
                    <a:pt x="2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577720" y="38160"/>
              <a:ext cx="5040" cy="4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88560" y="146880"/>
              <a:ext cx="8280" cy="72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4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89280" y="147960"/>
              <a:ext cx="2520" cy="5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77080" y="264240"/>
              <a:ext cx="11520" cy="93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0" y="8"/>
                  </a:lnTo>
                  <a:lnTo>
                    <a:pt x="20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78160" y="263160"/>
              <a:ext cx="6840" cy="10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2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31880" y="221760"/>
              <a:ext cx="4680" cy="18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30800" y="216360"/>
              <a:ext cx="5400" cy="111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8" y="20"/>
                  </a:moveTo>
                  <a:lnTo>
                    <a:pt x="10" y="14"/>
                  </a:lnTo>
                  <a:lnTo>
                    <a:pt x="8" y="8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14800" y="970200"/>
              <a:ext cx="1800" cy="4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09040" y="972000"/>
              <a:ext cx="12240" cy="144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2"/>
                  </a:moveTo>
                  <a:lnTo>
                    <a:pt x="16" y="4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16960" y="812520"/>
              <a:ext cx="2520" cy="1404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11920" y="820800"/>
              <a:ext cx="11520" cy="7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20440" y="862920"/>
              <a:ext cx="180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917560" y="860400"/>
              <a:ext cx="7920" cy="82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2" y="4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18440" y="918360"/>
              <a:ext cx="10800" cy="3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4"/>
                  </a:moveTo>
                  <a:lnTo>
                    <a:pt x="4" y="6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19520" y="918360"/>
              <a:ext cx="6840" cy="3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9520" y="762480"/>
              <a:ext cx="1800" cy="1224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13760" y="769320"/>
              <a:ext cx="12600" cy="7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14720" y="550440"/>
              <a:ext cx="9360" cy="7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10" y="6"/>
                  </a:lnTo>
                  <a:lnTo>
                    <a:pt x="18" y="14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16520" y="550440"/>
              <a:ext cx="7560" cy="82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28000" y="360000"/>
              <a:ext cx="8640" cy="61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28720" y="361800"/>
              <a:ext cx="3960" cy="3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18360" y="432360"/>
              <a:ext cx="1800" cy="1188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13320" y="438840"/>
              <a:ext cx="11520" cy="7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0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85440" y="511920"/>
              <a:ext cx="1800" cy="1296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79320" y="517680"/>
              <a:ext cx="1260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30160" y="465120"/>
              <a:ext cx="10440" cy="10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8"/>
                  </a:moveTo>
                  <a:lnTo>
                    <a:pt x="16" y="12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35920" y="466920"/>
              <a:ext cx="2880" cy="64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7e4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98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7e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e5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Num" idx="1"/>
          </p:nvPr>
        </p:nvSpPr>
        <p:spPr>
          <a:xfrm>
            <a:off x="4343040" y="6465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5e5c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0D4-27C8-43F9-A409-A887F559A8E6}" type="slidenum">
              <a:rPr b="1" lang="en-US" sz="1200" spc="-1" strike="noStrike">
                <a:solidFill>
                  <a:srgbClr val="005e5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635280" y="1422360"/>
            <a:ext cx="5508720" cy="3324240"/>
          </a:xfrm>
          <a:prstGeom prst="rect">
            <a:avLst/>
          </a:prstGeom>
          <a:solidFill>
            <a:srgbClr val="005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c0c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52b47e"/>
              </a:gs>
              <a:gs pos="100000">
                <a:srgbClr val="2552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5280" y="4713120"/>
            <a:ext cx="5508720" cy="876600"/>
          </a:xfrm>
          <a:prstGeom prst="rect">
            <a:avLst/>
          </a:prstGeom>
          <a:solidFill>
            <a:srgbClr val="52b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8505000" y="4950720"/>
            <a:ext cx="882720" cy="395280"/>
          </a:xfrm>
          <a:prstGeom prst="triangle">
            <a:avLst>
              <a:gd name="adj" fmla="val 50000"/>
            </a:avLst>
          </a:prstGeom>
          <a:solidFill>
            <a:srgbClr val="b7e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9880" y="190512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635280" cy="417348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6659280" y="2060640"/>
            <a:ext cx="2244960" cy="2388600"/>
            <a:chOff x="6659280" y="2060640"/>
            <a:chExt cx="2244960" cy="2388600"/>
          </a:xfrm>
        </p:grpSpPr>
        <p:sp>
          <p:nvSpPr>
            <p:cNvPr id="413" name=""/>
            <p:cNvSpPr/>
            <p:nvPr/>
          </p:nvSpPr>
          <p:spPr>
            <a:xfrm flipH="1" flipV="1">
              <a:off x="7160040" y="2451240"/>
              <a:ext cx="54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59240" y="2556360"/>
              <a:ext cx="210600" cy="178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51720" y="2199240"/>
              <a:ext cx="216000" cy="169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179480" y="2145240"/>
              <a:ext cx="94392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880040" y="2343960"/>
              <a:ext cx="19080" cy="5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66360" y="2338200"/>
              <a:ext cx="13320" cy="11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44960" y="2439720"/>
              <a:ext cx="1080" cy="402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302960" y="2567880"/>
              <a:ext cx="555480" cy="169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305480" y="2774520"/>
              <a:ext cx="552960" cy="172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025480" y="2485080"/>
              <a:ext cx="2520" cy="402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91200" y="2570760"/>
              <a:ext cx="35280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1200" y="2780280"/>
              <a:ext cx="350280" cy="283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8074440" y="2289600"/>
              <a:ext cx="371880" cy="283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8049960" y="2349360"/>
              <a:ext cx="350280" cy="107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899120" y="2236320"/>
              <a:ext cx="350280" cy="107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452440" y="2604240"/>
              <a:ext cx="792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277120" y="2740680"/>
              <a:ext cx="355680" cy="113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50160" y="4032720"/>
              <a:ext cx="240840" cy="215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972920" y="3962160"/>
              <a:ext cx="252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49800" y="3851640"/>
              <a:ext cx="252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8490600" y="3935880"/>
              <a:ext cx="1080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8123760" y="3987000"/>
              <a:ext cx="739080" cy="266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520480" y="3786120"/>
              <a:ext cx="35028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501040" y="3908160"/>
              <a:ext cx="19080" cy="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501400" y="3916800"/>
              <a:ext cx="1440" cy="19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9280" y="3746880"/>
              <a:ext cx="240840" cy="209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998120" y="3811680"/>
              <a:ext cx="352800" cy="12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871760" y="3701160"/>
              <a:ext cx="353160" cy="12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6894360" y="3723480"/>
              <a:ext cx="828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86640" y="3701160"/>
              <a:ext cx="432360" cy="416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6880680" y="3692520"/>
              <a:ext cx="13320" cy="11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6681600" y="3502440"/>
              <a:ext cx="19944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894720" y="3703680"/>
              <a:ext cx="144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49240" y="3990240"/>
              <a:ext cx="382680" cy="133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7329960" y="3876480"/>
              <a:ext cx="252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7530120" y="3809160"/>
              <a:ext cx="2160" cy="362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01280" y="3653280"/>
              <a:ext cx="380520" cy="127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105320" y="3650400"/>
              <a:ext cx="210600" cy="195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7305120" y="3582000"/>
              <a:ext cx="213480" cy="1954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15880" y="4111920"/>
              <a:ext cx="11160" cy="11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726680" y="4117680"/>
              <a:ext cx="16200" cy="5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7694280" y="3454200"/>
              <a:ext cx="355680" cy="308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705080" y="3573360"/>
              <a:ext cx="369360" cy="127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99880" y="3516840"/>
              <a:ext cx="216000" cy="192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15880" y="3709800"/>
              <a:ext cx="13320" cy="11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729200" y="3715560"/>
              <a:ext cx="19080" cy="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778880" y="3785760"/>
              <a:ext cx="144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40720" y="3933720"/>
              <a:ext cx="109080" cy="9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7420320" y="3544920"/>
              <a:ext cx="213480" cy="192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409520" y="3612960"/>
              <a:ext cx="19692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647840" y="3768840"/>
              <a:ext cx="108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32640" y="3930480"/>
              <a:ext cx="175320" cy="59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935760" y="2802600"/>
              <a:ext cx="210600" cy="181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6782760" y="2859120"/>
              <a:ext cx="36396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7471800" y="2896200"/>
              <a:ext cx="2520" cy="595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908760" y="3083040"/>
              <a:ext cx="946800" cy="305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286400" y="2947320"/>
              <a:ext cx="18720" cy="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286400" y="2955600"/>
              <a:ext cx="108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7050960" y="2754360"/>
              <a:ext cx="144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050960" y="2748960"/>
              <a:ext cx="21960" cy="5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6762960" y="2998080"/>
              <a:ext cx="16200" cy="597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70440" y="3196800"/>
              <a:ext cx="20520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356320" y="3018240"/>
              <a:ext cx="353160" cy="116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8462880" y="3017880"/>
              <a:ext cx="24084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33160" y="2936160"/>
              <a:ext cx="13320" cy="11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8643960" y="2946960"/>
              <a:ext cx="2520" cy="19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88680" y="3086280"/>
              <a:ext cx="610200" cy="506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255520" y="3072240"/>
              <a:ext cx="1080" cy="22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8241480" y="3063600"/>
              <a:ext cx="13320" cy="8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696160" y="3239280"/>
              <a:ext cx="18720" cy="606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529120" y="3474720"/>
              <a:ext cx="35280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84120" y="3684240"/>
              <a:ext cx="11160" cy="16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78720" y="3494520"/>
              <a:ext cx="10800" cy="376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89520" y="386280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6689520" y="3485880"/>
              <a:ext cx="10800" cy="376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78720" y="34858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69840" y="2734920"/>
              <a:ext cx="32760" cy="288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7283160" y="2544840"/>
              <a:ext cx="2520" cy="393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266960" y="2541600"/>
              <a:ext cx="54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67320" y="2541960"/>
              <a:ext cx="32760" cy="288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00080" y="2544840"/>
              <a:ext cx="5040" cy="402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2720" y="2924640"/>
              <a:ext cx="32400" cy="223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4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23760" y="214272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8028000" y="2063520"/>
              <a:ext cx="23508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14680" y="2060640"/>
              <a:ext cx="1872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33400" y="2077560"/>
              <a:ext cx="23544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49760" y="223632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40920" y="2196360"/>
              <a:ext cx="1080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067160" y="2063520"/>
              <a:ext cx="938880" cy="274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64640" y="2335320"/>
              <a:ext cx="11160" cy="14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064640" y="2074680"/>
              <a:ext cx="938880" cy="275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03520" y="206064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60400" y="242604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61760" y="2349720"/>
              <a:ext cx="210960" cy="175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75800" y="2338200"/>
              <a:ext cx="21312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67320" y="2513880"/>
              <a:ext cx="2160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056000" y="2366280"/>
              <a:ext cx="210600" cy="175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56360" y="2338200"/>
              <a:ext cx="1908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8400" y="241200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297200" y="2355120"/>
              <a:ext cx="569160" cy="172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288920" y="2338200"/>
              <a:ext cx="577440" cy="175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61320" y="2338200"/>
              <a:ext cx="5040" cy="3672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10"/>
                  </a:lnTo>
                  <a:lnTo>
                    <a:pt x="2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7300080" y="2374920"/>
              <a:ext cx="560880" cy="169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88920" y="2513880"/>
              <a:ext cx="1116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58440" y="256500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2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875000" y="2374920"/>
              <a:ext cx="2520" cy="399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858440" y="2374920"/>
              <a:ext cx="2520" cy="3996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61320" y="237492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91200" y="2380680"/>
              <a:ext cx="1080" cy="399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58440" y="277488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03520" y="207180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56360" y="25390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7053480" y="2358000"/>
              <a:ext cx="7920" cy="388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7064280" y="2349360"/>
              <a:ext cx="8280" cy="399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50960" y="2349720"/>
              <a:ext cx="1332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61760" y="27432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44360" y="285120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258040" y="2661120"/>
              <a:ext cx="5040" cy="3963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241840" y="2655360"/>
              <a:ext cx="7920" cy="407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49760" y="26557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8273880" y="2661480"/>
              <a:ext cx="8280" cy="385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241840" y="3046680"/>
              <a:ext cx="32400" cy="169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10" y="8"/>
                  </a:lnTo>
                  <a:lnTo>
                    <a:pt x="18" y="6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69040" y="248832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91200" y="2358000"/>
              <a:ext cx="36396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99480" y="2343960"/>
              <a:ext cx="369360" cy="283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49760" y="262728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7890840" y="2380320"/>
              <a:ext cx="358200" cy="274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91200" y="2343960"/>
              <a:ext cx="7920" cy="367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2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47040" y="25732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277120" y="2530440"/>
              <a:ext cx="358560" cy="110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269200" y="2516400"/>
              <a:ext cx="355680" cy="110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24880" y="251676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4" y="4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282880" y="2547720"/>
              <a:ext cx="35568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269200" y="2627280"/>
              <a:ext cx="13320" cy="338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10" y="18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41280" y="237780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8263080" y="2238840"/>
              <a:ext cx="37476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69200" y="2253240"/>
              <a:ext cx="374760" cy="280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624880" y="2516760"/>
              <a:ext cx="1908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52440" y="298728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8280000" y="2949840"/>
              <a:ext cx="35028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8274240" y="2930760"/>
              <a:ext cx="35316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27400" y="293076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288280" y="2961720"/>
              <a:ext cx="34992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3046680"/>
              <a:ext cx="1368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6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633160" y="2734920"/>
              <a:ext cx="792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636040" y="2541960"/>
              <a:ext cx="10800" cy="390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627400" y="2547360"/>
              <a:ext cx="108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38560" y="253368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27400" y="29307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73280" y="4327560"/>
              <a:ext cx="16200" cy="14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2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55560" y="4225680"/>
              <a:ext cx="237960" cy="218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50160" y="4214160"/>
              <a:ext cx="238320" cy="218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88480" y="4432320"/>
              <a:ext cx="18720" cy="140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50160" y="4214160"/>
              <a:ext cx="1368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34720" y="39592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121240" y="3922200"/>
              <a:ext cx="36648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126280" y="3936240"/>
              <a:ext cx="374760" cy="133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112960" y="4035600"/>
              <a:ext cx="13320" cy="338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4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8112960" y="3911040"/>
              <a:ext cx="355680" cy="124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69000" y="3911040"/>
              <a:ext cx="32400" cy="252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18"/>
                  </a:moveTo>
                  <a:lnTo>
                    <a:pt x="20" y="12"/>
                  </a:lnTo>
                  <a:lnTo>
                    <a:pt x="14" y="6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91360" y="4248360"/>
              <a:ext cx="32400" cy="82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16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102160" y="4069800"/>
              <a:ext cx="5040" cy="368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121240" y="4069800"/>
              <a:ext cx="5040" cy="368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88480" y="44323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2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088480" y="4063680"/>
              <a:ext cx="5040" cy="368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93880" y="406404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85560" y="4302000"/>
              <a:ext cx="504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115840" y="4179960"/>
              <a:ext cx="736200" cy="266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121240" y="4168440"/>
              <a:ext cx="733320" cy="268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41240" y="4168800"/>
              <a:ext cx="1332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07200" y="4438080"/>
              <a:ext cx="1368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863200" y="3979080"/>
              <a:ext cx="792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8865720" y="3777840"/>
              <a:ext cx="13680" cy="382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854920" y="3785760"/>
              <a:ext cx="16200" cy="382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71120" y="377784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854920" y="41518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0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841240" y="41518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29320" y="3763440"/>
              <a:ext cx="1908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8238960" y="3692880"/>
              <a:ext cx="243360" cy="206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8225280" y="3701160"/>
              <a:ext cx="243360" cy="209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25280" y="3675600"/>
              <a:ext cx="1872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44360" y="3675600"/>
              <a:ext cx="246240" cy="206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69000" y="3882600"/>
              <a:ext cx="2160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6" y="18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76160" y="3933720"/>
              <a:ext cx="2196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58440" y="3834360"/>
              <a:ext cx="240840" cy="21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72120" y="3823200"/>
              <a:ext cx="240840" cy="21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93880" y="403560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7852680" y="3851280"/>
              <a:ext cx="240840" cy="212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53040" y="382320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0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00320" y="386280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4" y="16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46720" y="28342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6360" y="2760120"/>
              <a:ext cx="210600" cy="181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61760" y="2743200"/>
              <a:ext cx="210960" cy="181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3640" y="292464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042320" y="2771640"/>
              <a:ext cx="210600" cy="178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42680" y="2743200"/>
              <a:ext cx="1872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14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03000" y="4086720"/>
              <a:ext cx="21600" cy="14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6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97800" y="3890880"/>
              <a:ext cx="429840" cy="419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880" y="4299120"/>
              <a:ext cx="19080" cy="140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714000" y="3893760"/>
              <a:ext cx="426960" cy="419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92400" y="3879720"/>
              <a:ext cx="21600" cy="14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0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19360" y="411768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7129800" y="3938760"/>
              <a:ext cx="540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7116480" y="3933720"/>
              <a:ext cx="5040" cy="365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16480" y="3933720"/>
              <a:ext cx="29880" cy="54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2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46720" y="3939120"/>
              <a:ext cx="7920" cy="365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21880" y="42991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85440" y="3783240"/>
              <a:ext cx="1872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905880" y="3715560"/>
              <a:ext cx="216000" cy="200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894720" y="3723840"/>
              <a:ext cx="221760" cy="209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94720" y="3709800"/>
              <a:ext cx="29880" cy="140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24960" y="3709800"/>
              <a:ext cx="210960" cy="1980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16480" y="3908160"/>
              <a:ext cx="1908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30320" y="4239720"/>
              <a:ext cx="252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8"/>
                  </a:move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7149240" y="4183200"/>
              <a:ext cx="380520" cy="132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1320" y="4304880"/>
              <a:ext cx="13320" cy="111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2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155000" y="4171680"/>
              <a:ext cx="377640" cy="133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27240" y="4171680"/>
              <a:ext cx="5040" cy="11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16640" y="38458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10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7143840" y="3791880"/>
              <a:ext cx="38304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7146720" y="3809160"/>
              <a:ext cx="383040" cy="129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35920" y="390816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8" y="14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135920" y="3777480"/>
              <a:ext cx="382680" cy="129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18960" y="3777840"/>
              <a:ext cx="1116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30160" y="360504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6" y="1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916320" y="3570840"/>
              <a:ext cx="380520" cy="1245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924600" y="3582360"/>
              <a:ext cx="38052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13800" y="367848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4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913800" y="3551040"/>
              <a:ext cx="377640" cy="127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91800" y="355104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10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68080" y="4140360"/>
              <a:ext cx="16200" cy="14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8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40720" y="4120920"/>
              <a:ext cx="114480" cy="104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740360" y="4114440"/>
              <a:ext cx="109080" cy="990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38200" y="4114800"/>
              <a:ext cx="252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74800" y="3545280"/>
              <a:ext cx="1872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4" y="16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880040" y="3386520"/>
              <a:ext cx="358560" cy="305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7866360" y="3397680"/>
              <a:ext cx="358560" cy="3027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66360" y="3369960"/>
              <a:ext cx="19080" cy="280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6" y="1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85800" y="3369960"/>
              <a:ext cx="358200" cy="305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47840" y="343476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491240" y="3384000"/>
              <a:ext cx="36684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499880" y="3398040"/>
              <a:ext cx="36648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88720" y="3488760"/>
              <a:ext cx="11160" cy="280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20"/>
                  </a:moveTo>
                  <a:lnTo>
                    <a:pt x="4" y="16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488720" y="3367080"/>
              <a:ext cx="36684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55560" y="336708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70960" y="3749400"/>
              <a:ext cx="18720" cy="28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40720" y="3729600"/>
              <a:ext cx="117360" cy="104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49000" y="3715560"/>
              <a:ext cx="123120" cy="1076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7740360" y="3751920"/>
              <a:ext cx="111960" cy="990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8200" y="3715560"/>
              <a:ext cx="10800" cy="3636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0"/>
                  </a:move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2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07960" y="392796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27040" y="3746880"/>
              <a:ext cx="1080" cy="362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40720" y="3752280"/>
              <a:ext cx="1080" cy="3625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07960" y="410904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707960" y="3746880"/>
              <a:ext cx="1080" cy="362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707960" y="374688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4" y="4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25520" y="4137840"/>
              <a:ext cx="540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530120" y="4117320"/>
              <a:ext cx="18576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07960" y="4109040"/>
              <a:ext cx="7920" cy="8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532280" y="4109040"/>
              <a:ext cx="175320" cy="62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17600" y="374400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27240" y="3726360"/>
              <a:ext cx="18864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518960" y="3709440"/>
              <a:ext cx="196920" cy="680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07960" y="3709800"/>
              <a:ext cx="7920" cy="367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7530120" y="3746880"/>
              <a:ext cx="177840" cy="62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79640" y="352260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22"/>
                  </a:moveTo>
                  <a:lnTo>
                    <a:pt x="6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296840" y="3505680"/>
              <a:ext cx="19404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305480" y="3516840"/>
              <a:ext cx="194400" cy="651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291800" y="3488400"/>
              <a:ext cx="196920" cy="62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480" y="2808360"/>
              <a:ext cx="1080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672960" y="2766240"/>
              <a:ext cx="372240" cy="1134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70440" y="287964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6670440" y="2774880"/>
              <a:ext cx="38052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42680" y="2766240"/>
              <a:ext cx="7920" cy="8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63320" y="29728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70440" y="2896560"/>
              <a:ext cx="202320" cy="1782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81600" y="2882520"/>
              <a:ext cx="204840" cy="183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67360" y="3066480"/>
              <a:ext cx="19080" cy="252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6661800" y="2907360"/>
              <a:ext cx="204840" cy="183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19360" y="299304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894720" y="2961720"/>
              <a:ext cx="378000" cy="1159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6886800" y="2949840"/>
              <a:ext cx="366840" cy="1162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53640" y="2950200"/>
              <a:ext cx="32760" cy="255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8" y="4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4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900480" y="2975760"/>
              <a:ext cx="385920" cy="121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86800" y="3066480"/>
              <a:ext cx="13320" cy="309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8" y="16"/>
                  </a:lnTo>
                  <a:lnTo>
                    <a:pt x="8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55560" y="3083400"/>
              <a:ext cx="32760" cy="540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872120" y="2774880"/>
              <a:ext cx="2520" cy="588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855560" y="2774880"/>
              <a:ext cx="2520" cy="591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885440" y="2780280"/>
              <a:ext cx="5400" cy="5893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55560" y="336420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67560" y="318276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6659280" y="2899080"/>
              <a:ext cx="19080" cy="595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6670080" y="2890440"/>
              <a:ext cx="19080" cy="5950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59640" y="289080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75640" y="3386880"/>
              <a:ext cx="29880" cy="54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0"/>
                  </a:moveTo>
                  <a:lnTo>
                    <a:pt x="4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880680" y="3097800"/>
              <a:ext cx="16200" cy="591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6867000" y="3091680"/>
              <a:ext cx="13320" cy="600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67360" y="309204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00480" y="3097800"/>
              <a:ext cx="13320" cy="5806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81040" y="3678480"/>
              <a:ext cx="32760" cy="140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10" y="8"/>
                  </a:lnTo>
                  <a:lnTo>
                    <a:pt x="16" y="4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353800" y="3148920"/>
              <a:ext cx="21960" cy="25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66320" y="3083400"/>
              <a:ext cx="243360" cy="1951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88280" y="3077640"/>
              <a:ext cx="237960" cy="189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4280" y="3267720"/>
              <a:ext cx="21960" cy="280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0"/>
                  </a:move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8255160" y="3094920"/>
              <a:ext cx="248760" cy="20088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5520" y="3077640"/>
              <a:ext cx="32760" cy="169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04080" y="3208320"/>
              <a:ext cx="10800" cy="309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2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534520" y="3162960"/>
              <a:ext cx="35568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8526240" y="3148920"/>
              <a:ext cx="35316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879760" y="3148920"/>
              <a:ext cx="13320" cy="3384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0"/>
                  </a:moveTo>
                  <a:lnTo>
                    <a:pt x="4" y="6"/>
                  </a:lnTo>
                  <a:lnTo>
                    <a:pt x="8" y="10"/>
                  </a:lnTo>
                  <a:lnTo>
                    <a:pt x="10" y="18"/>
                  </a:lnTo>
                  <a:lnTo>
                    <a:pt x="10" y="2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537400" y="3182760"/>
              <a:ext cx="355680" cy="11880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526240" y="3267720"/>
              <a:ext cx="10800" cy="3384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8" y="18"/>
                  </a:lnTo>
                  <a:lnTo>
                    <a:pt x="6" y="10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728920" y="3029400"/>
              <a:ext cx="1584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2" y="8"/>
                  </a:lnTo>
                  <a:lnTo>
                    <a:pt x="12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8646840" y="2958840"/>
              <a:ext cx="246240" cy="192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8638200" y="2961360"/>
              <a:ext cx="240840" cy="1868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638560" y="295884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643960" y="2967120"/>
              <a:ext cx="254160" cy="1983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79760" y="3148920"/>
              <a:ext cx="18720" cy="16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496360" y="359352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504280" y="3301200"/>
              <a:ext cx="16200" cy="5979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8490600" y="3295440"/>
              <a:ext cx="13320" cy="5864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504280" y="3295800"/>
              <a:ext cx="32760" cy="576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6" y="2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4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8520480" y="3301560"/>
              <a:ext cx="16200" cy="60624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90600" y="3882600"/>
              <a:ext cx="29880" cy="252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4" y="8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22" y="1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81920" y="3466080"/>
              <a:ext cx="1116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8879760" y="3173760"/>
              <a:ext cx="24480" cy="60372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871120" y="3182760"/>
              <a:ext cx="21960" cy="603360"/>
            </a:xfrm>
            <a:prstGeom prst="line">
              <a:avLst/>
            </a:prstGeom>
            <a:ln w="324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893080" y="3165840"/>
              <a:ext cx="10800" cy="16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10"/>
                  </a:lnTo>
                  <a:lnTo>
                    <a:pt x="6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89520" y="3871440"/>
              <a:ext cx="24480" cy="223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6"/>
                  </a:moveTo>
                  <a:lnTo>
                    <a:pt x="12" y="14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92400" y="3873960"/>
              <a:ext cx="10800" cy="14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1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83520" y="2513880"/>
              <a:ext cx="5040" cy="309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69840" y="2530800"/>
              <a:ext cx="29880" cy="288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6040" y="2060640"/>
              <a:ext cx="27000" cy="169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2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6" y="6"/>
                  </a:lnTo>
                  <a:lnTo>
                    <a:pt x="2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11800" y="2060640"/>
              <a:ext cx="1080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53480" y="2338200"/>
              <a:ext cx="21960" cy="19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4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56360" y="2341080"/>
              <a:ext cx="792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55520" y="2638440"/>
              <a:ext cx="27000" cy="226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0" y="8"/>
                  </a:lnTo>
                  <a:lnTo>
                    <a:pt x="20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258040" y="2635560"/>
              <a:ext cx="15840" cy="25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2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636040" y="2527920"/>
              <a:ext cx="1080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633160" y="2516760"/>
              <a:ext cx="13320" cy="28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8" y="20"/>
                  </a:moveTo>
                  <a:lnTo>
                    <a:pt x="10" y="14"/>
                  </a:lnTo>
                  <a:lnTo>
                    <a:pt x="8" y="8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102160" y="4438080"/>
              <a:ext cx="504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88480" y="444096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2"/>
                  </a:moveTo>
                  <a:lnTo>
                    <a:pt x="16" y="4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07200" y="4035600"/>
              <a:ext cx="5400" cy="3384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93880" y="4055400"/>
              <a:ext cx="29880" cy="288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4920" y="416592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846640" y="4157280"/>
              <a:ext cx="18720" cy="226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2" y="4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27640" y="4304880"/>
              <a:ext cx="27000" cy="111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4"/>
                  </a:moveTo>
                  <a:lnTo>
                    <a:pt x="4" y="6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30160" y="4304880"/>
              <a:ext cx="16200" cy="111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30160" y="3908160"/>
              <a:ext cx="5400" cy="309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16480" y="3925080"/>
              <a:ext cx="29880" cy="288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2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55560" y="3367080"/>
              <a:ext cx="24480" cy="198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10" y="6"/>
                  </a:lnTo>
                  <a:lnTo>
                    <a:pt x="18" y="14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61320" y="3367080"/>
              <a:ext cx="18720" cy="223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9640" y="2882520"/>
              <a:ext cx="21960" cy="169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62160" y="2885040"/>
              <a:ext cx="792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81040" y="3066480"/>
              <a:ext cx="5400" cy="309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0" y="22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70240" y="3083400"/>
              <a:ext cx="27000" cy="288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0" y="2"/>
                  </a:move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20840" y="3267720"/>
              <a:ext cx="5400" cy="3384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4"/>
                  </a:move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07160" y="3284640"/>
              <a:ext cx="29880" cy="57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879760" y="3148920"/>
              <a:ext cx="24480" cy="2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8"/>
                  </a:moveTo>
                  <a:lnTo>
                    <a:pt x="16" y="12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893080" y="3154320"/>
              <a:ext cx="504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52b4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423000" y="471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3625560" y="1413000"/>
            <a:ext cx="20520" cy="42037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e5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5e5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e5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5e5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5e5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5e5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5e5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e5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86200" y="1676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19320"/>
            <a:ext cx="4572000" cy="360360"/>
          </a:xfrm>
          <a:prstGeom prst="roundRect">
            <a:avLst>
              <a:gd name="adj" fmla="val 50000"/>
            </a:avLst>
          </a:prstGeom>
          <a:solidFill>
            <a:srgbClr val="c0c27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our Company Slogan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5e5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5e5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24120" y="3808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欧美风格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982" name="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7e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09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98b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98b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225161"/>
                </a:gs>
                <a:gs pos="50000">
                  <a:srgbClr val="4098b4"/>
                </a:gs>
                <a:gs pos="100000">
                  <a:srgbClr val="225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4098b4">
                    <a:alpha val="0"/>
                  </a:srgbClr>
                </a:gs>
                <a:gs pos="100000">
                  <a:srgbClr val="2860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0"/>
                  </a:srgbClr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995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7e4a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546949"/>
                </a:gs>
                <a:gs pos="100000">
                  <a:srgbClr val="b7e4a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627a56"/>
                </a:gs>
                <a:gs pos="50000">
                  <a:srgbClr val="b7e4a0"/>
                </a:gs>
                <a:gs pos="100000">
                  <a:srgbClr val="627a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b7e4a0">
                    <a:alpha val="0"/>
                  </a:srgbClr>
                </a:gs>
                <a:gs pos="100000">
                  <a:srgbClr val="739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1010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5e5c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5e5c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5e5c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48640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b47e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5e5c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219320" y="1542960"/>
            <a:ext cx="5943600" cy="4476600"/>
            <a:chOff x="1219320" y="1542960"/>
            <a:chExt cx="5943600" cy="4476600"/>
          </a:xfrm>
        </p:grpSpPr>
        <p:sp>
          <p:nvSpPr>
            <p:cNvPr id="1023" name=""/>
            <p:cNvSpPr/>
            <p:nvPr/>
          </p:nvSpPr>
          <p:spPr>
            <a:xfrm>
              <a:off x="121932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098b4"/>
                </a:gs>
                <a:gs pos="100000">
                  <a:srgbClr val="52b47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3248280" y="3752640"/>
              <a:ext cx="1704960" cy="2028960"/>
              <a:chOff x="3248280" y="3752640"/>
              <a:chExt cx="1704960" cy="2028960"/>
            </a:xfrm>
          </p:grpSpPr>
          <p:sp>
            <p:nvSpPr>
              <p:cNvPr id="1025" name=""/>
              <p:cNvSpPr/>
              <p:nvPr/>
            </p:nvSpPr>
            <p:spPr>
              <a:xfrm rot="20876400">
                <a:off x="331668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48280" y="3752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8800" y="37620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86440" y="37782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378600" y="38224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6588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1397160" y="3371760"/>
              <a:ext cx="1371240" cy="1718640"/>
              <a:chOff x="1397160" y="3371760"/>
              <a:chExt cx="1371240" cy="1718640"/>
            </a:xfrm>
          </p:grpSpPr>
          <p:sp>
            <p:nvSpPr>
              <p:cNvPr id="1032" name=""/>
              <p:cNvSpPr/>
              <p:nvPr/>
            </p:nvSpPr>
            <p:spPr>
              <a:xfrm rot="20826600">
                <a:off x="147348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1033" name=""/>
              <p:cNvGrpSpPr/>
              <p:nvPr/>
            </p:nvGrpSpPr>
            <p:grpSpPr>
              <a:xfrm>
                <a:off x="1397160" y="3371760"/>
                <a:ext cx="1371240" cy="1441080"/>
                <a:chOff x="1397160" y="3371760"/>
                <a:chExt cx="1371240" cy="14410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139716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415160" y="33800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428120" y="33933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1499760" y="3430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67760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9" name=""/>
            <p:cNvGrpSpPr/>
            <p:nvPr/>
          </p:nvGrpSpPr>
          <p:grpSpPr>
            <a:xfrm>
              <a:off x="1363680" y="2000160"/>
              <a:ext cx="1100160" cy="1139760"/>
              <a:chOff x="1363680" y="2000160"/>
              <a:chExt cx="1100160" cy="1139760"/>
            </a:xfrm>
          </p:grpSpPr>
          <p:sp>
            <p:nvSpPr>
              <p:cNvPr id="1040" name=""/>
              <p:cNvSpPr/>
              <p:nvPr/>
            </p:nvSpPr>
            <p:spPr>
              <a:xfrm>
                <a:off x="136368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40000" y="20001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52600" y="20048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463760" y="20160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776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63692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630520" y="1542960"/>
              <a:ext cx="804960" cy="762120"/>
              <a:chOff x="2630520" y="1542960"/>
              <a:chExt cx="804960" cy="762120"/>
            </a:xfrm>
          </p:grpSpPr>
          <p:sp>
            <p:nvSpPr>
              <p:cNvPr id="1047" name=""/>
              <p:cNvSpPr/>
              <p:nvPr/>
            </p:nvSpPr>
            <p:spPr>
              <a:xfrm>
                <a:off x="263052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75292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76228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768760" y="15523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805120" y="15714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82312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98b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5e5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1056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b7e4a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52b4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0b9"/>
                </a:gs>
                <a:gs pos="100000">
                  <a:srgbClr val="c0c2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098b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098b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25161"/>
                </a:gs>
                <a:gs pos="50000">
                  <a:srgbClr val="4098b4"/>
                </a:gs>
                <a:gs pos="100000">
                  <a:srgbClr val="225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098b4">
                    <a:alpha val="0"/>
                  </a:srgbClr>
                </a:gs>
                <a:gs pos="100000">
                  <a:srgbClr val="2860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108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08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108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109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110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1117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1133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1138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4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55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1158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1159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5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6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1180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6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7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7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7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5e5c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1220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2b47e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2b47e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2b47e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2b47e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cxnSp>
            <p:nvCxnSpPr>
              <p:cNvPr id="1224" name=""/>
              <p:cNvCxnSpPr>
                <a:stCxn id="1220" idx="3"/>
                <a:endCxn id="122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52b47e"/>
                </a:solidFill>
                <a:miter/>
                <a:tailEnd len="med" type="triangle" w="med"/>
              </a:ln>
            </p:spPr>
          </p:cxnSp>
          <p:cxnSp>
            <p:nvCxnSpPr>
              <p:cNvPr id="1225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52b47e"/>
                </a:solidFill>
                <a:miter/>
                <a:tailEnd len="med" type="triangle" w="med"/>
              </a:ln>
            </p:spPr>
          </p:cxnSp>
          <p:cxnSp>
            <p:nvCxnSpPr>
              <p:cNvPr id="1226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52b47e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1229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1231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e4a0"/>
                  </a:gs>
                  <a:gs pos="100000">
                    <a:srgbClr val="7f9e6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efca"/>
                  </a:gs>
                  <a:gs pos="50000">
                    <a:srgbClr val="b7e4a0">
                      <a:alpha val="0"/>
                    </a:srgbClr>
                  </a:gs>
                  <a:gs pos="100000">
                    <a:srgbClr val="d6efc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1236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3b3c7"/>
                  </a:gs>
                  <a:gs pos="100000">
                    <a:srgbClr val="4098b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98b4">
                      <a:alpha val="0"/>
                    </a:srgbClr>
                  </a:gs>
                  <a:gs pos="100000">
                    <a:srgbClr val="add2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5e5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1243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1245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6d7a4"/>
                  </a:gs>
                  <a:gs pos="100000">
                    <a:srgbClr val="c0c27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272">
                      <a:alpha val="0"/>
                    </a:srgbClr>
                  </a:gs>
                  <a:gs pos="100000">
                    <a:srgbClr val="dfe0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1251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2d39b"/>
                </a:gs>
                <a:gs pos="100000">
                  <a:srgbClr val="c0c272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9b6c9"/>
                </a:gs>
                <a:gs pos="100000">
                  <a:srgbClr val="4098b4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ebbb"/>
                </a:gs>
                <a:gs pos="100000">
                  <a:srgbClr val="b7e4a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bbb"/>
                </a:gs>
                <a:gs pos="100000">
                  <a:srgbClr val="b7e4a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b6c9"/>
                </a:gs>
                <a:gs pos="100000">
                  <a:srgbClr val="4098b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d39b"/>
                </a:gs>
                <a:gs pos="100000">
                  <a:srgbClr val="c0c27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72200" y="34290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476600" y="34290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93960" y="342900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087560" y="34290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126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098b4"/>
                </a:gs>
                <a:gs pos="100000">
                  <a:srgbClr val="1d4652"/>
                </a:gs>
              </a:gsLst>
              <a:lin ang="1980000"/>
            </a:gra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126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b7e4a0"/>
            </a:soli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127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098b4"/>
                </a:gs>
                <a:gs pos="100000">
                  <a:srgbClr val="1d4652"/>
                </a:gs>
              </a:gsLst>
              <a:lin ang="1980000"/>
            </a:gra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127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b7e4a0"/>
            </a:solidFill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b47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453240" y="1196640"/>
            <a:ext cx="7431480" cy="4917960"/>
            <a:chOff x="453240" y="1196640"/>
            <a:chExt cx="7431480" cy="4917960"/>
          </a:xfrm>
        </p:grpSpPr>
        <p:sp>
          <p:nvSpPr>
            <p:cNvPr id="1292" name=""/>
            <p:cNvSpPr/>
            <p:nvPr/>
          </p:nvSpPr>
          <p:spPr>
            <a:xfrm>
              <a:off x="2111400" y="44496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6f6f6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20601600">
              <a:off x="1385640" y="233640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20601600">
              <a:off x="1441080" y="21747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20601600">
              <a:off x="1306440" y="219276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20601600">
              <a:off x="1358640" y="216000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rot="20602200">
              <a:off x="1361880" y="21736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0601600">
              <a:off x="1363680" y="217224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rot="20602200">
              <a:off x="1347480" y="21790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20601600">
              <a:off x="4430520" y="349560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20601600">
              <a:off x="4323960" y="324288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5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453240" y="1494000"/>
              <a:ext cx="6918480" cy="4356720"/>
              <a:chOff x="453240" y="1494000"/>
              <a:chExt cx="6918480" cy="4356720"/>
            </a:xfrm>
          </p:grpSpPr>
          <p:sp>
            <p:nvSpPr>
              <p:cNvPr id="1303" name=""/>
              <p:cNvSpPr/>
              <p:nvPr/>
            </p:nvSpPr>
            <p:spPr>
              <a:xfrm rot="20712600">
                <a:off x="705960" y="226548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0712600">
                <a:off x="4109760" y="346356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712600">
                <a:off x="5485680" y="363168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927360" y="1196640"/>
              <a:ext cx="6957360" cy="4863240"/>
              <a:chOff x="927360" y="1196640"/>
              <a:chExt cx="6957360" cy="4863240"/>
            </a:xfrm>
          </p:grpSpPr>
          <p:sp>
            <p:nvSpPr>
              <p:cNvPr id="1307" name=""/>
              <p:cNvSpPr/>
              <p:nvPr/>
            </p:nvSpPr>
            <p:spPr>
              <a:xfrm rot="20601600">
                <a:off x="5997240" y="353484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0539200">
                <a:off x="1247400" y="208260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601600">
                <a:off x="4681440" y="336492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310" name=""/>
            <p:cNvSpPr/>
            <p:nvPr/>
          </p:nvSpPr>
          <p:spPr>
            <a:xfrm rot="20601600">
              <a:off x="290340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20601600">
              <a:off x="2979720" y="312372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639760" y="27097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9560" y="2252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210760" y="30146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82160" y="43099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734640" y="4538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16080" y="37004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1320" name=""/>
            <p:cNvSpPr/>
            <p:nvPr/>
          </p:nvSpPr>
          <p:spPr>
            <a:xfrm rot="13770000">
              <a:off x="4806000" y="362160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20856000">
              <a:off x="2938680" y="3223440"/>
              <a:ext cx="93852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18394200">
              <a:off x="4916160" y="2241360"/>
              <a:ext cx="532440" cy="123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3812760" y="2276280"/>
              <a:ext cx="1498320" cy="1420200"/>
              <a:chOff x="3812760" y="2276280"/>
              <a:chExt cx="1498320" cy="1420200"/>
            </a:xfrm>
          </p:grpSpPr>
          <p:grpSp>
            <p:nvGrpSpPr>
              <p:cNvPr id="1324" name=""/>
              <p:cNvGrpSpPr/>
              <p:nvPr/>
            </p:nvGrpSpPr>
            <p:grpSpPr>
              <a:xfrm>
                <a:off x="3812760" y="2276280"/>
                <a:ext cx="1498320" cy="1420200"/>
                <a:chOff x="3812760" y="2276280"/>
                <a:chExt cx="1498320" cy="142020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381276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1f1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98376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384480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5097240" y="1447920"/>
              <a:ext cx="909360" cy="769320"/>
              <a:chOff x="5097240" y="1447920"/>
              <a:chExt cx="909360" cy="769320"/>
            </a:xfrm>
          </p:grpSpPr>
          <p:grpSp>
            <p:nvGrpSpPr>
              <p:cNvPr id="1329" name=""/>
              <p:cNvGrpSpPr/>
              <p:nvPr/>
            </p:nvGrpSpPr>
            <p:grpSpPr>
              <a:xfrm>
                <a:off x="5123520" y="1447920"/>
                <a:ext cx="811440" cy="769320"/>
                <a:chOff x="5123520" y="1447920"/>
                <a:chExt cx="811440" cy="76932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123520" y="144792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7e4a0"/>
                    </a:gs>
                    <a:gs pos="100000">
                      <a:srgbClr val="2c3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216040" y="146052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7e4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1752480" y="2572200"/>
              <a:ext cx="1622880" cy="1597680"/>
              <a:chOff x="1752480" y="2572200"/>
              <a:chExt cx="1622880" cy="159768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1752480" y="2572200"/>
                <a:ext cx="1622880" cy="1597680"/>
                <a:chOff x="1752480" y="2572200"/>
                <a:chExt cx="1622880" cy="15976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752480" y="257220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272"/>
                    </a:gs>
                    <a:gs pos="100000">
                      <a:srgbClr val="797a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937880" y="259848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2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>
                <a:off x="178596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098b4"/>
                    </a:gs>
                    <a:gs pos="100000">
                      <a:srgbClr val="204d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275080" y="378504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098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3732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48440" y="227628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820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821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098b4"/>
                  </a:gs>
                  <a:gs pos="100000">
                    <a:srgbClr val="1d4652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828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829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7e4a0"/>
                  </a:gs>
                  <a:gs pos="100000">
                    <a:srgbClr val="546949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836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837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098b4"/>
                  </a:gs>
                  <a:gs pos="100000">
                    <a:srgbClr val="1d4652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844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845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7e4a0"/>
                  </a:gs>
                  <a:gs pos="100000">
                    <a:srgbClr val="546949"/>
                  </a:gs>
                </a:gsLst>
                <a:lin ang="13500000"/>
              </a:gradFill>
              <a:ln w="9360">
                <a:solidFill>
                  <a:srgbClr val="005e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52b47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e5c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098b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5e5c"/>
              </a:solidFill>
              <a:latin typeface="Verdana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5e5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3901-B78C-405F-B118-E349C8D6B3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3809880" y="28195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b47e"/>
                    </a:gs>
                    <a:gs pos="100000">
                      <a:srgbClr val="b7e4a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b47e"/>
                  </a:gs>
                  <a:gs pos="100000">
                    <a:srgbClr val="b7e4a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3809880" y="4952520"/>
            <a:ext cx="5181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22080" y="1463400"/>
            <a:ext cx="7683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98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b47e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2b47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e5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7e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b7e4a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5e5c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500" spc="-1" strike="noStrike">
                <a:solidFill>
                  <a:srgbClr val="005e5c"/>
                </a:solidFill>
                <a:latin typeface="Arial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5e5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5562720" y="3352680"/>
            <a:ext cx="2286000" cy="2666880"/>
            <a:chOff x="5562720" y="3352680"/>
            <a:chExt cx="2286000" cy="2666880"/>
          </a:xfrm>
        </p:grpSpPr>
        <p:sp>
          <p:nvSpPr>
            <p:cNvPr id="856" name=""/>
            <p:cNvSpPr/>
            <p:nvPr/>
          </p:nvSpPr>
          <p:spPr>
            <a:xfrm>
              <a:off x="556272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15000" y="354780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1143000" y="3352680"/>
            <a:ext cx="2286000" cy="2666880"/>
            <a:chOff x="1143000" y="3352680"/>
            <a:chExt cx="2286000" cy="2666880"/>
          </a:xfrm>
        </p:grpSpPr>
        <p:sp>
          <p:nvSpPr>
            <p:cNvPr id="859" name=""/>
            <p:cNvSpPr/>
            <p:nvPr/>
          </p:nvSpPr>
          <p:spPr>
            <a:xfrm>
              <a:off x="11430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6d7a4"/>
              </a:gs>
              <a:gs pos="100000">
                <a:srgbClr val="c0c2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de6"/>
              </a:gs>
              <a:gs pos="100000">
                <a:srgbClr val="4098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864" name=""/>
            <p:cNvGrpSpPr/>
            <p:nvPr/>
          </p:nvGrpSpPr>
          <p:grpSpPr>
            <a:xfrm>
              <a:off x="3048120" y="1628640"/>
              <a:ext cx="2998440" cy="1601280"/>
              <a:chOff x="3048120" y="1628640"/>
              <a:chExt cx="2998440" cy="160128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3048120" y="1771560"/>
                <a:ext cx="2998440" cy="1458360"/>
                <a:chOff x="3048120" y="1771560"/>
                <a:chExt cx="2998440" cy="14583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8088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57"/>
                    </a:gs>
                    <a:gs pos="100000">
                      <a:srgbClr val="4098b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04812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098b4"/>
                    </a:gs>
                    <a:gs pos="100000">
                      <a:srgbClr val="a9d0d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"/>
              <p:cNvSpPr/>
              <p:nvPr/>
            </p:nvSpPr>
            <p:spPr>
              <a:xfrm>
                <a:off x="318924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7e4a0"/>
                  </a:gs>
                  <a:gs pos="100000">
                    <a:srgbClr val="5469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2416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4f4dc"/>
                  </a:gs>
                  <a:gs pos="100000">
                    <a:srgbClr val="b7e4a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5116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7e4a0">
                      <a:alpha val="48235"/>
                    </a:srgbClr>
                  </a:gs>
                  <a:gs pos="100000">
                    <a:srgbClr val="90b3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38292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7e4a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875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098b4"/>
                </a:gs>
                <a:gs pos="100000">
                  <a:srgbClr val="1634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7e4a0"/>
                </a:gs>
                <a:gs pos="100000">
                  <a:srgbClr val="3947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272"/>
                </a:gs>
                <a:gs pos="100000">
                  <a:srgbClr val="4444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13320" y="3770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16600" y="24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26600" y="2692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34320" y="4692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624400" y="523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e5c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cxnSp>
          <p:nvCxnSpPr>
            <p:cNvPr id="88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5e5c"/>
              </a:solidFill>
              <a:miter/>
            </a:ln>
          </p:spPr>
        </p:cxnSp>
        <p:sp>
          <p:nvSpPr>
            <p:cNvPr id="8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89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85934"/>
                </a:gs>
                <a:gs pos="50000">
                  <a:srgbClr val="c0c272"/>
                </a:gs>
                <a:gs pos="100000">
                  <a:srgbClr val="5859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98b4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5e5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0" y="1798560"/>
            <a:ext cx="8153280" cy="4084560"/>
            <a:chOff x="0" y="1798560"/>
            <a:chExt cx="8153280" cy="4084560"/>
          </a:xfrm>
        </p:grpSpPr>
        <p:grpSp>
          <p:nvGrpSpPr>
            <p:cNvPr id="913" name=""/>
            <p:cNvGrpSpPr/>
            <p:nvPr/>
          </p:nvGrpSpPr>
          <p:grpSpPr>
            <a:xfrm>
              <a:off x="228600" y="4952880"/>
              <a:ext cx="6022440" cy="930240"/>
              <a:chOff x="228600" y="4952880"/>
              <a:chExt cx="6022440" cy="930240"/>
            </a:xfrm>
          </p:grpSpPr>
          <p:sp>
            <p:nvSpPr>
              <p:cNvPr id="914" name=""/>
              <p:cNvSpPr/>
              <p:nvPr/>
            </p:nvSpPr>
            <p:spPr>
              <a:xfrm>
                <a:off x="228600" y="5192280"/>
                <a:ext cx="5677200" cy="65664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5270760" y="4952880"/>
                <a:ext cx="980280" cy="930240"/>
                <a:chOff x="5270760" y="4952880"/>
                <a:chExt cx="980280" cy="9302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70760" y="4952880"/>
                  <a:ext cx="980280" cy="9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1f1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382720" y="4968000"/>
                  <a:ext cx="756360" cy="351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648760" y="5013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71280" y="2840040"/>
              <a:ext cx="4798440" cy="918720"/>
              <a:chOff x="71280" y="2840040"/>
              <a:chExt cx="4798440" cy="918720"/>
            </a:xfrm>
          </p:grpSpPr>
          <p:sp>
            <p:nvSpPr>
              <p:cNvPr id="920" name=""/>
              <p:cNvSpPr/>
              <p:nvPr/>
            </p:nvSpPr>
            <p:spPr>
              <a:xfrm>
                <a:off x="71280" y="3070440"/>
                <a:ext cx="4143960" cy="656640"/>
              </a:xfrm>
              <a:prstGeom prst="rect">
                <a:avLst/>
              </a:prstGeom>
              <a:gradFill rotWithShape="0">
                <a:gsLst>
                  <a:gs pos="0">
                    <a:srgbClr val="b7e4a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3904200" y="2840040"/>
                <a:ext cx="965520" cy="918720"/>
                <a:chOff x="3904200" y="2840040"/>
                <a:chExt cx="965520" cy="91872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3904200" y="2840040"/>
                  <a:ext cx="965520" cy="918720"/>
                  <a:chOff x="3904200" y="2840040"/>
                  <a:chExt cx="965520" cy="91872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>
                    <a:off x="3904200" y="2840040"/>
                    <a:ext cx="965520" cy="91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7e4a0"/>
                      </a:gs>
                      <a:gs pos="100000">
                        <a:srgbClr val="3744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014360" y="2855160"/>
                    <a:ext cx="74484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7e4a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>
                  <a:off x="4186440" y="29664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6" name=""/>
            <p:cNvGrpSpPr/>
            <p:nvPr/>
          </p:nvGrpSpPr>
          <p:grpSpPr>
            <a:xfrm>
              <a:off x="150840" y="3848040"/>
              <a:ext cx="5434920" cy="923400"/>
              <a:chOff x="150840" y="3848040"/>
              <a:chExt cx="5434920" cy="923400"/>
            </a:xfrm>
          </p:grpSpPr>
          <p:sp>
            <p:nvSpPr>
              <p:cNvPr id="927" name=""/>
              <p:cNvSpPr/>
              <p:nvPr/>
            </p:nvSpPr>
            <p:spPr>
              <a:xfrm>
                <a:off x="150840" y="4104000"/>
                <a:ext cx="5050440" cy="657360"/>
              </a:xfrm>
              <a:prstGeom prst="rect">
                <a:avLst/>
              </a:prstGeom>
              <a:gradFill rotWithShape="0">
                <a:gsLst>
                  <a:gs pos="0">
                    <a:srgbClr val="4098b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4610520" y="3848040"/>
                <a:ext cx="975240" cy="923400"/>
                <a:chOff x="4610520" y="3848040"/>
                <a:chExt cx="975240" cy="92340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4610520" y="3848040"/>
                  <a:ext cx="975240" cy="923400"/>
                  <a:chOff x="4610520" y="3848040"/>
                  <a:chExt cx="975240" cy="92340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4610520" y="3848040"/>
                    <a:ext cx="975240" cy="92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098b4"/>
                      </a:gs>
                      <a:gs pos="100000">
                        <a:srgbClr val="0f24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721760" y="3863160"/>
                    <a:ext cx="752400" cy="3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098b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2" name=""/>
                <p:cNvSpPr/>
                <p:nvPr/>
              </p:nvSpPr>
              <p:spPr>
                <a:xfrm>
                  <a:off x="4964040" y="38973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3" name=""/>
            <p:cNvGrpSpPr/>
            <p:nvPr/>
          </p:nvGrpSpPr>
          <p:grpSpPr>
            <a:xfrm>
              <a:off x="0" y="1828800"/>
              <a:ext cx="4233240" cy="914040"/>
              <a:chOff x="0" y="1828800"/>
              <a:chExt cx="4233240" cy="91404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2079360"/>
                <a:ext cx="3749760" cy="656640"/>
              </a:xfrm>
              <a:prstGeom prst="rect">
                <a:avLst/>
              </a:prstGeom>
              <a:gradFill rotWithShape="0">
                <a:gsLst>
                  <a:gs pos="0">
                    <a:srgbClr val="c0c27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257640" y="1828800"/>
                <a:ext cx="975600" cy="914040"/>
                <a:chOff x="3257640" y="1828800"/>
                <a:chExt cx="975600" cy="914040"/>
              </a:xfrm>
            </p:grpSpPr>
            <p:grpSp>
              <p:nvGrpSpPr>
                <p:cNvPr id="936" name=""/>
                <p:cNvGrpSpPr/>
                <p:nvPr/>
              </p:nvGrpSpPr>
              <p:grpSpPr>
                <a:xfrm>
                  <a:off x="3257640" y="1828800"/>
                  <a:ext cx="975600" cy="914040"/>
                  <a:chOff x="3257640" y="1828800"/>
                  <a:chExt cx="975600" cy="9140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257640" y="1828800"/>
                    <a:ext cx="975600" cy="9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272"/>
                      </a:gs>
                      <a:gs pos="100000">
                        <a:srgbClr val="4b4b2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368880" y="1843920"/>
                    <a:ext cx="75276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27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5e5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9" name=""/>
                <p:cNvSpPr/>
                <p:nvPr/>
              </p:nvSpPr>
              <p:spPr>
                <a:xfrm>
                  <a:off x="3572280" y="193032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5e5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0" name=""/>
            <p:cNvSpPr/>
            <p:nvPr/>
          </p:nvSpPr>
          <p:spPr>
            <a:xfrm>
              <a:off x="304920" y="2203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09480" y="32414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520" y="42480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480" y="5332320"/>
              <a:ext cx="43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e5c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19840" y="1798560"/>
              <a:ext cx="2233440" cy="1808280"/>
            </a:xfrm>
            <a:prstGeom prst="wedgeRoundRectCallout">
              <a:avLst>
                <a:gd name="adj1" fmla="val -56680"/>
                <a:gd name="adj2" fmla="val 85907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5e5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947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5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5e5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b47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5e5c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961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71d"/>
                  </a:gs>
                  <a:gs pos="50000">
                    <a:srgbClr val="00563f"/>
                  </a:gs>
                  <a:gs pos="100000">
                    <a:srgbClr val="00271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0743"/>
                  </a:gs>
                  <a:gs pos="50000">
                    <a:srgbClr val="4b1092"/>
                  </a:gs>
                  <a:gs pos="100000">
                    <a:srgbClr val="2207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7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1704"/>
                  </a:gs>
                  <a:gs pos="50000">
                    <a:srgbClr val="90330a"/>
                  </a:gs>
                  <a:gs pos="100000">
                    <a:srgbClr val="42170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3106"/>
                  </a:gs>
                  <a:gs pos="50000">
                    <a:srgbClr val="906b0e"/>
                  </a:gs>
                  <a:gs pos="100000">
                    <a:srgbClr val="42310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2e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84c"/>
                  </a:gs>
                  <a:gs pos="50000">
                    <a:srgbClr val="00906a"/>
                  </a:gs>
                  <a:gs pos="100000">
                    <a:srgbClr val="0068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c2eb8"/>
                  </a:gs>
                  <a:gs pos="50000">
                    <a:srgbClr val="8041ff"/>
                  </a:gs>
                  <a:gs pos="100000">
                    <a:srgbClr val="5c2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e5139"/>
                  </a:gs>
                  <a:gs pos="50000">
                    <a:srgbClr val="dc7150"/>
                  </a:gs>
                  <a:gs pos="100000">
                    <a:srgbClr val="9e51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67414"/>
                  </a:gs>
                  <a:gs pos="50000">
                    <a:srgbClr val="d0a11c"/>
                  </a:gs>
                  <a:gs pos="100000">
                    <a:srgbClr val="96741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800" spc="-1" strike="noStrike">
                  <a:solidFill>
                    <a:srgbClr val="005e5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b7e4a0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0c272"/>
              </a:gs>
              <a:gs pos="100000">
                <a:srgbClr val="d2d39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098b4"/>
              </a:gs>
              <a:gs pos="100000">
                <a:srgbClr val="79b6c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5e5c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e5c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5e5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e5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5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7:39:5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