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32B9-C68D-4724-8814-B65F70A6E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6553-7D3C-4934-B943-BEE22183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CA8F-4CEE-4F68-B00B-6A3976679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8DE6-13BD-4F0D-8944-ACF0069E3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4DE5-C26C-494C-ABEE-3F86EB0AC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320B-C33D-427D-9AE3-F55127EC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76CA-15FD-4A7F-B18E-F96FF741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9DE7-67FB-4439-9EF0-66C1B58E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322D-C887-4815-8A71-90A112B5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642960"/>
            <a:ext cx="82296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8B85-2432-4D7B-826E-5397A8B0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4EC5-CF74-4F85-8E93-5981AD22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F705-3A3C-407E-A50D-B433612C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B5C1-3EF3-4ABF-9D72-D4F88D95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4FA4-09DE-4A9B-8DEF-9956858D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0318-CB72-4A68-8947-83C226B9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D498-4B28-444C-A374-CAA97E85C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6BC6-060A-4EE0-AD03-B30D9D78D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5C8B-7E28-4511-ADB8-C2960C20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6C23-472E-4AD8-AA8F-5DCA1723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3051-1E89-4CBB-90FA-FBAF4951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42960"/>
            <a:ext cx="82296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3982-1C06-4767-B0EA-B9DD852F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19F8-CEAA-4709-8D27-FEDAED15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DAFC-D9E8-4E5F-A0E5-8066246E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A22C-5812-4206-97BA-910946CF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鱼不愚\桌面\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经典特宋简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A4F3-6C04-4418-A7A7-8D8788F111C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Documents and Settings\鱼不愚\桌面\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C:\Documents and Settings\鱼不愚\桌面\未标题-1副本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经典特宋简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58DA-5EDB-4E28-80E9-71A642F4FD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14120" y="83664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漂亮蓝色水滴工作报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82520"/>
            <a:ext cx="8229600" cy="774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0c0"/>
                </a:solidFill>
                <a:latin typeface="汉仪粗宋简"/>
                <a:ea typeface="汉仪粗宋简"/>
              </a:rPr>
              <a:t>目  录</a:t>
            </a:r>
            <a:endParaRPr b="0" lang="en-US" sz="44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88" name="圆角矩形 4"/>
          <p:cNvSpPr/>
          <p:nvPr/>
        </p:nvSpPr>
        <p:spPr>
          <a:xfrm>
            <a:off x="1643040" y="2292480"/>
            <a:ext cx="4929120" cy="642960"/>
          </a:xfrm>
          <a:prstGeom prst="roundRect">
            <a:avLst>
              <a:gd name="adj" fmla="val 16667"/>
            </a:avLst>
          </a:prstGeom>
          <a:solidFill>
            <a:srgbClr val="0062ac"/>
          </a:solidFill>
          <a:ln w="25560">
            <a:solidFill>
              <a:srgbClr val="00b0f0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Documents and Settings\鱼不愚\桌面\3dicon1_zcool.com.cn [转换].png"/>
          <p:cNvPicPr/>
          <p:nvPr/>
        </p:nvPicPr>
        <p:blipFill>
          <a:blip r:embed="rId1"/>
          <a:srcRect l="38759" t="0" r="35730" b="62560"/>
          <a:stretch/>
        </p:blipFill>
        <p:spPr>
          <a:xfrm>
            <a:off x="1071720" y="1857240"/>
            <a:ext cx="1143000" cy="124488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>
            <a:off x="1292400" y="2408400"/>
            <a:ext cx="7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 Black"/>
                <a:ea typeface="ClassizismAntiqua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圆角矩形 8"/>
          <p:cNvSpPr/>
          <p:nvPr/>
        </p:nvSpPr>
        <p:spPr>
          <a:xfrm>
            <a:off x="2357280" y="3521160"/>
            <a:ext cx="4929480" cy="642960"/>
          </a:xfrm>
          <a:prstGeom prst="roundRect">
            <a:avLst>
              <a:gd name="adj" fmla="val 16667"/>
            </a:avLst>
          </a:prstGeom>
          <a:solidFill>
            <a:srgbClr val="0062ac"/>
          </a:solidFill>
          <a:ln w="25560">
            <a:solidFill>
              <a:srgbClr val="00b0f0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Documents and Settings\鱼不愚\桌面\3dicon1_zcool.com.cn [转换].png"/>
          <p:cNvPicPr/>
          <p:nvPr/>
        </p:nvPicPr>
        <p:blipFill>
          <a:blip r:embed="rId2"/>
          <a:srcRect l="38759" t="0" r="35730" b="62560"/>
          <a:stretch/>
        </p:blipFill>
        <p:spPr>
          <a:xfrm>
            <a:off x="1785960" y="3071880"/>
            <a:ext cx="1143000" cy="1244520"/>
          </a:xfrm>
          <a:prstGeom prst="rect">
            <a:avLst/>
          </a:prstGeom>
          <a:ln w="0">
            <a:noFill/>
          </a:ln>
        </p:spPr>
      </p:pic>
      <p:sp>
        <p:nvSpPr>
          <p:cNvPr id="93" name="TextBox 10"/>
          <p:cNvSpPr/>
          <p:nvPr/>
        </p:nvSpPr>
        <p:spPr>
          <a:xfrm>
            <a:off x="2006640" y="3637080"/>
            <a:ext cx="7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 Black"/>
                <a:ea typeface="ClassizismAntiqua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圆角矩形 12"/>
          <p:cNvSpPr/>
          <p:nvPr/>
        </p:nvSpPr>
        <p:spPr>
          <a:xfrm>
            <a:off x="3051000" y="4792680"/>
            <a:ext cx="4929480" cy="642960"/>
          </a:xfrm>
          <a:prstGeom prst="roundRect">
            <a:avLst>
              <a:gd name="adj" fmla="val 16667"/>
            </a:avLst>
          </a:prstGeom>
          <a:solidFill>
            <a:srgbClr val="0062ac"/>
          </a:solidFill>
          <a:ln w="25560">
            <a:solidFill>
              <a:srgbClr val="00b0f0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Documents and Settings\鱼不愚\桌面\3dicon1_zcool.com.cn [转换].png"/>
          <p:cNvPicPr/>
          <p:nvPr/>
        </p:nvPicPr>
        <p:blipFill>
          <a:blip r:embed="rId3"/>
          <a:srcRect l="38759" t="0" r="35730" b="62560"/>
          <a:stretch/>
        </p:blipFill>
        <p:spPr>
          <a:xfrm>
            <a:off x="2479680" y="4357800"/>
            <a:ext cx="1143000" cy="1244520"/>
          </a:xfrm>
          <a:prstGeom prst="rect">
            <a:avLst/>
          </a:prstGeom>
          <a:ln w="0">
            <a:noFill/>
          </a:ln>
        </p:spPr>
      </p:pic>
      <p:sp>
        <p:nvSpPr>
          <p:cNvPr id="96" name="TextBox 14"/>
          <p:cNvSpPr/>
          <p:nvPr/>
        </p:nvSpPr>
        <p:spPr>
          <a:xfrm>
            <a:off x="2700360" y="4908600"/>
            <a:ext cx="7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 Black"/>
                <a:ea typeface="ClassizismAntiqua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058840" y="2301840"/>
            <a:ext cx="432936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细黑"/>
              </a:rPr>
              <a:t>文本目录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8" name="内容占位符 2"/>
          <p:cNvSpPr/>
          <p:nvPr/>
        </p:nvSpPr>
        <p:spPr>
          <a:xfrm>
            <a:off x="2857680" y="3516480"/>
            <a:ext cx="4329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文本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内容占位符 2"/>
          <p:cNvSpPr/>
          <p:nvPr/>
        </p:nvSpPr>
        <p:spPr>
          <a:xfrm>
            <a:off x="3529080" y="4811760"/>
            <a:ext cx="4329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文本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对角圆角矩形 5"/>
          <p:cNvSpPr/>
          <p:nvPr/>
        </p:nvSpPr>
        <p:spPr>
          <a:xfrm rot="21346800">
            <a:off x="1133640" y="1809360"/>
            <a:ext cx="6954840" cy="3879720"/>
          </a:xfrm>
          <a:prstGeom prst="pie">
            <a:avLst/>
          </a:prstGeom>
          <a:gradFill rotWithShape="0">
            <a:gsLst>
              <a:gs pos="0">
                <a:srgbClr val="0070c0"/>
              </a:gs>
              <a:gs pos="100000">
                <a:srgbClr val="00b0f0"/>
              </a:gs>
            </a:gsLst>
            <a:lin ang="8352000"/>
          </a:gradFill>
          <a:ln w="0">
            <a:noFill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汉仪粗宋简"/>
                <a:ea typeface="汉仪粗宋简"/>
              </a:rPr>
              <a:t>强调类型图表</a:t>
            </a: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pic>
        <p:nvPicPr>
          <p:cNvPr id="102" name="Picture 3" descr="C:\TDDOWNLOAD\pencil.png"/>
          <p:cNvPicPr/>
          <p:nvPr/>
        </p:nvPicPr>
        <p:blipFill>
          <a:blip r:embed="rId1"/>
          <a:stretch/>
        </p:blipFill>
        <p:spPr>
          <a:xfrm>
            <a:off x="887400" y="161784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 rot="21361200">
            <a:off x="1348920" y="2091960"/>
            <a:ext cx="6454800" cy="33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细黑"/>
              </a:rPr>
              <a:t>强调文本内容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汉仪粗宋简"/>
                <a:ea typeface="汉仪粗宋简"/>
              </a:rPr>
              <a:t>分析类型图表</a:t>
            </a: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grpSp>
        <p:nvGrpSpPr>
          <p:cNvPr id="105" name="剪去同侧角的矩形 6"/>
          <p:cNvGrpSpPr/>
          <p:nvPr/>
        </p:nvGrpSpPr>
        <p:grpSpPr>
          <a:xfrm>
            <a:off x="4694400" y="2567160"/>
            <a:ext cx="3747960" cy="3528720"/>
            <a:chOff x="4694400" y="2567160"/>
            <a:chExt cx="3747960" cy="3528720"/>
          </a:xfrm>
        </p:grpSpPr>
        <p:pic>
          <p:nvPicPr>
            <p:cNvPr id="106" name="剪去同侧角的矩形 6" descr=""/>
            <p:cNvPicPr/>
            <p:nvPr/>
          </p:nvPicPr>
          <p:blipFill>
            <a:blip r:embed="rId1"/>
            <a:stretch/>
          </p:blipFill>
          <p:spPr>
            <a:xfrm>
              <a:off x="4694400" y="2567160"/>
              <a:ext cx="3747960" cy="35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4927680" y="2803320"/>
              <a:ext cx="3281400" cy="32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剪去同侧角的矩形 5"/>
          <p:cNvGrpSpPr/>
          <p:nvPr/>
        </p:nvGrpSpPr>
        <p:grpSpPr>
          <a:xfrm>
            <a:off x="701640" y="2567160"/>
            <a:ext cx="3747960" cy="3528720"/>
            <a:chOff x="701640" y="2567160"/>
            <a:chExt cx="3747960" cy="3528720"/>
          </a:xfrm>
        </p:grpSpPr>
        <p:pic>
          <p:nvPicPr>
            <p:cNvPr id="109" name="剪去同侧角的矩形 5" descr=""/>
            <p:cNvPicPr/>
            <p:nvPr/>
          </p:nvPicPr>
          <p:blipFill>
            <a:blip r:embed="rId2"/>
            <a:stretch/>
          </p:blipFill>
          <p:spPr>
            <a:xfrm>
              <a:off x="701640" y="2567160"/>
              <a:ext cx="3747960" cy="35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934920" y="2803320"/>
              <a:ext cx="3281400" cy="32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Picture 2" descr="C:\TDDOWNLOAD\user_female.png"/>
          <p:cNvPicPr/>
          <p:nvPr/>
        </p:nvPicPr>
        <p:blipFill>
          <a:blip r:embed="rId3"/>
          <a:stretch/>
        </p:blipFill>
        <p:spPr>
          <a:xfrm>
            <a:off x="1944720" y="1566720"/>
            <a:ext cx="1262160" cy="2475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TDDOWNLOAD\user_male.png"/>
          <p:cNvPicPr/>
          <p:nvPr/>
        </p:nvPicPr>
        <p:blipFill>
          <a:blip r:embed="rId4"/>
          <a:stretch/>
        </p:blipFill>
        <p:spPr>
          <a:xfrm>
            <a:off x="5937120" y="1554120"/>
            <a:ext cx="1262160" cy="2475000"/>
          </a:xfrm>
          <a:prstGeom prst="rect">
            <a:avLst/>
          </a:prstGeom>
          <a:ln w="0">
            <a:noFill/>
          </a:ln>
        </p:spPr>
      </p:pic>
      <p:grpSp>
        <p:nvGrpSpPr>
          <p:cNvPr id="113" name="内容占位符 2"/>
          <p:cNvGrpSpPr/>
          <p:nvPr/>
        </p:nvGrpSpPr>
        <p:grpSpPr>
          <a:xfrm>
            <a:off x="719280" y="2567160"/>
            <a:ext cx="3730320" cy="3509640"/>
            <a:chOff x="719280" y="2567160"/>
            <a:chExt cx="3730320" cy="3509640"/>
          </a:xfrm>
        </p:grpSpPr>
        <p:pic>
          <p:nvPicPr>
            <p:cNvPr id="114" name="内容占位符 2" descr=""/>
            <p:cNvPicPr/>
            <p:nvPr/>
          </p:nvPicPr>
          <p:blipFill>
            <a:blip r:embed="rId5"/>
            <a:stretch/>
          </p:blipFill>
          <p:spPr>
            <a:xfrm>
              <a:off x="719280" y="2567160"/>
              <a:ext cx="373032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01360" y="2643120"/>
              <a:ext cx="3571560" cy="33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文本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内容占位符 2"/>
          <p:cNvGrpSpPr/>
          <p:nvPr/>
        </p:nvGrpSpPr>
        <p:grpSpPr>
          <a:xfrm>
            <a:off x="4681440" y="2567160"/>
            <a:ext cx="3730680" cy="3509640"/>
            <a:chOff x="4681440" y="2567160"/>
            <a:chExt cx="3730680" cy="3509640"/>
          </a:xfrm>
        </p:grpSpPr>
        <p:pic>
          <p:nvPicPr>
            <p:cNvPr id="117" name="内容占位符 2" descr=""/>
            <p:cNvPicPr/>
            <p:nvPr/>
          </p:nvPicPr>
          <p:blipFill>
            <a:blip r:embed="rId6"/>
            <a:stretch/>
          </p:blipFill>
          <p:spPr>
            <a:xfrm>
              <a:off x="4681440" y="2567160"/>
              <a:ext cx="373068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763880" y="2643120"/>
              <a:ext cx="3571920" cy="33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文本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汉仪粗宋简"/>
                <a:ea typeface="汉仪粗宋简"/>
              </a:rPr>
              <a:t>数据类型图表</a:t>
            </a: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pic>
        <p:nvPicPr>
          <p:cNvPr id="120" name="内容占位符 3" descr=""/>
          <p:cNvPicPr/>
          <p:nvPr/>
        </p:nvPicPr>
        <p:blipFill>
          <a:blip r:embed="rId1"/>
          <a:stretch/>
        </p:blipFill>
        <p:spPr>
          <a:xfrm>
            <a:off x="1120680" y="1714680"/>
            <a:ext cx="6902640" cy="39826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68360" y="134136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汉仪粗宋简"/>
                <a:ea typeface="汉仪粗宋简"/>
              </a:rPr>
              <a:t>说明类型图表</a:t>
            </a: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pic>
        <p:nvPicPr>
          <p:cNvPr id="123" name="Picture 5" descr="C:\Documents and Settings\鱼不愚\桌面\biz_icon_01.png"/>
          <p:cNvPicPr/>
          <p:nvPr/>
        </p:nvPicPr>
        <p:blipFill>
          <a:blip r:embed="rId1"/>
          <a:stretch/>
        </p:blipFill>
        <p:spPr>
          <a:xfrm>
            <a:off x="1112760" y="1825560"/>
            <a:ext cx="6918480" cy="4254480"/>
          </a:xfrm>
          <a:prstGeom prst="rect">
            <a:avLst/>
          </a:prstGeom>
          <a:ln w="0">
            <a:noFill/>
          </a:ln>
        </p:spPr>
      </p:pic>
      <p:grpSp>
        <p:nvGrpSpPr>
          <p:cNvPr id="124" name="内容占位符 2"/>
          <p:cNvGrpSpPr/>
          <p:nvPr/>
        </p:nvGrpSpPr>
        <p:grpSpPr>
          <a:xfrm>
            <a:off x="1994040" y="2073240"/>
            <a:ext cx="5155920" cy="3016080"/>
            <a:chOff x="1994040" y="2073240"/>
            <a:chExt cx="5155920" cy="3016080"/>
          </a:xfrm>
        </p:grpSpPr>
        <p:pic>
          <p:nvPicPr>
            <p:cNvPr id="125" name="内容占位符 2" descr=""/>
            <p:cNvPicPr/>
            <p:nvPr/>
          </p:nvPicPr>
          <p:blipFill>
            <a:blip r:embed="rId2"/>
            <a:stretch/>
          </p:blipFill>
          <p:spPr>
            <a:xfrm>
              <a:off x="1994040" y="2073240"/>
              <a:ext cx="5155920" cy="30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2071440" y="2152440"/>
              <a:ext cx="5000400" cy="28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文本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经典特宋简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E092-9DF0-4B86-97C4-EAC1C9AC30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副标题 2"/>
          <p:cNvGrpSpPr/>
          <p:nvPr/>
        </p:nvGrpSpPr>
        <p:grpSpPr>
          <a:xfrm>
            <a:off x="493560" y="847800"/>
            <a:ext cx="6516720" cy="1230120"/>
            <a:chOff x="493560" y="847800"/>
            <a:chExt cx="6516720" cy="1230120"/>
          </a:xfrm>
        </p:grpSpPr>
        <p:pic>
          <p:nvPicPr>
            <p:cNvPr id="131" name="副标题 2" descr=""/>
            <p:cNvPicPr/>
            <p:nvPr/>
          </p:nvPicPr>
          <p:blipFill>
            <a:blip r:embed="rId1"/>
            <a:stretch/>
          </p:blipFill>
          <p:spPr>
            <a:xfrm>
              <a:off x="493560" y="847800"/>
              <a:ext cx="6516720" cy="12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571320" y="928440"/>
              <a:ext cx="6357960" cy="10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70c0"/>
                  </a:solidFill>
                  <a:latin typeface="汉仪粗宋简"/>
                  <a:ea typeface="汉仪粗宋简"/>
                </a:rPr>
                <a:t>THANKS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5T07:29:15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2:00Z</dcterms:modified>
  <cp:revision>3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