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37.png" ContentType="image/png"/>
  <Override PartName="/ppt/media/image48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33.jpeg" ContentType="image/jpeg"/>
  <Override PartName="/ppt/media/image27.jpeg" ContentType="image/jpeg"/>
  <Override PartName="/ppt/media/image35.jpeg" ContentType="image/jpeg"/>
  <Override PartName="/ppt/media/image5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11.png" ContentType="image/png"/>
  <Override PartName="/ppt/media/image47.jpeg" ContentType="image/jpeg"/>
  <Override PartName="/ppt/media/image41.png" ContentType="image/png"/>
  <Override PartName="/ppt/media/image49.jpeg" ContentType="image/jpeg"/>
  <Override PartName="/ppt/media/image32.jpeg" ContentType="image/jpeg"/>
  <Override PartName="/ppt/media/image13.png" ContentType="image/png"/>
  <Override PartName="/ppt/media/image10.wmf" ContentType="image/x-wmf"/>
  <Override PartName="/ppt/media/image25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8.jpeg" ContentType="image/jpeg"/>
  <Override PartName="/ppt/media/image39.jpeg" ContentType="image/jpeg"/>
  <Override PartName="/ppt/media/image3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471-4004-48B5-BCF6-41667398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7842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20" y="3782520"/>
            <a:ext cx="7842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446-ADD6-4B6F-A03F-D5B6AF30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120" y="378252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4800" y="378252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A93-13F8-4580-96B5-2287CA14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7880" y="141264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49640" y="141264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6120" y="378252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7880" y="378252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49640" y="378252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749-7D4A-4E9A-B017-29BF63D5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46120" y="1412640"/>
            <a:ext cx="7842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7842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46120" y="475920"/>
            <a:ext cx="7842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6120" y="378252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46120" y="1412640"/>
            <a:ext cx="7842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528-7545-4BBA-97F7-01C6EF93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4800" y="378252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120" y="3782520"/>
            <a:ext cx="7842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7842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120" y="3782520"/>
            <a:ext cx="7842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6120" y="378252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4800" y="378252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7880" y="141264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49640" y="141264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20" y="378252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7880" y="378252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49640" y="3782520"/>
            <a:ext cx="2525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7842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78F-A914-45B9-AEB7-00233947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933-5BA0-4D85-9F88-903F0952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705-0311-45D5-9960-99094086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46120" y="475920"/>
            <a:ext cx="7842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464-259F-4701-9F81-4EF6DD2F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6120" y="378252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5F3-D9EB-47F5-8AC9-C3B50C28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4800" y="378252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075-A60A-46E3-B4B5-ACF4A352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612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4800" y="1412640"/>
            <a:ext cx="38268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6120" y="3782520"/>
            <a:ext cx="7842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D22-D92B-4CD1-BC0F-01AA696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6120" y="1412640"/>
            <a:ext cx="7842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8800" indent="-182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28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1360" indent="-1494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3240" indent="-1699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3240" indent="-1699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3240" indent="-1699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51080" y="6391440"/>
            <a:ext cx="0" cy="466560"/>
          </a:xfrm>
          <a:prstGeom prst="line">
            <a:avLst/>
          </a:prstGeom>
          <a:ln w="3240">
            <a:solidFill>
              <a:srgbClr val="99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38240" y="6391440"/>
            <a:ext cx="0" cy="466560"/>
          </a:xfrm>
          <a:prstGeom prst="line">
            <a:avLst/>
          </a:prstGeom>
          <a:ln w="3240">
            <a:solidFill>
              <a:srgbClr val="99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3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33120" y="65041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umbai, March 5, 20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933120" y="6337440"/>
            <a:ext cx="42051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FA/ISA - Global Advertiser Confer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45760" y="6337440"/>
            <a:ext cx="461880" cy="274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4658-CB40-4534-876A-4E474F6DDDF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971880" y="6337440"/>
            <a:ext cx="2112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971880" y="6504120"/>
            <a:ext cx="2112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he Vodafone Br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548560" y="6408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10480" y="5781600"/>
            <a:ext cx="1141560" cy="774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6320" y="2135160"/>
            <a:ext cx="654552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vodafone.com/section_article/0,3035,CATEGORY_ID%3D501%26LANGUAGE_ID%3D0%26CONTENT_ID%3D21022,00.html?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www.vodafone.com.mt/page/myvodafone_intro.html?vfm_pageid=17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hyperlink" Target="http://www.nectarreg.vodafone.co.uk/VLSPWebApp/vlsp_csc/displayRegistration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png"/><Relationship Id="rId17" Type="http://schemas.openxmlformats.org/officeDocument/2006/relationships/hyperlink" Target="http://www.vodafone-terenci.de/index_de.html" TargetMode="External"/><Relationship Id="rId18" Type="http://schemas.openxmlformats.org/officeDocument/2006/relationships/image" Target="../media/image25.png"/><Relationship Id="rId19" Type="http://schemas.openxmlformats.org/officeDocument/2006/relationships/hyperlink" Target="http://www.vodafonealapitvany.hu/default.htm" TargetMode="External"/><Relationship Id="rId20" Type="http://schemas.openxmlformats.org/officeDocument/2006/relationships/image" Target="../media/image26.png"/><Relationship Id="rId21" Type="http://schemas.openxmlformats.org/officeDocument/2006/relationships/image" Target="../media/image27.jpe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hyperlink" Target="http://www.vodafone.de/business/enabling_services/32334.html" TargetMode="External"/><Relationship Id="rId27" Type="http://schemas.openxmlformats.org/officeDocument/2006/relationships/image" Target="../media/image32.jpeg"/><Relationship Id="rId28" Type="http://schemas.openxmlformats.org/officeDocument/2006/relationships/image" Target="../media/image33.jpeg"/><Relationship Id="rId29" Type="http://schemas.openxmlformats.org/officeDocument/2006/relationships/image" Target="../media/image34.png"/><Relationship Id="rId30" Type="http://schemas.openxmlformats.org/officeDocument/2006/relationships/hyperlink" Target="http://www.vodafone.gr/live1/page.jsp?pid=0001070000&amp;vars=0000000000" TargetMode="External"/><Relationship Id="rId31" Type="http://schemas.openxmlformats.org/officeDocument/2006/relationships/image" Target="../media/image35.jpe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jpeg"/><Relationship Id="rId36" Type="http://schemas.openxmlformats.org/officeDocument/2006/relationships/image" Target="../media/image40.jpeg"/><Relationship Id="rId37" Type="http://schemas.openxmlformats.org/officeDocument/2006/relationships/image" Target="../media/image41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733920" y="1647720"/>
            <a:ext cx="4014720" cy="312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17800" y="432900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odafone Rg"/>
                <a:ea typeface="MS PGothic"/>
              </a:rPr>
              <a:t>Make the most of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080" y="1227240"/>
            <a:ext cx="892476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440" y="1728720"/>
            <a:ext cx="3871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odafone Rg"/>
              </a:rPr>
              <a:t>WFA/ISA – Global Conference</a:t>
            </a:r>
            <a:r>
              <a:rPr b="0" lang="en-US" sz="2800" spc="-1" strike="noStrike">
                <a:solidFill>
                  <a:srgbClr val="ffffff"/>
                </a:solidFill>
                <a:latin typeface="Vodafone R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17800" y="3486240"/>
            <a:ext cx="382932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odafone Rg"/>
              </a:rPr>
              <a:t>Grace Molen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odafone Rg"/>
              </a:rPr>
              <a:t>Head of Brand Development  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88160" y="1650960"/>
            <a:ext cx="1455840" cy="1057320"/>
            <a:chOff x="7688160" y="1650960"/>
            <a:chExt cx="1455840" cy="1057320"/>
          </a:xfrm>
        </p:grpSpPr>
        <p:sp>
          <p:nvSpPr>
            <p:cNvPr id="92" name=""/>
            <p:cNvSpPr/>
            <p:nvPr/>
          </p:nvSpPr>
          <p:spPr>
            <a:xfrm>
              <a:off x="7710480" y="1650960"/>
              <a:ext cx="1433520" cy="105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7688160" y="1650960"/>
              <a:ext cx="1432080" cy="9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3808440" y="2544840"/>
            <a:ext cx="387180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odafone Rg"/>
              </a:rPr>
              <a:t>The Vodafone Brand – Creating a culture of brand engagement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</a:t>
            </a:r>
            <a:r>
              <a:rPr b="0" lang="en-GB" sz="1700" spc="-1" strike="noStrike">
                <a:solidFill>
                  <a:srgbClr val="000000"/>
                </a:solidFill>
                <a:latin typeface="宋体"/>
                <a:ea typeface="宋体"/>
              </a:rPr>
              <a:t>eeppt</a:t>
            </a: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23360" y="7632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品牌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6C3-55E3-48BF-A6BD-C092FB9883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1000" y="2173320"/>
            <a:ext cx="6054480" cy="378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75480" y="4762440"/>
            <a:ext cx="1568520" cy="1200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751880" y="4917960"/>
            <a:ext cx="1172880" cy="7984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…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..and we have made amitment to customers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through our new Customer Promis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831680" y="2329920"/>
            <a:ext cx="5452920" cy="38228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98000"/>
          </a:bodyPr>
          <a:p>
            <a:pPr marL="140040" indent="0">
              <a:lnSpc>
                <a:spcPct val="12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Vodafone Rg"/>
                <a:ea typeface="宋体"/>
              </a:rPr>
              <a:t>Our Promise to yo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0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odafone Rg"/>
                <a:ea typeface="宋体"/>
              </a:rPr>
              <a:t>We value your time more than anyone else. That’s wh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odafone Rg"/>
                <a:ea typeface="宋体"/>
              </a:rPr>
              <a:t>wherever you see Vodafone, you can expec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040" indent="-14004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Vodafon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odafone Rg"/>
                <a:ea typeface="宋体"/>
              </a:rPr>
              <a:t>A network you can rely on when you need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040" indent="-14004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Vodafon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odafone Rg"/>
                <a:ea typeface="宋体"/>
              </a:rPr>
              <a:t>Expert, friendly help and advice – you only have to ask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040" indent="-14004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Vodafon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odafone Rg"/>
                <a:ea typeface="宋体"/>
              </a:rPr>
              <a:t>When you’re abroad, the services you need will be as easy to use as at home, and you’ll know what you are pay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0040" indent="-14004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Vodafone R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odafone Rg"/>
                <a:ea typeface="宋体"/>
              </a:rPr>
              <a:t>New and inspiring solutions to help you make the most of your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195120" y="2560680"/>
            <a:ext cx="18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-404640" y="2540160"/>
            <a:ext cx="18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fedc56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eppt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233-4540-49D4-871F-7067341369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4610160" cy="6323040"/>
            <a:chOff x="0" y="0"/>
            <a:chExt cx="4610160" cy="632304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610160" cy="6323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684360" y="1914480"/>
              <a:ext cx="3240000" cy="203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5240160" y="2790720"/>
            <a:ext cx="3184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Arial"/>
              </a:rPr>
              <a:t>In the last 18 months we have further refined the brand and customer experience…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900-DCE9-4D7F-945B-E61E54361E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36600" y="706320"/>
            <a:ext cx="8237520" cy="55944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5760" y="161640"/>
            <a:ext cx="8250120" cy="41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宋体"/>
              </a:rPr>
              <a:t>Brand Identity – A unique, contemporary and iconic identity which gives Vodafone the stature of a world-class brand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2BC-9ADE-4082-BCD8-CBA80B651D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6120" y="161640"/>
            <a:ext cx="8183520" cy="41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宋体"/>
              </a:rPr>
              <a:t>Engaging the employee – driving the brand idea internally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72960" y="457200"/>
            <a:ext cx="8409240" cy="595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AFA-B168-4663-9F90-326C3E670E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edc5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C08-95AD-4CAE-B0F0-7CC2A9CADB57}" type="slidenum">
              <a:t>14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312480"/>
            <a:ext cx="8530920" cy="1036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宋体"/>
              </a:rPr>
              <a:t>We aremitted to building the world’s most valuablemunications bran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2293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sion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366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the World Leader in Mobilemunications…………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16360" y="2655720"/>
            <a:ext cx="4184640" cy="3008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7527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736-4316-4881-8723-1CAD156D58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宋体"/>
              </a:rPr>
              <a:t>Our global brand building journey started only 7 years ago, and has had a number of distinct phases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00" y="2316240"/>
            <a:ext cx="8651880" cy="531720"/>
          </a:xfrm>
          <a:prstGeom prst="rightArrow">
            <a:avLst>
              <a:gd name="adj1" fmla="val 37907"/>
              <a:gd name="adj2" fmla="val 5491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4840" y="2798640"/>
            <a:ext cx="127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l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33640" y="2798640"/>
            <a:ext cx="127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re You?”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0200" y="2798640"/>
            <a:ext cx="127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dafone live!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56280" y="2759040"/>
            <a:ext cx="12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the Most of Now’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139068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Co ‘How are You?’ and Vodafone live! exec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03400" y="1461960"/>
            <a:ext cx="127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Co ‘How are You?’ Exec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0320" y="2444760"/>
            <a:ext cx="12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e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70000" y="244476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44476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7920" y="244476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7960" y="2444760"/>
            <a:ext cx="12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26200" y="2444760"/>
            <a:ext cx="12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8000" y="3651120"/>
            <a:ext cx="1303200" cy="197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055960" y="3651120"/>
            <a:ext cx="1304640" cy="1976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736800" y="3651120"/>
            <a:ext cx="1386000" cy="197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31200" y="2798640"/>
            <a:ext cx="99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MON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5880" y="244476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rcRect l="0" t="1263" r="0" b="-0"/>
          <a:stretch/>
        </p:blipFill>
        <p:spPr>
          <a:xfrm>
            <a:off x="5499000" y="3651120"/>
            <a:ext cx="1498680" cy="1019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7373880" y="3651120"/>
            <a:ext cx="1293840" cy="1984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404120" y="244476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510640" y="1626120"/>
            <a:ext cx="250560" cy="1265400"/>
          </a:xfrm>
          <a:custGeom>
            <a:avLst/>
            <a:gdLst>
              <a:gd name="textAreaLeft" fmla="*/ 0 w 250560"/>
              <a:gd name="textAreaRight" fmla="*/ 90360 w 250560"/>
              <a:gd name="textAreaTop" fmla="*/ 32760 h 1265400"/>
              <a:gd name="textAreaBottom" fmla="*/ 1232640 h 126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66"/>
                </a:lnTo>
                <a:cubicBezTo>
                  <a:pt x="10800" y="10066"/>
                  <a:pt x="16200" y="10966"/>
                  <a:pt x="21600" y="10966"/>
                </a:cubicBezTo>
                <a:cubicBezTo>
                  <a:pt x="16200" y="10966"/>
                  <a:pt x="10800" y="11866"/>
                  <a:pt x="10800" y="1276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4987800" y="985680"/>
            <a:ext cx="250560" cy="2546280"/>
          </a:xfrm>
          <a:custGeom>
            <a:avLst/>
            <a:gdLst>
              <a:gd name="textAreaLeft" fmla="*/ 0 w 250560"/>
              <a:gd name="textAreaRight" fmla="*/ 90360 w 250560"/>
              <a:gd name="textAreaTop" fmla="*/ 66240 h 2546280"/>
              <a:gd name="textAreaBottom" fmla="*/ 2480040 h 254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66"/>
                </a:lnTo>
                <a:cubicBezTo>
                  <a:pt x="10800" y="10066"/>
                  <a:pt x="16200" y="10966"/>
                  <a:pt x="21600" y="10966"/>
                </a:cubicBezTo>
                <a:cubicBezTo>
                  <a:pt x="16200" y="10966"/>
                  <a:pt x="10800" y="11866"/>
                  <a:pt x="10800" y="1276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813960" y="3430440"/>
            <a:ext cx="17316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062080" y="3252960"/>
            <a:ext cx="620640" cy="3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360600" y="3269880"/>
            <a:ext cx="1051200" cy="37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242040" y="3251160"/>
            <a:ext cx="37296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007480" y="3252960"/>
            <a:ext cx="33120" cy="3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AC3-7427-45E7-A054-A96089708D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116680" y="1154160"/>
            <a:ext cx="3581280" cy="3200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宋体"/>
              </a:rPr>
              <a:t>We have also built the brand by unifying what was a proliferation of sub brands under a single brand hierarch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11680" y="3846600"/>
            <a:ext cx="259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roducts &amp;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59600" y="4165560"/>
            <a:ext cx="1066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4680" y="4575240"/>
            <a:ext cx="3849480" cy="1297080"/>
          </a:xfrm>
          <a:prstGeom prst="rect">
            <a:avLst/>
          </a:prstGeom>
          <a:gradFill rotWithShape="0">
            <a:gsLst>
              <a:gs pos="0">
                <a:srgbClr val="b00f13"/>
              </a:gs>
              <a:gs pos="100000">
                <a:srgbClr val="ff4f4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 a single brand hierarchy, there is only one brand; everything else is information to help customers navigate (this drove the implementation of our current naming strateg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58080" y="2085840"/>
            <a:ext cx="169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aster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256440" y="2584440"/>
            <a:ext cx="1266840" cy="858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1544760"/>
            <a:ext cx="4775400" cy="24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50920" y="1658880"/>
            <a:ext cx="4619520" cy="2225520"/>
            <a:chOff x="250920" y="1658880"/>
            <a:chExt cx="4619520" cy="2225520"/>
          </a:xfrm>
        </p:grpSpPr>
        <p:pic>
          <p:nvPicPr>
            <p:cNvPr id="140" name="" descr="Find out more about Vodafone live!">
              <a:hlinkClick r:id="rId2"/>
            </p:cNvPr>
            <p:cNvPicPr/>
            <p:nvPr/>
          </p:nvPicPr>
          <p:blipFill>
            <a:blip r:embed="rId3"/>
            <a:srcRect l="44711" t="15054" r="0" b="18834"/>
            <a:stretch/>
          </p:blipFill>
          <p:spPr>
            <a:xfrm>
              <a:off x="882000" y="2426040"/>
              <a:ext cx="657720" cy="3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Register or Login to MyVodafone to send free Web2MMSs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563840" y="3447000"/>
              <a:ext cx="509400" cy="3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562680" y="3258360"/>
              <a:ext cx="573480" cy="34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collect nectar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001760" y="1658880"/>
              <a:ext cx="59256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9"/>
            <a:stretch/>
          </p:blipFill>
          <p:spPr>
            <a:xfrm>
              <a:off x="1225800" y="2172600"/>
              <a:ext cx="770040" cy="2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0"/>
            <a:stretch/>
          </p:blipFill>
          <p:spPr>
            <a:xfrm>
              <a:off x="3466800" y="2010960"/>
              <a:ext cx="60012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1"/>
            <a:stretch/>
          </p:blipFill>
          <p:spPr>
            <a:xfrm>
              <a:off x="663480" y="2040120"/>
              <a:ext cx="720000" cy="15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2"/>
            <a:stretch/>
          </p:blipFill>
          <p:spPr>
            <a:xfrm>
              <a:off x="3756240" y="2480400"/>
              <a:ext cx="394560" cy="2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3"/>
            <a:stretch/>
          </p:blipFill>
          <p:spPr>
            <a:xfrm>
              <a:off x="2232000" y="2992680"/>
              <a:ext cx="42912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4"/>
            <a:stretch/>
          </p:blipFill>
          <p:spPr>
            <a:xfrm>
              <a:off x="4168800" y="2413440"/>
              <a:ext cx="38772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Life Savers Awards"/>
            <p:cNvPicPr/>
            <p:nvPr/>
          </p:nvPicPr>
          <p:blipFill>
            <a:blip r:embed="rId15"/>
            <a:stretch/>
          </p:blipFill>
          <p:spPr>
            <a:xfrm>
              <a:off x="1998000" y="2345400"/>
              <a:ext cx="33516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6"/>
            <a:stretch/>
          </p:blipFill>
          <p:spPr>
            <a:xfrm>
              <a:off x="829440" y="3633120"/>
              <a:ext cx="64692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Company Information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250920" y="1688760"/>
              <a:ext cx="50040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>
              <a:hlinkClick r:id="rId19"/>
            </p:cNvPr>
            <p:cNvPicPr/>
            <p:nvPr/>
          </p:nvPicPr>
          <p:blipFill>
            <a:blip r:embed="rId20"/>
            <a:stretch/>
          </p:blipFill>
          <p:spPr>
            <a:xfrm>
              <a:off x="1216440" y="1701360"/>
              <a:ext cx="38556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21"/>
            <a:stretch/>
          </p:blipFill>
          <p:spPr>
            <a:xfrm>
              <a:off x="2604960" y="1667160"/>
              <a:ext cx="951480" cy="27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2"/>
            <a:stretch/>
          </p:blipFill>
          <p:spPr>
            <a:xfrm>
              <a:off x="2232000" y="3447000"/>
              <a:ext cx="465840" cy="31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3"/>
            <a:stretch/>
          </p:blipFill>
          <p:spPr>
            <a:xfrm>
              <a:off x="3269160" y="2397960"/>
              <a:ext cx="36216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4"/>
            <a:stretch/>
          </p:blipFill>
          <p:spPr>
            <a:xfrm>
              <a:off x="429120" y="2916360"/>
              <a:ext cx="757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Vodafone Rentals"/>
            <p:cNvPicPr/>
            <p:nvPr/>
          </p:nvPicPr>
          <p:blipFill>
            <a:blip r:embed="rId25"/>
            <a:stretch/>
          </p:blipFill>
          <p:spPr>
            <a:xfrm>
              <a:off x="4285080" y="2014920"/>
              <a:ext cx="430560" cy="2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Mehr Umsatz in Web und WAP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287640" y="2378880"/>
              <a:ext cx="37692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8"/>
            <a:stretch/>
          </p:blipFill>
          <p:spPr>
            <a:xfrm>
              <a:off x="4209840" y="3270960"/>
              <a:ext cx="66060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9"/>
            <a:srcRect l="0" t="0" r="4535" b="0"/>
            <a:stretch/>
          </p:blipFill>
          <p:spPr>
            <a:xfrm>
              <a:off x="3904560" y="2828520"/>
              <a:ext cx="617760" cy="39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>
              <a:hlinkClick r:id="rId30"/>
            </p:cNvPr>
            <p:cNvPicPr/>
            <p:nvPr/>
          </p:nvPicPr>
          <p:blipFill>
            <a:blip r:embed="rId31"/>
            <a:stretch/>
          </p:blipFill>
          <p:spPr>
            <a:xfrm>
              <a:off x="1847880" y="1822320"/>
              <a:ext cx="585000" cy="2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2"/>
            <a:stretch/>
          </p:blipFill>
          <p:spPr>
            <a:xfrm>
              <a:off x="1643400" y="2802960"/>
              <a:ext cx="352800" cy="2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3"/>
            <a:stretch/>
          </p:blipFill>
          <p:spPr>
            <a:xfrm>
              <a:off x="1363320" y="3144240"/>
              <a:ext cx="6393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4"/>
            <a:stretch/>
          </p:blipFill>
          <p:spPr>
            <a:xfrm>
              <a:off x="3556800" y="3301200"/>
              <a:ext cx="551520" cy="37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5"/>
            <a:stretch/>
          </p:blipFill>
          <p:spPr>
            <a:xfrm>
              <a:off x="2856600" y="3495600"/>
              <a:ext cx="5490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6"/>
            <a:stretch/>
          </p:blipFill>
          <p:spPr>
            <a:xfrm>
              <a:off x="2495160" y="2539800"/>
              <a:ext cx="54144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7"/>
            <a:srcRect l="17970" t="70754" r="71878" b="15750"/>
            <a:stretch/>
          </p:blipFill>
          <p:spPr>
            <a:xfrm>
              <a:off x="2441520" y="2144160"/>
              <a:ext cx="22356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38"/>
            <a:srcRect l="17970" t="43752" r="71878" b="42752"/>
            <a:stretch/>
          </p:blipFill>
          <p:spPr>
            <a:xfrm>
              <a:off x="2813760" y="2144160"/>
              <a:ext cx="22356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9"/>
            <a:stretch/>
          </p:blipFill>
          <p:spPr>
            <a:xfrm>
              <a:off x="2739240" y="2989080"/>
              <a:ext cx="964080" cy="23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 rot="16200000">
            <a:off x="4682880" y="2310840"/>
            <a:ext cx="879480" cy="51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49760" y="362916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4221000"/>
            <a:ext cx="41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The proliferation of sub-brands was hindering our ability to build Vodafone as the leading brand in our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0FA-5DFE-4505-93E8-2840518D5C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7680" y="1414440"/>
            <a:ext cx="4251240" cy="4789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4560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宋体"/>
              </a:rPr>
              <a:t>As a result we have achieved tremendous growth in our brand awareness and preferenc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76600" y="1366920"/>
            <a:ext cx="5220000" cy="438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72200" y="1496880"/>
            <a:ext cx="31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 of Preference for Vodafone 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57320" y="1463760"/>
            <a:ext cx="3146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 of Spontaneous Awareness for Vodafone 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71D-4A2A-4BFA-8EF9-FB3123E94A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63960" y="1484280"/>
            <a:ext cx="2725560" cy="1058760"/>
          </a:xfrm>
          <a:prstGeom prst="roundRect">
            <a:avLst>
              <a:gd name="adj" fmla="val 16667"/>
            </a:avLst>
          </a:prstGeom>
          <a:solidFill>
            <a:srgbClr val="fedc56"/>
          </a:solidFill>
          <a:ln w="0">
            <a:noFill/>
          </a:ln>
          <a:effectLst>
            <a:outerShdw dist="107932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59200" y="3835440"/>
            <a:ext cx="2725920" cy="1058760"/>
          </a:xfrm>
          <a:prstGeom prst="roundRect">
            <a:avLst>
              <a:gd name="adj" fmla="val 16667"/>
            </a:avLst>
          </a:prstGeom>
          <a:solidFill>
            <a:srgbClr val="88c7df"/>
          </a:solidFill>
          <a:ln w="0">
            <a:noFill/>
          </a:ln>
          <a:effectLst>
            <a:outerShdw dist="107932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5400" y="3441600"/>
            <a:ext cx="2725560" cy="1059120"/>
          </a:xfrm>
          <a:prstGeom prst="roundRect">
            <a:avLst>
              <a:gd name="adj" fmla="val 16667"/>
            </a:avLst>
          </a:prstGeom>
          <a:solidFill>
            <a:srgbClr val="bee486"/>
          </a:solidFill>
          <a:ln w="0">
            <a:noFill/>
          </a:ln>
          <a:effectLst>
            <a:outerShdw dist="107932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 flipH="1" rot="19625400">
            <a:off x="3130200" y="1899720"/>
            <a:ext cx="2655720" cy="25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宋体"/>
              </a:rPr>
              <a:t>Our brand is built on a foundation of a number of strategicponents, with the Marketing Framework at their hear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30640" y="3137040"/>
            <a:ext cx="230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MARKETING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36760" y="1704960"/>
            <a:ext cx="241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RANDED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22400" y="3665520"/>
            <a:ext cx="27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R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3280" y="3932280"/>
            <a:ext cx="251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R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VALUES &amp;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A2D-5170-44DB-9DA1-6A6C9FDF61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8251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宋体"/>
              </a:rPr>
              <a:t>The Marketing Framework is the cornerstone of our Brand Strategy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800" y="2706840"/>
            <a:ext cx="2167200" cy="718920"/>
          </a:xfrm>
          <a:prstGeom prst="flowChartAlternateProcess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odafone Rg"/>
              </a:rPr>
              <a:t>Why are we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4360" y="2708280"/>
            <a:ext cx="5896080" cy="719280"/>
          </a:xfrm>
          <a:prstGeom prst="flowChartAlternateProcess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odafone Rg"/>
              </a:rPr>
              <a:t>Helping our customers make the most of thei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2800" y="1838160"/>
            <a:ext cx="2167200" cy="719280"/>
          </a:xfrm>
          <a:prstGeom prst="flowChartAlternateProcess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odafone Rg"/>
              </a:rPr>
              <a:t>Where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odafone Rg"/>
              </a:rPr>
              <a:t>w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54360" y="1838160"/>
            <a:ext cx="5896080" cy="719280"/>
          </a:xfrm>
          <a:prstGeom prst="flowChartAlternateProcess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odafone Rg"/>
              </a:rPr>
              <a:t>We will be themunications lead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odafone Rg"/>
              </a:rPr>
              <a:t>in an increasingly connected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800" y="3576600"/>
            <a:ext cx="2167200" cy="797040"/>
          </a:xfrm>
          <a:prstGeom prst="flowChartAlternateProcess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odafone Rg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54360" y="3578400"/>
            <a:ext cx="5896080" cy="796680"/>
          </a:xfrm>
          <a:prstGeom prst="flowChartAlternateProcess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odafone Rg"/>
              </a:rPr>
              <a:t>Creating &amp; delivering unbeatable experiences through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0" y="4524480"/>
            <a:ext cx="2167200" cy="718920"/>
          </a:xfrm>
          <a:prstGeom prst="flowChartAlternateProcess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odafone Rg"/>
              </a:rPr>
              <a:t>How do we d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54360" y="4524480"/>
            <a:ext cx="5896080" cy="718920"/>
          </a:xfrm>
          <a:prstGeom prst="flowChartAlternateProcess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odafone Rg"/>
              </a:rPr>
              <a:t>Being Red, Rock Solid, Rest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2511360"/>
            <a:ext cx="533520" cy="300240"/>
          </a:xfrm>
          <a:prstGeom prst="flowChartAlternateProcess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odafone Rg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352680"/>
            <a:ext cx="533520" cy="300240"/>
          </a:xfrm>
          <a:prstGeom prst="flowChartAlternateProcess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odafone Rg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4300560"/>
            <a:ext cx="533520" cy="299880"/>
          </a:xfrm>
          <a:prstGeom prst="flowChartAlternateProcess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odafone Rg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1FF-424F-42BE-8900-1CB07C4F9A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46120" y="475920"/>
            <a:ext cx="784224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宋体"/>
              </a:rPr>
              <a:t>We have put the brand at the centre of the Customer Experienc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55920" y="23464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run Sarin, CEO Vodaf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40" y="1625760"/>
            <a:ext cx="695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odafone Rg"/>
              </a:rPr>
              <a:t>“</a:t>
            </a:r>
            <a:r>
              <a:rPr b="1" lang="en-US" sz="3200" spc="-1" strike="noStrike">
                <a:solidFill>
                  <a:srgbClr val="969696"/>
                </a:solidFill>
                <a:latin typeface="Vodafone Rg"/>
              </a:rPr>
              <a:t>A brand </a:t>
            </a:r>
            <a:r>
              <a:rPr b="1" i="1" lang="en-US" sz="3200" spc="-1" strike="noStrike">
                <a:solidFill>
                  <a:srgbClr val="969696"/>
                </a:solidFill>
                <a:latin typeface="Vodafone Rg"/>
              </a:rPr>
              <a:t>is</a:t>
            </a:r>
            <a:r>
              <a:rPr b="1" lang="en-US" sz="3200" spc="-1" strike="noStrike">
                <a:solidFill>
                  <a:srgbClr val="969696"/>
                </a:solidFill>
                <a:latin typeface="Vodafone Rg"/>
              </a:rPr>
              <a:t> what a brand </a:t>
            </a:r>
            <a:r>
              <a:rPr b="1" i="1" lang="en-US" sz="3200" spc="-1" strike="noStrike">
                <a:solidFill>
                  <a:srgbClr val="969696"/>
                </a:solidFill>
                <a:latin typeface="Vodafone Rg"/>
              </a:rPr>
              <a:t>does</a:t>
            </a:r>
            <a:r>
              <a:rPr b="1" lang="en-US" sz="3200" spc="-1" strike="noStrike">
                <a:solidFill>
                  <a:srgbClr val="969696"/>
                </a:solidFill>
                <a:latin typeface="Vodafone Rg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2320" y="4102200"/>
            <a:ext cx="695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Vodafone Rg"/>
              </a:rPr>
              <a:t>“</a:t>
            </a:r>
            <a:r>
              <a:rPr b="1" lang="en-US" sz="2800" spc="-1" strike="noStrike">
                <a:solidFill>
                  <a:srgbClr val="969696"/>
                </a:solidFill>
                <a:latin typeface="Vodafone Rg"/>
              </a:rPr>
              <a:t>The most valuable brands in the world are th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Vodafone Rg"/>
              </a:rPr>
              <a:t>where the customer knows they’re go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Vodafone Rg"/>
              </a:rPr>
              <a:t>to get a good experienc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c1922"/>
                </a:solidFill>
                <a:latin typeface="Vodafone Rg"/>
              </a:rPr>
              <a:t>Sir John Bond, Chairman, Vodaf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911-4185-4FF4-B8FE-D859119E77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45760" y="475920"/>
            <a:ext cx="8217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宋体"/>
              </a:rPr>
              <a:t>We want our customers to feel appreciated, confident and inspire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99960" y="1687680"/>
            <a:ext cx="6887520" cy="3429000"/>
            <a:chOff x="399960" y="1687680"/>
            <a:chExt cx="6887520" cy="3429000"/>
          </a:xfrm>
        </p:grpSpPr>
        <p:sp>
          <p:nvSpPr>
            <p:cNvPr id="206" name=""/>
            <p:cNvSpPr/>
            <p:nvPr/>
          </p:nvSpPr>
          <p:spPr>
            <a:xfrm>
              <a:off x="2233440" y="1687680"/>
              <a:ext cx="4743360" cy="571680"/>
            </a:xfrm>
            <a:prstGeom prst="rect">
              <a:avLst/>
            </a:prstGeom>
            <a:solidFill>
              <a:srgbClr val="008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elping our customers make the most of their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33440" y="2259360"/>
              <a:ext cx="4743360" cy="57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1587600"/>
                  <a:tab algn="l" pos="3156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d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ock Solid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tl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33440" y="2830680"/>
              <a:ext cx="1581120" cy="571680"/>
            </a:xfrm>
            <a:prstGeom prst="rect">
              <a:avLst/>
            </a:prstGeom>
            <a:solidFill>
              <a:srgbClr val="006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ssion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4560" y="2830680"/>
              <a:ext cx="1581120" cy="571680"/>
            </a:xfrm>
            <a:prstGeom prst="rect">
              <a:avLst/>
            </a:prstGeom>
            <a:solidFill>
              <a:srgbClr val="be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rustworth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95680" y="2830680"/>
              <a:ext cx="1581120" cy="571680"/>
            </a:xfrm>
            <a:prstGeom prst="rect">
              <a:avLst/>
            </a:prstGeom>
            <a:solidFill>
              <a:srgbClr val="26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re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33440" y="3402360"/>
              <a:ext cx="1581120" cy="571320"/>
            </a:xfrm>
            <a:prstGeom prst="rect">
              <a:avLst/>
            </a:prstGeom>
            <a:solidFill>
              <a:srgbClr val="c1c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mo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4560" y="3402360"/>
              <a:ext cx="1581120" cy="571320"/>
            </a:xfrm>
            <a:prstGeom prst="rect">
              <a:avLst/>
            </a:prstGeom>
            <a:solidFill>
              <a:srgbClr val="fb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r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5680" y="3402360"/>
              <a:ext cx="1581120" cy="571320"/>
            </a:xfrm>
            <a:prstGeom prst="rect">
              <a:avLst/>
            </a:prstGeom>
            <a:solidFill>
              <a:srgbClr val="ffd2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spi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33440" y="3973680"/>
              <a:ext cx="1581120" cy="571680"/>
            </a:xfrm>
            <a:prstGeom prst="rect">
              <a:avLst/>
            </a:prstGeom>
            <a:solidFill>
              <a:srgbClr val="fed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ppreci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14560" y="3973680"/>
              <a:ext cx="1581120" cy="571680"/>
            </a:xfrm>
            <a:prstGeom prst="rect">
              <a:avLst/>
            </a:prstGeom>
            <a:solidFill>
              <a:srgbClr val="936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fid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95680" y="3973680"/>
              <a:ext cx="1581120" cy="571680"/>
            </a:xfrm>
            <a:prstGeom prst="rect">
              <a:avLst/>
            </a:prstGeom>
            <a:solidFill>
              <a:srgbClr val="d29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spi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3440" y="4545360"/>
              <a:ext cx="4743360" cy="571320"/>
            </a:xfrm>
            <a:prstGeom prst="rect">
              <a:avLst/>
            </a:prstGeom>
            <a:solidFill>
              <a:srgbClr val="88c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...so our customers spend more time with 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9960" y="2436840"/>
              <a:ext cx="1459080" cy="23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spcBef>
                  <a:spcPts val="28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We 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28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9aa"/>
                  </a:solidFill>
                  <a:latin typeface="Arial"/>
                </a:rPr>
                <a:t>by be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22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1c3df"/>
                  </a:solidFill>
                  <a:latin typeface="Arial"/>
                </a:rPr>
                <a:t>therefore</a:t>
              </a:r>
              <a:br>
                <a:rPr sz="1400"/>
              </a:br>
              <a:r>
                <a:rPr b="1" lang="en-US" sz="1400" spc="-1" strike="noStrike">
                  <a:solidFill>
                    <a:srgbClr val="c1c3df"/>
                  </a:solidFill>
                  <a:latin typeface="Arial"/>
                </a:rPr>
                <a:t>our voice 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2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edc56"/>
                  </a:solidFill>
                  <a:latin typeface="Arial"/>
                </a:rPr>
                <a:t>so our</a:t>
              </a:r>
              <a:br>
                <a:rPr sz="1400"/>
              </a:br>
              <a:r>
                <a:rPr b="1" lang="en-US" sz="1400" spc="-1" strike="noStrike">
                  <a:solidFill>
                    <a:srgbClr val="fedc56"/>
                  </a:solidFill>
                  <a:latin typeface="Arial"/>
                </a:rPr>
                <a:t>customers fe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06" idx="1"/>
              <a:endCxn id="217" idx="1"/>
            </p:cNvCxnSpPr>
            <p:nvPr/>
          </p:nvCxnSpPr>
          <p:spPr>
            <a:xfrm flipH="1" flipV="1" rot="10800000">
              <a:off x="2232360" y="1972440"/>
              <a:ext cx="2520" cy="2858040"/>
            </a:xfrm>
            <a:prstGeom prst="bentConnector3">
              <a:avLst>
                <a:gd name="adj1" fmla="val -14400000"/>
              </a:avLst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220" name=""/>
            <p:cNvCxnSpPr>
              <a:stCxn id="206" idx="3"/>
              <a:endCxn id="217" idx="3"/>
            </p:cNvCxnSpPr>
            <p:nvPr/>
          </p:nvCxnSpPr>
          <p:spPr>
            <a:xfrm>
              <a:off x="6976440" y="1973160"/>
              <a:ext cx="2520" cy="2858040"/>
            </a:xfrm>
            <a:prstGeom prst="bentConnector3">
              <a:avLst>
                <a:gd name="adj1" fmla="val 14400000"/>
              </a:avLst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th Partner Markets Confere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FE9-E4A8-44BB-8E0E-F348268DF2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ondon, 17/18 October 2007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10:34:3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20T08:18:12Z</dcterms:modified>
  <cp:revision>36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