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D13-6699-4FD6-801A-7A8092C1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BC13-DD2D-4F77-8E74-AD2737AD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044-6E43-4736-836D-598309EF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5D5-26B5-43C3-B567-6A8F4406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BC3D-7482-4914-82BD-5F8A582A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678F-F58F-44B9-AD0B-218FFBA2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F69-23E6-4BB7-B19C-53C2570F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C65-F43B-40C3-9643-BA2215F5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DDE-02E8-4BE0-92B7-4E4BCCA6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640-4FFF-452E-8437-1E527576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8C8-1EE8-4321-8E61-A42B19D9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869-B8FD-45E4-B6AC-5D32CC2A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89D9-9F2D-4213-AC94-1529A797525E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15FF-FCDF-48EC-B7E7-06D040DBB19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your-first-step-to-the-software-industry-1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200" y="64389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03400" y="196920"/>
            <a:ext cx="68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配色大胆欧式设计风格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打包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your-first-step-to-the-software-industry-10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your-first-step-to-the-software-industry-11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your-first-step-to-the-software-industry-12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your-first-step-to-the-software-industry-13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your-first-step-to-the-software-industry-14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your-first-step-to-the-software-industry-15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your-first-step-to-the-software-industry-16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your-first-step-to-the-software-industry-17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your-first-step-to-the-software-industry-18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your-first-step-to-the-software-industry-19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your-first-step-to-the-software-industry-2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your-first-step-to-the-software-industry-20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your-first-step-to-the-software-industry-21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your-first-step-to-the-software-industry-22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your-first-step-to-the-software-industry-23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your-first-step-to-the-software-industry-24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your-first-step-to-the-software-industry-25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D7B-7EA3-46D6-92E4-BB6C552FCB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your-first-step-to-the-software-industry-27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your-first-step-to-the-software-industry-3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your-first-step-to-the-software-industry-4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your-first-step-to-the-software-industry-5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your-first-step-to-the-software-industry-6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your-first-step-to-the-software-industry-7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your-first-step-to-the-software-industry-8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your-first-step-to-the-software-industry-9-1024"/>
          <p:cNvPicPr/>
          <p:nvPr/>
        </p:nvPicPr>
        <p:blipFill>
          <a:blip r:embed="rId1"/>
          <a:stretch/>
        </p:blipFill>
        <p:spPr>
          <a:xfrm>
            <a:off x="609480" y="0"/>
            <a:ext cx="1097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09:11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51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