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wmf" ContentType="image/x-wmf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5.png" ContentType="image/png"/>
  <Override PartName="/ppt/media/image6.png" ContentType="image/png"/>
  <Override PartName="/ppt/media/image4.jpeg" ContentType="image/jpeg"/>
  <Override PartName="/ppt/media/image10.wmf" ContentType="image/x-wmf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86D6-1CD1-48E7-BE58-CE90251B0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114440" y="411444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114440" y="5334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114440" y="5493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10B6-8E82-4B4C-846B-8CBCFF967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114440" y="411444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114440" y="5334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613560" y="5334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114440" y="5493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613560" y="5493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2088-7A51-4FD8-88A5-19B8065A4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14440" y="411444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114440" y="5334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763240" y="5334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7412040" y="5334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114440" y="5493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5763240" y="5493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7412040" y="5493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D4CB-F648-4320-8AC1-DF76AC115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76C22-637D-4223-ADF4-560C3E10E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14440" y="411444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114440" y="5334120"/>
            <a:ext cx="48769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5C0AF-181E-421D-9AA7-45BCAB370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114440" y="411444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114440" y="5334120"/>
            <a:ext cx="487692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E6FA3-6ED9-4686-A6C1-86761CB2F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114440" y="411444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114440" y="5334120"/>
            <a:ext cx="23796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613560" y="5334120"/>
            <a:ext cx="23796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54404-BD12-4A77-B326-80AFD9BFB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14440" y="411444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CD632-5298-4776-9985-77388B044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114440" y="4114440"/>
            <a:ext cx="487692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CA1CD-2C70-4CC3-81CD-562578F64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114440" y="411444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114440" y="5334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613560" y="5334120"/>
            <a:ext cx="23796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114440" y="5493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A99A1-B48F-4E11-8206-F62B85D45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14440" y="411444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114440" y="5334120"/>
            <a:ext cx="48769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6336-3360-427B-BD0F-0F1DF3394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114440" y="411444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114440" y="5334120"/>
            <a:ext cx="23796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613560" y="5334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613560" y="5493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ABDBE-4DD9-420D-B387-8CF13ACDF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114440" y="411444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114440" y="5334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613560" y="5334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114440" y="5493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2AD8C-8AF4-4BA4-AD72-6F09FCBE6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14440" y="411444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114440" y="5334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114440" y="5493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A1FBB-2289-4E4F-913B-BAD387759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114440" y="411444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114440" y="5334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613560" y="5334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114440" y="5493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6613560" y="5493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E874E-3899-413E-90F6-2824EA0BC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114440" y="411444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114440" y="5334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763240" y="5334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412040" y="5334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114440" y="5493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5763240" y="5493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7412040" y="5493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A4DED-EA9A-4EA4-9258-C22441342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114440" y="411444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114440" y="5334120"/>
            <a:ext cx="487692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C49A-7B46-4325-852C-EB3E081C3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114440" y="411444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114440" y="5334120"/>
            <a:ext cx="23796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13560" y="5334120"/>
            <a:ext cx="23796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13F9-E62C-4F0A-A177-634ABA928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14440" y="411444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E026-CE9F-4EDC-AA22-45DC6AD86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114440" y="4114440"/>
            <a:ext cx="487692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2425-A052-4FA0-9710-C7C3CD526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14440" y="411444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14440" y="5334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13560" y="5334120"/>
            <a:ext cx="23796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114440" y="5493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0C4C-7D41-41BC-8B93-E098F86DC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14440" y="411444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114440" y="5334120"/>
            <a:ext cx="23796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613560" y="5334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13560" y="5493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19C6-3D2B-45D5-9B68-B2F862E3C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14440" y="411444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14440" y="5334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613560" y="5334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114440" y="5493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12C7-EFFC-4C02-8F0A-F5764AD6F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5029200"/>
            <a:ext cx="1203480" cy="1828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70d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4cab8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8755200" y="812880"/>
            <a:ext cx="388800" cy="387360"/>
          </a:xfrm>
          <a:prstGeom prst="rect">
            <a:avLst/>
          </a:prstGeom>
          <a:solidFill>
            <a:srgbClr val="84cab8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755200" y="0"/>
            <a:ext cx="388800" cy="387360"/>
          </a:xfrm>
          <a:prstGeom prst="rect">
            <a:avLst/>
          </a:prstGeom>
          <a:solidFill>
            <a:srgbClr val="8d8dc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0"/>
            <a:ext cx="792000" cy="801720"/>
            <a:chOff x="0" y="0"/>
            <a:chExt cx="792000" cy="801720"/>
          </a:xfrm>
        </p:grpSpPr>
        <p:sp>
          <p:nvSpPr>
            <p:cNvPr id="5" name=""/>
            <p:cNvSpPr/>
            <p:nvPr/>
          </p:nvSpPr>
          <p:spPr>
            <a:xfrm>
              <a:off x="403200" y="414360"/>
              <a:ext cx="388800" cy="387360"/>
            </a:xfrm>
            <a:prstGeom prst="rect">
              <a:avLst/>
            </a:prstGeom>
            <a:solidFill>
              <a:srgbClr val="8d8dc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0"/>
              <a:ext cx="388800" cy="387360"/>
            </a:xfrm>
            <a:prstGeom prst="rect">
              <a:avLst/>
            </a:prstGeom>
            <a:solidFill>
              <a:srgbClr val="79b4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406440"/>
              <a:ext cx="388800" cy="387360"/>
            </a:xfrm>
            <a:prstGeom prst="rect">
              <a:avLst/>
            </a:prstGeom>
            <a:solidFill>
              <a:srgbClr val="79b4d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348760" y="0"/>
            <a:ext cx="795240" cy="1201680"/>
            <a:chOff x="8348760" y="0"/>
            <a:chExt cx="795240" cy="1201680"/>
          </a:xfrm>
        </p:grpSpPr>
        <p:sp>
          <p:nvSpPr>
            <p:cNvPr id="9" name=""/>
            <p:cNvSpPr/>
            <p:nvPr/>
          </p:nvSpPr>
          <p:spPr>
            <a:xfrm>
              <a:off x="8755200" y="406440"/>
              <a:ext cx="388800" cy="387360"/>
            </a:xfrm>
            <a:prstGeom prst="rect">
              <a:avLst/>
            </a:prstGeom>
            <a:solidFill>
              <a:srgbClr val="79b4d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348760" y="406440"/>
              <a:ext cx="388800" cy="387360"/>
            </a:xfrm>
            <a:prstGeom prst="rect">
              <a:avLst/>
            </a:prstGeom>
            <a:solidFill>
              <a:srgbClr val="79b4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753400" y="812880"/>
              <a:ext cx="390600" cy="3888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755200" y="0"/>
              <a:ext cx="388800" cy="3841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818640" y="285480"/>
            <a:ext cx="7410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70d0d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670d0d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 type="ftr" idx="1"/>
          </p:nvPr>
        </p:nvSpPr>
        <p:spPr>
          <a:xfrm>
            <a:off x="4191120" y="643860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 type="dt" idx="2"/>
          </p:nvPr>
        </p:nvSpPr>
        <p:spPr>
          <a:xfrm>
            <a:off x="6553080" y="6438600"/>
            <a:ext cx="1524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sldNum" idx="3"/>
          </p:nvPr>
        </p:nvSpPr>
        <p:spPr>
          <a:xfrm>
            <a:off x="8534520" y="6419520"/>
            <a:ext cx="4572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28C36-53EA-4789-9F08-FAD47BF937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948120" y="1295280"/>
            <a:ext cx="2610000" cy="25765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381880" y="6107040"/>
            <a:ext cx="762120" cy="750960"/>
          </a:xfrm>
          <a:prstGeom prst="rect">
            <a:avLst/>
          </a:prstGeom>
          <a:solidFill>
            <a:srgbClr val="84cab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-1440" y="0"/>
            <a:ext cx="1287360" cy="1271520"/>
          </a:xfrm>
          <a:prstGeom prst="rect">
            <a:avLst/>
          </a:prstGeom>
          <a:solidFill>
            <a:srgbClr val="84cab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1440" y="1295280"/>
            <a:ext cx="1287360" cy="1278000"/>
          </a:xfrm>
          <a:prstGeom prst="rect">
            <a:avLst/>
          </a:prstGeom>
          <a:solidFill>
            <a:srgbClr val="79b4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14360" y="1300320"/>
            <a:ext cx="1289160" cy="1272960"/>
          </a:xfrm>
          <a:prstGeom prst="rect">
            <a:avLst/>
          </a:prstGeom>
          <a:solidFill>
            <a:srgbClr val="79b4d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31960" y="1300320"/>
            <a:ext cx="1289160" cy="1272960"/>
          </a:xfrm>
          <a:prstGeom prst="rect">
            <a:avLst/>
          </a:prstGeom>
          <a:solidFill>
            <a:srgbClr val="79b4d1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267160" y="1295280"/>
            <a:ext cx="1289160" cy="1292400"/>
          </a:xfrm>
          <a:prstGeom prst="rect">
            <a:avLst/>
          </a:prstGeom>
          <a:solidFill>
            <a:srgbClr val="fd9a7b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268960" y="0"/>
            <a:ext cx="1289160" cy="1271520"/>
          </a:xfrm>
          <a:prstGeom prst="rect">
            <a:avLst/>
          </a:prstGeom>
          <a:solidFill>
            <a:srgbClr val="8d8dc1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75400" y="1300320"/>
            <a:ext cx="1289160" cy="1272960"/>
          </a:xfrm>
          <a:prstGeom prst="rect">
            <a:avLst/>
          </a:prstGeom>
          <a:solidFill>
            <a:srgbClr val="8d8dc1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867800" y="2571840"/>
            <a:ext cx="1276200" cy="1271520"/>
          </a:xfrm>
          <a:prstGeom prst="rect">
            <a:avLst/>
          </a:prstGeom>
          <a:solidFill>
            <a:srgbClr val="8d8dc1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ftr" idx="4"/>
          </p:nvPr>
        </p:nvSpPr>
        <p:spPr>
          <a:xfrm>
            <a:off x="4191120" y="643860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257800" y="1295280"/>
            <a:ext cx="0" cy="2590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49560" y="2587680"/>
            <a:ext cx="27561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76840" y="1271520"/>
            <a:ext cx="0" cy="1395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dt" idx="5"/>
          </p:nvPr>
        </p:nvSpPr>
        <p:spPr>
          <a:xfrm>
            <a:off x="6553080" y="6438600"/>
            <a:ext cx="1524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8534520" y="6419520"/>
            <a:ext cx="4572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E54BE-07F9-439A-A519-748DC4FD6D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152280" y="1143000"/>
            <a:ext cx="3668760" cy="55627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7842240" y="152280"/>
            <a:ext cx="10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/O/G/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title"/>
          </p:nvPr>
        </p:nvSpPr>
        <p:spPr>
          <a:xfrm>
            <a:off x="4114440" y="411444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581880" y="1297080"/>
            <a:ext cx="1285920" cy="12762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867800" y="2568600"/>
            <a:ext cx="1276200" cy="127152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4cab8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image" Target="../media/image6.png"/><Relationship Id="rId6" Type="http://schemas.openxmlformats.org/officeDocument/2006/relationships/image" Target="../media/image7.wmf"/><Relationship Id="rId7" Type="http://schemas.openxmlformats.org/officeDocument/2006/relationships/image" Target="../media/image6.png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16.png"/><Relationship Id="rId4" Type="http://schemas.openxmlformats.org/officeDocument/2006/relationships/image" Target="../media/image6.png"/><Relationship Id="rId5" Type="http://schemas.openxmlformats.org/officeDocument/2006/relationships/image" Target="../media/image17.png"/><Relationship Id="rId6" Type="http://schemas.openxmlformats.org/officeDocument/2006/relationships/image" Target="../media/image16.png"/><Relationship Id="rId7" Type="http://schemas.openxmlformats.org/officeDocument/2006/relationships/image" Target="../media/image6.png"/><Relationship Id="rId8" Type="http://schemas.openxmlformats.org/officeDocument/2006/relationships/image" Target="../media/image16.png"/><Relationship Id="rId9" Type="http://schemas.openxmlformats.org/officeDocument/2006/relationships/image" Target="../media/image6.png"/><Relationship Id="rId10" Type="http://schemas.openxmlformats.org/officeDocument/2006/relationships/image" Target="../media/image16.png"/><Relationship Id="rId11" Type="http://schemas.openxmlformats.org/officeDocument/2006/relationships/image" Target="../media/image6.png"/><Relationship Id="rId12" Type="http://schemas.openxmlformats.org/officeDocument/2006/relationships/image" Target="../media/image16.png"/><Relationship Id="rId13" Type="http://schemas.openxmlformats.org/officeDocument/2006/relationships/image" Target="../media/image6.png"/><Relationship Id="rId14" Type="http://schemas.openxmlformats.org/officeDocument/2006/relationships/image" Target="../media/image16.png"/><Relationship Id="rId15" Type="http://schemas.openxmlformats.org/officeDocument/2006/relationships/image" Target="../media/image6.png"/><Relationship Id="rId16" Type="http://schemas.openxmlformats.org/officeDocument/2006/relationships/image" Target="../media/image16.png"/><Relationship Id="rId17" Type="http://schemas.openxmlformats.org/officeDocument/2006/relationships/image" Target="../media/image6.png"/><Relationship Id="rId1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image" Target="../media/image6.png"/><Relationship Id="rId6" Type="http://schemas.openxmlformats.org/officeDocument/2006/relationships/image" Target="../media/image7.wmf"/><Relationship Id="rId7" Type="http://schemas.openxmlformats.org/officeDocument/2006/relationships/image" Target="../media/image6.png"/><Relationship Id="rId8" Type="http://schemas.openxmlformats.org/officeDocument/2006/relationships/image" Target="../media/image7.wmf"/><Relationship Id="rId9" Type="http://schemas.openxmlformats.org/officeDocument/2006/relationships/image" Target="../media/image6.png"/><Relationship Id="rId10" Type="http://schemas.openxmlformats.org/officeDocument/2006/relationships/image" Target="../media/image7.wmf"/><Relationship Id="rId1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image" Target="../media/image6.png"/><Relationship Id="rId6" Type="http://schemas.openxmlformats.org/officeDocument/2006/relationships/image" Target="../media/image7.wmf"/><Relationship Id="rId7" Type="http://schemas.openxmlformats.org/officeDocument/2006/relationships/image" Target="../media/image6.png"/><Relationship Id="rId8" Type="http://schemas.openxmlformats.org/officeDocument/2006/relationships/image" Target="../media/image7.wmf"/><Relationship Id="rId9" Type="http://schemas.openxmlformats.org/officeDocument/2006/relationships/image" Target="../media/image6.png"/><Relationship Id="rId10" Type="http://schemas.openxmlformats.org/officeDocument/2006/relationships/image" Target="../media/image7.wmf"/><Relationship Id="rId11" Type="http://schemas.openxmlformats.org/officeDocument/2006/relationships/image" Target="../media/image6.png"/><Relationship Id="rId12" Type="http://schemas.openxmlformats.org/officeDocument/2006/relationships/image" Target="../media/image7.wmf"/><Relationship Id="rId13" Type="http://schemas.openxmlformats.org/officeDocument/2006/relationships/image" Target="../media/image6.png"/><Relationship Id="rId14" Type="http://schemas.openxmlformats.org/officeDocument/2006/relationships/image" Target="../media/image7.wmf"/><Relationship Id="rId15" Type="http://schemas.openxmlformats.org/officeDocument/2006/relationships/image" Target="../media/image6.png"/><Relationship Id="rId16" Type="http://schemas.openxmlformats.org/officeDocument/2006/relationships/image" Target="../media/image7.wmf"/><Relationship Id="rId1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114440" y="411444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megallery</a:t>
            </a:r>
            <a:br>
              <a:rPr sz="44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owerTemplate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360" y="6454800"/>
            <a:ext cx="5078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7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114440" y="5334120"/>
            <a:ext cx="48769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"/>
          <p:cNvSpPr/>
          <p:nvPr/>
        </p:nvSpPr>
        <p:spPr>
          <a:xfrm>
            <a:off x="2515320" y="304920"/>
            <a:ext cx="383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葡萄酒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企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幻灯片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18640" y="285480"/>
            <a:ext cx="7410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70d0d"/>
                </a:solidFill>
                <a:latin typeface="Verdana"/>
              </a:rPr>
              <a:t>Click to edit title style</a:t>
            </a:r>
            <a:endParaRPr b="1" lang="en-US" sz="3000" spc="-1" strike="noStrike">
              <a:solidFill>
                <a:srgbClr val="670d0d"/>
              </a:solidFill>
              <a:latin typeface="Verdana"/>
            </a:endParaRPr>
          </a:p>
        </p:txBody>
      </p:sp>
      <p:sp>
        <p:nvSpPr>
          <p:cNvPr id="382" name=""/>
          <p:cNvSpPr/>
          <p:nvPr/>
        </p:nvSpPr>
        <p:spPr>
          <a:xfrm>
            <a:off x="806400" y="1447920"/>
            <a:ext cx="6384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7181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Arial"/>
              </a:rPr>
              <a:t>ThemeGallery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Arial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486400" y="4483080"/>
            <a:ext cx="2522520" cy="1478160"/>
          </a:xfrm>
          <a:prstGeom prst="rect">
            <a:avLst/>
          </a:prstGeom>
          <a:gradFill rotWithShape="0">
            <a:gsLst>
              <a:gs pos="0">
                <a:srgbClr val="84cab8"/>
              </a:gs>
              <a:gs pos="100000">
                <a:srgbClr val="5f918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975040" y="2209680"/>
            <a:ext cx="2268360" cy="536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fdfdf"/>
              </a:gs>
              <a:gs pos="50000">
                <a:srgbClr val="f6f6f6"/>
              </a:gs>
              <a:gs pos="100000">
                <a:srgbClr val="dfdfdf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622840" y="2209680"/>
            <a:ext cx="2268720" cy="536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fdfdf"/>
              </a:gs>
              <a:gs pos="50000">
                <a:srgbClr val="f6f6f6"/>
              </a:gs>
              <a:gs pos="100000">
                <a:srgbClr val="dfdfdf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71720" y="4627440"/>
            <a:ext cx="2503440" cy="1478160"/>
          </a:xfrm>
          <a:prstGeom prst="rect">
            <a:avLst/>
          </a:prstGeom>
          <a:gradFill rotWithShape="0">
            <a:gsLst>
              <a:gs pos="0">
                <a:srgbClr val="84cab8"/>
              </a:gs>
              <a:gs pos="100000">
                <a:srgbClr val="71ad9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184560" y="5087880"/>
            <a:ext cx="1749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1069920" y="3181320"/>
            <a:ext cx="1734840" cy="1446120"/>
            <a:chOff x="1069920" y="3181320"/>
            <a:chExt cx="1734840" cy="1446120"/>
          </a:xfrm>
        </p:grpSpPr>
        <p:sp>
          <p:nvSpPr>
            <p:cNvPr id="389" name=""/>
            <p:cNvSpPr/>
            <p:nvPr/>
          </p:nvSpPr>
          <p:spPr>
            <a:xfrm>
              <a:off x="1069920" y="3181320"/>
              <a:ext cx="1734840" cy="1446120"/>
            </a:xfrm>
            <a:custGeom>
              <a:avLst/>
              <a:gdLst>
                <a:gd name="textAreaLeft" fmla="*/ 0 w 1734840"/>
                <a:gd name="textAreaRight" fmla="*/ 1735200 w 1734840"/>
                <a:gd name="textAreaTop" fmla="*/ 0 h 1446120"/>
                <a:gd name="textAreaBottom" fmla="*/ 1446480 h 14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c9397"/>
                </a:gs>
                <a:gs pos="50000">
                  <a:srgbClr val="d5e0e5"/>
                </a:gs>
                <a:gs pos="100000">
                  <a:srgbClr val="8c9397"/>
                </a:gs>
              </a:gsLst>
              <a:lin ang="5400000"/>
            </a:gradFill>
            <a:ln w="9360">
              <a:solidFill>
                <a:srgbClr val="768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086840" y="3196080"/>
              <a:ext cx="1688400" cy="1406880"/>
            </a:xfrm>
            <a:custGeom>
              <a:avLst/>
              <a:gdLst>
                <a:gd name="textAreaLeft" fmla="*/ 0 w 1688400"/>
                <a:gd name="textAreaRight" fmla="*/ 1688760 w 1688400"/>
                <a:gd name="textAreaTop" fmla="*/ 0 h 1406880"/>
                <a:gd name="textAreaBottom" fmla="*/ 1407240 h 140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1069920" y="4680000"/>
            <a:ext cx="1734840" cy="1447920"/>
            <a:chOff x="1069920" y="4680000"/>
            <a:chExt cx="1734840" cy="1447920"/>
          </a:xfrm>
        </p:grpSpPr>
        <p:sp>
          <p:nvSpPr>
            <p:cNvPr id="392" name=""/>
            <p:cNvSpPr/>
            <p:nvPr/>
          </p:nvSpPr>
          <p:spPr>
            <a:xfrm>
              <a:off x="1069920" y="4680000"/>
              <a:ext cx="1734840" cy="1447920"/>
            </a:xfrm>
            <a:custGeom>
              <a:avLst/>
              <a:gdLst>
                <a:gd name="textAreaLeft" fmla="*/ 0 w 1734840"/>
                <a:gd name="textAreaRight" fmla="*/ 1735200 w 1734840"/>
                <a:gd name="textAreaTop" fmla="*/ 0 h 1447920"/>
                <a:gd name="textAreaBottom" fmla="*/ 14482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c9397"/>
                </a:gs>
                <a:gs pos="50000">
                  <a:srgbClr val="d5e0e5"/>
                </a:gs>
                <a:gs pos="100000">
                  <a:srgbClr val="8c9397"/>
                </a:gs>
              </a:gsLst>
              <a:lin ang="5400000"/>
            </a:gradFill>
            <a:ln w="9360">
              <a:solidFill>
                <a:srgbClr val="768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086840" y="4694760"/>
              <a:ext cx="1688400" cy="1408680"/>
            </a:xfrm>
            <a:custGeom>
              <a:avLst/>
              <a:gdLst>
                <a:gd name="textAreaLeft" fmla="*/ 0 w 1688400"/>
                <a:gd name="textAreaRight" fmla="*/ 1688760 w 1688400"/>
                <a:gd name="textAreaTop" fmla="*/ 0 h 1408680"/>
                <a:gd name="textAreaBottom" fmla="*/ 1409040 h 140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c9397"/>
                </a:gs>
                <a:gs pos="50000">
                  <a:srgbClr val="d5e0e5"/>
                </a:gs>
                <a:gs pos="100000">
                  <a:srgbClr val="8c9397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995400" y="3700440"/>
            <a:ext cx="17431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995400" y="5194440"/>
            <a:ext cx="17431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622840" y="4772160"/>
            <a:ext cx="2241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057480" y="2274840"/>
            <a:ext cx="21319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f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708520" y="2274840"/>
            <a:ext cx="21322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f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486400" y="2941560"/>
            <a:ext cx="2522520" cy="1476360"/>
          </a:xfrm>
          <a:prstGeom prst="rect">
            <a:avLst/>
          </a:prstGeom>
          <a:gradFill rotWithShape="0">
            <a:gsLst>
              <a:gs pos="0">
                <a:srgbClr val="79b4d1"/>
              </a:gs>
              <a:gs pos="100000">
                <a:srgbClr val="57829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871720" y="3078000"/>
            <a:ext cx="2503440" cy="1478160"/>
          </a:xfrm>
          <a:prstGeom prst="rect">
            <a:avLst/>
          </a:prstGeom>
          <a:gradFill rotWithShape="0">
            <a:gsLst>
              <a:gs pos="0">
                <a:srgbClr val="79b4d1"/>
              </a:gs>
              <a:gs pos="100000">
                <a:srgbClr val="679a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184560" y="3541680"/>
            <a:ext cx="1749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622840" y="3230640"/>
            <a:ext cx="2241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18640" y="285480"/>
            <a:ext cx="7410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70d0d"/>
                </a:solidFill>
                <a:latin typeface="Verdana"/>
              </a:rPr>
              <a:t>Click to edit title style</a:t>
            </a:r>
            <a:endParaRPr b="1" lang="en-US" sz="3000" spc="-1" strike="noStrike">
              <a:solidFill>
                <a:srgbClr val="670d0d"/>
              </a:solidFill>
              <a:latin typeface="Verdana"/>
            </a:endParaRPr>
          </a:p>
        </p:txBody>
      </p:sp>
      <p:sp>
        <p:nvSpPr>
          <p:cNvPr id="404" name=""/>
          <p:cNvSpPr/>
          <p:nvPr/>
        </p:nvSpPr>
        <p:spPr>
          <a:xfrm>
            <a:off x="1738440" y="5634000"/>
            <a:ext cx="6607080" cy="368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438280" y="2529000"/>
            <a:ext cx="5240520" cy="3011400"/>
          </a:xfrm>
          <a:custGeom>
            <a:avLst/>
            <a:gdLst/>
            <a:ahLst/>
            <a:rect l="l" t="t" r="r" b="b"/>
            <a:pathLst>
              <a:path w="3569" h="2083">
                <a:moveTo>
                  <a:pt x="348" y="1788"/>
                </a:moveTo>
                <a:cubicBezTo>
                  <a:pt x="670" y="1748"/>
                  <a:pt x="706" y="1812"/>
                  <a:pt x="877" y="1701"/>
                </a:cubicBezTo>
                <a:cubicBezTo>
                  <a:pt x="1048" y="1590"/>
                  <a:pt x="1168" y="1382"/>
                  <a:pt x="1306" y="1172"/>
                </a:cubicBezTo>
                <a:cubicBezTo>
                  <a:pt x="1444" y="962"/>
                  <a:pt x="1580" y="716"/>
                  <a:pt x="1708" y="683"/>
                </a:cubicBezTo>
                <a:cubicBezTo>
                  <a:pt x="1836" y="650"/>
                  <a:pt x="2023" y="1419"/>
                  <a:pt x="2157" y="1433"/>
                </a:cubicBezTo>
                <a:cubicBezTo>
                  <a:pt x="2291" y="1447"/>
                  <a:pt x="2426" y="1427"/>
                  <a:pt x="2585" y="1193"/>
                </a:cubicBezTo>
                <a:cubicBezTo>
                  <a:pt x="2739" y="962"/>
                  <a:pt x="2934" y="94"/>
                  <a:pt x="3081" y="47"/>
                </a:cubicBezTo>
                <a:cubicBezTo>
                  <a:pt x="3228" y="0"/>
                  <a:pt x="3369" y="154"/>
                  <a:pt x="3547" y="467"/>
                </a:cubicBezTo>
                <a:cubicBezTo>
                  <a:pt x="3558" y="1275"/>
                  <a:pt x="3569" y="2083"/>
                  <a:pt x="3569" y="2083"/>
                </a:cubicBezTo>
                <a:lnTo>
                  <a:pt x="0" y="2077"/>
                </a:lnTo>
                <a:lnTo>
                  <a:pt x="348" y="1788"/>
                </a:lnTo>
                <a:close/>
              </a:path>
            </a:pathLst>
          </a:custGeom>
          <a:gradFill rotWithShape="0">
            <a:gsLst>
              <a:gs pos="0">
                <a:srgbClr val="f1f6f9">
                  <a:alpha val="80000"/>
                </a:srgbClr>
              </a:gs>
              <a:gs pos="100000">
                <a:srgbClr val="79b4d1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552760" y="5654520"/>
            <a:ext cx="55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01       02       03      04       05       06       07        0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717280" y="472428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388680" y="460692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850560" y="386244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618800" y="315288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249160" y="467352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</a:rPr>
              <a:t>1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731560" y="377496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476760" y="210816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38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11040" y="283212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727280" y="6064200"/>
            <a:ext cx="209556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in here  (unit: 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795320" y="5716440"/>
            <a:ext cx="6937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762120" y="2071800"/>
            <a:ext cx="2209680" cy="9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80000"/>
              </a:lnSpc>
              <a:spcBef>
                <a:spcPts val="1001"/>
              </a:spcBef>
              <a:buClr>
                <a:srgbClr val="79b4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1001"/>
              </a:spcBef>
              <a:buClr>
                <a:srgbClr val="79b4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1001"/>
              </a:spcBef>
              <a:buClr>
                <a:srgbClr val="79b4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822240" y="1973160"/>
            <a:ext cx="38703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871720" y="4984920"/>
            <a:ext cx="193680" cy="193680"/>
          </a:xfrm>
          <a:prstGeom prst="ellipse">
            <a:avLst/>
          </a:prstGeom>
          <a:gradFill rotWithShape="0">
            <a:gsLst>
              <a:gs pos="0">
                <a:srgbClr val="404058"/>
              </a:gs>
              <a:gs pos="100000">
                <a:srgbClr val="8d8dc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530520" y="4908600"/>
            <a:ext cx="193680" cy="193680"/>
          </a:xfrm>
          <a:prstGeom prst="ellipse">
            <a:avLst/>
          </a:prstGeom>
          <a:gradFill rotWithShape="0">
            <a:gsLst>
              <a:gs pos="0">
                <a:srgbClr val="404058"/>
              </a:gs>
              <a:gs pos="100000">
                <a:srgbClr val="8d8dc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154400" y="4203720"/>
            <a:ext cx="193680" cy="193680"/>
          </a:xfrm>
          <a:prstGeom prst="ellipse">
            <a:avLst/>
          </a:prstGeom>
          <a:gradFill rotWithShape="0">
            <a:gsLst>
              <a:gs pos="0">
                <a:srgbClr val="404058"/>
              </a:gs>
              <a:gs pos="100000">
                <a:srgbClr val="8d8dc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788000" y="3430440"/>
            <a:ext cx="193680" cy="193680"/>
          </a:xfrm>
          <a:prstGeom prst="ellipse">
            <a:avLst/>
          </a:prstGeom>
          <a:gradFill rotWithShape="0">
            <a:gsLst>
              <a:gs pos="0">
                <a:srgbClr val="404058"/>
              </a:gs>
              <a:gs pos="100000">
                <a:srgbClr val="8d8dc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468760" y="4487760"/>
            <a:ext cx="193680" cy="193680"/>
          </a:xfrm>
          <a:prstGeom prst="ellipse">
            <a:avLst/>
          </a:prstGeom>
          <a:gradFill rotWithShape="0">
            <a:gsLst>
              <a:gs pos="0">
                <a:srgbClr val="404058"/>
              </a:gs>
              <a:gs pos="100000">
                <a:srgbClr val="8d8dc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084720" y="4083120"/>
            <a:ext cx="193680" cy="193680"/>
          </a:xfrm>
          <a:prstGeom prst="ellipse">
            <a:avLst/>
          </a:prstGeom>
          <a:gradFill rotWithShape="0">
            <a:gsLst>
              <a:gs pos="0">
                <a:srgbClr val="404058"/>
              </a:gs>
              <a:gs pos="100000">
                <a:srgbClr val="8d8dc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853320" y="2513160"/>
            <a:ext cx="193680" cy="193680"/>
          </a:xfrm>
          <a:prstGeom prst="ellipse">
            <a:avLst/>
          </a:prstGeom>
          <a:gradFill rotWithShape="0">
            <a:gsLst>
              <a:gs pos="0">
                <a:srgbClr val="404058"/>
              </a:gs>
              <a:gs pos="100000">
                <a:srgbClr val="8d8dc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3098880"/>
            <a:ext cx="193680" cy="193680"/>
          </a:xfrm>
          <a:prstGeom prst="ellipse">
            <a:avLst/>
          </a:prstGeom>
          <a:gradFill rotWithShape="0">
            <a:gsLst>
              <a:gs pos="0">
                <a:srgbClr val="404058"/>
              </a:gs>
              <a:gs pos="100000">
                <a:srgbClr val="8d8dc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666880" y="2071800"/>
            <a:ext cx="2210040" cy="9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80000"/>
              </a:lnSpc>
              <a:spcBef>
                <a:spcPts val="1001"/>
              </a:spcBef>
              <a:buClr>
                <a:srgbClr val="79b4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1001"/>
              </a:spcBef>
              <a:buClr>
                <a:srgbClr val="79b4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1001"/>
              </a:spcBef>
              <a:buClr>
                <a:srgbClr val="79b4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838080" y="152244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987640" y="112392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84cab8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18640" y="285480"/>
            <a:ext cx="7410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70d0d"/>
                </a:solidFill>
                <a:latin typeface="Verdana"/>
              </a:rPr>
              <a:t>Click to edit title style</a:t>
            </a:r>
            <a:endParaRPr b="1" lang="en-US" sz="3000" spc="-1" strike="noStrike">
              <a:solidFill>
                <a:srgbClr val="670d0d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 rot="18892800">
            <a:off x="1197360" y="1713240"/>
            <a:ext cx="3449520" cy="3463920"/>
          </a:xfrm>
          <a:prstGeom prst="blockArc">
            <a:avLst>
              <a:gd name="adj1" fmla="val 13516087"/>
              <a:gd name="adj2" fmla="val 18883913"/>
              <a:gd name="adj3" fmla="val 17824"/>
            </a:avLst>
          </a:prstGeom>
          <a:solidFill>
            <a:srgbClr val="c4a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H="1" flipV="1" rot="2692800">
            <a:off x="1197000" y="1675440"/>
            <a:ext cx="3449520" cy="3463920"/>
          </a:xfrm>
          <a:prstGeom prst="blockArc">
            <a:avLst>
              <a:gd name="adj1" fmla="val 13516087"/>
              <a:gd name="adj2" fmla="val 18883913"/>
              <a:gd name="adj3" fmla="val 17824"/>
            </a:avLst>
          </a:prstGeom>
          <a:gradFill rotWithShape="0">
            <a:gsLst>
              <a:gs pos="0">
                <a:srgbClr val="8d8dc1"/>
              </a:gs>
              <a:gs pos="100000">
                <a:srgbClr val="aaaad0"/>
              </a:gs>
            </a:gsLst>
            <a:lin ang="27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102280" y="2041560"/>
            <a:ext cx="3508200" cy="14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0303"/>
                </a:solidFill>
                <a:latin typeface="Arial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4952880" y="1881360"/>
            <a:ext cx="5040" cy="30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rot="2692800">
            <a:off x="1171080" y="1714680"/>
            <a:ext cx="3449880" cy="3463920"/>
          </a:xfrm>
          <a:prstGeom prst="blockArc">
            <a:avLst>
              <a:gd name="adj1" fmla="val 13516087"/>
              <a:gd name="adj2" fmla="val 18883913"/>
              <a:gd name="adj3" fmla="val 17824"/>
            </a:avLst>
          </a:prstGeom>
          <a:gradFill rotWithShape="0">
            <a:gsLst>
              <a:gs pos="0">
                <a:srgbClr val="84cab8"/>
              </a:gs>
              <a:gs pos="100000">
                <a:srgbClr val="a3d7c9"/>
              </a:gs>
            </a:gsLst>
            <a:lin ang="27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flipV="1" rot="18907200">
            <a:off x="1168560" y="1675440"/>
            <a:ext cx="3449520" cy="3463920"/>
          </a:xfrm>
          <a:prstGeom prst="blockArc">
            <a:avLst>
              <a:gd name="adj1" fmla="val 13516087"/>
              <a:gd name="adj2" fmla="val 18883913"/>
              <a:gd name="adj3" fmla="val 17824"/>
            </a:avLst>
          </a:prstGeom>
          <a:gradFill rotWithShape="0">
            <a:gsLst>
              <a:gs pos="0">
                <a:srgbClr val="79b4d1"/>
              </a:gs>
              <a:gs pos="100000">
                <a:srgbClr val="9bc6dc"/>
              </a:gs>
            </a:gsLst>
            <a:lin ang="27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 txBox="1"/>
          <p:nvPr/>
        </p:nvSpPr>
        <p:spPr>
          <a:xfrm rot="18991800">
            <a:off x="1242720" y="2301480"/>
            <a:ext cx="2162160" cy="107964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31235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38" name=""/>
          <p:cNvSpPr txBox="1"/>
          <p:nvPr/>
        </p:nvSpPr>
        <p:spPr>
          <a:xfrm rot="2855400">
            <a:off x="2409480" y="2359080"/>
            <a:ext cx="2162160" cy="107928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30548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39" name=""/>
          <p:cNvSpPr txBox="1"/>
          <p:nvPr/>
        </p:nvSpPr>
        <p:spPr>
          <a:xfrm rot="2855400">
            <a:off x="1236240" y="3498840"/>
            <a:ext cx="2162160" cy="107964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Down">
              <a:avLst>
                <a:gd name="adj" fmla="val 240506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40" name=""/>
          <p:cNvSpPr txBox="1"/>
          <p:nvPr/>
        </p:nvSpPr>
        <p:spPr>
          <a:xfrm rot="18739200">
            <a:off x="2432880" y="3437640"/>
            <a:ext cx="2162160" cy="114480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Down">
              <a:avLst>
                <a:gd name="adj" fmla="val 240506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054160" y="3368520"/>
            <a:ext cx="173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933560" y="2816280"/>
            <a:ext cx="194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70d0d"/>
                </a:solidFill>
                <a:latin typeface="Arial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954080" y="3273480"/>
            <a:ext cx="1895760" cy="0"/>
          </a:xfrm>
          <a:prstGeom prst="line">
            <a:avLst/>
          </a:prstGeom>
          <a:ln w="28440">
            <a:solidFill>
              <a:srgbClr val="000000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334120" y="3687840"/>
            <a:ext cx="247680" cy="247680"/>
          </a:xfrm>
          <a:prstGeom prst="donut">
            <a:avLst>
              <a:gd name="adj" fmla="val 25000"/>
            </a:avLst>
          </a:prstGeom>
          <a:solidFill>
            <a:srgbClr val="8d8dc1"/>
          </a:solidFill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322960" y="4021200"/>
            <a:ext cx="247680" cy="247680"/>
          </a:xfrm>
          <a:prstGeom prst="donut">
            <a:avLst>
              <a:gd name="adj" fmla="val 25000"/>
            </a:avLst>
          </a:prstGeom>
          <a:solidFill>
            <a:srgbClr val="c4abdf"/>
          </a:solidFill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334120" y="4325760"/>
            <a:ext cx="247680" cy="247680"/>
          </a:xfrm>
          <a:prstGeom prst="donut">
            <a:avLst>
              <a:gd name="adj" fmla="val 25000"/>
            </a:avLst>
          </a:prstGeom>
          <a:solidFill>
            <a:srgbClr val="84cab8"/>
          </a:solidFill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334120" y="4630680"/>
            <a:ext cx="247680" cy="247680"/>
          </a:xfrm>
          <a:prstGeom prst="donut">
            <a:avLst>
              <a:gd name="adj" fmla="val 25000"/>
            </a:avLst>
          </a:prstGeom>
          <a:solidFill>
            <a:srgbClr val="79b4d1"/>
          </a:solidFill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587920" y="364644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587920" y="398304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587920" y="429732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587920" y="460224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995000" y="2571840"/>
            <a:ext cx="35578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030320" y="5607000"/>
            <a:ext cx="712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developed by Guild Design Inc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18640" y="285480"/>
            <a:ext cx="7410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70d0d"/>
                </a:solidFill>
                <a:latin typeface="Verdana"/>
              </a:rPr>
              <a:t>Click to edit title style</a:t>
            </a:r>
            <a:endParaRPr b="1" lang="en-US" sz="3000" spc="-1" strike="noStrike">
              <a:solidFill>
                <a:srgbClr val="670d0d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2205000" y="3608280"/>
            <a:ext cx="1900440" cy="137664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4abdf">
                  <a:alpha val="0"/>
                </a:srgbClr>
              </a:gs>
              <a:gs pos="100000">
                <a:srgbClr val="000000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4124160" y="3543480"/>
            <a:ext cx="366840" cy="156204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c4abdf">
                  <a:alpha val="0"/>
                </a:srgbClr>
              </a:gs>
              <a:gs pos="100000">
                <a:srgbClr val="000000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flipH="1">
            <a:off x="4524480" y="3608280"/>
            <a:ext cx="1900080" cy="137664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4abdf">
                  <a:alpha val="0"/>
                </a:srgbClr>
              </a:gs>
              <a:gs pos="100000">
                <a:srgbClr val="000000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1697040" y="2381400"/>
            <a:ext cx="1361520" cy="1321560"/>
            <a:chOff x="1697040" y="2381400"/>
            <a:chExt cx="1361520" cy="1321560"/>
          </a:xfrm>
        </p:grpSpPr>
        <p:sp>
          <p:nvSpPr>
            <p:cNvPr id="459" name=""/>
            <p:cNvSpPr/>
            <p:nvPr/>
          </p:nvSpPr>
          <p:spPr>
            <a:xfrm>
              <a:off x="1697040" y="238140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79b4d1"/>
                </a:gs>
                <a:gs pos="100000">
                  <a:srgbClr val="547d91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782720" y="246708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bdd9e7"/>
                </a:gs>
                <a:gs pos="50000">
                  <a:srgbClr val="79b4d1">
                    <a:alpha val="0"/>
                  </a:srgbClr>
                </a:gs>
                <a:gs pos="100000">
                  <a:srgbClr val="bdd9e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"/>
          <p:cNvSpPr/>
          <p:nvPr/>
        </p:nvSpPr>
        <p:spPr>
          <a:xfrm>
            <a:off x="1790640" y="2666880"/>
            <a:ext cx="124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xt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3622680" y="2381400"/>
            <a:ext cx="1361520" cy="1321560"/>
            <a:chOff x="3622680" y="2381400"/>
            <a:chExt cx="1361520" cy="1321560"/>
          </a:xfrm>
        </p:grpSpPr>
        <p:sp>
          <p:nvSpPr>
            <p:cNvPr id="463" name=""/>
            <p:cNvSpPr/>
            <p:nvPr/>
          </p:nvSpPr>
          <p:spPr>
            <a:xfrm>
              <a:off x="3622680" y="238140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8d8dc1"/>
                </a:gs>
                <a:gs pos="100000">
                  <a:srgbClr val="626286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08360" y="246708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6c6df"/>
                </a:gs>
                <a:gs pos="50000">
                  <a:srgbClr val="8d8dc1">
                    <a:alpha val="0"/>
                  </a:srgbClr>
                </a:gs>
                <a:gs pos="100000">
                  <a:srgbClr val="c6c6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5592600" y="2390760"/>
            <a:ext cx="1361520" cy="1321560"/>
            <a:chOff x="5592600" y="2390760"/>
            <a:chExt cx="1361520" cy="1321560"/>
          </a:xfrm>
        </p:grpSpPr>
        <p:sp>
          <p:nvSpPr>
            <p:cNvPr id="466" name=""/>
            <p:cNvSpPr/>
            <p:nvPr/>
          </p:nvSpPr>
          <p:spPr>
            <a:xfrm>
              <a:off x="5592600" y="239076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84cab8"/>
                </a:gs>
                <a:gs pos="100000">
                  <a:srgbClr val="5b8c7f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678280" y="247644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2e4db"/>
                </a:gs>
                <a:gs pos="50000">
                  <a:srgbClr val="84cab8">
                    <a:alpha val="0"/>
                  </a:srgbClr>
                </a:gs>
                <a:gs pos="100000">
                  <a:srgbClr val="c2e4d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3672000" y="2666880"/>
            <a:ext cx="124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xt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5672160" y="2676600"/>
            <a:ext cx="124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xt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295280" y="1468440"/>
            <a:ext cx="647712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405080" y="5348160"/>
            <a:ext cx="5887800" cy="976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79b4d1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467000" y="5508720"/>
            <a:ext cx="572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18640" y="285480"/>
            <a:ext cx="7410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70d0d"/>
                </a:solidFill>
                <a:latin typeface="Verdana"/>
              </a:rPr>
              <a:t>Click to edit title style</a:t>
            </a:r>
            <a:endParaRPr b="1" lang="en-US" sz="3000" spc="-1" strike="noStrike">
              <a:solidFill>
                <a:srgbClr val="670d0d"/>
              </a:solidFill>
              <a:latin typeface="Verdana"/>
            </a:endParaRPr>
          </a:p>
        </p:txBody>
      </p:sp>
      <p:sp>
        <p:nvSpPr>
          <p:cNvPr id="474" name=""/>
          <p:cNvSpPr/>
          <p:nvPr/>
        </p:nvSpPr>
        <p:spPr>
          <a:xfrm>
            <a:off x="4830840" y="4140360"/>
            <a:ext cx="3971880" cy="9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7181f"/>
                </a:solidFill>
                <a:latin typeface="Arial"/>
              </a:rPr>
              <a:t>2. Describe contents for a Chart</a:t>
            </a:r>
            <a:r>
              <a:rPr b="0" lang="en-US" sz="1800" spc="-1" strike="noStrike">
                <a:solidFill>
                  <a:srgbClr val="670d0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830840" y="2835360"/>
            <a:ext cx="3971880" cy="9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7181f"/>
                </a:solidFill>
                <a:latin typeface="Arial"/>
              </a:rPr>
              <a:t>1. Describe contents for a Cha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724280" y="3978360"/>
            <a:ext cx="418644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838080" y="5654520"/>
            <a:ext cx="3146400" cy="486000"/>
          </a:xfrm>
          <a:prstGeom prst="roundRect">
            <a:avLst>
              <a:gd name="adj" fmla="val 50000"/>
            </a:avLst>
          </a:prstGeom>
          <a:solidFill>
            <a:srgbClr val="333399"/>
          </a:solidFill>
          <a:ln w="28440">
            <a:solidFill>
              <a:srgbClr val="fefefe"/>
            </a:solidFill>
            <a:miter/>
          </a:ln>
          <a:effectLst>
            <a:outerShdw dist="53966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312920" y="5692680"/>
            <a:ext cx="23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Arial"/>
              </a:rPr>
              <a:t>Chart 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rot="10800000">
            <a:off x="792000" y="1904760"/>
            <a:ext cx="2408400" cy="2251080"/>
          </a:xfrm>
          <a:custGeom>
            <a:avLst/>
            <a:gdLst/>
            <a:ahLst/>
            <a:rect l="l" t="t" r="r" b="b"/>
            <a:pathLst>
              <a:path w="952" h="947">
                <a:moveTo>
                  <a:pt x="0" y="756"/>
                </a:moveTo>
                <a:lnTo>
                  <a:pt x="191" y="591"/>
                </a:lnTo>
                <a:lnTo>
                  <a:pt x="190" y="672"/>
                </a:lnTo>
                <a:lnTo>
                  <a:pt x="194" y="672"/>
                </a:lnTo>
                <a:lnTo>
                  <a:pt x="205" y="672"/>
                </a:lnTo>
                <a:lnTo>
                  <a:pt x="225" y="671"/>
                </a:lnTo>
                <a:lnTo>
                  <a:pt x="250" y="667"/>
                </a:lnTo>
                <a:lnTo>
                  <a:pt x="281" y="662"/>
                </a:lnTo>
                <a:lnTo>
                  <a:pt x="316" y="653"/>
                </a:lnTo>
                <a:lnTo>
                  <a:pt x="356" y="641"/>
                </a:lnTo>
                <a:lnTo>
                  <a:pt x="399" y="626"/>
                </a:lnTo>
                <a:lnTo>
                  <a:pt x="444" y="605"/>
                </a:lnTo>
                <a:lnTo>
                  <a:pt x="492" y="578"/>
                </a:lnTo>
                <a:lnTo>
                  <a:pt x="540" y="547"/>
                </a:lnTo>
                <a:lnTo>
                  <a:pt x="587" y="508"/>
                </a:lnTo>
                <a:lnTo>
                  <a:pt x="635" y="463"/>
                </a:lnTo>
                <a:lnTo>
                  <a:pt x="689" y="405"/>
                </a:lnTo>
                <a:lnTo>
                  <a:pt x="737" y="350"/>
                </a:lnTo>
                <a:lnTo>
                  <a:pt x="780" y="298"/>
                </a:lnTo>
                <a:lnTo>
                  <a:pt x="816" y="249"/>
                </a:lnTo>
                <a:lnTo>
                  <a:pt x="847" y="204"/>
                </a:lnTo>
                <a:lnTo>
                  <a:pt x="873" y="164"/>
                </a:lnTo>
                <a:lnTo>
                  <a:pt x="895" y="126"/>
                </a:lnTo>
                <a:lnTo>
                  <a:pt x="913" y="94"/>
                </a:lnTo>
                <a:lnTo>
                  <a:pt x="926" y="66"/>
                </a:lnTo>
                <a:lnTo>
                  <a:pt x="936" y="42"/>
                </a:lnTo>
                <a:lnTo>
                  <a:pt x="944" y="24"/>
                </a:lnTo>
                <a:lnTo>
                  <a:pt x="949" y="12"/>
                </a:lnTo>
                <a:lnTo>
                  <a:pt x="952" y="2"/>
                </a:lnTo>
                <a:lnTo>
                  <a:pt x="952" y="0"/>
                </a:lnTo>
                <a:lnTo>
                  <a:pt x="952" y="4"/>
                </a:lnTo>
                <a:lnTo>
                  <a:pt x="950" y="17"/>
                </a:lnTo>
                <a:lnTo>
                  <a:pt x="948" y="36"/>
                </a:lnTo>
                <a:lnTo>
                  <a:pt x="942" y="62"/>
                </a:lnTo>
                <a:lnTo>
                  <a:pt x="936" y="93"/>
                </a:lnTo>
                <a:lnTo>
                  <a:pt x="927" y="130"/>
                </a:lnTo>
                <a:lnTo>
                  <a:pt x="914" y="172"/>
                </a:lnTo>
                <a:lnTo>
                  <a:pt x="899" y="217"/>
                </a:lnTo>
                <a:lnTo>
                  <a:pt x="881" y="264"/>
                </a:lnTo>
                <a:lnTo>
                  <a:pt x="857" y="315"/>
                </a:lnTo>
                <a:lnTo>
                  <a:pt x="830" y="368"/>
                </a:lnTo>
                <a:lnTo>
                  <a:pt x="798" y="421"/>
                </a:lnTo>
                <a:lnTo>
                  <a:pt x="762" y="475"/>
                </a:lnTo>
                <a:lnTo>
                  <a:pt x="719" y="529"/>
                </a:lnTo>
                <a:lnTo>
                  <a:pt x="671" y="582"/>
                </a:lnTo>
                <a:lnTo>
                  <a:pt x="613" y="637"/>
                </a:lnTo>
                <a:lnTo>
                  <a:pt x="555" y="685"/>
                </a:lnTo>
                <a:lnTo>
                  <a:pt x="500" y="726"/>
                </a:lnTo>
                <a:lnTo>
                  <a:pt x="447" y="761"/>
                </a:lnTo>
                <a:lnTo>
                  <a:pt x="396" y="790"/>
                </a:lnTo>
                <a:lnTo>
                  <a:pt x="350" y="813"/>
                </a:lnTo>
                <a:lnTo>
                  <a:pt x="307" y="831"/>
                </a:lnTo>
                <a:lnTo>
                  <a:pt x="270" y="845"/>
                </a:lnTo>
                <a:lnTo>
                  <a:pt x="238" y="855"/>
                </a:lnTo>
                <a:lnTo>
                  <a:pt x="212" y="862"/>
                </a:lnTo>
                <a:lnTo>
                  <a:pt x="192" y="866"/>
                </a:lnTo>
                <a:lnTo>
                  <a:pt x="181" y="868"/>
                </a:lnTo>
                <a:lnTo>
                  <a:pt x="176" y="868"/>
                </a:lnTo>
                <a:lnTo>
                  <a:pt x="167" y="947"/>
                </a:lnTo>
                <a:lnTo>
                  <a:pt x="0" y="756"/>
                </a:lnTo>
                <a:close/>
              </a:path>
            </a:pathLst>
          </a:custGeom>
          <a:gradFill rotWithShape="0">
            <a:gsLst>
              <a:gs pos="0">
                <a:srgbClr val="90bbd0"/>
              </a:gs>
              <a:gs pos="100000">
                <a:srgbClr val="ffffff"/>
              </a:gs>
            </a:gsLst>
            <a:lin ang="0"/>
          </a:gradFill>
          <a:ln w="0">
            <a:noFill/>
          </a:ln>
          <a:effectLst>
            <a:outerShdw dist="107932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80880" y="4879800"/>
            <a:ext cx="4267440" cy="652680"/>
          </a:xfrm>
          <a:prstGeom prst="cube">
            <a:avLst>
              <a:gd name="adj" fmla="val 49879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flipV="1" rot="16200000">
            <a:off x="760680" y="4404240"/>
            <a:ext cx="954000" cy="46692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84cab8"/>
              </a:gs>
              <a:gs pos="100000">
                <a:srgbClr val="56837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V="1" rot="16200000">
            <a:off x="1308960" y="4137840"/>
            <a:ext cx="1487520" cy="4665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79b4d1"/>
              </a:gs>
              <a:gs pos="100000">
                <a:srgbClr val="4e758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 rot="16200000">
            <a:off x="1851840" y="3909240"/>
            <a:ext cx="1944720" cy="4665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c4abdf"/>
              </a:gs>
              <a:gs pos="100000">
                <a:srgbClr val="7f6f9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V="1" rot="16200000">
            <a:off x="2108880" y="3336840"/>
            <a:ext cx="3087720" cy="4665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8d8dc1"/>
              </a:gs>
              <a:gs pos="100000">
                <a:srgbClr val="5b5b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90280" y="519588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Arial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680840" y="519588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462040" y="519588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Arial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319200" y="519588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Arial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983160" y="4251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fe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783440" y="37465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fe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554920" y="3279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fe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310920" y="21366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fe"/>
                </a:solidFill>
                <a:latin typeface="Arial"/>
              </a:rPr>
              <a:t>1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18640" y="285480"/>
            <a:ext cx="7410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70d0d"/>
                </a:solidFill>
                <a:latin typeface="Verdana"/>
              </a:rPr>
              <a:t>Click to edit title style</a:t>
            </a:r>
            <a:endParaRPr b="1" lang="en-US" sz="3000" spc="-1" strike="noStrike">
              <a:solidFill>
                <a:srgbClr val="670d0d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1033560" y="1523880"/>
            <a:ext cx="7089840" cy="9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ThemeGallery</a:t>
            </a: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is a Design Digital Content &amp; Contents mall develop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780080" y="4800600"/>
            <a:ext cx="3465360" cy="390600"/>
          </a:xfrm>
          <a:prstGeom prst="rect">
            <a:avLst/>
          </a:prstGeom>
          <a:gradFill rotWithShape="0">
            <a:gsLst>
              <a:gs pos="0">
                <a:srgbClr val="f3f3f3"/>
              </a:gs>
              <a:gs pos="100000">
                <a:srgbClr val="d7d7d7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928800" y="4800600"/>
            <a:ext cx="3465360" cy="390600"/>
          </a:xfrm>
          <a:prstGeom prst="rect">
            <a:avLst/>
          </a:prstGeom>
          <a:gradFill rotWithShape="0">
            <a:gsLst>
              <a:gs pos="0">
                <a:srgbClr val="f3f3f3"/>
              </a:gs>
              <a:gs pos="100000">
                <a:srgbClr val="d7d7d7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2389320" y="3614760"/>
            <a:ext cx="660240" cy="1157400"/>
            <a:chOff x="2389320" y="3614760"/>
            <a:chExt cx="660240" cy="1157400"/>
          </a:xfrm>
        </p:grpSpPr>
        <p:sp>
          <p:nvSpPr>
            <p:cNvPr id="498" name=""/>
            <p:cNvSpPr/>
            <p:nvPr/>
          </p:nvSpPr>
          <p:spPr>
            <a:xfrm>
              <a:off x="2389320" y="3840840"/>
              <a:ext cx="660240" cy="93132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84cab8"/>
                </a:gs>
                <a:gs pos="100000">
                  <a:srgbClr val="64998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2584440" y="3614760"/>
              <a:ext cx="221760" cy="240480"/>
            </a:xfrm>
            <a:prstGeom prst="ellipse">
              <a:avLst/>
            </a:prstGeom>
            <a:gradFill rotWithShape="0">
              <a:gsLst>
                <a:gs pos="0">
                  <a:srgbClr val="84cab8"/>
                </a:gs>
                <a:gs pos="100000">
                  <a:srgbClr val="64998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4960800" y="4818240"/>
            <a:ext cx="92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875200" y="481824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886440" y="481824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706400" y="2968560"/>
            <a:ext cx="71640" cy="7452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841400" y="286704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2008 statistics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970520" y="2946240"/>
            <a:ext cx="71280" cy="7488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097600" y="282564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2008 statistics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732840" y="518148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rial"/>
              </a:rPr>
              <a:t>(unit : 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512840" y="518148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rial"/>
              </a:rPr>
              <a:t>(unit : 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851400" y="5164200"/>
            <a:ext cx="24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rial"/>
              </a:rPr>
              <a:t>* 2008  Statistics agency 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781880" y="5173560"/>
            <a:ext cx="24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rial"/>
              </a:rPr>
              <a:t>* 2008  Statistics agency 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2397240" y="3925800"/>
            <a:ext cx="65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328760" y="4818240"/>
            <a:ext cx="92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236680" y="481824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233880" y="4818240"/>
            <a:ext cx="92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3241800" y="3086280"/>
            <a:ext cx="969480" cy="1694880"/>
            <a:chOff x="3241800" y="3086280"/>
            <a:chExt cx="969480" cy="1694880"/>
          </a:xfrm>
        </p:grpSpPr>
        <p:sp>
          <p:nvSpPr>
            <p:cNvPr id="516" name=""/>
            <p:cNvSpPr/>
            <p:nvPr/>
          </p:nvSpPr>
          <p:spPr>
            <a:xfrm>
              <a:off x="3241800" y="3417480"/>
              <a:ext cx="969480" cy="136368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84cab8"/>
                </a:gs>
                <a:gs pos="100000">
                  <a:srgbClr val="64998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 flipH="1">
              <a:off x="3528360" y="3086280"/>
              <a:ext cx="325440" cy="352080"/>
            </a:xfrm>
            <a:prstGeom prst="ellipse">
              <a:avLst/>
            </a:prstGeom>
            <a:gradFill rotWithShape="0">
              <a:gsLst>
                <a:gs pos="0">
                  <a:srgbClr val="84cab8"/>
                </a:gs>
                <a:gs pos="100000">
                  <a:srgbClr val="64998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8" name=""/>
          <p:cNvSpPr/>
          <p:nvPr/>
        </p:nvSpPr>
        <p:spPr>
          <a:xfrm>
            <a:off x="3263760" y="3605040"/>
            <a:ext cx="87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Arial"/>
              </a:rPr>
              <a:t>9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1550880" y="3855960"/>
            <a:ext cx="519120" cy="910800"/>
            <a:chOff x="1550880" y="3855960"/>
            <a:chExt cx="519120" cy="910800"/>
          </a:xfrm>
        </p:grpSpPr>
        <p:sp>
          <p:nvSpPr>
            <p:cNvPr id="520" name=""/>
            <p:cNvSpPr/>
            <p:nvPr/>
          </p:nvSpPr>
          <p:spPr>
            <a:xfrm>
              <a:off x="1550880" y="4033800"/>
              <a:ext cx="519120" cy="73296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84cab8"/>
                </a:gs>
                <a:gs pos="100000">
                  <a:srgbClr val="64998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>
              <a:off x="1704240" y="3855960"/>
              <a:ext cx="174240" cy="189360"/>
            </a:xfrm>
            <a:prstGeom prst="ellipse">
              <a:avLst/>
            </a:prstGeom>
            <a:gradFill rotWithShape="0">
              <a:gsLst>
                <a:gs pos="0">
                  <a:srgbClr val="84cab8"/>
                </a:gs>
                <a:gs pos="100000">
                  <a:srgbClr val="64998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1484280" y="41148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fefe"/>
                </a:solidFill>
                <a:latin typeface="Arial"/>
              </a:rPr>
              <a:t>1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6942240" y="3059280"/>
            <a:ext cx="850680" cy="1698120"/>
            <a:chOff x="6942240" y="3059280"/>
            <a:chExt cx="850680" cy="1698120"/>
          </a:xfrm>
        </p:grpSpPr>
        <p:sp>
          <p:nvSpPr>
            <p:cNvPr id="524" name=""/>
            <p:cNvSpPr/>
            <p:nvPr/>
          </p:nvSpPr>
          <p:spPr>
            <a:xfrm>
              <a:off x="6942240" y="3356280"/>
              <a:ext cx="850680" cy="140112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gradFill rotWithShape="0">
              <a:gsLst>
                <a:gs pos="0">
                  <a:srgbClr val="c0c0dc"/>
                </a:gs>
                <a:gs pos="100000">
                  <a:srgbClr val="8d8dc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194600" y="3059280"/>
              <a:ext cx="306720" cy="324360"/>
            </a:xfrm>
            <a:prstGeom prst="ellipse">
              <a:avLst/>
            </a:prstGeom>
            <a:gradFill rotWithShape="0">
              <a:gsLst>
                <a:gs pos="0">
                  <a:srgbClr val="c0c0dc"/>
                </a:gs>
                <a:gs pos="100000">
                  <a:srgbClr val="8d8dc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6" name=""/>
          <p:cNvSpPr/>
          <p:nvPr/>
        </p:nvSpPr>
        <p:spPr>
          <a:xfrm>
            <a:off x="6999120" y="3605040"/>
            <a:ext cx="7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6002280" y="3328920"/>
            <a:ext cx="717480" cy="1433160"/>
            <a:chOff x="6002280" y="3328920"/>
            <a:chExt cx="717480" cy="1433160"/>
          </a:xfrm>
        </p:grpSpPr>
        <p:sp>
          <p:nvSpPr>
            <p:cNvPr id="528" name=""/>
            <p:cNvSpPr/>
            <p:nvPr/>
          </p:nvSpPr>
          <p:spPr>
            <a:xfrm>
              <a:off x="6002280" y="3579480"/>
              <a:ext cx="717480" cy="118260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gradFill rotWithShape="0">
              <a:gsLst>
                <a:gs pos="0">
                  <a:srgbClr val="c0c0dc"/>
                </a:gs>
                <a:gs pos="100000">
                  <a:srgbClr val="8d8dc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215040" y="3328920"/>
              <a:ext cx="258840" cy="273960"/>
            </a:xfrm>
            <a:prstGeom prst="ellipse">
              <a:avLst/>
            </a:prstGeom>
            <a:gradFill rotWithShape="0">
              <a:gsLst>
                <a:gs pos="0">
                  <a:srgbClr val="c0c0dc"/>
                </a:gs>
                <a:gs pos="100000">
                  <a:srgbClr val="8d8dc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5165640" y="3701880"/>
            <a:ext cx="533520" cy="1064880"/>
            <a:chOff x="5165640" y="3701880"/>
            <a:chExt cx="533520" cy="1064880"/>
          </a:xfrm>
        </p:grpSpPr>
        <p:sp>
          <p:nvSpPr>
            <p:cNvPr id="531" name=""/>
            <p:cNvSpPr/>
            <p:nvPr/>
          </p:nvSpPr>
          <p:spPr>
            <a:xfrm>
              <a:off x="5165640" y="3888000"/>
              <a:ext cx="533520" cy="87876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gradFill rotWithShape="0">
              <a:gsLst>
                <a:gs pos="0">
                  <a:srgbClr val="c0c0dc"/>
                </a:gs>
                <a:gs pos="100000">
                  <a:srgbClr val="8d8dc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323680" y="3701880"/>
              <a:ext cx="192240" cy="203400"/>
            </a:xfrm>
            <a:prstGeom prst="ellipse">
              <a:avLst/>
            </a:prstGeom>
            <a:gradFill rotWithShape="0">
              <a:gsLst>
                <a:gs pos="0">
                  <a:srgbClr val="c0c0dc"/>
                </a:gs>
                <a:gs pos="100000">
                  <a:srgbClr val="8d8dc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3" name=""/>
          <p:cNvSpPr/>
          <p:nvPr/>
        </p:nvSpPr>
        <p:spPr>
          <a:xfrm>
            <a:off x="5154480" y="4040280"/>
            <a:ext cx="61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031080" y="3794040"/>
            <a:ext cx="70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2657520" y="5648400"/>
            <a:ext cx="383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080808"/>
              </a:buClr>
              <a:buFont typeface="Wingdings 2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Contents of the product, and please fill it ou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2987640" y="112392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84cab8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18640" y="285480"/>
            <a:ext cx="7410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70d0d"/>
                </a:solidFill>
                <a:latin typeface="Verdana"/>
              </a:rPr>
              <a:t>Click to edit title style</a:t>
            </a:r>
            <a:endParaRPr b="1" lang="en-US" sz="3000" spc="-1" strike="noStrike">
              <a:solidFill>
                <a:srgbClr val="670d0d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rot="5400000">
            <a:off x="4836240" y="3575880"/>
            <a:ext cx="3276360" cy="4143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666699">
                  <a:alpha val="80000"/>
                </a:srgbClr>
              </a:gs>
              <a:gs pos="100000">
                <a:srgbClr val="fefefe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flipV="1" rot="16200000">
            <a:off x="864000" y="1533600"/>
            <a:ext cx="1066680" cy="1576440"/>
          </a:xfrm>
          <a:custGeom>
            <a:avLst/>
            <a:gdLst>
              <a:gd name="textAreaLeft" fmla="*/ 0 w 1066680"/>
              <a:gd name="textAreaRight" fmla="*/ 1067040 w 1066680"/>
              <a:gd name="textAreaTop" fmla="*/ -360 h 1576440"/>
              <a:gd name="textAreaBottom" fmla="*/ 1576440 h 157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127" y="0"/>
                </a:lnTo>
                <a:lnTo>
                  <a:pt x="21600" y="10800"/>
                </a:lnTo>
                <a:lnTo>
                  <a:pt x="14127" y="21600"/>
                </a:lnTo>
                <a:lnTo>
                  <a:pt x="0" y="21600"/>
                </a:lnTo>
                <a:lnTo>
                  <a:pt x="7473" y="10800"/>
                </a:lnTo>
                <a:close/>
              </a:path>
            </a:pathLst>
          </a:custGeom>
          <a:gradFill rotWithShape="0">
            <a:gsLst>
              <a:gs pos="0">
                <a:srgbClr val="84cab8"/>
              </a:gs>
              <a:gs pos="100000">
                <a:srgbClr val="d2eb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flipV="1" rot="16200000">
            <a:off x="864000" y="2432160"/>
            <a:ext cx="1066680" cy="1576440"/>
          </a:xfrm>
          <a:custGeom>
            <a:avLst/>
            <a:gdLst>
              <a:gd name="textAreaLeft" fmla="*/ 0 w 1066680"/>
              <a:gd name="textAreaRight" fmla="*/ 1067040 w 1066680"/>
              <a:gd name="textAreaTop" fmla="*/ -360 h 1576440"/>
              <a:gd name="textAreaBottom" fmla="*/ 1576440 h 157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127" y="0"/>
                </a:lnTo>
                <a:lnTo>
                  <a:pt x="21600" y="10800"/>
                </a:lnTo>
                <a:lnTo>
                  <a:pt x="14127" y="21600"/>
                </a:lnTo>
                <a:lnTo>
                  <a:pt x="0" y="21600"/>
                </a:lnTo>
                <a:lnTo>
                  <a:pt x="7473" y="10800"/>
                </a:lnTo>
                <a:close/>
              </a:path>
            </a:pathLst>
          </a:custGeom>
          <a:gradFill rotWithShape="0">
            <a:gsLst>
              <a:gs pos="0">
                <a:srgbClr val="c4abdf"/>
              </a:gs>
              <a:gs pos="100000">
                <a:srgbClr val="e9e0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flipV="1" rot="16200000">
            <a:off x="864000" y="3343320"/>
            <a:ext cx="1066680" cy="1576440"/>
          </a:xfrm>
          <a:custGeom>
            <a:avLst/>
            <a:gdLst>
              <a:gd name="textAreaLeft" fmla="*/ 0 w 1066680"/>
              <a:gd name="textAreaRight" fmla="*/ 1067040 w 1066680"/>
              <a:gd name="textAreaTop" fmla="*/ -360 h 1576440"/>
              <a:gd name="textAreaBottom" fmla="*/ 1576440 h 157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127" y="0"/>
                </a:lnTo>
                <a:lnTo>
                  <a:pt x="21600" y="10800"/>
                </a:lnTo>
                <a:lnTo>
                  <a:pt x="14127" y="21600"/>
                </a:lnTo>
                <a:lnTo>
                  <a:pt x="0" y="21600"/>
                </a:lnTo>
                <a:lnTo>
                  <a:pt x="7473" y="10800"/>
                </a:lnTo>
                <a:close/>
              </a:path>
            </a:pathLst>
          </a:custGeom>
          <a:gradFill rotWithShape="0">
            <a:gsLst>
              <a:gs pos="0">
                <a:srgbClr val="8d8dc1"/>
              </a:gs>
              <a:gs pos="100000">
                <a:srgbClr val="d5d5e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 flipV="1" rot="16200000">
            <a:off x="864000" y="4246560"/>
            <a:ext cx="1066680" cy="1576440"/>
          </a:xfrm>
          <a:custGeom>
            <a:avLst/>
            <a:gdLst>
              <a:gd name="textAreaLeft" fmla="*/ 0 w 1066680"/>
              <a:gd name="textAreaRight" fmla="*/ 1067040 w 1066680"/>
              <a:gd name="textAreaTop" fmla="*/ -360 h 1576440"/>
              <a:gd name="textAreaBottom" fmla="*/ 1576440 h 157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127" y="0"/>
                </a:lnTo>
                <a:lnTo>
                  <a:pt x="21600" y="10800"/>
                </a:lnTo>
                <a:lnTo>
                  <a:pt x="14127" y="21600"/>
                </a:lnTo>
                <a:lnTo>
                  <a:pt x="0" y="21600"/>
                </a:lnTo>
                <a:lnTo>
                  <a:pt x="7473" y="1080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e7e7e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703440" y="2092320"/>
            <a:ext cx="137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7~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703440" y="2986200"/>
            <a:ext cx="137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04 ~ 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03440" y="3905280"/>
            <a:ext cx="137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02 ~ 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703440" y="4805280"/>
            <a:ext cx="137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00 ~ 2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185920" y="2070000"/>
            <a:ext cx="355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278080" y="2384280"/>
            <a:ext cx="404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185920" y="2978280"/>
            <a:ext cx="355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327400" y="3292560"/>
            <a:ext cx="404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185920" y="3898800"/>
            <a:ext cx="355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327400" y="4213080"/>
            <a:ext cx="404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185920" y="4807080"/>
            <a:ext cx="355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327400" y="5121360"/>
            <a:ext cx="404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1"/>
          <a:stretch/>
        </p:blipFill>
        <p:spPr>
          <a:xfrm>
            <a:off x="5925960" y="2219400"/>
            <a:ext cx="2737080" cy="30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18640" y="285480"/>
            <a:ext cx="7410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70d0d"/>
                </a:solidFill>
                <a:latin typeface="Verdana"/>
              </a:rPr>
              <a:t>Click to edit title style</a:t>
            </a:r>
            <a:endParaRPr b="1" lang="en-US" sz="3000" spc="-1" strike="noStrike">
              <a:solidFill>
                <a:srgbClr val="670d0d"/>
              </a:solidFill>
              <a:latin typeface="Verdana"/>
            </a:endParaRPr>
          </a:p>
        </p:txBody>
      </p:sp>
      <p:sp>
        <p:nvSpPr>
          <p:cNvPr id="557" name=""/>
          <p:cNvSpPr/>
          <p:nvPr/>
        </p:nvSpPr>
        <p:spPr>
          <a:xfrm>
            <a:off x="6465960" y="1617840"/>
            <a:ext cx="655560" cy="65556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064040" y="1946160"/>
            <a:ext cx="1425600" cy="1047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4454640" y="1219320"/>
            <a:ext cx="655560" cy="65556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286160" y="1952640"/>
            <a:ext cx="97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4cab8"/>
                </a:solidFill>
                <a:latin typeface="Arial"/>
              </a:rPr>
              <a:t>20.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064040" y="2320920"/>
            <a:ext cx="1406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064040" y="2300400"/>
            <a:ext cx="1425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064200" y="2344680"/>
            <a:ext cx="1425600" cy="1047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323040" y="2351160"/>
            <a:ext cx="9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d8dc1"/>
                </a:solidFill>
                <a:latin typeface="Arial"/>
              </a:rPr>
              <a:t>20.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064200" y="2717640"/>
            <a:ext cx="1408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064200" y="2698920"/>
            <a:ext cx="1425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7151760" y="3510000"/>
            <a:ext cx="655560" cy="65556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1890720" y="2203560"/>
            <a:ext cx="1425600" cy="104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303640" y="1474920"/>
            <a:ext cx="655560" cy="65556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H="1" flipV="1" rot="3328800">
            <a:off x="2428920" y="1593000"/>
            <a:ext cx="407520" cy="406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" y="11096"/>
                </a:moveTo>
                <a:arcTo wR="10800" hR="10800" stAng="10705729" swAng="14696638"/>
                <a:lnTo>
                  <a:pt x="10800" y="10800"/>
                </a:lnTo>
                <a:close/>
              </a:path>
              <a:path fill="none" w="21600" h="21600">
                <a:moveTo>
                  <a:pt x="4" y="11096"/>
                </a:moveTo>
                <a:arcTo wR="10800" hR="10800" stAng="10705729" swAng="14696638"/>
              </a:path>
            </a:pathLst>
          </a:custGeom>
          <a:gradFill rotWithShape="0">
            <a:gsLst>
              <a:gs pos="0">
                <a:srgbClr val="4f7689"/>
              </a:gs>
              <a:gs pos="100000">
                <a:srgbClr val="79b4d1"/>
              </a:gs>
            </a:gsLst>
            <a:lin ang="2070000"/>
          </a:gradFill>
          <a:ln w="0">
            <a:noFill/>
          </a:ln>
          <a:effectLst>
            <a:outerShdw dist="52300" dir="4563564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rot="6106200">
            <a:off x="6917760" y="3376800"/>
            <a:ext cx="741960" cy="688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020" y="364"/>
                </a:moveTo>
                <a:arcTo wR="10800" hR="10800" stAng="-6294958" swAng="3522128"/>
                <a:lnTo>
                  <a:pt x="10800" y="10800"/>
                </a:lnTo>
                <a:close/>
              </a:path>
              <a:path fill="none" w="21600" h="21600">
                <a:moveTo>
                  <a:pt x="8020" y="364"/>
                </a:moveTo>
                <a:arcTo wR="10800" hR="10800" stAng="-6294958" swAng="3522128"/>
              </a:path>
            </a:pathLst>
          </a:custGeom>
          <a:gradFill rotWithShape="0">
            <a:gsLst>
              <a:gs pos="0">
                <a:srgbClr val="817093"/>
              </a:gs>
              <a:gs pos="100000">
                <a:srgbClr val="c4abdf"/>
              </a:gs>
            </a:gsLst>
            <a:lin ang="20892000"/>
          </a:gra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rot="5400000">
            <a:off x="6406920" y="1651680"/>
            <a:ext cx="492840" cy="49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226" y="2231"/>
                </a:moveTo>
                <a:arcTo wR="10800" hR="10800" stAng="-7649716" swAng="5638102"/>
                <a:lnTo>
                  <a:pt x="10800" y="10800"/>
                </a:lnTo>
                <a:close/>
              </a:path>
              <a:path fill="none" w="21600" h="21600">
                <a:moveTo>
                  <a:pt x="4226" y="2231"/>
                </a:moveTo>
                <a:arcTo wR="10800" hR="10800" stAng="-7649716" swAng="5638102"/>
              </a:path>
            </a:pathLst>
          </a:custGeom>
          <a:gradFill rotWithShape="0">
            <a:gsLst>
              <a:gs pos="0">
                <a:srgbClr val="5d5d7f"/>
              </a:gs>
              <a:gs pos="100000">
                <a:srgbClr val="8d8dc1"/>
              </a:gs>
            </a:gsLst>
            <a:lin ang="2700000"/>
          </a:gradFill>
          <a:ln w="0">
            <a:noFill/>
          </a:ln>
          <a:effectLst>
            <a:outerShdw dist="40186" dir="430364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359600" y="1376280"/>
            <a:ext cx="675360" cy="67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12674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126747"/>
              </a:path>
            </a:pathLst>
          </a:custGeom>
          <a:gradFill rotWithShape="0">
            <a:gsLst>
              <a:gs pos="0">
                <a:srgbClr val="497066"/>
              </a:gs>
              <a:gs pos="100000">
                <a:srgbClr val="84cab8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198520" y="2209680"/>
            <a:ext cx="84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9b4d1"/>
                </a:solidFill>
                <a:latin typeface="Arial"/>
              </a:rPr>
              <a:t>9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890720" y="2577960"/>
            <a:ext cx="1406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" descr=""/>
          <p:cNvPicPr/>
          <p:nvPr/>
        </p:nvPicPr>
        <p:blipFill>
          <a:blip r:embed="rId1"/>
          <a:stretch/>
        </p:blipFill>
        <p:spPr>
          <a:xfrm>
            <a:off x="685800" y="3205080"/>
            <a:ext cx="5484960" cy="2486160"/>
          </a:xfrm>
          <a:prstGeom prst="rect">
            <a:avLst/>
          </a:prstGeom>
          <a:ln w="0">
            <a:noFill/>
          </a:ln>
        </p:spPr>
      </p:pic>
      <p:sp>
        <p:nvSpPr>
          <p:cNvPr id="577" name=""/>
          <p:cNvSpPr/>
          <p:nvPr/>
        </p:nvSpPr>
        <p:spPr>
          <a:xfrm>
            <a:off x="1890720" y="2557440"/>
            <a:ext cx="1425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738840" y="4267080"/>
            <a:ext cx="1425600" cy="1073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7066080" y="4273560"/>
            <a:ext cx="85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4abdf"/>
                </a:solidFill>
                <a:latin typeface="Arial"/>
              </a:rPr>
              <a:t>38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6738840" y="4641840"/>
            <a:ext cx="1460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6738840" y="4621320"/>
            <a:ext cx="1425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 flipH="1" flipV="1">
            <a:off x="2622600" y="3244680"/>
            <a:ext cx="69840" cy="648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 flipV="1">
            <a:off x="4235400" y="3013200"/>
            <a:ext cx="365040" cy="388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V="1">
            <a:off x="5256360" y="3033360"/>
            <a:ext cx="776160" cy="515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465880" y="4175280"/>
            <a:ext cx="1207800" cy="430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954000" y="5735520"/>
            <a:ext cx="712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developed by Guild Design Inc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818640" y="285480"/>
            <a:ext cx="7410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70d0d"/>
                </a:solidFill>
                <a:latin typeface="Verdana"/>
              </a:rPr>
              <a:t>Click to edit title style</a:t>
            </a:r>
            <a:endParaRPr b="1" lang="en-US" sz="3000" spc="-1" strike="noStrike">
              <a:solidFill>
                <a:srgbClr val="670d0d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2435400" y="1824120"/>
            <a:ext cx="3909960" cy="4043160"/>
          </a:xfrm>
          <a:prstGeom prst="donut">
            <a:avLst>
              <a:gd name="adj" fmla="val 2814"/>
            </a:avLst>
          </a:prstGeom>
          <a:solidFill>
            <a:srgbClr val="000066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2778120" y="2160720"/>
            <a:ext cx="3228480" cy="3350880"/>
            <a:chOff x="2778120" y="2160720"/>
            <a:chExt cx="3228480" cy="3350880"/>
          </a:xfrm>
        </p:grpSpPr>
        <p:sp>
          <p:nvSpPr>
            <p:cNvPr id="590" name=""/>
            <p:cNvSpPr/>
            <p:nvPr/>
          </p:nvSpPr>
          <p:spPr>
            <a:xfrm flipV="1">
              <a:off x="2778120" y="2237400"/>
              <a:ext cx="3222360" cy="327384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784240" y="2160720"/>
              <a:ext cx="3222360" cy="327384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3851280" y="1371600"/>
            <a:ext cx="1096920" cy="1090440"/>
            <a:chOff x="3851280" y="1371600"/>
            <a:chExt cx="1096920" cy="1090440"/>
          </a:xfrm>
        </p:grpSpPr>
        <p:grpSp>
          <p:nvGrpSpPr>
            <p:cNvPr id="593" name=""/>
            <p:cNvGrpSpPr/>
            <p:nvPr/>
          </p:nvGrpSpPr>
          <p:grpSpPr>
            <a:xfrm>
              <a:off x="3851280" y="1371600"/>
              <a:ext cx="1096920" cy="1090440"/>
              <a:chOff x="3851280" y="1371600"/>
              <a:chExt cx="1096920" cy="1090440"/>
            </a:xfrm>
          </p:grpSpPr>
          <p:pic>
            <p:nvPicPr>
              <p:cNvPr id="59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851280" y="1371600"/>
                <a:ext cx="1096920" cy="108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5" name=""/>
              <p:cNvSpPr/>
              <p:nvPr/>
            </p:nvSpPr>
            <p:spPr>
              <a:xfrm>
                <a:off x="3851280" y="1371600"/>
                <a:ext cx="1089360" cy="1090440"/>
              </a:xfrm>
              <a:prstGeom prst="ellipse">
                <a:avLst/>
              </a:prstGeom>
              <a:gradFill rotWithShape="0">
                <a:gsLst>
                  <a:gs pos="0">
                    <a:srgbClr val="c4abdf">
                      <a:alpha val="55294"/>
                    </a:srgbClr>
                  </a:gs>
                  <a:gs pos="50000">
                    <a:srgbClr val="5a4e66">
                      <a:alpha val="90196"/>
                    </a:srgbClr>
                  </a:gs>
                  <a:gs pos="100000">
                    <a:srgbClr val="c4abdf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96" name="" descr=""/>
            <p:cNvPicPr/>
            <p:nvPr/>
          </p:nvPicPr>
          <p:blipFill>
            <a:blip r:embed="rId2"/>
            <a:stretch/>
          </p:blipFill>
          <p:spPr>
            <a:xfrm>
              <a:off x="3960720" y="1382040"/>
              <a:ext cx="866160" cy="38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7" name=""/>
          <p:cNvSpPr/>
          <p:nvPr/>
        </p:nvSpPr>
        <p:spPr>
          <a:xfrm>
            <a:off x="3911760" y="1657440"/>
            <a:ext cx="97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Calibri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2036880" y="3278160"/>
            <a:ext cx="1096920" cy="1090800"/>
            <a:chOff x="2036880" y="3278160"/>
            <a:chExt cx="1096920" cy="1090800"/>
          </a:xfrm>
        </p:grpSpPr>
        <p:grpSp>
          <p:nvGrpSpPr>
            <p:cNvPr id="599" name=""/>
            <p:cNvGrpSpPr/>
            <p:nvPr/>
          </p:nvGrpSpPr>
          <p:grpSpPr>
            <a:xfrm>
              <a:off x="2036880" y="3278160"/>
              <a:ext cx="1096920" cy="1090800"/>
              <a:chOff x="2036880" y="3278160"/>
              <a:chExt cx="1096920" cy="1090800"/>
            </a:xfrm>
          </p:grpSpPr>
          <p:pic>
            <p:nvPicPr>
              <p:cNvPr id="60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036880" y="3278160"/>
                <a:ext cx="1096920" cy="108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1" name=""/>
              <p:cNvSpPr/>
              <p:nvPr/>
            </p:nvSpPr>
            <p:spPr>
              <a:xfrm>
                <a:off x="2036880" y="3278160"/>
                <a:ext cx="1089360" cy="1090800"/>
              </a:xfrm>
              <a:prstGeom prst="ellipse">
                <a:avLst/>
              </a:prstGeom>
              <a:gradFill rotWithShape="0">
                <a:gsLst>
                  <a:gs pos="0">
                    <a:srgbClr val="84cab8">
                      <a:alpha val="55294"/>
                    </a:srgbClr>
                  </a:gs>
                  <a:gs pos="50000">
                    <a:srgbClr val="3c5d54">
                      <a:alpha val="90196"/>
                    </a:srgbClr>
                  </a:gs>
                  <a:gs pos="100000">
                    <a:srgbClr val="84cab8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02" name="" descr=""/>
            <p:cNvPicPr/>
            <p:nvPr/>
          </p:nvPicPr>
          <p:blipFill>
            <a:blip r:embed="rId4"/>
            <a:stretch/>
          </p:blipFill>
          <p:spPr>
            <a:xfrm>
              <a:off x="2146320" y="3288600"/>
              <a:ext cx="866160" cy="38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3" name=""/>
          <p:cNvSpPr/>
          <p:nvPr/>
        </p:nvSpPr>
        <p:spPr>
          <a:xfrm>
            <a:off x="2106720" y="3564000"/>
            <a:ext cx="97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Calibri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5646600" y="3267000"/>
            <a:ext cx="1097280" cy="1090800"/>
            <a:chOff x="5646600" y="3267000"/>
            <a:chExt cx="1097280" cy="1090800"/>
          </a:xfrm>
        </p:grpSpPr>
        <p:grpSp>
          <p:nvGrpSpPr>
            <p:cNvPr id="605" name=""/>
            <p:cNvGrpSpPr/>
            <p:nvPr/>
          </p:nvGrpSpPr>
          <p:grpSpPr>
            <a:xfrm>
              <a:off x="5646600" y="3267000"/>
              <a:ext cx="1097280" cy="1090800"/>
              <a:chOff x="5646600" y="3267000"/>
              <a:chExt cx="1097280" cy="1090800"/>
            </a:xfrm>
          </p:grpSpPr>
          <p:pic>
            <p:nvPicPr>
              <p:cNvPr id="60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646600" y="3267000"/>
                <a:ext cx="1097280" cy="108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7" name=""/>
              <p:cNvSpPr/>
              <p:nvPr/>
            </p:nvSpPr>
            <p:spPr>
              <a:xfrm>
                <a:off x="5646600" y="3267000"/>
                <a:ext cx="1089720" cy="1090800"/>
              </a:xfrm>
              <a:prstGeom prst="ellipse">
                <a:avLst/>
              </a:prstGeom>
              <a:gradFill rotWithShape="0">
                <a:gsLst>
                  <a:gs pos="0">
                    <a:srgbClr val="8d8dc1">
                      <a:alpha val="55294"/>
                    </a:srgbClr>
                  </a:gs>
                  <a:gs pos="50000">
                    <a:srgbClr val="404058">
                      <a:alpha val="90196"/>
                    </a:srgbClr>
                  </a:gs>
                  <a:gs pos="100000">
                    <a:srgbClr val="8d8dc1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08" name="" descr=""/>
            <p:cNvPicPr/>
            <p:nvPr/>
          </p:nvPicPr>
          <p:blipFill>
            <a:blip r:embed="rId6"/>
            <a:stretch/>
          </p:blipFill>
          <p:spPr>
            <a:xfrm>
              <a:off x="5756040" y="3277440"/>
              <a:ext cx="866520" cy="38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9" name=""/>
          <p:cNvSpPr/>
          <p:nvPr/>
        </p:nvSpPr>
        <p:spPr>
          <a:xfrm>
            <a:off x="5707080" y="3552840"/>
            <a:ext cx="9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Calibri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0" name=""/>
          <p:cNvGrpSpPr/>
          <p:nvPr/>
        </p:nvGrpSpPr>
        <p:grpSpPr>
          <a:xfrm>
            <a:off x="3851280" y="5157720"/>
            <a:ext cx="1096920" cy="1090800"/>
            <a:chOff x="3851280" y="5157720"/>
            <a:chExt cx="1096920" cy="1090800"/>
          </a:xfrm>
        </p:grpSpPr>
        <p:grpSp>
          <p:nvGrpSpPr>
            <p:cNvPr id="611" name=""/>
            <p:cNvGrpSpPr/>
            <p:nvPr/>
          </p:nvGrpSpPr>
          <p:grpSpPr>
            <a:xfrm>
              <a:off x="3851280" y="5157720"/>
              <a:ext cx="1096920" cy="1090800"/>
              <a:chOff x="3851280" y="5157720"/>
              <a:chExt cx="1096920" cy="1090800"/>
            </a:xfrm>
          </p:grpSpPr>
          <p:pic>
            <p:nvPicPr>
              <p:cNvPr id="61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3851280" y="5157720"/>
                <a:ext cx="1096920" cy="108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3" name=""/>
              <p:cNvSpPr/>
              <p:nvPr/>
            </p:nvSpPr>
            <p:spPr>
              <a:xfrm>
                <a:off x="3851280" y="5157720"/>
                <a:ext cx="1089360" cy="1090800"/>
              </a:xfrm>
              <a:prstGeom prst="ellipse">
                <a:avLst/>
              </a:prstGeom>
              <a:gradFill rotWithShape="0">
                <a:gsLst>
                  <a:gs pos="0">
                    <a:srgbClr val="79b4d1">
                      <a:alpha val="55294"/>
                    </a:srgbClr>
                  </a:gs>
                  <a:gs pos="50000">
                    <a:srgbClr val="375260">
                      <a:alpha val="90196"/>
                    </a:srgbClr>
                  </a:gs>
                  <a:gs pos="100000">
                    <a:srgbClr val="79b4d1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14" name="" descr=""/>
            <p:cNvPicPr/>
            <p:nvPr/>
          </p:nvPicPr>
          <p:blipFill>
            <a:blip r:embed="rId8"/>
            <a:stretch/>
          </p:blipFill>
          <p:spPr>
            <a:xfrm>
              <a:off x="3960720" y="5168160"/>
              <a:ext cx="866160" cy="38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5" name=""/>
          <p:cNvSpPr/>
          <p:nvPr/>
        </p:nvSpPr>
        <p:spPr>
          <a:xfrm>
            <a:off x="3911760" y="5443560"/>
            <a:ext cx="97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Calibri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559320" y="3460680"/>
            <a:ext cx="164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alibri"/>
              </a:rPr>
              <a:t>Title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263760" y="2698920"/>
            <a:ext cx="2243160" cy="210492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16325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3333"/>
                </a:solidFill>
                <a:latin typeface="Arial"/>
              </a:rPr>
              <a:t>Description of the contents</a:t>
            </a:r>
            <a:endParaRPr b="1" lang="en-US" sz="1800" spc="-1" strike="noStrike">
              <a:ln w="0">
                <a:noFill/>
              </a:ln>
              <a:solidFill>
                <a:srgbClr val="333333"/>
              </a:solidFill>
              <a:latin typeface="Arial"/>
              <a:ea typeface="Arial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3273480" y="2840040"/>
            <a:ext cx="2243160" cy="210492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Down">
              <a:avLst>
                <a:gd name="adj" fmla="val 90157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3333"/>
                </a:solidFill>
                <a:latin typeface="Arial"/>
              </a:rPr>
              <a:t>Description of the contents</a:t>
            </a:r>
            <a:endParaRPr b="1" lang="en-US" sz="1800" spc="-1" strike="noStrike">
              <a:ln w="0">
                <a:noFill/>
              </a:ln>
              <a:solidFill>
                <a:srgbClr val="333333"/>
              </a:solidFill>
              <a:latin typeface="Arial"/>
              <a:ea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976320" y="2079720"/>
            <a:ext cx="1865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escription of the 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5673600" y="2079720"/>
            <a:ext cx="186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escription of the 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976320" y="4878360"/>
            <a:ext cx="1865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escription of the 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5830920" y="4878360"/>
            <a:ext cx="1865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escription of the 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818640" y="285480"/>
            <a:ext cx="7410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70d0d"/>
                </a:solidFill>
                <a:latin typeface="Verdana"/>
              </a:rPr>
              <a:t>Click to edit title style</a:t>
            </a:r>
            <a:endParaRPr b="1" lang="en-US" sz="3000" spc="-1" strike="noStrike">
              <a:solidFill>
                <a:srgbClr val="670d0d"/>
              </a:solidFill>
              <a:latin typeface="Verdana"/>
            </a:endParaRPr>
          </a:p>
        </p:txBody>
      </p:sp>
      <p:sp>
        <p:nvSpPr>
          <p:cNvPr id="624" name=""/>
          <p:cNvSpPr/>
          <p:nvPr/>
        </p:nvSpPr>
        <p:spPr>
          <a:xfrm rot="18243000">
            <a:off x="5518800" y="2466000"/>
            <a:ext cx="1520640" cy="1322280"/>
          </a:xfrm>
          <a:prstGeom prst="blockArc">
            <a:avLst>
              <a:gd name="adj1" fmla="val 11415256"/>
              <a:gd name="adj2" fmla="val 20984744"/>
              <a:gd name="adj3" fmla="val 4958"/>
            </a:avLst>
          </a:prstGeom>
          <a:solidFill>
            <a:srgbClr val="0000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 flipH="1" flipV="1" rot="12822000">
            <a:off x="2287080" y="3380400"/>
            <a:ext cx="1589400" cy="1555560"/>
          </a:xfrm>
          <a:prstGeom prst="blockArc">
            <a:avLst>
              <a:gd name="adj1" fmla="val 11415256"/>
              <a:gd name="adj2" fmla="val 20984744"/>
              <a:gd name="adj3" fmla="val 4958"/>
            </a:avLst>
          </a:prstGeom>
          <a:solidFill>
            <a:srgbClr val="0000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1665360" y="3111480"/>
            <a:ext cx="939600" cy="993960"/>
            <a:chOff x="1665360" y="3111480"/>
            <a:chExt cx="939600" cy="993960"/>
          </a:xfrm>
        </p:grpSpPr>
        <p:pic>
          <p:nvPicPr>
            <p:cNvPr id="627" name="" descr=""/>
            <p:cNvPicPr/>
            <p:nvPr/>
          </p:nvPicPr>
          <p:blipFill>
            <a:blip r:embed="rId1"/>
            <a:stretch/>
          </p:blipFill>
          <p:spPr>
            <a:xfrm>
              <a:off x="1754640" y="3890880"/>
              <a:ext cx="77328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8" name="" descr=""/>
            <p:cNvPicPr/>
            <p:nvPr/>
          </p:nvPicPr>
          <p:blipFill>
            <a:blip r:embed="rId2"/>
            <a:stretch/>
          </p:blipFill>
          <p:spPr>
            <a:xfrm>
              <a:off x="1665360" y="3111480"/>
              <a:ext cx="939600" cy="91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9" name=""/>
            <p:cNvSpPr/>
            <p:nvPr/>
          </p:nvSpPr>
          <p:spPr>
            <a:xfrm>
              <a:off x="1665360" y="3111480"/>
              <a:ext cx="933120" cy="919080"/>
            </a:xfrm>
            <a:prstGeom prst="ellipse">
              <a:avLst/>
            </a:prstGeom>
            <a:solidFill>
              <a:srgbClr val="e9d13f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761480" y="3129840"/>
              <a:ext cx="733680" cy="3178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1" name=""/>
          <p:cNvSpPr/>
          <p:nvPr/>
        </p:nvSpPr>
        <p:spPr>
          <a:xfrm rot="19693200">
            <a:off x="3565080" y="2201760"/>
            <a:ext cx="1521000" cy="1322640"/>
          </a:xfrm>
          <a:prstGeom prst="blockArc">
            <a:avLst>
              <a:gd name="adj1" fmla="val 11415256"/>
              <a:gd name="adj2" fmla="val 20984744"/>
              <a:gd name="adj3" fmla="val 4958"/>
            </a:avLst>
          </a:prstGeom>
          <a:solidFill>
            <a:srgbClr val="0000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2786040" y="2984400"/>
            <a:ext cx="1216080" cy="1285560"/>
            <a:chOff x="2786040" y="2984400"/>
            <a:chExt cx="1216080" cy="1285560"/>
          </a:xfrm>
        </p:grpSpPr>
        <p:pic>
          <p:nvPicPr>
            <p:cNvPr id="633" name="" descr=""/>
            <p:cNvPicPr/>
            <p:nvPr/>
          </p:nvPicPr>
          <p:blipFill>
            <a:blip r:embed="rId3"/>
            <a:stretch/>
          </p:blipFill>
          <p:spPr>
            <a:xfrm>
              <a:off x="2901240" y="3992400"/>
              <a:ext cx="100080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4" name="" descr=""/>
            <p:cNvPicPr/>
            <p:nvPr/>
          </p:nvPicPr>
          <p:blipFill>
            <a:blip r:embed="rId4"/>
            <a:stretch/>
          </p:blipFill>
          <p:spPr>
            <a:xfrm>
              <a:off x="2786040" y="2984400"/>
              <a:ext cx="1216080" cy="11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5" name=""/>
            <p:cNvSpPr/>
            <p:nvPr/>
          </p:nvSpPr>
          <p:spPr>
            <a:xfrm>
              <a:off x="2786040" y="2984400"/>
              <a:ext cx="1207800" cy="1189080"/>
            </a:xfrm>
            <a:prstGeom prst="ellipse">
              <a:avLst/>
            </a:prstGeom>
            <a:solidFill>
              <a:srgbClr val="c4abdf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910600" y="3008520"/>
              <a:ext cx="949680" cy="41112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7" name=""/>
          <p:cNvSpPr/>
          <p:nvPr/>
        </p:nvSpPr>
        <p:spPr>
          <a:xfrm>
            <a:off x="5257800" y="4952880"/>
            <a:ext cx="3352680" cy="1295640"/>
          </a:xfrm>
          <a:prstGeom prst="roundRect">
            <a:avLst>
              <a:gd name="adj" fmla="val 50000"/>
            </a:avLst>
          </a:prstGeom>
          <a:solidFill>
            <a:srgbClr val="3333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5487840" y="5192640"/>
            <a:ext cx="2914560" cy="835200"/>
            <a:chOff x="5487840" y="5192640"/>
            <a:chExt cx="2914560" cy="835200"/>
          </a:xfrm>
        </p:grpSpPr>
        <p:sp>
          <p:nvSpPr>
            <p:cNvPr id="639" name=""/>
            <p:cNvSpPr/>
            <p:nvPr/>
          </p:nvSpPr>
          <p:spPr>
            <a:xfrm>
              <a:off x="5487840" y="5192640"/>
              <a:ext cx="835200" cy="83520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543360" y="5192640"/>
              <a:ext cx="835200" cy="83520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567560" y="5192640"/>
              <a:ext cx="834840" cy="83520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325920" y="5618160"/>
              <a:ext cx="20484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380000" y="5618160"/>
              <a:ext cx="1810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6261480" y="4737240"/>
            <a:ext cx="1434240" cy="353520"/>
            <a:chOff x="6261480" y="4737240"/>
            <a:chExt cx="1434240" cy="353520"/>
          </a:xfrm>
        </p:grpSpPr>
        <p:sp>
          <p:nvSpPr>
            <p:cNvPr id="645" name=""/>
            <p:cNvSpPr/>
            <p:nvPr/>
          </p:nvSpPr>
          <p:spPr>
            <a:xfrm>
              <a:off x="6265800" y="4737240"/>
              <a:ext cx="1416240" cy="353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eaeaea"/>
                </a:gs>
                <a:gs pos="100000">
                  <a:srgbClr val="f9f9f9"/>
                </a:gs>
              </a:gsLst>
              <a:lin ang="5400000"/>
            </a:gra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6" name=""/>
            <p:cNvGrpSpPr/>
            <p:nvPr/>
          </p:nvGrpSpPr>
          <p:grpSpPr>
            <a:xfrm>
              <a:off x="6261480" y="4787640"/>
              <a:ext cx="78120" cy="277920"/>
              <a:chOff x="6261480" y="4787640"/>
              <a:chExt cx="78120" cy="277920"/>
            </a:xfrm>
          </p:grpSpPr>
          <p:sp>
            <p:nvSpPr>
              <p:cNvPr id="647" name=""/>
              <p:cNvSpPr/>
              <p:nvPr/>
            </p:nvSpPr>
            <p:spPr>
              <a:xfrm flipV="1" rot="21333000">
                <a:off x="6271200" y="4789080"/>
                <a:ext cx="57960" cy="274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flipV="1" rot="21333000">
                <a:off x="6273360" y="4808880"/>
                <a:ext cx="35640" cy="231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flipV="1" rot="21333000">
                <a:off x="6271920" y="4840200"/>
                <a:ext cx="23040" cy="170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0" name=""/>
            <p:cNvGrpSpPr/>
            <p:nvPr/>
          </p:nvGrpSpPr>
          <p:grpSpPr>
            <a:xfrm>
              <a:off x="7609680" y="4783680"/>
              <a:ext cx="86040" cy="293040"/>
              <a:chOff x="7609680" y="4783680"/>
              <a:chExt cx="86040" cy="293040"/>
            </a:xfrm>
          </p:grpSpPr>
          <p:sp>
            <p:nvSpPr>
              <p:cNvPr id="651" name=""/>
              <p:cNvSpPr/>
              <p:nvPr/>
            </p:nvSpPr>
            <p:spPr>
              <a:xfrm flipH="1" flipV="1" rot="267000">
                <a:off x="7620480" y="4785480"/>
                <a:ext cx="63360" cy="289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 flipH="1" flipV="1" rot="267000">
                <a:off x="7640280" y="4807440"/>
                <a:ext cx="38880" cy="244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flipH="1" flipV="1" rot="267000">
                <a:off x="7656120" y="4838760"/>
                <a:ext cx="24840" cy="180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54" name="" descr=""/>
            <p:cNvPicPr/>
            <p:nvPr/>
          </p:nvPicPr>
          <p:blipFill>
            <a:blip r:embed="rId5"/>
            <a:srcRect l="0" t="8894" r="58316" b="12321"/>
            <a:stretch/>
          </p:blipFill>
          <p:spPr>
            <a:xfrm rot="16200000">
              <a:off x="6857640" y="4205880"/>
              <a:ext cx="218880" cy="1294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5" name=""/>
          <p:cNvGrpSpPr/>
          <p:nvPr/>
        </p:nvGrpSpPr>
        <p:grpSpPr>
          <a:xfrm>
            <a:off x="3359160" y="1585800"/>
            <a:ext cx="1136520" cy="1203120"/>
            <a:chOff x="3359160" y="1585800"/>
            <a:chExt cx="1136520" cy="1203120"/>
          </a:xfrm>
        </p:grpSpPr>
        <p:pic>
          <p:nvPicPr>
            <p:cNvPr id="656" name="" descr=""/>
            <p:cNvPicPr/>
            <p:nvPr/>
          </p:nvPicPr>
          <p:blipFill>
            <a:blip r:embed="rId6"/>
            <a:stretch/>
          </p:blipFill>
          <p:spPr>
            <a:xfrm>
              <a:off x="3467160" y="2529360"/>
              <a:ext cx="935280" cy="25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" descr=""/>
            <p:cNvPicPr/>
            <p:nvPr/>
          </p:nvPicPr>
          <p:blipFill>
            <a:blip r:embed="rId7"/>
            <a:stretch/>
          </p:blipFill>
          <p:spPr>
            <a:xfrm>
              <a:off x="3359160" y="1585800"/>
              <a:ext cx="1136520" cy="110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"/>
            <p:cNvSpPr/>
            <p:nvPr/>
          </p:nvSpPr>
          <p:spPr>
            <a:xfrm>
              <a:off x="3359160" y="1585800"/>
              <a:ext cx="1128960" cy="1112760"/>
            </a:xfrm>
            <a:prstGeom prst="ellipse">
              <a:avLst/>
            </a:prstGeom>
            <a:solidFill>
              <a:srgbClr val="79b4d1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475440" y="1608120"/>
              <a:ext cx="887400" cy="38484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4749840" y="1981080"/>
            <a:ext cx="1216080" cy="1285560"/>
            <a:chOff x="4749840" y="1981080"/>
            <a:chExt cx="1216080" cy="1285560"/>
          </a:xfrm>
        </p:grpSpPr>
        <p:pic>
          <p:nvPicPr>
            <p:cNvPr id="661" name="" descr=""/>
            <p:cNvPicPr/>
            <p:nvPr/>
          </p:nvPicPr>
          <p:blipFill>
            <a:blip r:embed="rId8"/>
            <a:stretch/>
          </p:blipFill>
          <p:spPr>
            <a:xfrm>
              <a:off x="4865040" y="2989080"/>
              <a:ext cx="100080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" descr=""/>
            <p:cNvPicPr/>
            <p:nvPr/>
          </p:nvPicPr>
          <p:blipFill>
            <a:blip r:embed="rId9"/>
            <a:stretch/>
          </p:blipFill>
          <p:spPr>
            <a:xfrm>
              <a:off x="4749840" y="1981080"/>
              <a:ext cx="1216080" cy="11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3" name=""/>
            <p:cNvSpPr/>
            <p:nvPr/>
          </p:nvSpPr>
          <p:spPr>
            <a:xfrm>
              <a:off x="4749840" y="1981080"/>
              <a:ext cx="1207800" cy="1189080"/>
            </a:xfrm>
            <a:prstGeom prst="ellipse">
              <a:avLst/>
            </a:prstGeom>
            <a:solidFill>
              <a:srgbClr val="8d8dc1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874400" y="2005200"/>
              <a:ext cx="949680" cy="41112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2317680" y="4138560"/>
            <a:ext cx="939960" cy="993960"/>
            <a:chOff x="2317680" y="4138560"/>
            <a:chExt cx="939960" cy="993960"/>
          </a:xfrm>
        </p:grpSpPr>
        <p:pic>
          <p:nvPicPr>
            <p:cNvPr id="666" name="" descr=""/>
            <p:cNvPicPr/>
            <p:nvPr/>
          </p:nvPicPr>
          <p:blipFill>
            <a:blip r:embed="rId10"/>
            <a:stretch/>
          </p:blipFill>
          <p:spPr>
            <a:xfrm>
              <a:off x="2406960" y="4917960"/>
              <a:ext cx="77364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7" name="" descr=""/>
            <p:cNvPicPr/>
            <p:nvPr/>
          </p:nvPicPr>
          <p:blipFill>
            <a:blip r:embed="rId11"/>
            <a:stretch/>
          </p:blipFill>
          <p:spPr>
            <a:xfrm>
              <a:off x="2317680" y="4138560"/>
              <a:ext cx="939960" cy="91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8" name=""/>
            <p:cNvSpPr/>
            <p:nvPr/>
          </p:nvSpPr>
          <p:spPr>
            <a:xfrm>
              <a:off x="2317680" y="4138560"/>
              <a:ext cx="933480" cy="919080"/>
            </a:xfrm>
            <a:prstGeom prst="ellipse">
              <a:avLst/>
            </a:prstGeom>
            <a:solidFill>
              <a:srgbClr val="e9d13f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413800" y="4156920"/>
              <a:ext cx="734040" cy="3178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0" name=""/>
          <p:cNvGrpSpPr/>
          <p:nvPr/>
        </p:nvGrpSpPr>
        <p:grpSpPr>
          <a:xfrm>
            <a:off x="3627360" y="4118040"/>
            <a:ext cx="939960" cy="993600"/>
            <a:chOff x="3627360" y="4118040"/>
            <a:chExt cx="939960" cy="993600"/>
          </a:xfrm>
        </p:grpSpPr>
        <p:pic>
          <p:nvPicPr>
            <p:cNvPr id="671" name="" descr=""/>
            <p:cNvPicPr/>
            <p:nvPr/>
          </p:nvPicPr>
          <p:blipFill>
            <a:blip r:embed="rId12"/>
            <a:stretch/>
          </p:blipFill>
          <p:spPr>
            <a:xfrm>
              <a:off x="3716640" y="4897080"/>
              <a:ext cx="77364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2" name="" descr=""/>
            <p:cNvPicPr/>
            <p:nvPr/>
          </p:nvPicPr>
          <p:blipFill>
            <a:blip r:embed="rId13"/>
            <a:stretch/>
          </p:blipFill>
          <p:spPr>
            <a:xfrm>
              <a:off x="3627360" y="4118040"/>
              <a:ext cx="939960" cy="9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"/>
            <p:cNvSpPr/>
            <p:nvPr/>
          </p:nvSpPr>
          <p:spPr>
            <a:xfrm>
              <a:off x="3627360" y="4118040"/>
              <a:ext cx="933480" cy="918720"/>
            </a:xfrm>
            <a:prstGeom prst="ellipse">
              <a:avLst/>
            </a:prstGeom>
            <a:solidFill>
              <a:srgbClr val="e9d13f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723480" y="4136400"/>
              <a:ext cx="734040" cy="3178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5" name=""/>
          <p:cNvGrpSpPr/>
          <p:nvPr/>
        </p:nvGrpSpPr>
        <p:grpSpPr>
          <a:xfrm>
            <a:off x="5297400" y="3295800"/>
            <a:ext cx="939960" cy="993600"/>
            <a:chOff x="5297400" y="3295800"/>
            <a:chExt cx="939960" cy="993600"/>
          </a:xfrm>
        </p:grpSpPr>
        <p:pic>
          <p:nvPicPr>
            <p:cNvPr id="676" name="" descr=""/>
            <p:cNvPicPr/>
            <p:nvPr/>
          </p:nvPicPr>
          <p:blipFill>
            <a:blip r:embed="rId14"/>
            <a:stretch/>
          </p:blipFill>
          <p:spPr>
            <a:xfrm>
              <a:off x="5386680" y="4074840"/>
              <a:ext cx="77364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7" name="" descr=""/>
            <p:cNvPicPr/>
            <p:nvPr/>
          </p:nvPicPr>
          <p:blipFill>
            <a:blip r:embed="rId15"/>
            <a:stretch/>
          </p:blipFill>
          <p:spPr>
            <a:xfrm>
              <a:off x="5297400" y="3295800"/>
              <a:ext cx="939960" cy="9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8" name=""/>
            <p:cNvSpPr/>
            <p:nvPr/>
          </p:nvSpPr>
          <p:spPr>
            <a:xfrm>
              <a:off x="5297400" y="3295800"/>
              <a:ext cx="933480" cy="918720"/>
            </a:xfrm>
            <a:prstGeom prst="ellipse">
              <a:avLst/>
            </a:prstGeom>
            <a:solidFill>
              <a:srgbClr val="e9d13f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393520" y="3314160"/>
              <a:ext cx="734040" cy="3178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0" name=""/>
          <p:cNvGrpSpPr/>
          <p:nvPr/>
        </p:nvGrpSpPr>
        <p:grpSpPr>
          <a:xfrm>
            <a:off x="6108840" y="2023920"/>
            <a:ext cx="939600" cy="993960"/>
            <a:chOff x="6108840" y="2023920"/>
            <a:chExt cx="939600" cy="993960"/>
          </a:xfrm>
        </p:grpSpPr>
        <p:pic>
          <p:nvPicPr>
            <p:cNvPr id="681" name="" descr=""/>
            <p:cNvPicPr/>
            <p:nvPr/>
          </p:nvPicPr>
          <p:blipFill>
            <a:blip r:embed="rId16"/>
            <a:stretch/>
          </p:blipFill>
          <p:spPr>
            <a:xfrm>
              <a:off x="6198120" y="2803320"/>
              <a:ext cx="77328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2" name="" descr=""/>
            <p:cNvPicPr/>
            <p:nvPr/>
          </p:nvPicPr>
          <p:blipFill>
            <a:blip r:embed="rId17"/>
            <a:stretch/>
          </p:blipFill>
          <p:spPr>
            <a:xfrm>
              <a:off x="6108840" y="2023920"/>
              <a:ext cx="939600" cy="91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3" name=""/>
            <p:cNvSpPr/>
            <p:nvPr/>
          </p:nvSpPr>
          <p:spPr>
            <a:xfrm>
              <a:off x="6108840" y="2023920"/>
              <a:ext cx="933120" cy="919080"/>
            </a:xfrm>
            <a:prstGeom prst="ellipse">
              <a:avLst/>
            </a:prstGeom>
            <a:solidFill>
              <a:srgbClr val="e9d13f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204960" y="2042280"/>
              <a:ext cx="733680" cy="3178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2892600" y="327672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Text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4870440" y="228744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Text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6087960" y="223344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Text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5278320" y="348948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Text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1662120" y="333072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Text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2313000" y="437040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Text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627360" y="434340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Text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5492880" y="5378400"/>
            <a:ext cx="82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ext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6581880" y="5378400"/>
            <a:ext cx="82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ext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7591320" y="5388120"/>
            <a:ext cx="822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ext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329520" y="4781520"/>
            <a:ext cx="130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582720" y="196704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152280" y="3719520"/>
            <a:ext cx="182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1143000" y="5167440"/>
            <a:ext cx="182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3352680" y="5167440"/>
            <a:ext cx="182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226200" y="3951360"/>
            <a:ext cx="182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7010280" y="2652840"/>
            <a:ext cx="182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00000" y="285480"/>
            <a:ext cx="73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70d0d"/>
                </a:solidFill>
                <a:latin typeface="Verdana"/>
              </a:rPr>
              <a:t>Contents</a:t>
            </a:r>
            <a:endParaRPr b="1" lang="en-US" sz="3000" spc="-1" strike="noStrike">
              <a:solidFill>
                <a:srgbClr val="670d0d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1720800"/>
            <a:ext cx="4070160" cy="4070520"/>
          </a:xfrm>
          <a:prstGeom prst="donut">
            <a:avLst>
              <a:gd name="adj" fmla="val 9027"/>
            </a:avLst>
          </a:prstGeom>
          <a:gradFill rotWithShape="0">
            <a:gsLst>
              <a:gs pos="0">
                <a:srgbClr val="79b4d1">
                  <a:alpha val="60000"/>
                </a:srgbClr>
              </a:gs>
              <a:gs pos="50000">
                <a:srgbClr val="d3e6ef">
                  <a:alpha val="60000"/>
                </a:srgbClr>
              </a:gs>
              <a:gs pos="100000">
                <a:srgbClr val="79b4d1">
                  <a:alpha val="60000"/>
                </a:srgbClr>
              </a:gs>
            </a:gsLst>
            <a:lin ang="8100000"/>
          </a:gradFill>
          <a:ln w="76320">
            <a:solidFill>
              <a:srgbClr val="5f5f5f">
                <a:alpha val="1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1317600" y="3000240"/>
            <a:ext cx="2895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495680" y="1982880"/>
            <a:ext cx="32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21320" y="4890960"/>
            <a:ext cx="32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78520" y="4235400"/>
            <a:ext cx="32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925880" y="2711520"/>
            <a:ext cx="32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230800" y="3463920"/>
            <a:ext cx="32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979800" y="1986120"/>
            <a:ext cx="482760" cy="473040"/>
            <a:chOff x="3979800" y="1986120"/>
            <a:chExt cx="482760" cy="473040"/>
          </a:xfrm>
        </p:grpSpPr>
        <p:grpSp>
          <p:nvGrpSpPr>
            <p:cNvPr id="125" name=""/>
            <p:cNvGrpSpPr/>
            <p:nvPr/>
          </p:nvGrpSpPr>
          <p:grpSpPr>
            <a:xfrm>
              <a:off x="3979800" y="1986120"/>
              <a:ext cx="482760" cy="473040"/>
              <a:chOff x="3979800" y="1986120"/>
              <a:chExt cx="482760" cy="473040"/>
            </a:xfrm>
          </p:grpSpPr>
          <p:pic>
            <p:nvPicPr>
              <p:cNvPr id="12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979800" y="1986120"/>
                <a:ext cx="482760" cy="47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" name=""/>
              <p:cNvSpPr/>
              <p:nvPr/>
            </p:nvSpPr>
            <p:spPr>
              <a:xfrm>
                <a:off x="3979800" y="1986120"/>
                <a:ext cx="479520" cy="473040"/>
              </a:xfrm>
              <a:prstGeom prst="ellipse">
                <a:avLst/>
              </a:prstGeom>
              <a:gradFill rotWithShape="0">
                <a:gsLst>
                  <a:gs pos="0">
                    <a:srgbClr val="c4abdf">
                      <a:alpha val="55294"/>
                    </a:srgbClr>
                  </a:gs>
                  <a:gs pos="50000">
                    <a:srgbClr val="5a4e66">
                      <a:alpha val="90196"/>
                    </a:srgbClr>
                  </a:gs>
                  <a:gs pos="100000">
                    <a:srgbClr val="c4abdf">
                      <a:alpha val="55294"/>
                    </a:srgbClr>
                  </a:gs>
                </a:gsLst>
                <a:lin ang="5400000"/>
              </a:gradFill>
              <a:ln w="50760">
                <a:solidFill>
                  <a:srgbClr val="5f5f5f">
                    <a:alpha val="17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8" name="" descr=""/>
            <p:cNvPicPr/>
            <p:nvPr/>
          </p:nvPicPr>
          <p:blipFill>
            <a:blip r:embed="rId2"/>
            <a:stretch/>
          </p:blipFill>
          <p:spPr>
            <a:xfrm>
              <a:off x="4028040" y="1990440"/>
              <a:ext cx="381240" cy="167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9" name=""/>
          <p:cNvGrpSpPr/>
          <p:nvPr/>
        </p:nvGrpSpPr>
        <p:grpSpPr>
          <a:xfrm>
            <a:off x="4433760" y="2649600"/>
            <a:ext cx="482760" cy="473040"/>
            <a:chOff x="4433760" y="2649600"/>
            <a:chExt cx="482760" cy="473040"/>
          </a:xfrm>
        </p:grpSpPr>
        <p:grpSp>
          <p:nvGrpSpPr>
            <p:cNvPr id="130" name=""/>
            <p:cNvGrpSpPr/>
            <p:nvPr/>
          </p:nvGrpSpPr>
          <p:grpSpPr>
            <a:xfrm>
              <a:off x="4433760" y="2649600"/>
              <a:ext cx="482760" cy="473040"/>
              <a:chOff x="4433760" y="2649600"/>
              <a:chExt cx="482760" cy="473040"/>
            </a:xfrm>
          </p:grpSpPr>
          <p:pic>
            <p:nvPicPr>
              <p:cNvPr id="13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433760" y="2649600"/>
                <a:ext cx="482760" cy="47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" name=""/>
              <p:cNvSpPr/>
              <p:nvPr/>
            </p:nvSpPr>
            <p:spPr>
              <a:xfrm>
                <a:off x="4433760" y="2649600"/>
                <a:ext cx="479520" cy="473040"/>
              </a:xfrm>
              <a:prstGeom prst="ellipse">
                <a:avLst/>
              </a:prstGeom>
              <a:gradFill rotWithShape="0">
                <a:gsLst>
                  <a:gs pos="0">
                    <a:srgbClr val="84cab8">
                      <a:alpha val="55294"/>
                    </a:srgbClr>
                  </a:gs>
                  <a:gs pos="50000">
                    <a:srgbClr val="3c5d54">
                      <a:alpha val="90196"/>
                    </a:srgbClr>
                  </a:gs>
                  <a:gs pos="100000">
                    <a:srgbClr val="84cab8">
                      <a:alpha val="55294"/>
                    </a:srgbClr>
                  </a:gs>
                </a:gsLst>
                <a:lin ang="5400000"/>
              </a:gradFill>
              <a:ln w="50760">
                <a:solidFill>
                  <a:srgbClr val="5f5f5f">
                    <a:alpha val="17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3" name="" descr=""/>
            <p:cNvPicPr/>
            <p:nvPr/>
          </p:nvPicPr>
          <p:blipFill>
            <a:blip r:embed="rId4"/>
            <a:stretch/>
          </p:blipFill>
          <p:spPr>
            <a:xfrm>
              <a:off x="4482000" y="2653920"/>
              <a:ext cx="381240" cy="167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4" name=""/>
          <p:cNvGrpSpPr/>
          <p:nvPr/>
        </p:nvGrpSpPr>
        <p:grpSpPr>
          <a:xfrm>
            <a:off x="4586400" y="3395520"/>
            <a:ext cx="482400" cy="473040"/>
            <a:chOff x="4586400" y="3395520"/>
            <a:chExt cx="482400" cy="473040"/>
          </a:xfrm>
        </p:grpSpPr>
        <p:grpSp>
          <p:nvGrpSpPr>
            <p:cNvPr id="135" name=""/>
            <p:cNvGrpSpPr/>
            <p:nvPr/>
          </p:nvGrpSpPr>
          <p:grpSpPr>
            <a:xfrm>
              <a:off x="4586400" y="3395520"/>
              <a:ext cx="482400" cy="473040"/>
              <a:chOff x="4586400" y="3395520"/>
              <a:chExt cx="482400" cy="473040"/>
            </a:xfrm>
          </p:grpSpPr>
          <p:pic>
            <p:nvPicPr>
              <p:cNvPr id="13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586400" y="3395520"/>
                <a:ext cx="482400" cy="47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" name=""/>
              <p:cNvSpPr/>
              <p:nvPr/>
            </p:nvSpPr>
            <p:spPr>
              <a:xfrm>
                <a:off x="4586400" y="3395520"/>
                <a:ext cx="479160" cy="473040"/>
              </a:xfrm>
              <a:prstGeom prst="ellipse">
                <a:avLst/>
              </a:prstGeom>
              <a:gradFill rotWithShape="0">
                <a:gsLst>
                  <a:gs pos="0">
                    <a:srgbClr val="8d8dc1">
                      <a:alpha val="55294"/>
                    </a:srgbClr>
                  </a:gs>
                  <a:gs pos="50000">
                    <a:srgbClr val="404058">
                      <a:alpha val="90196"/>
                    </a:srgbClr>
                  </a:gs>
                  <a:gs pos="100000">
                    <a:srgbClr val="8d8dc1">
                      <a:alpha val="55294"/>
                    </a:srgbClr>
                  </a:gs>
                </a:gsLst>
                <a:lin ang="5400000"/>
              </a:gradFill>
              <a:ln w="50760">
                <a:solidFill>
                  <a:srgbClr val="5f5f5f">
                    <a:alpha val="17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8" name="" descr=""/>
            <p:cNvPicPr/>
            <p:nvPr/>
          </p:nvPicPr>
          <p:blipFill>
            <a:blip r:embed="rId6"/>
            <a:stretch/>
          </p:blipFill>
          <p:spPr>
            <a:xfrm>
              <a:off x="4634280" y="3399840"/>
              <a:ext cx="380880" cy="167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9" name=""/>
          <p:cNvGrpSpPr/>
          <p:nvPr/>
        </p:nvGrpSpPr>
        <p:grpSpPr>
          <a:xfrm>
            <a:off x="4467240" y="4154400"/>
            <a:ext cx="482760" cy="473040"/>
            <a:chOff x="4467240" y="4154400"/>
            <a:chExt cx="482760" cy="473040"/>
          </a:xfrm>
        </p:grpSpPr>
        <p:grpSp>
          <p:nvGrpSpPr>
            <p:cNvPr id="140" name=""/>
            <p:cNvGrpSpPr/>
            <p:nvPr/>
          </p:nvGrpSpPr>
          <p:grpSpPr>
            <a:xfrm>
              <a:off x="4467240" y="4154400"/>
              <a:ext cx="482760" cy="473040"/>
              <a:chOff x="4467240" y="4154400"/>
              <a:chExt cx="482760" cy="473040"/>
            </a:xfrm>
          </p:grpSpPr>
          <p:pic>
            <p:nvPicPr>
              <p:cNvPr id="141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467240" y="4154400"/>
                <a:ext cx="482760" cy="47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" name=""/>
              <p:cNvSpPr/>
              <p:nvPr/>
            </p:nvSpPr>
            <p:spPr>
              <a:xfrm>
                <a:off x="4467240" y="4154400"/>
                <a:ext cx="479520" cy="473040"/>
              </a:xfrm>
              <a:prstGeom prst="ellipse">
                <a:avLst/>
              </a:prstGeom>
              <a:gradFill rotWithShape="0">
                <a:gsLst>
                  <a:gs pos="0">
                    <a:srgbClr val="79b4d1">
                      <a:alpha val="55294"/>
                    </a:srgbClr>
                  </a:gs>
                  <a:gs pos="50000">
                    <a:srgbClr val="375260">
                      <a:alpha val="90196"/>
                    </a:srgbClr>
                  </a:gs>
                  <a:gs pos="100000">
                    <a:srgbClr val="79b4d1">
                      <a:alpha val="55294"/>
                    </a:srgbClr>
                  </a:gs>
                </a:gsLst>
                <a:lin ang="5400000"/>
              </a:gradFill>
              <a:ln w="57240">
                <a:solidFill>
                  <a:srgbClr val="5f5f5f">
                    <a:alpha val="17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3" name="" descr=""/>
            <p:cNvPicPr/>
            <p:nvPr/>
          </p:nvPicPr>
          <p:blipFill>
            <a:blip r:embed="rId8"/>
            <a:stretch/>
          </p:blipFill>
          <p:spPr>
            <a:xfrm>
              <a:off x="4515480" y="4158720"/>
              <a:ext cx="381240" cy="167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4" name=""/>
          <p:cNvGrpSpPr/>
          <p:nvPr/>
        </p:nvGrpSpPr>
        <p:grpSpPr>
          <a:xfrm>
            <a:off x="4151160" y="4824360"/>
            <a:ext cx="482760" cy="473040"/>
            <a:chOff x="4151160" y="4824360"/>
            <a:chExt cx="482760" cy="473040"/>
          </a:xfrm>
        </p:grpSpPr>
        <p:grpSp>
          <p:nvGrpSpPr>
            <p:cNvPr id="145" name=""/>
            <p:cNvGrpSpPr/>
            <p:nvPr/>
          </p:nvGrpSpPr>
          <p:grpSpPr>
            <a:xfrm>
              <a:off x="4151160" y="4824360"/>
              <a:ext cx="482760" cy="473040"/>
              <a:chOff x="4151160" y="4824360"/>
              <a:chExt cx="482760" cy="473040"/>
            </a:xfrm>
          </p:grpSpPr>
          <p:pic>
            <p:nvPicPr>
              <p:cNvPr id="146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151160" y="4824360"/>
                <a:ext cx="482760" cy="47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" name=""/>
              <p:cNvSpPr/>
              <p:nvPr/>
            </p:nvSpPr>
            <p:spPr>
              <a:xfrm>
                <a:off x="4151160" y="4824360"/>
                <a:ext cx="479520" cy="473040"/>
              </a:xfrm>
              <a:prstGeom prst="ellipse">
                <a:avLst/>
              </a:prstGeom>
              <a:gradFill rotWithShape="0">
                <a:gsLst>
                  <a:gs pos="0">
                    <a:srgbClr val="9966ff">
                      <a:alpha val="55294"/>
                    </a:srgbClr>
                  </a:gs>
                  <a:gs pos="50000">
                    <a:srgbClr val="462f75">
                      <a:alpha val="90196"/>
                    </a:srgbClr>
                  </a:gs>
                  <a:gs pos="100000">
                    <a:srgbClr val="9966ff">
                      <a:alpha val="55294"/>
                    </a:srgbClr>
                  </a:gs>
                </a:gsLst>
                <a:lin ang="5400000"/>
              </a:gradFill>
              <a:ln w="57240">
                <a:solidFill>
                  <a:srgbClr val="5f5f5f">
                    <a:alpha val="17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8" name="" descr=""/>
            <p:cNvPicPr/>
            <p:nvPr/>
          </p:nvPicPr>
          <p:blipFill>
            <a:blip r:embed="rId10"/>
            <a:stretch/>
          </p:blipFill>
          <p:spPr>
            <a:xfrm>
              <a:off x="4199400" y="4828680"/>
              <a:ext cx="381240" cy="1670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670d0d"/>
                </a:solidFill>
                <a:latin typeface="Verdana"/>
              </a:rPr>
              <a:t>使用规范说明</a:t>
            </a:r>
            <a:endParaRPr b="1" lang="en-US" sz="3000" spc="-1" strike="noStrike">
              <a:solidFill>
                <a:srgbClr val="670d0d"/>
              </a:solidFill>
              <a:latin typeface="Verdan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84cab8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84cab8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84cab8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84cab8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84cab8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84cab8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84cab8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84cab8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84cab8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84cab8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84cab8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84cab8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84cab8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84cab8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84cab8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84cab8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84cab8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84cab8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84cab8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84cab8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84cab8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84cab8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84cab8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84cab8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84cab8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91FF-14BA-4E85-89B8-04BF52F8CC60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114440" y="411444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1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4114440" y="5334120"/>
            <a:ext cx="48769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18640" y="285480"/>
            <a:ext cx="7410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70d0d"/>
                </a:solidFill>
                <a:latin typeface="Verdana"/>
              </a:rPr>
              <a:t>Hot Tip</a:t>
            </a:r>
            <a:endParaRPr b="1" lang="en-US" sz="3000" spc="-1" strike="noStrike">
              <a:solidFill>
                <a:srgbClr val="670d0d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162560" cy="27338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How do I incorporate my logo to a slide that will apply to all the other slides?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70d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0" lang="en-US" sz="2000" spc="-1" strike="noStrike">
                <a:solidFill>
                  <a:srgbClr val="670d0d"/>
                </a:solidFill>
                <a:latin typeface="Arial"/>
              </a:rPr>
              <a:t>[View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nu, point to </a:t>
            </a:r>
            <a:r>
              <a:rPr b="0" lang="en-US" sz="2000" spc="-1" strike="noStrike">
                <a:solidFill>
                  <a:srgbClr val="670d0d"/>
                </a:solidFill>
                <a:latin typeface="Arial"/>
              </a:rPr>
              <a:t>[Master]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then click </a:t>
            </a:r>
            <a:r>
              <a:rPr b="0" lang="en-US" sz="2000" spc="-1" strike="noStrike">
                <a:solidFill>
                  <a:srgbClr val="670d0d"/>
                </a:solidFill>
                <a:latin typeface="Arial"/>
              </a:rPr>
              <a:t>[Slide Master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000" spc="-1" strike="noStrike">
                <a:solidFill>
                  <a:srgbClr val="670d0d"/>
                </a:solidFill>
                <a:latin typeface="Arial"/>
              </a:rPr>
              <a:t>[Notes Master]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hange images to the one you like, then it will apply to all the other sli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987640" y="112392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84cab8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18640" y="285480"/>
            <a:ext cx="7410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70d0d"/>
                </a:solidFill>
                <a:latin typeface="Verdana"/>
              </a:rPr>
              <a:t>Click to edit title style</a:t>
            </a:r>
            <a:endParaRPr b="1" lang="en-US" sz="3000" spc="-1" strike="noStrike">
              <a:solidFill>
                <a:srgbClr val="670d0d"/>
              </a:solidFill>
              <a:latin typeface="Verdana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380880" y="4267080"/>
            <a:ext cx="3124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3780000"/>
            <a:ext cx="2928960" cy="4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cc3300"/>
                </a:solidFill>
                <a:latin typeface="Arial"/>
              </a:rPr>
              <a:t>Title in here</a:t>
            </a:r>
            <a:endParaRPr b="1" lang="en-US" sz="1800" spc="-1" strike="noStrike">
              <a:ln w="0">
                <a:noFill/>
              </a:ln>
              <a:solidFill>
                <a:srgbClr val="cc3300"/>
              </a:solidFill>
              <a:latin typeface="Arial"/>
              <a:ea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199120" y="2878200"/>
            <a:ext cx="938160" cy="2297160"/>
            <a:chOff x="5199120" y="2878200"/>
            <a:chExt cx="938160" cy="2297160"/>
          </a:xfrm>
        </p:grpSpPr>
        <p:sp>
          <p:nvSpPr>
            <p:cNvPr id="156" name=""/>
            <p:cNvSpPr/>
            <p:nvPr/>
          </p:nvSpPr>
          <p:spPr>
            <a:xfrm>
              <a:off x="5199120" y="2878200"/>
              <a:ext cx="938160" cy="2297160"/>
            </a:xfrm>
            <a:custGeom>
              <a:avLst/>
              <a:gdLst/>
              <a:ahLst/>
              <a:rect l="l" t="t" r="r" b="b"/>
              <a:pathLst>
                <a:path w="919" h="1497">
                  <a:moveTo>
                    <a:pt x="7" y="76"/>
                  </a:moveTo>
                  <a:cubicBezTo>
                    <a:pt x="7" y="76"/>
                    <a:pt x="7" y="752"/>
                    <a:pt x="7" y="1429"/>
                  </a:cubicBezTo>
                  <a:cubicBezTo>
                    <a:pt x="33" y="1477"/>
                    <a:pt x="289" y="1495"/>
                    <a:pt x="441" y="1497"/>
                  </a:cubicBezTo>
                  <a:cubicBezTo>
                    <a:pt x="593" y="1497"/>
                    <a:pt x="898" y="1486"/>
                    <a:pt x="919" y="1425"/>
                  </a:cubicBezTo>
                  <a:cubicBezTo>
                    <a:pt x="918" y="749"/>
                    <a:pt x="918" y="73"/>
                    <a:pt x="918" y="73"/>
                  </a:cubicBezTo>
                  <a:cubicBezTo>
                    <a:pt x="904" y="12"/>
                    <a:pt x="566" y="0"/>
                    <a:pt x="414" y="0"/>
                  </a:cubicBezTo>
                  <a:cubicBezTo>
                    <a:pt x="262" y="0"/>
                    <a:pt x="0" y="28"/>
                    <a:pt x="7" y="76"/>
                  </a:cubicBezTo>
                  <a:close/>
                </a:path>
              </a:pathLst>
            </a:custGeom>
            <a:gradFill rotWithShape="0">
              <a:gsLst>
                <a:gs pos="0">
                  <a:srgbClr val="b9b9b9">
                    <a:alpha val="50196"/>
                  </a:srgbClr>
                </a:gs>
                <a:gs pos="50000">
                  <a:srgbClr val="ffffff">
                    <a:alpha val="50196"/>
                  </a:srgbClr>
                </a:gs>
                <a:gs pos="100000">
                  <a:srgbClr val="b9b9b9">
                    <a:alpha val="5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205960" y="2879280"/>
              <a:ext cx="930960" cy="22068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205960" y="4954320"/>
              <a:ext cx="930960" cy="220680"/>
            </a:xfrm>
            <a:prstGeom prst="ellipse">
              <a:avLst/>
            </a:prstGeom>
            <a:solidFill>
              <a:srgbClr val="fffff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6394320" y="2701800"/>
            <a:ext cx="936720" cy="2670480"/>
          </a:xfrm>
          <a:custGeom>
            <a:avLst/>
            <a:gdLst/>
            <a:ahLst/>
            <a:rect l="l" t="t" r="r" b="b"/>
            <a:pathLst>
              <a:path w="919" h="1497">
                <a:moveTo>
                  <a:pt x="7" y="76"/>
                </a:moveTo>
                <a:cubicBezTo>
                  <a:pt x="7" y="76"/>
                  <a:pt x="7" y="752"/>
                  <a:pt x="7" y="1429"/>
                </a:cubicBezTo>
                <a:cubicBezTo>
                  <a:pt x="33" y="1477"/>
                  <a:pt x="289" y="1495"/>
                  <a:pt x="441" y="1497"/>
                </a:cubicBezTo>
                <a:cubicBezTo>
                  <a:pt x="593" y="1497"/>
                  <a:pt x="898" y="1486"/>
                  <a:pt x="919" y="1425"/>
                </a:cubicBezTo>
                <a:cubicBezTo>
                  <a:pt x="918" y="749"/>
                  <a:pt x="918" y="73"/>
                  <a:pt x="918" y="73"/>
                </a:cubicBezTo>
                <a:cubicBezTo>
                  <a:pt x="904" y="12"/>
                  <a:pt x="566" y="0"/>
                  <a:pt x="414" y="0"/>
                </a:cubicBezTo>
                <a:cubicBezTo>
                  <a:pt x="262" y="0"/>
                  <a:pt x="0" y="28"/>
                  <a:pt x="7" y="76"/>
                </a:cubicBezTo>
                <a:close/>
              </a:path>
            </a:pathLst>
          </a:custGeom>
          <a:gradFill rotWithShape="0">
            <a:gsLst>
              <a:gs pos="0">
                <a:srgbClr val="b9b9b9">
                  <a:alpha val="50196"/>
                </a:srgbClr>
              </a:gs>
              <a:gs pos="50000">
                <a:srgbClr val="ffffff">
                  <a:alpha val="50196"/>
                </a:srgbClr>
              </a:gs>
              <a:gs pos="100000">
                <a:srgbClr val="b9b9b9">
                  <a:alpha val="5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400800" y="2703600"/>
            <a:ext cx="930240" cy="2570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400800" y="5114880"/>
            <a:ext cx="930240" cy="257400"/>
          </a:xfrm>
          <a:prstGeom prst="ellipse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038480" y="3003480"/>
            <a:ext cx="938160" cy="1944720"/>
            <a:chOff x="4038480" y="3003480"/>
            <a:chExt cx="938160" cy="1944720"/>
          </a:xfrm>
        </p:grpSpPr>
        <p:sp>
          <p:nvSpPr>
            <p:cNvPr id="163" name=""/>
            <p:cNvSpPr/>
            <p:nvPr/>
          </p:nvSpPr>
          <p:spPr>
            <a:xfrm>
              <a:off x="4038480" y="3003480"/>
              <a:ext cx="938160" cy="1944720"/>
            </a:xfrm>
            <a:custGeom>
              <a:avLst/>
              <a:gdLst/>
              <a:ahLst/>
              <a:rect l="l" t="t" r="r" b="b"/>
              <a:pathLst>
                <a:path w="919" h="1497">
                  <a:moveTo>
                    <a:pt x="7" y="76"/>
                  </a:moveTo>
                  <a:cubicBezTo>
                    <a:pt x="7" y="76"/>
                    <a:pt x="7" y="752"/>
                    <a:pt x="7" y="1429"/>
                  </a:cubicBezTo>
                  <a:cubicBezTo>
                    <a:pt x="33" y="1477"/>
                    <a:pt x="289" y="1495"/>
                    <a:pt x="441" y="1497"/>
                  </a:cubicBezTo>
                  <a:cubicBezTo>
                    <a:pt x="593" y="1497"/>
                    <a:pt x="898" y="1486"/>
                    <a:pt x="919" y="1425"/>
                  </a:cubicBezTo>
                  <a:cubicBezTo>
                    <a:pt x="918" y="749"/>
                    <a:pt x="918" y="73"/>
                    <a:pt x="918" y="73"/>
                  </a:cubicBezTo>
                  <a:cubicBezTo>
                    <a:pt x="904" y="12"/>
                    <a:pt x="566" y="0"/>
                    <a:pt x="414" y="0"/>
                  </a:cubicBezTo>
                  <a:cubicBezTo>
                    <a:pt x="262" y="0"/>
                    <a:pt x="0" y="28"/>
                    <a:pt x="7" y="76"/>
                  </a:cubicBezTo>
                  <a:close/>
                </a:path>
              </a:pathLst>
            </a:custGeom>
            <a:gradFill rotWithShape="0">
              <a:gsLst>
                <a:gs pos="0">
                  <a:srgbClr val="b9b9b9">
                    <a:alpha val="50196"/>
                  </a:srgbClr>
                </a:gs>
                <a:gs pos="50000">
                  <a:srgbClr val="ffffff">
                    <a:alpha val="50196"/>
                  </a:srgbClr>
                </a:gs>
                <a:gs pos="100000">
                  <a:srgbClr val="b9b9b9">
                    <a:alpha val="5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045320" y="3004560"/>
              <a:ext cx="930960" cy="1868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045320" y="4761000"/>
              <a:ext cx="930960" cy="186840"/>
            </a:xfrm>
            <a:prstGeom prst="ellipse">
              <a:avLst/>
            </a:prstGeom>
            <a:solidFill>
              <a:srgbClr val="fffff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7593120" y="2516040"/>
            <a:ext cx="936360" cy="3044880"/>
          </a:xfrm>
          <a:custGeom>
            <a:avLst/>
            <a:gdLst/>
            <a:ahLst/>
            <a:rect l="l" t="t" r="r" b="b"/>
            <a:pathLst>
              <a:path w="919" h="1497">
                <a:moveTo>
                  <a:pt x="7" y="76"/>
                </a:moveTo>
                <a:cubicBezTo>
                  <a:pt x="7" y="76"/>
                  <a:pt x="7" y="752"/>
                  <a:pt x="7" y="1429"/>
                </a:cubicBezTo>
                <a:cubicBezTo>
                  <a:pt x="33" y="1477"/>
                  <a:pt x="289" y="1495"/>
                  <a:pt x="441" y="1497"/>
                </a:cubicBezTo>
                <a:cubicBezTo>
                  <a:pt x="593" y="1497"/>
                  <a:pt x="898" y="1486"/>
                  <a:pt x="919" y="1425"/>
                </a:cubicBezTo>
                <a:cubicBezTo>
                  <a:pt x="918" y="749"/>
                  <a:pt x="918" y="73"/>
                  <a:pt x="918" y="73"/>
                </a:cubicBezTo>
                <a:cubicBezTo>
                  <a:pt x="904" y="12"/>
                  <a:pt x="566" y="0"/>
                  <a:pt x="414" y="0"/>
                </a:cubicBezTo>
                <a:cubicBezTo>
                  <a:pt x="262" y="0"/>
                  <a:pt x="0" y="28"/>
                  <a:pt x="7" y="76"/>
                </a:cubicBezTo>
                <a:close/>
              </a:path>
            </a:pathLst>
          </a:custGeom>
          <a:gradFill rotWithShape="0">
            <a:gsLst>
              <a:gs pos="0">
                <a:srgbClr val="b9b9b9">
                  <a:alpha val="50196"/>
                </a:srgbClr>
              </a:gs>
              <a:gs pos="50000">
                <a:srgbClr val="ffffff">
                  <a:alpha val="50196"/>
                </a:srgbClr>
              </a:gs>
              <a:gs pos="100000">
                <a:srgbClr val="b9b9b9">
                  <a:alpha val="5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599240" y="5268960"/>
            <a:ext cx="930240" cy="291960"/>
          </a:xfrm>
          <a:prstGeom prst="ellipse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605720" y="4262400"/>
            <a:ext cx="928800" cy="1285920"/>
          </a:xfrm>
          <a:prstGeom prst="can">
            <a:avLst>
              <a:gd name="adj" fmla="val 19495"/>
            </a:avLst>
          </a:prstGeom>
          <a:gradFill rotWithShape="0">
            <a:gsLst>
              <a:gs pos="0">
                <a:srgbClr val="84cab8"/>
              </a:gs>
              <a:gs pos="50000">
                <a:srgbClr val="bfe3d9"/>
              </a:gs>
              <a:gs pos="100000">
                <a:srgbClr val="84cab8"/>
              </a:gs>
            </a:gsLst>
            <a:lin ang="10800000"/>
          </a:gradFill>
          <a:ln w="9360">
            <a:solidFill>
              <a:srgbClr val="f8f8f8">
                <a:alpha val="1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046400" y="4322880"/>
            <a:ext cx="930240" cy="623880"/>
          </a:xfrm>
          <a:prstGeom prst="can">
            <a:avLst>
              <a:gd name="adj" fmla="val 30416"/>
            </a:avLst>
          </a:prstGeom>
          <a:gradFill rotWithShape="0">
            <a:gsLst>
              <a:gs pos="0">
                <a:srgbClr val="8d8dc1"/>
              </a:gs>
              <a:gs pos="50000">
                <a:srgbClr val="c4c4de"/>
              </a:gs>
              <a:gs pos="100000">
                <a:srgbClr val="8d8dc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10280" y="3892680"/>
            <a:ext cx="930240" cy="1285920"/>
          </a:xfrm>
          <a:prstGeom prst="can">
            <a:avLst>
              <a:gd name="adj" fmla="val 19495"/>
            </a:avLst>
          </a:prstGeom>
          <a:gradFill rotWithShape="0">
            <a:gsLst>
              <a:gs pos="0">
                <a:srgbClr val="79b4d1"/>
              </a:gs>
              <a:gs pos="50000">
                <a:srgbClr val="b9d7e6"/>
              </a:gs>
              <a:gs pos="100000">
                <a:srgbClr val="79b4d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96120" y="3449520"/>
            <a:ext cx="930240" cy="1922760"/>
          </a:xfrm>
          <a:prstGeom prst="can">
            <a:avLst>
              <a:gd name="adj" fmla="val 14527"/>
            </a:avLst>
          </a:prstGeom>
          <a:gradFill rotWithShape="0">
            <a:gsLst>
              <a:gs pos="0">
                <a:srgbClr val="c4abdf"/>
              </a:gs>
              <a:gs pos="50000">
                <a:srgbClr val="e0d3ed"/>
              </a:gs>
              <a:gs pos="100000">
                <a:srgbClr val="c4abd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114800" y="42642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294160" y="38480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477120" y="34416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696080" y="42228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95880" y="5367240"/>
            <a:ext cx="1447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294680" y="5554800"/>
            <a:ext cx="15444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371600" y="2646360"/>
            <a:ext cx="2006640" cy="311040"/>
          </a:xfr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2133720"/>
            <a:ext cx="2006640" cy="311040"/>
          </a:xfr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10080" y="1295280"/>
            <a:ext cx="2057400" cy="330480"/>
          </a:xfr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876920" y="5180040"/>
            <a:ext cx="1447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733920" y="4992840"/>
            <a:ext cx="1447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038480" y="1676520"/>
            <a:ext cx="2068560" cy="311040"/>
          </a:xfr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88080" y="2525760"/>
            <a:ext cx="930600" cy="2570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18640" y="285480"/>
            <a:ext cx="7410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70d0d"/>
                </a:solidFill>
                <a:latin typeface="Verdana"/>
              </a:rPr>
              <a:t>Click to edit title style</a:t>
            </a:r>
            <a:endParaRPr b="1" lang="en-US" sz="3000" spc="-1" strike="noStrike">
              <a:solidFill>
                <a:srgbClr val="670d0d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092560" y="1447920"/>
            <a:ext cx="2813040" cy="4413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276200" y="1447920"/>
            <a:ext cx="2911680" cy="4413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380960" y="3114720"/>
            <a:ext cx="2067120" cy="2095560"/>
          </a:xfrm>
          <a:prstGeom prst="ellipse">
            <a:avLst/>
          </a:prstGeom>
          <a:solidFill>
            <a:srgbClr val="dbdbdb"/>
          </a:solidFill>
          <a:ln w="0">
            <a:noFill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303920" y="2965320"/>
            <a:ext cx="2348640" cy="2404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292701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2927012"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17840" y="393552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73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127480" y="4519440"/>
            <a:ext cx="2805120" cy="562320"/>
          </a:xfrm>
          <a:prstGeom prst="rect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127480" y="3929040"/>
            <a:ext cx="2805120" cy="563760"/>
          </a:xfrm>
          <a:prstGeom prst="rect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127480" y="3338640"/>
            <a:ext cx="2805120" cy="563400"/>
          </a:xfrm>
          <a:prstGeom prst="rect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127480" y="2747880"/>
            <a:ext cx="2805120" cy="563760"/>
          </a:xfrm>
          <a:prstGeom prst="rect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27480" y="2157480"/>
            <a:ext cx="2805120" cy="563400"/>
          </a:xfrm>
          <a:prstGeom prst="rect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067360" y="5081760"/>
            <a:ext cx="41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019840" y="4478400"/>
            <a:ext cx="52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11560" y="3892680"/>
            <a:ext cx="52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13360" y="3308400"/>
            <a:ext cx="52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6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014800" y="2733840"/>
            <a:ext cx="52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8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006880" y="2119320"/>
            <a:ext cx="67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970600" y="3681360"/>
            <a:ext cx="233280" cy="1392120"/>
          </a:xfrm>
          <a:prstGeom prst="rect">
            <a:avLst/>
          </a:prstGeom>
          <a:gradFill rotWithShape="0">
            <a:gsLst>
              <a:gs pos="0">
                <a:srgbClr val="79b4d1"/>
              </a:gs>
              <a:gs pos="100000">
                <a:srgbClr val="3752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657840" y="2340000"/>
            <a:ext cx="233640" cy="2733480"/>
          </a:xfrm>
          <a:prstGeom prst="rect">
            <a:avLst/>
          </a:prstGeom>
          <a:gradFill rotWithShape="0">
            <a:gsLst>
              <a:gs pos="0">
                <a:srgbClr val="8d8dc1"/>
              </a:gs>
              <a:gs pos="100000">
                <a:srgbClr val="4040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358040" y="2747880"/>
            <a:ext cx="233280" cy="2325600"/>
          </a:xfrm>
          <a:prstGeom prst="rect">
            <a:avLst/>
          </a:prstGeom>
          <a:gradFill rotWithShape="0">
            <a:gsLst>
              <a:gs pos="0">
                <a:srgbClr val="79b4d1"/>
              </a:gs>
              <a:gs pos="100000">
                <a:srgbClr val="3752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832360" y="5081760"/>
            <a:ext cx="51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499080" y="5081760"/>
            <a:ext cx="51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184880" y="5081760"/>
            <a:ext cx="51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151760" y="1901880"/>
            <a:ext cx="87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(unit: $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914400" y="2176560"/>
            <a:ext cx="379080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80120" y="1533600"/>
            <a:ext cx="2504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</a:rPr>
              <a:t>Chart 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455840" y="3778200"/>
            <a:ext cx="96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24120" y="3122640"/>
            <a:ext cx="97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3165480" y="3347640"/>
            <a:ext cx="457200" cy="1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978200" y="1509840"/>
            <a:ext cx="137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8f8f8"/>
                </a:solidFill>
                <a:latin typeface="Arial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030320" y="5759280"/>
            <a:ext cx="712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developed by Guild Design Inc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18640" y="285480"/>
            <a:ext cx="7410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70d0d"/>
                </a:solidFill>
                <a:latin typeface="Verdana"/>
              </a:rPr>
              <a:t>Click to edit title style</a:t>
            </a:r>
            <a:endParaRPr b="1" lang="en-US" sz="3000" spc="-1" strike="noStrike">
              <a:solidFill>
                <a:srgbClr val="670d0d"/>
              </a:solidFill>
              <a:latin typeface="Verdana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3886200" cy="4573800"/>
          </a:xfrm>
          <a:prstGeom prst="rect">
            <a:avLst/>
          </a:prstGeom>
          <a:ln w="0">
            <a:noFill/>
          </a:ln>
        </p:spPr>
      </p:pic>
      <p:grpSp>
        <p:nvGrpSpPr>
          <p:cNvPr id="218" name=""/>
          <p:cNvGrpSpPr/>
          <p:nvPr/>
        </p:nvGrpSpPr>
        <p:grpSpPr>
          <a:xfrm>
            <a:off x="4636800" y="1774800"/>
            <a:ext cx="3981240" cy="593640"/>
            <a:chOff x="4636800" y="1774800"/>
            <a:chExt cx="3981240" cy="593640"/>
          </a:xfrm>
        </p:grpSpPr>
        <p:sp>
          <p:nvSpPr>
            <p:cNvPr id="219" name=""/>
            <p:cNvSpPr/>
            <p:nvPr/>
          </p:nvSpPr>
          <p:spPr>
            <a:xfrm flipH="1">
              <a:off x="4658040" y="1774800"/>
              <a:ext cx="3960000" cy="59364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4636440" y="1835280"/>
              <a:ext cx="3981240" cy="47304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4354560" y="1792440"/>
            <a:ext cx="530280" cy="526680"/>
            <a:chOff x="4354560" y="1792440"/>
            <a:chExt cx="530280" cy="526680"/>
          </a:xfrm>
        </p:grpSpPr>
        <p:sp>
          <p:nvSpPr>
            <p:cNvPr id="222" name=""/>
            <p:cNvSpPr/>
            <p:nvPr/>
          </p:nvSpPr>
          <p:spPr>
            <a:xfrm>
              <a:off x="4354560" y="1794960"/>
              <a:ext cx="530280" cy="524160"/>
            </a:xfrm>
            <a:prstGeom prst="ellipse">
              <a:avLst/>
            </a:prstGeom>
            <a:solidFill>
              <a:srgbClr val="79b4d1"/>
            </a:solidFill>
            <a:ln w="63360">
              <a:solidFill>
                <a:srgbClr val="f8f8f8">
                  <a:alpha val="6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3" name="" descr=""/>
            <p:cNvPicPr/>
            <p:nvPr/>
          </p:nvPicPr>
          <p:blipFill>
            <a:blip r:embed="rId2"/>
            <a:stretch/>
          </p:blipFill>
          <p:spPr>
            <a:xfrm>
              <a:off x="4398840" y="1792440"/>
              <a:ext cx="438480" cy="437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4" name=""/>
          <p:cNvSpPr txBox="1"/>
          <p:nvPr/>
        </p:nvSpPr>
        <p:spPr>
          <a:xfrm>
            <a:off x="4516560" y="1892160"/>
            <a:ext cx="212760" cy="349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efefe"/>
                </a:solidFill>
                <a:effectLst>
                  <a:outerShdw dist="12600" dir="0" blurRad="0" rotWithShape="0">
                    <a:srgbClr val="dddddd">
                      <a:alpha val="50000"/>
                    </a:srgbClr>
                  </a:outerShdw>
                </a:effectLst>
                <a:latin typeface="Arial Black"/>
              </a:rPr>
              <a:t>$</a:t>
            </a:r>
            <a:endParaRPr b="0" lang="en-US" sz="1800" spc="-1" strike="noStrike">
              <a:ln w="0">
                <a:noFill/>
              </a:ln>
              <a:solidFill>
                <a:srgbClr val="fefefe"/>
              </a:solidFill>
              <a:effectLst>
                <a:outerShdw dist="12600" dir="0" blurRad="0" rotWithShape="0">
                  <a:srgbClr val="dddddd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4636800" y="2712960"/>
            <a:ext cx="3981240" cy="593640"/>
            <a:chOff x="4636800" y="2712960"/>
            <a:chExt cx="3981240" cy="593640"/>
          </a:xfrm>
        </p:grpSpPr>
        <p:sp>
          <p:nvSpPr>
            <p:cNvPr id="226" name=""/>
            <p:cNvSpPr/>
            <p:nvPr/>
          </p:nvSpPr>
          <p:spPr>
            <a:xfrm flipH="1">
              <a:off x="4658040" y="2712960"/>
              <a:ext cx="3960000" cy="59364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4636440" y="2773440"/>
              <a:ext cx="3981240" cy="47304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4354560" y="2730600"/>
            <a:ext cx="530280" cy="526680"/>
            <a:chOff x="4354560" y="2730600"/>
            <a:chExt cx="530280" cy="526680"/>
          </a:xfrm>
        </p:grpSpPr>
        <p:sp>
          <p:nvSpPr>
            <p:cNvPr id="229" name=""/>
            <p:cNvSpPr/>
            <p:nvPr/>
          </p:nvSpPr>
          <p:spPr>
            <a:xfrm>
              <a:off x="4354560" y="2733120"/>
              <a:ext cx="530280" cy="524160"/>
            </a:xfrm>
            <a:prstGeom prst="ellipse">
              <a:avLst/>
            </a:prstGeom>
            <a:solidFill>
              <a:srgbClr val="8d8dc1"/>
            </a:solidFill>
            <a:ln w="63360">
              <a:solidFill>
                <a:srgbClr val="f8f8f8">
                  <a:alpha val="6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0" name="" descr=""/>
            <p:cNvPicPr/>
            <p:nvPr/>
          </p:nvPicPr>
          <p:blipFill>
            <a:blip r:embed="rId3"/>
            <a:stretch/>
          </p:blipFill>
          <p:spPr>
            <a:xfrm>
              <a:off x="4398840" y="2730600"/>
              <a:ext cx="438480" cy="437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1" name=""/>
          <p:cNvGrpSpPr/>
          <p:nvPr/>
        </p:nvGrpSpPr>
        <p:grpSpPr>
          <a:xfrm>
            <a:off x="4636800" y="3638520"/>
            <a:ext cx="3981240" cy="593640"/>
            <a:chOff x="4636800" y="3638520"/>
            <a:chExt cx="3981240" cy="593640"/>
          </a:xfrm>
        </p:grpSpPr>
        <p:sp>
          <p:nvSpPr>
            <p:cNvPr id="232" name=""/>
            <p:cNvSpPr/>
            <p:nvPr/>
          </p:nvSpPr>
          <p:spPr>
            <a:xfrm flipH="1">
              <a:off x="4658040" y="3638520"/>
              <a:ext cx="3960000" cy="59364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4636440" y="3699000"/>
              <a:ext cx="3981240" cy="47304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4354560" y="3656160"/>
            <a:ext cx="530280" cy="526680"/>
            <a:chOff x="4354560" y="3656160"/>
            <a:chExt cx="530280" cy="526680"/>
          </a:xfrm>
        </p:grpSpPr>
        <p:sp>
          <p:nvSpPr>
            <p:cNvPr id="235" name=""/>
            <p:cNvSpPr/>
            <p:nvPr/>
          </p:nvSpPr>
          <p:spPr>
            <a:xfrm>
              <a:off x="4354560" y="3658680"/>
              <a:ext cx="530280" cy="524160"/>
            </a:xfrm>
            <a:prstGeom prst="ellipse">
              <a:avLst/>
            </a:prstGeom>
            <a:solidFill>
              <a:srgbClr val="84cab8"/>
            </a:solidFill>
            <a:ln w="63360">
              <a:solidFill>
                <a:srgbClr val="f8f8f8">
                  <a:alpha val="6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6" name="" descr=""/>
            <p:cNvPicPr/>
            <p:nvPr/>
          </p:nvPicPr>
          <p:blipFill>
            <a:blip r:embed="rId4"/>
            <a:stretch/>
          </p:blipFill>
          <p:spPr>
            <a:xfrm>
              <a:off x="4398840" y="3656160"/>
              <a:ext cx="438480" cy="437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7" name=""/>
          <p:cNvGrpSpPr/>
          <p:nvPr/>
        </p:nvGrpSpPr>
        <p:grpSpPr>
          <a:xfrm>
            <a:off x="4636800" y="4618080"/>
            <a:ext cx="3981240" cy="593640"/>
            <a:chOff x="4636800" y="4618080"/>
            <a:chExt cx="3981240" cy="593640"/>
          </a:xfrm>
        </p:grpSpPr>
        <p:sp>
          <p:nvSpPr>
            <p:cNvPr id="238" name=""/>
            <p:cNvSpPr/>
            <p:nvPr/>
          </p:nvSpPr>
          <p:spPr>
            <a:xfrm flipH="1">
              <a:off x="4658040" y="4618080"/>
              <a:ext cx="3960000" cy="59364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4636440" y="4678560"/>
              <a:ext cx="3981240" cy="47304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354560" y="4635360"/>
            <a:ext cx="530280" cy="526680"/>
            <a:chOff x="4354560" y="4635360"/>
            <a:chExt cx="530280" cy="526680"/>
          </a:xfrm>
        </p:grpSpPr>
        <p:sp>
          <p:nvSpPr>
            <p:cNvPr id="241" name=""/>
            <p:cNvSpPr/>
            <p:nvPr/>
          </p:nvSpPr>
          <p:spPr>
            <a:xfrm>
              <a:off x="4354560" y="4637880"/>
              <a:ext cx="530280" cy="524160"/>
            </a:xfrm>
            <a:prstGeom prst="ellipse">
              <a:avLst/>
            </a:prstGeom>
            <a:solidFill>
              <a:srgbClr val="c4abdf"/>
            </a:solidFill>
            <a:ln w="63360">
              <a:solidFill>
                <a:srgbClr val="f8f8f8">
                  <a:alpha val="6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2" name="" descr=""/>
            <p:cNvPicPr/>
            <p:nvPr/>
          </p:nvPicPr>
          <p:blipFill>
            <a:blip r:embed="rId5"/>
            <a:stretch/>
          </p:blipFill>
          <p:spPr>
            <a:xfrm>
              <a:off x="4398840" y="4635360"/>
              <a:ext cx="438480" cy="437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3" name=""/>
          <p:cNvGrpSpPr/>
          <p:nvPr/>
        </p:nvGrpSpPr>
        <p:grpSpPr>
          <a:xfrm>
            <a:off x="4436640" y="2835360"/>
            <a:ext cx="368280" cy="285480"/>
            <a:chOff x="4436640" y="2835360"/>
            <a:chExt cx="368280" cy="285480"/>
          </a:xfrm>
        </p:grpSpPr>
        <p:sp>
          <p:nvSpPr>
            <p:cNvPr id="244" name=""/>
            <p:cNvSpPr/>
            <p:nvPr/>
          </p:nvSpPr>
          <p:spPr>
            <a:xfrm flipH="1">
              <a:off x="4436280" y="2893320"/>
              <a:ext cx="185400" cy="227520"/>
            </a:xfrm>
            <a:custGeom>
              <a:avLst/>
              <a:gdLst/>
              <a:ahLst/>
              <a:rect l="l" t="t" r="r" b="b"/>
              <a:pathLst>
                <a:path w="2614" h="2630">
                  <a:moveTo>
                    <a:pt x="1176" y="0"/>
                  </a:moveTo>
                  <a:cubicBezTo>
                    <a:pt x="1196" y="78"/>
                    <a:pt x="1274" y="182"/>
                    <a:pt x="1316" y="180"/>
                  </a:cubicBezTo>
                  <a:cubicBezTo>
                    <a:pt x="1358" y="178"/>
                    <a:pt x="1412" y="78"/>
                    <a:pt x="1448" y="0"/>
                  </a:cubicBezTo>
                  <a:cubicBezTo>
                    <a:pt x="1976" y="0"/>
                    <a:pt x="2504" y="0"/>
                    <a:pt x="2504" y="0"/>
                  </a:cubicBezTo>
                  <a:cubicBezTo>
                    <a:pt x="2576" y="4"/>
                    <a:pt x="2612" y="94"/>
                    <a:pt x="2610" y="146"/>
                  </a:cubicBezTo>
                  <a:cubicBezTo>
                    <a:pt x="2610" y="194"/>
                    <a:pt x="2614" y="294"/>
                    <a:pt x="2492" y="312"/>
                  </a:cubicBezTo>
                  <a:cubicBezTo>
                    <a:pt x="2104" y="312"/>
                    <a:pt x="1716" y="312"/>
                    <a:pt x="1716" y="312"/>
                  </a:cubicBezTo>
                  <a:lnTo>
                    <a:pt x="2180" y="2278"/>
                  </a:lnTo>
                  <a:cubicBezTo>
                    <a:pt x="2210" y="2506"/>
                    <a:pt x="2116" y="2574"/>
                    <a:pt x="2048" y="2586"/>
                  </a:cubicBezTo>
                  <a:cubicBezTo>
                    <a:pt x="1982" y="2614"/>
                    <a:pt x="1826" y="2600"/>
                    <a:pt x="1770" y="2454"/>
                  </a:cubicBezTo>
                  <a:cubicBezTo>
                    <a:pt x="1681" y="2159"/>
                    <a:pt x="1592" y="1864"/>
                    <a:pt x="1592" y="1864"/>
                  </a:cubicBezTo>
                  <a:cubicBezTo>
                    <a:pt x="1520" y="1604"/>
                    <a:pt x="1380" y="1490"/>
                    <a:pt x="1304" y="1494"/>
                  </a:cubicBezTo>
                  <a:cubicBezTo>
                    <a:pt x="1164" y="1510"/>
                    <a:pt x="1062" y="1698"/>
                    <a:pt x="1006" y="1888"/>
                  </a:cubicBezTo>
                  <a:cubicBezTo>
                    <a:pt x="910" y="2176"/>
                    <a:pt x="900" y="2302"/>
                    <a:pt x="856" y="2396"/>
                  </a:cubicBezTo>
                  <a:cubicBezTo>
                    <a:pt x="816" y="2508"/>
                    <a:pt x="720" y="2630"/>
                    <a:pt x="570" y="2596"/>
                  </a:cubicBezTo>
                  <a:cubicBezTo>
                    <a:pt x="506" y="2564"/>
                    <a:pt x="376" y="2548"/>
                    <a:pt x="440" y="2256"/>
                  </a:cubicBezTo>
                  <a:lnTo>
                    <a:pt x="906" y="310"/>
                  </a:lnTo>
                  <a:lnTo>
                    <a:pt x="148" y="310"/>
                  </a:lnTo>
                  <a:cubicBezTo>
                    <a:pt x="48" y="304"/>
                    <a:pt x="7" y="226"/>
                    <a:pt x="2" y="174"/>
                  </a:cubicBezTo>
                  <a:cubicBezTo>
                    <a:pt x="0" y="118"/>
                    <a:pt x="20" y="0"/>
                    <a:pt x="148" y="2"/>
                  </a:cubicBezTo>
                  <a:cubicBezTo>
                    <a:pt x="342" y="2"/>
                    <a:pt x="1176" y="0"/>
                    <a:pt x="1176" y="0"/>
                  </a:cubicBezTo>
                  <a:close/>
                </a:path>
              </a:pathLst>
            </a:custGeom>
            <a:solidFill>
              <a:srgbClr val="fefefe"/>
            </a:solidFill>
            <a:ln w="12600">
              <a:solidFill>
                <a:srgbClr val="fefefe"/>
              </a:solidFill>
              <a:round/>
            </a:ln>
            <a:effectLst>
              <a:outerShdw dist="17819" dir="2700000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4503600" y="2835360"/>
              <a:ext cx="49320" cy="59760"/>
            </a:xfrm>
            <a:prstGeom prst="ellipse">
              <a:avLst/>
            </a:prstGeom>
            <a:solidFill>
              <a:srgbClr val="fefefe"/>
            </a:solidFill>
            <a:ln w="12600">
              <a:solidFill>
                <a:srgbClr val="fefefe"/>
              </a:solidFill>
              <a:miter/>
            </a:ln>
            <a:effectLst>
              <a:outerShdw dist="17819" dir="2700000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627800" y="2897640"/>
              <a:ext cx="177120" cy="218160"/>
            </a:xfrm>
            <a:custGeom>
              <a:avLst/>
              <a:gdLst/>
              <a:ahLst/>
              <a:rect l="l" t="t" r="r" b="b"/>
              <a:pathLst>
                <a:path w="2614" h="2628">
                  <a:moveTo>
                    <a:pt x="1100" y="0"/>
                  </a:moveTo>
                  <a:cubicBezTo>
                    <a:pt x="1120" y="78"/>
                    <a:pt x="1193" y="183"/>
                    <a:pt x="1316" y="180"/>
                  </a:cubicBezTo>
                  <a:cubicBezTo>
                    <a:pt x="1439" y="177"/>
                    <a:pt x="1472" y="84"/>
                    <a:pt x="1508" y="6"/>
                  </a:cubicBezTo>
                  <a:cubicBezTo>
                    <a:pt x="2036" y="6"/>
                    <a:pt x="2504" y="0"/>
                    <a:pt x="2504" y="0"/>
                  </a:cubicBezTo>
                  <a:cubicBezTo>
                    <a:pt x="2576" y="4"/>
                    <a:pt x="2612" y="94"/>
                    <a:pt x="2610" y="146"/>
                  </a:cubicBezTo>
                  <a:cubicBezTo>
                    <a:pt x="2610" y="194"/>
                    <a:pt x="2614" y="294"/>
                    <a:pt x="2492" y="312"/>
                  </a:cubicBezTo>
                  <a:cubicBezTo>
                    <a:pt x="2104" y="312"/>
                    <a:pt x="1716" y="312"/>
                    <a:pt x="1716" y="312"/>
                  </a:cubicBezTo>
                  <a:lnTo>
                    <a:pt x="1985" y="1350"/>
                  </a:lnTo>
                  <a:lnTo>
                    <a:pt x="1805" y="1401"/>
                  </a:lnTo>
                  <a:lnTo>
                    <a:pt x="2093" y="2328"/>
                  </a:lnTo>
                  <a:cubicBezTo>
                    <a:pt x="2126" y="2457"/>
                    <a:pt x="2117" y="2547"/>
                    <a:pt x="2030" y="2598"/>
                  </a:cubicBezTo>
                  <a:cubicBezTo>
                    <a:pt x="1919" y="2628"/>
                    <a:pt x="1834" y="2552"/>
                    <a:pt x="1778" y="2406"/>
                  </a:cubicBezTo>
                  <a:cubicBezTo>
                    <a:pt x="1679" y="2219"/>
                    <a:pt x="1507" y="1628"/>
                    <a:pt x="1436" y="1476"/>
                  </a:cubicBezTo>
                  <a:lnTo>
                    <a:pt x="1136" y="1476"/>
                  </a:lnTo>
                  <a:cubicBezTo>
                    <a:pt x="1070" y="1668"/>
                    <a:pt x="926" y="2226"/>
                    <a:pt x="842" y="2412"/>
                  </a:cubicBezTo>
                  <a:cubicBezTo>
                    <a:pt x="802" y="2524"/>
                    <a:pt x="728" y="2616"/>
                    <a:pt x="635" y="2595"/>
                  </a:cubicBezTo>
                  <a:cubicBezTo>
                    <a:pt x="571" y="2563"/>
                    <a:pt x="488" y="2532"/>
                    <a:pt x="545" y="2316"/>
                  </a:cubicBezTo>
                  <a:lnTo>
                    <a:pt x="797" y="1416"/>
                  </a:lnTo>
                  <a:lnTo>
                    <a:pt x="602" y="1368"/>
                  </a:lnTo>
                  <a:lnTo>
                    <a:pt x="906" y="310"/>
                  </a:lnTo>
                  <a:lnTo>
                    <a:pt x="148" y="310"/>
                  </a:lnTo>
                  <a:cubicBezTo>
                    <a:pt x="48" y="304"/>
                    <a:pt x="7" y="226"/>
                    <a:pt x="2" y="174"/>
                  </a:cubicBezTo>
                  <a:cubicBezTo>
                    <a:pt x="0" y="118"/>
                    <a:pt x="20" y="0"/>
                    <a:pt x="148" y="2"/>
                  </a:cubicBezTo>
                  <a:cubicBezTo>
                    <a:pt x="342" y="2"/>
                    <a:pt x="1160" y="0"/>
                    <a:pt x="1100" y="0"/>
                  </a:cubicBezTo>
                  <a:close/>
                </a:path>
              </a:pathLst>
            </a:custGeom>
            <a:solidFill>
              <a:srgbClr val="fefefe"/>
            </a:solidFill>
            <a:ln w="12600">
              <a:solidFill>
                <a:srgbClr val="fefefe"/>
              </a:solidFill>
              <a:round/>
            </a:ln>
            <a:effectLst>
              <a:outerShdw dist="17819" dir="2700000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693680" y="2842560"/>
              <a:ext cx="46800" cy="56520"/>
            </a:xfrm>
            <a:prstGeom prst="ellipse">
              <a:avLst/>
            </a:prstGeom>
            <a:solidFill>
              <a:srgbClr val="fefefe"/>
            </a:solidFill>
            <a:ln w="12600">
              <a:solidFill>
                <a:srgbClr val="fefefe"/>
              </a:solidFill>
              <a:miter/>
            </a:ln>
            <a:effectLst>
              <a:outerShdw dist="17819" dir="2700000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424400" y="4734000"/>
            <a:ext cx="384120" cy="282600"/>
          </a:xfrm>
          <a:custGeom>
            <a:avLst/>
            <a:gdLst/>
            <a:ahLst/>
            <a:rect l="l" t="t" r="r" b="b"/>
            <a:pathLst>
              <a:path w="647" h="478">
                <a:moveTo>
                  <a:pt x="518" y="239"/>
                </a:moveTo>
                <a:lnTo>
                  <a:pt x="647" y="233"/>
                </a:lnTo>
                <a:lnTo>
                  <a:pt x="329" y="0"/>
                </a:lnTo>
                <a:lnTo>
                  <a:pt x="180" y="108"/>
                </a:lnTo>
                <a:lnTo>
                  <a:pt x="180" y="57"/>
                </a:lnTo>
                <a:lnTo>
                  <a:pt x="129" y="51"/>
                </a:lnTo>
                <a:lnTo>
                  <a:pt x="129" y="136"/>
                </a:lnTo>
                <a:lnTo>
                  <a:pt x="0" y="239"/>
                </a:lnTo>
                <a:lnTo>
                  <a:pt x="107" y="245"/>
                </a:lnTo>
                <a:lnTo>
                  <a:pt x="107" y="478"/>
                </a:lnTo>
                <a:lnTo>
                  <a:pt x="518" y="478"/>
                </a:lnTo>
                <a:lnTo>
                  <a:pt x="518" y="239"/>
                </a:lnTo>
                <a:close/>
              </a:path>
            </a:pathLst>
          </a:custGeom>
          <a:solidFill>
            <a:srgbClr val="fefefe"/>
          </a:solidFill>
          <a:ln w="9360">
            <a:solidFill>
              <a:srgbClr val="fefefe"/>
            </a:solidFill>
            <a:round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4394520" y="3776040"/>
            <a:ext cx="362880" cy="281160"/>
            <a:chOff x="4394520" y="3776040"/>
            <a:chExt cx="362880" cy="281160"/>
          </a:xfrm>
        </p:grpSpPr>
        <p:grpSp>
          <p:nvGrpSpPr>
            <p:cNvPr id="250" name=""/>
            <p:cNvGrpSpPr/>
            <p:nvPr/>
          </p:nvGrpSpPr>
          <p:grpSpPr>
            <a:xfrm>
              <a:off x="4394520" y="3776040"/>
              <a:ext cx="362880" cy="281160"/>
              <a:chOff x="4394520" y="3776040"/>
              <a:chExt cx="362880" cy="281160"/>
            </a:xfrm>
          </p:grpSpPr>
          <p:sp>
            <p:nvSpPr>
              <p:cNvPr id="251" name=""/>
              <p:cNvSpPr/>
              <p:nvPr/>
            </p:nvSpPr>
            <p:spPr>
              <a:xfrm>
                <a:off x="4470480" y="3863520"/>
                <a:ext cx="286920" cy="193680"/>
              </a:xfrm>
              <a:prstGeom prst="flowChartAlternateProcess">
                <a:avLst/>
              </a:prstGeom>
              <a:solidFill>
                <a:srgbClr val="fefefe"/>
              </a:solidFill>
              <a:ln w="0">
                <a:noFill/>
              </a:ln>
              <a:effectLst>
                <a:outerShdw dist="17819" dir="2700000" blurRad="0" rotWithShape="0">
                  <a:srgbClr val="dddddd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0706600">
                <a:off x="4414320" y="3809520"/>
                <a:ext cx="286920" cy="193680"/>
              </a:xfrm>
              <a:prstGeom prst="flowChartAlternateProcess">
                <a:avLst/>
              </a:prstGeom>
              <a:solidFill>
                <a:srgbClr val="fefefe"/>
              </a:solidFill>
              <a:ln w="0">
                <a:noFill/>
              </a:ln>
              <a:effectLst>
                <a:outerShdw dist="17819" dir="2700000" blurRad="0" rotWithShape="0">
                  <a:srgbClr val="dddddd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 flipV="1">
              <a:off x="4445280" y="3852360"/>
              <a:ext cx="177120" cy="49320"/>
            </a:xfrm>
            <a:prstGeom prst="line">
              <a:avLst/>
            </a:prstGeom>
            <a:ln w="76320">
              <a:solidFill>
                <a:srgbClr val="84ca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4892760" y="1895400"/>
            <a:ext cx="363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ription of the company’s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892760" y="2854440"/>
            <a:ext cx="363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ription of the company’s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892760" y="3768840"/>
            <a:ext cx="363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ription of the company’s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892760" y="4716360"/>
            <a:ext cx="363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ription of the company’s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030320" y="5683320"/>
            <a:ext cx="712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developed by Guild Design Inc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18640" y="285480"/>
            <a:ext cx="7410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70d0d"/>
                </a:solidFill>
                <a:latin typeface="Verdana"/>
              </a:rPr>
              <a:t>Click to edit title style</a:t>
            </a:r>
            <a:endParaRPr b="1" lang="en-US" sz="3000" spc="-1" strike="noStrike">
              <a:solidFill>
                <a:srgbClr val="670d0d"/>
              </a:solidFill>
              <a:latin typeface="Verdana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814320" y="1001880"/>
            <a:ext cx="7520040" cy="465444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 rot="692400">
            <a:off x="2294640" y="2115360"/>
            <a:ext cx="4173840" cy="192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722" y="448"/>
                </a:moveTo>
                <a:arcTo wR="10800" hR="10800" stAng="-6393413" swAng="2073627"/>
                <a:lnTo>
                  <a:pt x="10800" y="10800"/>
                </a:lnTo>
                <a:close/>
              </a:path>
              <a:path fill="none" w="21600" h="21600">
                <a:moveTo>
                  <a:pt x="7722" y="448"/>
                </a:moveTo>
                <a:arcTo wR="10800" hR="10800" stAng="-6393413" swAng="2073627"/>
              </a:path>
            </a:pathLst>
          </a:custGeom>
          <a:noFill/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2865600" y="5046840"/>
            <a:ext cx="3212640" cy="820080"/>
            <a:chOff x="2865600" y="5046840"/>
            <a:chExt cx="3212640" cy="820080"/>
          </a:xfrm>
        </p:grpSpPr>
        <p:pic>
          <p:nvPicPr>
            <p:cNvPr id="263" name="" descr=""/>
            <p:cNvPicPr/>
            <p:nvPr/>
          </p:nvPicPr>
          <p:blipFill>
            <a:blip r:embed="rId2">
              <a:lum bright="18000"/>
            </a:blip>
            <a:stretch/>
          </p:blipFill>
          <p:spPr>
            <a:xfrm>
              <a:off x="2865600" y="5572440"/>
              <a:ext cx="3212640" cy="29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64" name=""/>
            <p:cNvGrpSpPr/>
            <p:nvPr/>
          </p:nvGrpSpPr>
          <p:grpSpPr>
            <a:xfrm>
              <a:off x="2867040" y="5046840"/>
              <a:ext cx="3188880" cy="706320"/>
              <a:chOff x="2867040" y="5046840"/>
              <a:chExt cx="3188880" cy="706320"/>
            </a:xfrm>
          </p:grpSpPr>
          <p:sp>
            <p:nvSpPr>
              <p:cNvPr id="265" name=""/>
              <p:cNvSpPr/>
              <p:nvPr/>
            </p:nvSpPr>
            <p:spPr>
              <a:xfrm>
                <a:off x="2876760" y="5046840"/>
                <a:ext cx="3179160" cy="706320"/>
              </a:xfrm>
              <a:prstGeom prst="ellipse">
                <a:avLst/>
              </a:prstGeom>
              <a:gradFill rotWithShape="0">
                <a:gsLst>
                  <a:gs pos="0">
                    <a:srgbClr val="1e2f2b"/>
                  </a:gs>
                  <a:gs pos="50000">
                    <a:srgbClr val="84cab8"/>
                  </a:gs>
                  <a:gs pos="100000">
                    <a:srgbClr val="1e2f2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867040" y="5046840"/>
                <a:ext cx="3188880" cy="607680"/>
              </a:xfrm>
              <a:prstGeom prst="ellipse">
                <a:avLst/>
              </a:prstGeom>
              <a:gradFill rotWithShape="0">
                <a:gsLst>
                  <a:gs pos="0">
                    <a:srgbClr val="84cab8"/>
                  </a:gs>
                  <a:gs pos="100000">
                    <a:srgbClr val="d4ece6"/>
                  </a:gs>
                </a:gsLst>
                <a:lin ang="5400000"/>
              </a:gradFill>
              <a:ln w="936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7" name=""/>
          <p:cNvSpPr/>
          <p:nvPr/>
        </p:nvSpPr>
        <p:spPr>
          <a:xfrm>
            <a:off x="3618000" y="1149480"/>
            <a:ext cx="1973160" cy="4308480"/>
          </a:xfrm>
          <a:custGeom>
            <a:avLst/>
            <a:gdLst/>
            <a:ahLst/>
            <a:rect l="l" t="t" r="r" b="b"/>
            <a:pathLst>
              <a:path w="1416" h="3094">
                <a:moveTo>
                  <a:pt x="609" y="378"/>
                </a:moveTo>
                <a:cubicBezTo>
                  <a:pt x="609" y="378"/>
                  <a:pt x="645" y="364"/>
                  <a:pt x="682" y="350"/>
                </a:cubicBezTo>
                <a:cubicBezTo>
                  <a:pt x="672" y="314"/>
                  <a:pt x="692" y="278"/>
                  <a:pt x="692" y="278"/>
                </a:cubicBezTo>
                <a:cubicBezTo>
                  <a:pt x="698" y="260"/>
                  <a:pt x="715" y="264"/>
                  <a:pt x="720" y="242"/>
                </a:cubicBezTo>
                <a:cubicBezTo>
                  <a:pt x="746" y="212"/>
                  <a:pt x="730" y="180"/>
                  <a:pt x="720" y="146"/>
                </a:cubicBezTo>
                <a:cubicBezTo>
                  <a:pt x="732" y="106"/>
                  <a:pt x="703" y="61"/>
                  <a:pt x="660" y="39"/>
                </a:cubicBezTo>
                <a:cubicBezTo>
                  <a:pt x="617" y="10"/>
                  <a:pt x="531" y="0"/>
                  <a:pt x="483" y="16"/>
                </a:cubicBezTo>
                <a:cubicBezTo>
                  <a:pt x="435" y="32"/>
                  <a:pt x="422" y="83"/>
                  <a:pt x="409" y="118"/>
                </a:cubicBezTo>
                <a:lnTo>
                  <a:pt x="384" y="223"/>
                </a:lnTo>
                <a:cubicBezTo>
                  <a:pt x="384" y="223"/>
                  <a:pt x="376" y="324"/>
                  <a:pt x="330" y="348"/>
                </a:cubicBezTo>
                <a:cubicBezTo>
                  <a:pt x="386" y="358"/>
                  <a:pt x="415" y="391"/>
                  <a:pt x="415" y="391"/>
                </a:cubicBezTo>
                <a:lnTo>
                  <a:pt x="319" y="450"/>
                </a:lnTo>
                <a:lnTo>
                  <a:pt x="244" y="550"/>
                </a:lnTo>
                <a:lnTo>
                  <a:pt x="42" y="826"/>
                </a:lnTo>
                <a:cubicBezTo>
                  <a:pt x="2" y="886"/>
                  <a:pt x="0" y="892"/>
                  <a:pt x="4" y="907"/>
                </a:cubicBezTo>
                <a:cubicBezTo>
                  <a:pt x="8" y="922"/>
                  <a:pt x="70" y="943"/>
                  <a:pt x="126" y="994"/>
                </a:cubicBezTo>
                <a:lnTo>
                  <a:pt x="368" y="1150"/>
                </a:lnTo>
                <a:lnTo>
                  <a:pt x="397" y="1105"/>
                </a:lnTo>
                <a:lnTo>
                  <a:pt x="265" y="1008"/>
                </a:lnTo>
                <a:lnTo>
                  <a:pt x="126" y="879"/>
                </a:lnTo>
                <a:lnTo>
                  <a:pt x="147" y="841"/>
                </a:lnTo>
                <a:cubicBezTo>
                  <a:pt x="147" y="841"/>
                  <a:pt x="247" y="748"/>
                  <a:pt x="348" y="655"/>
                </a:cubicBezTo>
                <a:cubicBezTo>
                  <a:pt x="384" y="708"/>
                  <a:pt x="404" y="724"/>
                  <a:pt x="426" y="774"/>
                </a:cubicBezTo>
                <a:cubicBezTo>
                  <a:pt x="448" y="824"/>
                  <a:pt x="484" y="902"/>
                  <a:pt x="480" y="957"/>
                </a:cubicBezTo>
                <a:lnTo>
                  <a:pt x="399" y="1102"/>
                </a:lnTo>
                <a:lnTo>
                  <a:pt x="336" y="1212"/>
                </a:lnTo>
                <a:cubicBezTo>
                  <a:pt x="322" y="1244"/>
                  <a:pt x="314" y="1268"/>
                  <a:pt x="315" y="1293"/>
                </a:cubicBezTo>
                <a:cubicBezTo>
                  <a:pt x="316" y="1318"/>
                  <a:pt x="334" y="1618"/>
                  <a:pt x="343" y="1683"/>
                </a:cubicBezTo>
                <a:lnTo>
                  <a:pt x="367" y="1686"/>
                </a:lnTo>
                <a:cubicBezTo>
                  <a:pt x="367" y="1686"/>
                  <a:pt x="414" y="1852"/>
                  <a:pt x="462" y="2019"/>
                </a:cubicBezTo>
                <a:cubicBezTo>
                  <a:pt x="417" y="2130"/>
                  <a:pt x="413" y="2159"/>
                  <a:pt x="409" y="2274"/>
                </a:cubicBezTo>
                <a:cubicBezTo>
                  <a:pt x="405" y="2389"/>
                  <a:pt x="430" y="2635"/>
                  <a:pt x="427" y="2716"/>
                </a:cubicBezTo>
                <a:lnTo>
                  <a:pt x="402" y="2755"/>
                </a:lnTo>
                <a:lnTo>
                  <a:pt x="354" y="2784"/>
                </a:lnTo>
                <a:cubicBezTo>
                  <a:pt x="354" y="2784"/>
                  <a:pt x="347" y="2819"/>
                  <a:pt x="340" y="2854"/>
                </a:cubicBezTo>
                <a:cubicBezTo>
                  <a:pt x="375" y="2899"/>
                  <a:pt x="376" y="3013"/>
                  <a:pt x="376" y="3013"/>
                </a:cubicBezTo>
                <a:lnTo>
                  <a:pt x="393" y="3009"/>
                </a:lnTo>
                <a:lnTo>
                  <a:pt x="402" y="2959"/>
                </a:lnTo>
                <a:lnTo>
                  <a:pt x="424" y="2961"/>
                </a:lnTo>
                <a:lnTo>
                  <a:pt x="430" y="2925"/>
                </a:lnTo>
                <a:lnTo>
                  <a:pt x="487" y="3058"/>
                </a:lnTo>
                <a:cubicBezTo>
                  <a:pt x="520" y="3086"/>
                  <a:pt x="599" y="3091"/>
                  <a:pt x="628" y="3094"/>
                </a:cubicBezTo>
                <a:lnTo>
                  <a:pt x="661" y="3075"/>
                </a:lnTo>
                <a:lnTo>
                  <a:pt x="636" y="3036"/>
                </a:lnTo>
                <a:lnTo>
                  <a:pt x="690" y="3021"/>
                </a:lnTo>
                <a:lnTo>
                  <a:pt x="604" y="2913"/>
                </a:lnTo>
                <a:cubicBezTo>
                  <a:pt x="578" y="2861"/>
                  <a:pt x="574" y="2833"/>
                  <a:pt x="532" y="2710"/>
                </a:cubicBezTo>
                <a:cubicBezTo>
                  <a:pt x="534" y="2582"/>
                  <a:pt x="602" y="2260"/>
                  <a:pt x="619" y="2146"/>
                </a:cubicBezTo>
                <a:cubicBezTo>
                  <a:pt x="635" y="2031"/>
                  <a:pt x="634" y="2055"/>
                  <a:pt x="637" y="2025"/>
                </a:cubicBezTo>
                <a:cubicBezTo>
                  <a:pt x="640" y="1995"/>
                  <a:pt x="642" y="1980"/>
                  <a:pt x="639" y="1968"/>
                </a:cubicBezTo>
                <a:cubicBezTo>
                  <a:pt x="670" y="1830"/>
                  <a:pt x="702" y="1693"/>
                  <a:pt x="702" y="1693"/>
                </a:cubicBezTo>
                <a:lnTo>
                  <a:pt x="724" y="1692"/>
                </a:lnTo>
                <a:cubicBezTo>
                  <a:pt x="724" y="1692"/>
                  <a:pt x="763" y="1505"/>
                  <a:pt x="771" y="1413"/>
                </a:cubicBezTo>
                <a:cubicBezTo>
                  <a:pt x="779" y="1321"/>
                  <a:pt x="778" y="1218"/>
                  <a:pt x="772" y="1138"/>
                </a:cubicBezTo>
                <a:cubicBezTo>
                  <a:pt x="766" y="1082"/>
                  <a:pt x="745" y="994"/>
                  <a:pt x="735" y="934"/>
                </a:cubicBezTo>
                <a:lnTo>
                  <a:pt x="712" y="816"/>
                </a:lnTo>
                <a:lnTo>
                  <a:pt x="735" y="786"/>
                </a:lnTo>
                <a:lnTo>
                  <a:pt x="820" y="934"/>
                </a:lnTo>
                <a:cubicBezTo>
                  <a:pt x="849" y="968"/>
                  <a:pt x="867" y="1006"/>
                  <a:pt x="907" y="990"/>
                </a:cubicBezTo>
                <a:cubicBezTo>
                  <a:pt x="947" y="974"/>
                  <a:pt x="1004" y="894"/>
                  <a:pt x="1060" y="838"/>
                </a:cubicBezTo>
                <a:lnTo>
                  <a:pt x="1204" y="646"/>
                </a:lnTo>
                <a:cubicBezTo>
                  <a:pt x="1246" y="605"/>
                  <a:pt x="1286" y="608"/>
                  <a:pt x="1314" y="592"/>
                </a:cubicBezTo>
                <a:cubicBezTo>
                  <a:pt x="1342" y="576"/>
                  <a:pt x="1357" y="572"/>
                  <a:pt x="1374" y="547"/>
                </a:cubicBezTo>
                <a:cubicBezTo>
                  <a:pt x="1391" y="522"/>
                  <a:pt x="1416" y="462"/>
                  <a:pt x="1414" y="445"/>
                </a:cubicBezTo>
                <a:cubicBezTo>
                  <a:pt x="1401" y="435"/>
                  <a:pt x="1386" y="436"/>
                  <a:pt x="1365" y="445"/>
                </a:cubicBezTo>
                <a:lnTo>
                  <a:pt x="1288" y="501"/>
                </a:lnTo>
                <a:lnTo>
                  <a:pt x="1209" y="528"/>
                </a:lnTo>
                <a:lnTo>
                  <a:pt x="1234" y="445"/>
                </a:lnTo>
                <a:cubicBezTo>
                  <a:pt x="1231" y="435"/>
                  <a:pt x="1203" y="447"/>
                  <a:pt x="1192" y="468"/>
                </a:cubicBezTo>
                <a:lnTo>
                  <a:pt x="1167" y="573"/>
                </a:lnTo>
                <a:cubicBezTo>
                  <a:pt x="1117" y="639"/>
                  <a:pt x="957" y="856"/>
                  <a:pt x="892" y="862"/>
                </a:cubicBezTo>
                <a:cubicBezTo>
                  <a:pt x="852" y="790"/>
                  <a:pt x="801" y="672"/>
                  <a:pt x="775" y="607"/>
                </a:cubicBezTo>
                <a:cubicBezTo>
                  <a:pt x="751" y="543"/>
                  <a:pt x="766" y="508"/>
                  <a:pt x="747" y="480"/>
                </a:cubicBezTo>
                <a:cubicBezTo>
                  <a:pt x="728" y="449"/>
                  <a:pt x="683" y="452"/>
                  <a:pt x="664" y="439"/>
                </a:cubicBezTo>
                <a:cubicBezTo>
                  <a:pt x="645" y="426"/>
                  <a:pt x="643" y="412"/>
                  <a:pt x="634" y="402"/>
                </a:cubicBezTo>
                <a:lnTo>
                  <a:pt x="609" y="378"/>
                </a:lnTo>
                <a:close/>
              </a:path>
            </a:pathLst>
          </a:custGeom>
          <a:gradFill rotWithShape="0">
            <a:gsLst>
              <a:gs pos="0">
                <a:srgbClr val="84cab8"/>
              </a:gs>
              <a:gs pos="100000">
                <a:srgbClr val="b1dcd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3456000" y="1833480"/>
            <a:ext cx="366840" cy="354240"/>
            <a:chOff x="3456000" y="1833480"/>
            <a:chExt cx="366840" cy="354240"/>
          </a:xfrm>
        </p:grpSpPr>
        <p:pic>
          <p:nvPicPr>
            <p:cNvPr id="269" name="" descr=""/>
            <p:cNvPicPr/>
            <p:nvPr/>
          </p:nvPicPr>
          <p:blipFill>
            <a:blip r:embed="rId3"/>
            <a:stretch/>
          </p:blipFill>
          <p:spPr>
            <a:xfrm>
              <a:off x="3456000" y="1833480"/>
              <a:ext cx="366840" cy="35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3456000" y="1833480"/>
              <a:ext cx="364680" cy="354240"/>
            </a:xfrm>
            <a:prstGeom prst="ellipse">
              <a:avLst/>
            </a:prstGeom>
            <a:gradFill rotWithShape="0">
              <a:gsLst>
                <a:gs pos="0">
                  <a:srgbClr val="dddddd">
                    <a:alpha val="55294"/>
                  </a:srgbClr>
                </a:gs>
                <a:gs pos="50000">
                  <a:srgbClr val="656565">
                    <a:alpha val="90196"/>
                  </a:srgbClr>
                </a:gs>
                <a:gs pos="100000">
                  <a:srgbClr val="dddddd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1" name="" descr=""/>
            <p:cNvPicPr/>
            <p:nvPr/>
          </p:nvPicPr>
          <p:blipFill>
            <a:blip r:embed="rId4"/>
            <a:stretch/>
          </p:blipFill>
          <p:spPr>
            <a:xfrm>
              <a:off x="3491640" y="1837440"/>
              <a:ext cx="289800" cy="12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2" name=""/>
          <p:cNvGrpSpPr/>
          <p:nvPr/>
        </p:nvGrpSpPr>
        <p:grpSpPr>
          <a:xfrm>
            <a:off x="5232240" y="2219400"/>
            <a:ext cx="300240" cy="287280"/>
            <a:chOff x="5232240" y="2219400"/>
            <a:chExt cx="300240" cy="287280"/>
          </a:xfrm>
        </p:grpSpPr>
        <p:pic>
          <p:nvPicPr>
            <p:cNvPr id="273" name="" descr=""/>
            <p:cNvPicPr/>
            <p:nvPr/>
          </p:nvPicPr>
          <p:blipFill>
            <a:blip r:embed="rId5"/>
            <a:stretch/>
          </p:blipFill>
          <p:spPr>
            <a:xfrm>
              <a:off x="5232240" y="2219400"/>
              <a:ext cx="300240" cy="2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5232240" y="2219400"/>
              <a:ext cx="298080" cy="287280"/>
            </a:xfrm>
            <a:prstGeom prst="ellipse">
              <a:avLst/>
            </a:prstGeom>
            <a:gradFill rotWithShape="0">
              <a:gsLst>
                <a:gs pos="0">
                  <a:srgbClr val="dddddd">
                    <a:alpha val="55294"/>
                  </a:srgbClr>
                </a:gs>
                <a:gs pos="50000">
                  <a:srgbClr val="656565">
                    <a:alpha val="90196"/>
                  </a:srgbClr>
                </a:gs>
                <a:gs pos="100000">
                  <a:srgbClr val="dddddd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5" name="" descr=""/>
            <p:cNvPicPr/>
            <p:nvPr/>
          </p:nvPicPr>
          <p:blipFill>
            <a:blip r:embed="rId6"/>
            <a:stretch/>
          </p:blipFill>
          <p:spPr>
            <a:xfrm>
              <a:off x="5262120" y="2222280"/>
              <a:ext cx="236880" cy="101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6" name=""/>
          <p:cNvGrpSpPr/>
          <p:nvPr/>
        </p:nvGrpSpPr>
        <p:grpSpPr>
          <a:xfrm>
            <a:off x="5931000" y="2792880"/>
            <a:ext cx="963000" cy="941760"/>
            <a:chOff x="5931000" y="2792880"/>
            <a:chExt cx="963000" cy="941760"/>
          </a:xfrm>
        </p:grpSpPr>
        <p:pic>
          <p:nvPicPr>
            <p:cNvPr id="277" name="" descr=""/>
            <p:cNvPicPr/>
            <p:nvPr/>
          </p:nvPicPr>
          <p:blipFill>
            <a:blip r:embed="rId7"/>
            <a:stretch/>
          </p:blipFill>
          <p:spPr>
            <a:xfrm rot="692400">
              <a:off x="6002640" y="2866680"/>
              <a:ext cx="820440" cy="79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 rot="692400">
              <a:off x="6002280" y="2866320"/>
              <a:ext cx="814680" cy="794880"/>
            </a:xfrm>
            <a:prstGeom prst="ellipse">
              <a:avLst/>
            </a:prstGeom>
            <a:gradFill rotWithShape="0">
              <a:gsLst>
                <a:gs pos="0">
                  <a:srgbClr val="8d8dc1">
                    <a:alpha val="79215"/>
                  </a:srgbClr>
                </a:gs>
                <a:gs pos="50000">
                  <a:srgbClr val="404058"/>
                </a:gs>
                <a:gs pos="100000">
                  <a:srgbClr val="8d8dc1">
                    <a:alpha val="7921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9" name="" descr=""/>
            <p:cNvPicPr/>
            <p:nvPr/>
          </p:nvPicPr>
          <p:blipFill>
            <a:blip r:embed="rId8"/>
            <a:stretch/>
          </p:blipFill>
          <p:spPr>
            <a:xfrm rot="692400">
              <a:off x="6132960" y="2878560"/>
              <a:ext cx="649080" cy="280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0" name=""/>
          <p:cNvGrpSpPr/>
          <p:nvPr/>
        </p:nvGrpSpPr>
        <p:grpSpPr>
          <a:xfrm>
            <a:off x="2054160" y="1911240"/>
            <a:ext cx="882360" cy="855360"/>
            <a:chOff x="2054160" y="1911240"/>
            <a:chExt cx="882360" cy="855360"/>
          </a:xfrm>
        </p:grpSpPr>
        <p:pic>
          <p:nvPicPr>
            <p:cNvPr id="281" name="" descr=""/>
            <p:cNvPicPr/>
            <p:nvPr/>
          </p:nvPicPr>
          <p:blipFill>
            <a:blip r:embed="rId9"/>
            <a:stretch/>
          </p:blipFill>
          <p:spPr>
            <a:xfrm>
              <a:off x="2054160" y="1911240"/>
              <a:ext cx="876600" cy="8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2054160" y="1911240"/>
              <a:ext cx="882360" cy="855360"/>
            </a:xfrm>
            <a:prstGeom prst="ellipse">
              <a:avLst/>
            </a:prstGeom>
            <a:gradFill rotWithShape="0">
              <a:gsLst>
                <a:gs pos="0">
                  <a:srgbClr val="c4abdf">
                    <a:alpha val="80000"/>
                  </a:srgbClr>
                </a:gs>
                <a:gs pos="50000">
                  <a:srgbClr val="5a4e66"/>
                </a:gs>
                <a:gs pos="100000">
                  <a:srgbClr val="c4abdf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3" name="" descr=""/>
            <p:cNvPicPr/>
            <p:nvPr/>
          </p:nvPicPr>
          <p:blipFill>
            <a:blip r:embed="rId10"/>
            <a:stretch/>
          </p:blipFill>
          <p:spPr>
            <a:xfrm>
              <a:off x="2142000" y="1919160"/>
              <a:ext cx="703080" cy="302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4" name=""/>
          <p:cNvGrpSpPr/>
          <p:nvPr/>
        </p:nvGrpSpPr>
        <p:grpSpPr>
          <a:xfrm>
            <a:off x="2400480" y="3054240"/>
            <a:ext cx="591840" cy="567000"/>
            <a:chOff x="2400480" y="3054240"/>
            <a:chExt cx="591840" cy="567000"/>
          </a:xfrm>
        </p:grpSpPr>
        <p:pic>
          <p:nvPicPr>
            <p:cNvPr id="285" name="" descr=""/>
            <p:cNvPicPr/>
            <p:nvPr/>
          </p:nvPicPr>
          <p:blipFill>
            <a:blip r:embed="rId11"/>
            <a:stretch/>
          </p:blipFill>
          <p:spPr>
            <a:xfrm>
              <a:off x="2400480" y="3054240"/>
              <a:ext cx="591840" cy="5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2400480" y="3054240"/>
              <a:ext cx="587520" cy="567000"/>
            </a:xfrm>
            <a:prstGeom prst="ellipse">
              <a:avLst/>
            </a:prstGeom>
            <a:gradFill rotWithShape="0">
              <a:gsLst>
                <a:gs pos="0">
                  <a:srgbClr val="dddddd">
                    <a:alpha val="55294"/>
                  </a:srgbClr>
                </a:gs>
                <a:gs pos="50000">
                  <a:srgbClr val="656565">
                    <a:alpha val="90196"/>
                  </a:srgbClr>
                </a:gs>
                <a:gs pos="100000">
                  <a:srgbClr val="dddddd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7" name="" descr=""/>
            <p:cNvPicPr/>
            <p:nvPr/>
          </p:nvPicPr>
          <p:blipFill>
            <a:blip r:embed="rId12"/>
            <a:stretch/>
          </p:blipFill>
          <p:spPr>
            <a:xfrm>
              <a:off x="2459520" y="3059640"/>
              <a:ext cx="467640" cy="200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8" name=""/>
          <p:cNvGrpSpPr/>
          <p:nvPr/>
        </p:nvGrpSpPr>
        <p:grpSpPr>
          <a:xfrm>
            <a:off x="3548160" y="3378240"/>
            <a:ext cx="1132920" cy="1095120"/>
            <a:chOff x="3548160" y="3378240"/>
            <a:chExt cx="1132920" cy="1095120"/>
          </a:xfrm>
        </p:grpSpPr>
        <p:pic>
          <p:nvPicPr>
            <p:cNvPr id="289" name="" descr=""/>
            <p:cNvPicPr/>
            <p:nvPr/>
          </p:nvPicPr>
          <p:blipFill>
            <a:blip r:embed="rId13"/>
            <a:stretch/>
          </p:blipFill>
          <p:spPr>
            <a:xfrm>
              <a:off x="3548160" y="3378240"/>
              <a:ext cx="1132920" cy="109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3548160" y="3378240"/>
              <a:ext cx="1125720" cy="1095120"/>
            </a:xfrm>
            <a:prstGeom prst="ellipse">
              <a:avLst/>
            </a:prstGeom>
            <a:gradFill rotWithShape="0">
              <a:gsLst>
                <a:gs pos="0">
                  <a:srgbClr val="79b4d1">
                    <a:alpha val="80000"/>
                  </a:srgbClr>
                </a:gs>
                <a:gs pos="50000">
                  <a:srgbClr val="486b7c"/>
                </a:gs>
                <a:gs pos="100000">
                  <a:srgbClr val="79b4d1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1" name="" descr=""/>
            <p:cNvPicPr/>
            <p:nvPr/>
          </p:nvPicPr>
          <p:blipFill>
            <a:blip r:embed="rId14"/>
            <a:stretch/>
          </p:blipFill>
          <p:spPr>
            <a:xfrm>
              <a:off x="3660120" y="3388680"/>
              <a:ext cx="896040" cy="387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2" name=""/>
          <p:cNvGrpSpPr/>
          <p:nvPr/>
        </p:nvGrpSpPr>
        <p:grpSpPr>
          <a:xfrm>
            <a:off x="5367240" y="3738600"/>
            <a:ext cx="592200" cy="569880"/>
            <a:chOff x="5367240" y="3738600"/>
            <a:chExt cx="592200" cy="569880"/>
          </a:xfrm>
        </p:grpSpPr>
        <p:pic>
          <p:nvPicPr>
            <p:cNvPr id="293" name="" descr=""/>
            <p:cNvPicPr/>
            <p:nvPr/>
          </p:nvPicPr>
          <p:blipFill>
            <a:blip r:embed="rId15"/>
            <a:stretch/>
          </p:blipFill>
          <p:spPr>
            <a:xfrm>
              <a:off x="5367240" y="3738600"/>
              <a:ext cx="592200" cy="5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5367240" y="3738600"/>
              <a:ext cx="587880" cy="569880"/>
            </a:xfrm>
            <a:prstGeom prst="ellipse">
              <a:avLst/>
            </a:prstGeom>
            <a:gradFill rotWithShape="0">
              <a:gsLst>
                <a:gs pos="0">
                  <a:srgbClr val="dddddd">
                    <a:alpha val="55294"/>
                  </a:srgbClr>
                </a:gs>
                <a:gs pos="50000">
                  <a:srgbClr val="656565">
                    <a:alpha val="90196"/>
                  </a:srgbClr>
                </a:gs>
                <a:gs pos="100000">
                  <a:srgbClr val="dddddd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5" name="" descr=""/>
            <p:cNvPicPr/>
            <p:nvPr/>
          </p:nvPicPr>
          <p:blipFill>
            <a:blip r:embed="rId16"/>
            <a:stretch/>
          </p:blipFill>
          <p:spPr>
            <a:xfrm>
              <a:off x="5426280" y="3744000"/>
              <a:ext cx="468000" cy="201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6" name=""/>
          <p:cNvSpPr/>
          <p:nvPr/>
        </p:nvSpPr>
        <p:spPr>
          <a:xfrm rot="692400">
            <a:off x="2293920" y="2113920"/>
            <a:ext cx="4177800" cy="1928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145" y="1416"/>
                </a:moveTo>
                <a:arcTo wR="10800" hR="10800" stAng="-3620089" swAng="1632255"/>
                <a:lnTo>
                  <a:pt x="10800" y="10800"/>
                </a:lnTo>
                <a:close/>
              </a:path>
              <a:path fill="none" w="21600" h="21600">
                <a:moveTo>
                  <a:pt x="16145" y="1416"/>
                </a:moveTo>
                <a:arcTo wR="10800" hR="10800" stAng="-3620089" swAng="1632255"/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rot="692400">
            <a:off x="2293200" y="2116800"/>
            <a:ext cx="4177800" cy="192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87" y="10279"/>
                </a:moveTo>
                <a:arcTo wR="10800" hR="10800" stAng="-165862" swAng="2225620"/>
                <a:lnTo>
                  <a:pt x="10800" y="10800"/>
                </a:lnTo>
                <a:close/>
              </a:path>
              <a:path fill="none" w="21600" h="21600">
                <a:moveTo>
                  <a:pt x="21587" y="10279"/>
                </a:moveTo>
                <a:arcTo wR="10800" hR="10800" stAng="-165862" swAng="2225620"/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rot="692400">
            <a:off x="2289960" y="2099520"/>
            <a:ext cx="4184280" cy="1928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863" y="19737"/>
                </a:moveTo>
                <a:arcTo wR="10800" hR="10800" stAng="3350772" swAng="1292840"/>
                <a:lnTo>
                  <a:pt x="10800" y="10800"/>
                </a:lnTo>
                <a:close/>
              </a:path>
              <a:path fill="none" w="21600" h="21600">
                <a:moveTo>
                  <a:pt x="16863" y="19737"/>
                </a:moveTo>
                <a:arcTo wR="10800" hR="10800" stAng="3350772" swAng="1292840"/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rot="692400">
            <a:off x="2297520" y="2090880"/>
            <a:ext cx="4184640" cy="1919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204" y="20984"/>
                </a:moveTo>
                <a:arcTo wR="10800" hR="10800" stAng="6566969" swAng="1241914"/>
                <a:lnTo>
                  <a:pt x="10800" y="10800"/>
                </a:lnTo>
                <a:close/>
              </a:path>
              <a:path fill="none" w="21600" h="21600">
                <a:moveTo>
                  <a:pt x="7204" y="20984"/>
                </a:moveTo>
                <a:arcTo wR="10800" hR="10800" stAng="6566969" swAng="1241914"/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rot="692400">
            <a:off x="2259720" y="2083680"/>
            <a:ext cx="4184280" cy="192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68" y="15686"/>
                </a:moveTo>
                <a:arcTo wR="10800" hR="10800" stAng="9186116" swAng="2000789"/>
                <a:lnTo>
                  <a:pt x="10800" y="10800"/>
                </a:lnTo>
                <a:close/>
              </a:path>
              <a:path fill="none" w="21600" h="21600">
                <a:moveTo>
                  <a:pt x="1168" y="15686"/>
                </a:moveTo>
                <a:arcTo wR="10800" hR="10800" stAng="9186116" swAng="2000789"/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692400">
            <a:off x="2267280" y="2082960"/>
            <a:ext cx="4182480" cy="1923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22" y="3985"/>
                </a:moveTo>
                <a:arcTo wR="10800" hR="10800" stAng="-8452441" swAng="1099429"/>
                <a:lnTo>
                  <a:pt x="10800" y="10800"/>
                </a:lnTo>
                <a:close/>
              </a:path>
              <a:path fill="none" w="21600" h="21600">
                <a:moveTo>
                  <a:pt x="2422" y="3985"/>
                </a:moveTo>
                <a:arcTo wR="10800" hR="10800" stAng="-8452441" swAng="1099429"/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177640" y="217332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738960" y="37512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076440" y="309420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31000" y="2301840"/>
            <a:ext cx="1703520" cy="488880"/>
          </a:xfrm>
          <a:noFill/>
          <a:ln w="9360">
            <a:solidFill>
              <a:srgbClr val="8d8d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984920" y="4489560"/>
            <a:ext cx="2128680" cy="488880"/>
          </a:xfrm>
          <a:noFill/>
          <a:ln w="9360">
            <a:solidFill>
              <a:srgbClr val="79b4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09480" y="1492200"/>
            <a:ext cx="1606680" cy="487440"/>
          </a:xfrm>
          <a:noFill/>
          <a:ln w="9360">
            <a:solidFill>
              <a:srgbClr val="c4a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030320" y="5987880"/>
            <a:ext cx="712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developed by Guild Design Inc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" name=""/>
          <p:cNvGrpSpPr/>
          <p:nvPr/>
        </p:nvGrpSpPr>
        <p:grpSpPr>
          <a:xfrm>
            <a:off x="333360" y="4124160"/>
            <a:ext cx="3886200" cy="1981080"/>
            <a:chOff x="333360" y="4124160"/>
            <a:chExt cx="3886200" cy="1981080"/>
          </a:xfrm>
        </p:grpSpPr>
        <p:sp>
          <p:nvSpPr>
            <p:cNvPr id="310" name=""/>
            <p:cNvSpPr/>
            <p:nvPr/>
          </p:nvSpPr>
          <p:spPr>
            <a:xfrm>
              <a:off x="333360" y="4124160"/>
              <a:ext cx="3886200" cy="198108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57200" y="4192560"/>
              <a:ext cx="3581280" cy="182556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18640" y="285480"/>
            <a:ext cx="7410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70d0d"/>
                </a:solidFill>
                <a:latin typeface="Verdana"/>
              </a:rPr>
              <a:t>Click to edit title style</a:t>
            </a:r>
            <a:endParaRPr b="1" lang="en-US" sz="3000" spc="-1" strike="noStrike">
              <a:solidFill>
                <a:srgbClr val="670d0d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6213600" y="2263680"/>
            <a:ext cx="455400" cy="381240"/>
          </a:xfrm>
          <a:prstGeom prst="downArrow">
            <a:avLst>
              <a:gd name="adj1" fmla="val 58889"/>
              <a:gd name="adj2" fmla="val 60000"/>
            </a:avLst>
          </a:prstGeom>
          <a:solidFill>
            <a:srgbClr val="c4abdf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226200" y="3549600"/>
            <a:ext cx="455760" cy="380880"/>
          </a:xfrm>
          <a:prstGeom prst="downArrow">
            <a:avLst>
              <a:gd name="adj1" fmla="val 58889"/>
              <a:gd name="adj2" fmla="val 60000"/>
            </a:avLst>
          </a:prstGeom>
          <a:solidFill>
            <a:srgbClr val="8d8dc1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213600" y="4802040"/>
            <a:ext cx="455400" cy="381240"/>
          </a:xfrm>
          <a:prstGeom prst="downArrow">
            <a:avLst>
              <a:gd name="adj1" fmla="val 58889"/>
              <a:gd name="adj2" fmla="val 60000"/>
            </a:avLst>
          </a:prstGeom>
          <a:solidFill>
            <a:srgbClr val="84cab8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368280" y="4314960"/>
            <a:ext cx="380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meGallery is a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Design Digital Content &amp; Contents mal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veloped by Guild Design In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4395960" y="5257800"/>
            <a:ext cx="4051080" cy="914400"/>
            <a:chOff x="4395960" y="5257800"/>
            <a:chExt cx="4051080" cy="914400"/>
          </a:xfrm>
        </p:grpSpPr>
        <p:sp>
          <p:nvSpPr>
            <p:cNvPr id="318" name=""/>
            <p:cNvSpPr/>
            <p:nvPr/>
          </p:nvSpPr>
          <p:spPr>
            <a:xfrm>
              <a:off x="4395960" y="5257800"/>
              <a:ext cx="4051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406760" y="5267160"/>
              <a:ext cx="4025520" cy="416160"/>
            </a:xfrm>
            <a:prstGeom prst="rect">
              <a:avLst/>
            </a:prstGeom>
            <a:solidFill>
              <a:srgbClr val="79b4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408200" y="5664240"/>
              <a:ext cx="4024080" cy="498600"/>
            </a:xfrm>
            <a:prstGeom prst="rect">
              <a:avLst/>
            </a:prstGeom>
            <a:gradFill rotWithShape="0">
              <a:gsLst>
                <a:gs pos="0">
                  <a:srgbClr val="79b4d1"/>
                </a:gs>
                <a:gs pos="100000">
                  <a:srgbClr val="acd0e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4776840" y="5791320"/>
            <a:ext cx="32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of the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4406760" y="2698920"/>
            <a:ext cx="4051440" cy="914400"/>
            <a:chOff x="4406760" y="2698920"/>
            <a:chExt cx="4051440" cy="914400"/>
          </a:xfrm>
        </p:grpSpPr>
        <p:sp>
          <p:nvSpPr>
            <p:cNvPr id="323" name=""/>
            <p:cNvSpPr/>
            <p:nvPr/>
          </p:nvSpPr>
          <p:spPr>
            <a:xfrm>
              <a:off x="4406760" y="2698920"/>
              <a:ext cx="405144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417920" y="2708280"/>
              <a:ext cx="4025880" cy="425520"/>
            </a:xfrm>
            <a:prstGeom prst="rect">
              <a:avLst/>
            </a:prstGeom>
            <a:solidFill>
              <a:srgbClr val="8d8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419360" y="3105360"/>
              <a:ext cx="4024440" cy="498600"/>
            </a:xfrm>
            <a:prstGeom prst="rect">
              <a:avLst/>
            </a:prstGeom>
            <a:gradFill rotWithShape="0">
              <a:gsLst>
                <a:gs pos="0">
                  <a:srgbClr val="8d8dc1"/>
                </a:gs>
                <a:gs pos="100000">
                  <a:srgbClr val="b8b8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4775040" y="3218040"/>
            <a:ext cx="32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of the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4394160" y="3962520"/>
            <a:ext cx="4051440" cy="914400"/>
            <a:chOff x="4394160" y="3962520"/>
            <a:chExt cx="4051440" cy="914400"/>
          </a:xfrm>
        </p:grpSpPr>
        <p:sp>
          <p:nvSpPr>
            <p:cNvPr id="328" name=""/>
            <p:cNvSpPr/>
            <p:nvPr/>
          </p:nvSpPr>
          <p:spPr>
            <a:xfrm>
              <a:off x="4394160" y="3962520"/>
              <a:ext cx="405144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416480" y="3971880"/>
              <a:ext cx="4014720" cy="416160"/>
            </a:xfrm>
            <a:prstGeom prst="rect">
              <a:avLst/>
            </a:prstGeom>
            <a:solidFill>
              <a:srgbClr val="84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406760" y="4368960"/>
              <a:ext cx="4024440" cy="498600"/>
            </a:xfrm>
            <a:prstGeom prst="rect">
              <a:avLst/>
            </a:prstGeom>
            <a:gradFill rotWithShape="0">
              <a:gsLst>
                <a:gs pos="0">
                  <a:srgbClr val="84cab8"/>
                </a:gs>
                <a:gs pos="100000">
                  <a:srgbClr val="b3ddd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4775040" y="4487760"/>
            <a:ext cx="32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of the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219640" y="5265720"/>
            <a:ext cx="2432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itle in 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251320" y="2692440"/>
            <a:ext cx="2432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itle in 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251320" y="3940200"/>
            <a:ext cx="2432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itle in 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0360" y="1905120"/>
            <a:ext cx="2831760" cy="2376360"/>
            <a:chOff x="630360" y="1905120"/>
            <a:chExt cx="2831760" cy="2376360"/>
          </a:xfrm>
        </p:grpSpPr>
        <p:sp>
          <p:nvSpPr>
            <p:cNvPr id="336" name=""/>
            <p:cNvSpPr/>
            <p:nvPr/>
          </p:nvSpPr>
          <p:spPr>
            <a:xfrm flipH="1">
              <a:off x="1897920" y="3567240"/>
              <a:ext cx="1335240" cy="685800"/>
            </a:xfrm>
            <a:custGeom>
              <a:avLst/>
              <a:gdLst/>
              <a:ahLst/>
              <a:rect l="l" t="t" r="r" b="b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3333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116000" y="3397320"/>
              <a:ext cx="1400400" cy="663480"/>
            </a:xfrm>
            <a:custGeom>
              <a:avLst/>
              <a:gdLst/>
              <a:ahLst/>
              <a:rect l="l" t="t" r="r" b="b"/>
              <a:pathLst>
                <a:path w="882" h="425">
                  <a:moveTo>
                    <a:pt x="882" y="374"/>
                  </a:moveTo>
                  <a:lnTo>
                    <a:pt x="719" y="425"/>
                  </a:lnTo>
                  <a:lnTo>
                    <a:pt x="88" y="93"/>
                  </a:lnTo>
                  <a:cubicBezTo>
                    <a:pt x="0" y="23"/>
                    <a:pt x="145" y="5"/>
                    <a:pt x="188" y="3"/>
                  </a:cubicBezTo>
                  <a:cubicBezTo>
                    <a:pt x="218" y="0"/>
                    <a:pt x="221" y="8"/>
                    <a:pt x="343" y="73"/>
                  </a:cubicBezTo>
                  <a:lnTo>
                    <a:pt x="882" y="374"/>
                  </a:ln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3333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30360" y="3719520"/>
              <a:ext cx="1187280" cy="561960"/>
            </a:xfrm>
            <a:custGeom>
              <a:avLst/>
              <a:gdLst/>
              <a:ahLst/>
              <a:rect l="l" t="t" r="r" b="b"/>
              <a:pathLst>
                <a:path w="748" h="354">
                  <a:moveTo>
                    <a:pt x="748" y="320"/>
                  </a:moveTo>
                  <a:lnTo>
                    <a:pt x="604" y="354"/>
                  </a:lnTo>
                  <a:lnTo>
                    <a:pt x="63" y="84"/>
                  </a:lnTo>
                  <a:cubicBezTo>
                    <a:pt x="0" y="31"/>
                    <a:pt x="107" y="0"/>
                    <a:pt x="221" y="39"/>
                  </a:cubicBezTo>
                  <a:lnTo>
                    <a:pt x="748" y="320"/>
                  </a:ln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3333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9" name=""/>
            <p:cNvGrpSpPr/>
            <p:nvPr/>
          </p:nvGrpSpPr>
          <p:grpSpPr>
            <a:xfrm>
              <a:off x="1376280" y="1905120"/>
              <a:ext cx="2085840" cy="2364840"/>
              <a:chOff x="1376280" y="1905120"/>
              <a:chExt cx="2085840" cy="2364840"/>
            </a:xfrm>
          </p:grpSpPr>
          <p:sp>
            <p:nvSpPr>
              <p:cNvPr id="340" name=""/>
              <p:cNvSpPr/>
              <p:nvPr/>
            </p:nvSpPr>
            <p:spPr>
              <a:xfrm flipH="1">
                <a:off x="2792520" y="2543400"/>
                <a:ext cx="669600" cy="1690920"/>
              </a:xfrm>
              <a:custGeom>
                <a:avLst/>
                <a:gdLst/>
                <a:ahLst/>
                <a:rect l="l" t="t" r="r" b="b"/>
                <a:pathLst>
                  <a:path w="224" h="569">
                    <a:moveTo>
                      <a:pt x="103" y="101"/>
                    </a:moveTo>
                    <a:cubicBezTo>
                      <a:pt x="87" y="94"/>
                      <a:pt x="75" y="75"/>
                      <a:pt x="74" y="50"/>
                    </a:cubicBezTo>
                    <a:cubicBezTo>
                      <a:pt x="72" y="26"/>
                      <a:pt x="90" y="0"/>
                      <a:pt x="121" y="1"/>
                    </a:cubicBezTo>
                    <a:cubicBezTo>
                      <a:pt x="152" y="2"/>
                      <a:pt x="172" y="18"/>
                      <a:pt x="171" y="52"/>
                    </a:cubicBezTo>
                    <a:cubicBezTo>
                      <a:pt x="170" y="85"/>
                      <a:pt x="151" y="96"/>
                      <a:pt x="135" y="101"/>
                    </a:cubicBezTo>
                    <a:cubicBezTo>
                      <a:pt x="132" y="111"/>
                      <a:pt x="132" y="118"/>
                      <a:pt x="134" y="124"/>
                    </a:cubicBezTo>
                    <a:cubicBezTo>
                      <a:pt x="151" y="131"/>
                      <a:pt x="194" y="132"/>
                      <a:pt x="209" y="145"/>
                    </a:cubicBezTo>
                    <a:cubicBezTo>
                      <a:pt x="224" y="156"/>
                      <a:pt x="219" y="175"/>
                      <a:pt x="221" y="204"/>
                    </a:cubicBezTo>
                    <a:lnTo>
                      <a:pt x="218" y="321"/>
                    </a:lnTo>
                    <a:cubicBezTo>
                      <a:pt x="216" y="348"/>
                      <a:pt x="212" y="367"/>
                      <a:pt x="209" y="365"/>
                    </a:cubicBezTo>
                    <a:cubicBezTo>
                      <a:pt x="199" y="370"/>
                      <a:pt x="200" y="335"/>
                      <a:pt x="196" y="308"/>
                    </a:cubicBezTo>
                    <a:lnTo>
                      <a:pt x="187" y="202"/>
                    </a:lnTo>
                    <a:cubicBezTo>
                      <a:pt x="182" y="204"/>
                      <a:pt x="177" y="260"/>
                      <a:pt x="170" y="321"/>
                    </a:cubicBezTo>
                    <a:lnTo>
                      <a:pt x="144" y="569"/>
                    </a:lnTo>
                    <a:lnTo>
                      <a:pt x="78" y="565"/>
                    </a:lnTo>
                    <a:lnTo>
                      <a:pt x="50" y="325"/>
                    </a:lnTo>
                    <a:cubicBezTo>
                      <a:pt x="39" y="255"/>
                      <a:pt x="37" y="211"/>
                      <a:pt x="33" y="208"/>
                    </a:cubicBezTo>
                    <a:lnTo>
                      <a:pt x="25" y="310"/>
                    </a:lnTo>
                    <a:cubicBezTo>
                      <a:pt x="22" y="336"/>
                      <a:pt x="16" y="366"/>
                      <a:pt x="12" y="365"/>
                    </a:cubicBezTo>
                    <a:cubicBezTo>
                      <a:pt x="4" y="365"/>
                      <a:pt x="2" y="335"/>
                      <a:pt x="1" y="305"/>
                    </a:cubicBezTo>
                    <a:cubicBezTo>
                      <a:pt x="0" y="275"/>
                      <a:pt x="3" y="212"/>
                      <a:pt x="7" y="184"/>
                    </a:cubicBezTo>
                    <a:cubicBezTo>
                      <a:pt x="12" y="157"/>
                      <a:pt x="7" y="150"/>
                      <a:pt x="23" y="140"/>
                    </a:cubicBezTo>
                    <a:cubicBezTo>
                      <a:pt x="39" y="131"/>
                      <a:pt x="89" y="131"/>
                      <a:pt x="102" y="124"/>
                    </a:cubicBezTo>
                    <a:cubicBezTo>
                      <a:pt x="106" y="120"/>
                      <a:pt x="108" y="108"/>
                      <a:pt x="103" y="10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fbfbf"/>
                  </a:gs>
                  <a:gs pos="100000">
                    <a:srgbClr val="eaeaea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H="1">
                <a:off x="1974960" y="1905120"/>
                <a:ext cx="842400" cy="2127240"/>
              </a:xfrm>
              <a:custGeom>
                <a:avLst/>
                <a:gdLst/>
                <a:ahLst/>
                <a:rect l="l" t="t" r="r" b="b"/>
                <a:pathLst>
                  <a:path w="224" h="569">
                    <a:moveTo>
                      <a:pt x="103" y="101"/>
                    </a:moveTo>
                    <a:cubicBezTo>
                      <a:pt x="87" y="94"/>
                      <a:pt x="75" y="75"/>
                      <a:pt x="74" y="50"/>
                    </a:cubicBezTo>
                    <a:cubicBezTo>
                      <a:pt x="72" y="26"/>
                      <a:pt x="90" y="0"/>
                      <a:pt x="121" y="1"/>
                    </a:cubicBezTo>
                    <a:cubicBezTo>
                      <a:pt x="152" y="2"/>
                      <a:pt x="172" y="18"/>
                      <a:pt x="171" y="52"/>
                    </a:cubicBezTo>
                    <a:cubicBezTo>
                      <a:pt x="170" y="85"/>
                      <a:pt x="151" y="96"/>
                      <a:pt x="135" y="101"/>
                    </a:cubicBezTo>
                    <a:cubicBezTo>
                      <a:pt x="132" y="111"/>
                      <a:pt x="132" y="118"/>
                      <a:pt x="134" y="124"/>
                    </a:cubicBezTo>
                    <a:cubicBezTo>
                      <a:pt x="151" y="131"/>
                      <a:pt x="194" y="132"/>
                      <a:pt x="209" y="145"/>
                    </a:cubicBezTo>
                    <a:cubicBezTo>
                      <a:pt x="224" y="156"/>
                      <a:pt x="219" y="175"/>
                      <a:pt x="221" y="204"/>
                    </a:cubicBezTo>
                    <a:lnTo>
                      <a:pt x="218" y="321"/>
                    </a:lnTo>
                    <a:cubicBezTo>
                      <a:pt x="216" y="348"/>
                      <a:pt x="212" y="367"/>
                      <a:pt x="209" y="365"/>
                    </a:cubicBezTo>
                    <a:cubicBezTo>
                      <a:pt x="199" y="370"/>
                      <a:pt x="200" y="335"/>
                      <a:pt x="196" y="308"/>
                    </a:cubicBezTo>
                    <a:lnTo>
                      <a:pt x="187" y="202"/>
                    </a:lnTo>
                    <a:cubicBezTo>
                      <a:pt x="182" y="204"/>
                      <a:pt x="177" y="260"/>
                      <a:pt x="170" y="321"/>
                    </a:cubicBezTo>
                    <a:lnTo>
                      <a:pt x="144" y="569"/>
                    </a:lnTo>
                    <a:lnTo>
                      <a:pt x="78" y="565"/>
                    </a:lnTo>
                    <a:lnTo>
                      <a:pt x="50" y="325"/>
                    </a:lnTo>
                    <a:cubicBezTo>
                      <a:pt x="39" y="255"/>
                      <a:pt x="37" y="211"/>
                      <a:pt x="33" y="208"/>
                    </a:cubicBezTo>
                    <a:lnTo>
                      <a:pt x="25" y="310"/>
                    </a:lnTo>
                    <a:cubicBezTo>
                      <a:pt x="22" y="336"/>
                      <a:pt x="16" y="366"/>
                      <a:pt x="12" y="365"/>
                    </a:cubicBezTo>
                    <a:cubicBezTo>
                      <a:pt x="4" y="365"/>
                      <a:pt x="2" y="335"/>
                      <a:pt x="1" y="305"/>
                    </a:cubicBezTo>
                    <a:cubicBezTo>
                      <a:pt x="0" y="275"/>
                      <a:pt x="3" y="212"/>
                      <a:pt x="7" y="184"/>
                    </a:cubicBezTo>
                    <a:cubicBezTo>
                      <a:pt x="12" y="157"/>
                      <a:pt x="7" y="150"/>
                      <a:pt x="23" y="140"/>
                    </a:cubicBezTo>
                    <a:cubicBezTo>
                      <a:pt x="39" y="131"/>
                      <a:pt x="89" y="131"/>
                      <a:pt x="102" y="124"/>
                    </a:cubicBezTo>
                    <a:cubicBezTo>
                      <a:pt x="106" y="120"/>
                      <a:pt x="108" y="108"/>
                      <a:pt x="103" y="10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fcfcf"/>
                  </a:gs>
                  <a:gs pos="100000">
                    <a:srgbClr val="eaeaea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H="1">
                <a:off x="1375920" y="2578680"/>
                <a:ext cx="669240" cy="1691280"/>
              </a:xfrm>
              <a:custGeom>
                <a:avLst/>
                <a:gdLst/>
                <a:ahLst/>
                <a:rect l="l" t="t" r="r" b="b"/>
                <a:pathLst>
                  <a:path w="224" h="569">
                    <a:moveTo>
                      <a:pt x="103" y="101"/>
                    </a:moveTo>
                    <a:cubicBezTo>
                      <a:pt x="87" y="94"/>
                      <a:pt x="75" y="75"/>
                      <a:pt x="74" y="50"/>
                    </a:cubicBezTo>
                    <a:cubicBezTo>
                      <a:pt x="72" y="26"/>
                      <a:pt x="90" y="0"/>
                      <a:pt x="121" y="1"/>
                    </a:cubicBezTo>
                    <a:cubicBezTo>
                      <a:pt x="152" y="2"/>
                      <a:pt x="172" y="18"/>
                      <a:pt x="171" y="52"/>
                    </a:cubicBezTo>
                    <a:cubicBezTo>
                      <a:pt x="170" y="85"/>
                      <a:pt x="151" y="96"/>
                      <a:pt x="135" y="101"/>
                    </a:cubicBezTo>
                    <a:cubicBezTo>
                      <a:pt x="132" y="111"/>
                      <a:pt x="132" y="118"/>
                      <a:pt x="134" y="124"/>
                    </a:cubicBezTo>
                    <a:cubicBezTo>
                      <a:pt x="151" y="131"/>
                      <a:pt x="194" y="132"/>
                      <a:pt x="209" y="145"/>
                    </a:cubicBezTo>
                    <a:cubicBezTo>
                      <a:pt x="224" y="156"/>
                      <a:pt x="219" y="175"/>
                      <a:pt x="221" y="204"/>
                    </a:cubicBezTo>
                    <a:lnTo>
                      <a:pt x="218" y="321"/>
                    </a:lnTo>
                    <a:cubicBezTo>
                      <a:pt x="216" y="348"/>
                      <a:pt x="212" y="367"/>
                      <a:pt x="209" y="365"/>
                    </a:cubicBezTo>
                    <a:cubicBezTo>
                      <a:pt x="199" y="370"/>
                      <a:pt x="200" y="335"/>
                      <a:pt x="196" y="308"/>
                    </a:cubicBezTo>
                    <a:lnTo>
                      <a:pt x="187" y="202"/>
                    </a:lnTo>
                    <a:cubicBezTo>
                      <a:pt x="182" y="204"/>
                      <a:pt x="177" y="260"/>
                      <a:pt x="170" y="321"/>
                    </a:cubicBezTo>
                    <a:lnTo>
                      <a:pt x="144" y="569"/>
                    </a:lnTo>
                    <a:lnTo>
                      <a:pt x="78" y="565"/>
                    </a:lnTo>
                    <a:lnTo>
                      <a:pt x="50" y="325"/>
                    </a:lnTo>
                    <a:cubicBezTo>
                      <a:pt x="39" y="255"/>
                      <a:pt x="37" y="211"/>
                      <a:pt x="33" y="208"/>
                    </a:cubicBezTo>
                    <a:lnTo>
                      <a:pt x="25" y="310"/>
                    </a:lnTo>
                    <a:cubicBezTo>
                      <a:pt x="22" y="336"/>
                      <a:pt x="16" y="366"/>
                      <a:pt x="12" y="365"/>
                    </a:cubicBezTo>
                    <a:cubicBezTo>
                      <a:pt x="4" y="365"/>
                      <a:pt x="2" y="335"/>
                      <a:pt x="1" y="305"/>
                    </a:cubicBezTo>
                    <a:cubicBezTo>
                      <a:pt x="0" y="275"/>
                      <a:pt x="3" y="212"/>
                      <a:pt x="7" y="184"/>
                    </a:cubicBezTo>
                    <a:cubicBezTo>
                      <a:pt x="12" y="157"/>
                      <a:pt x="7" y="150"/>
                      <a:pt x="23" y="140"/>
                    </a:cubicBezTo>
                    <a:cubicBezTo>
                      <a:pt x="39" y="131"/>
                      <a:pt x="89" y="131"/>
                      <a:pt x="102" y="124"/>
                    </a:cubicBezTo>
                    <a:cubicBezTo>
                      <a:pt x="106" y="120"/>
                      <a:pt x="108" y="108"/>
                      <a:pt x="103" y="10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8c8c8"/>
                  </a:gs>
                  <a:gs pos="100000">
                    <a:srgbClr val="eaeaea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3" name=""/>
          <p:cNvGrpSpPr/>
          <p:nvPr/>
        </p:nvGrpSpPr>
        <p:grpSpPr>
          <a:xfrm>
            <a:off x="4394160" y="1424160"/>
            <a:ext cx="4051440" cy="914400"/>
            <a:chOff x="4394160" y="1424160"/>
            <a:chExt cx="4051440" cy="914400"/>
          </a:xfrm>
        </p:grpSpPr>
        <p:sp>
          <p:nvSpPr>
            <p:cNvPr id="344" name=""/>
            <p:cNvSpPr/>
            <p:nvPr/>
          </p:nvSpPr>
          <p:spPr>
            <a:xfrm>
              <a:off x="4394160" y="1424160"/>
              <a:ext cx="405144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414680" y="1433520"/>
              <a:ext cx="4016520" cy="416160"/>
            </a:xfrm>
            <a:prstGeom prst="rect">
              <a:avLst/>
            </a:prstGeom>
            <a:solidFill>
              <a:srgbClr val="c4ab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406760" y="1830600"/>
              <a:ext cx="4024440" cy="498600"/>
            </a:xfrm>
            <a:prstGeom prst="rect">
              <a:avLst/>
            </a:prstGeom>
            <a:gradFill rotWithShape="0">
              <a:gsLst>
                <a:gs pos="0">
                  <a:srgbClr val="c4abdf"/>
                </a:gs>
                <a:gs pos="100000">
                  <a:srgbClr val="dac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4775040" y="1946160"/>
            <a:ext cx="32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of the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251320" y="1397160"/>
            <a:ext cx="2432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itle in 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18640" y="285480"/>
            <a:ext cx="7410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70d0d"/>
                </a:solidFill>
                <a:latin typeface="Verdana"/>
              </a:rPr>
              <a:t>Click to edit title style</a:t>
            </a:r>
            <a:endParaRPr b="1" lang="en-US" sz="3000" spc="-1" strike="noStrike">
              <a:solidFill>
                <a:srgbClr val="670d0d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914400" y="4753080"/>
            <a:ext cx="3352680" cy="1190520"/>
          </a:xfrm>
          <a:prstGeom prst="roundRect">
            <a:avLst>
              <a:gd name="adj" fmla="val 9481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1143000" y="4552920"/>
            <a:ext cx="2885760" cy="444240"/>
            <a:chOff x="1143000" y="4552920"/>
            <a:chExt cx="2885760" cy="444240"/>
          </a:xfrm>
        </p:grpSpPr>
        <p:sp>
          <p:nvSpPr>
            <p:cNvPr id="352" name=""/>
            <p:cNvSpPr/>
            <p:nvPr/>
          </p:nvSpPr>
          <p:spPr>
            <a:xfrm>
              <a:off x="1143000" y="4552920"/>
              <a:ext cx="2885760" cy="444240"/>
            </a:xfrm>
            <a:prstGeom prst="roundRect">
              <a:avLst>
                <a:gd name="adj" fmla="val 27917"/>
              </a:avLst>
            </a:prstGeom>
            <a:solidFill>
              <a:srgbClr val="7bb11b"/>
            </a:solidFill>
            <a:ln w="0">
              <a:noFill/>
            </a:ln>
            <a:effectLst>
              <a:outerShdw dist="12600" dir="54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162440" y="4556520"/>
              <a:ext cx="2845440" cy="199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efefe">
                    <a:alpha val="30196"/>
                  </a:srgbClr>
                </a:gs>
                <a:gs pos="100000">
                  <a:srgbClr val="7bb11b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"/>
          <p:cNvSpPr/>
          <p:nvPr/>
        </p:nvSpPr>
        <p:spPr>
          <a:xfrm>
            <a:off x="4572000" y="4753080"/>
            <a:ext cx="3352680" cy="1190520"/>
          </a:xfrm>
          <a:prstGeom prst="roundRect">
            <a:avLst>
              <a:gd name="adj" fmla="val 9481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4800600" y="4552920"/>
            <a:ext cx="2885760" cy="444240"/>
            <a:chOff x="4800600" y="4552920"/>
            <a:chExt cx="2885760" cy="444240"/>
          </a:xfrm>
        </p:grpSpPr>
        <p:sp>
          <p:nvSpPr>
            <p:cNvPr id="356" name=""/>
            <p:cNvSpPr/>
            <p:nvPr/>
          </p:nvSpPr>
          <p:spPr>
            <a:xfrm>
              <a:off x="4800600" y="4552920"/>
              <a:ext cx="2885760" cy="444240"/>
            </a:xfrm>
            <a:prstGeom prst="roundRect">
              <a:avLst>
                <a:gd name="adj" fmla="val 27917"/>
              </a:avLst>
            </a:prstGeom>
            <a:solidFill>
              <a:srgbClr val="ff7c80"/>
            </a:solidFill>
            <a:ln w="0">
              <a:noFill/>
            </a:ln>
            <a:effectLst>
              <a:outerShdw dist="12600" dir="54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820040" y="4556520"/>
              <a:ext cx="2845440" cy="199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efefe">
                    <a:alpha val="30196"/>
                  </a:srgbClr>
                </a:gs>
                <a:gs pos="100000">
                  <a:srgbClr val="ff7c8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633240" y="3943440"/>
            <a:ext cx="7824960" cy="552240"/>
            <a:chOff x="633240" y="3943440"/>
            <a:chExt cx="7824960" cy="552240"/>
          </a:xfrm>
        </p:grpSpPr>
        <p:sp>
          <p:nvSpPr>
            <p:cNvPr id="359" name=""/>
            <p:cNvSpPr/>
            <p:nvPr/>
          </p:nvSpPr>
          <p:spPr>
            <a:xfrm>
              <a:off x="633240" y="4078080"/>
              <a:ext cx="345960" cy="277560"/>
            </a:xfrm>
            <a:prstGeom prst="roundRect">
              <a:avLst>
                <a:gd name="adj" fmla="val 29069"/>
              </a:avLst>
            </a:prstGeom>
            <a:solidFill>
              <a:srgbClr val="eaeaea"/>
            </a:solidFill>
            <a:ln w="0">
              <a:noFill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61760" y="3943440"/>
              <a:ext cx="7696440" cy="552240"/>
            </a:xfrm>
            <a:prstGeom prst="rightArrow">
              <a:avLst>
                <a:gd name="adj1" fmla="val 50000"/>
                <a:gd name="adj2" fmla="val 63232"/>
              </a:avLst>
            </a:prstGeom>
            <a:solidFill>
              <a:srgbClr val="eaeaea"/>
            </a:solidFill>
            <a:ln w="0">
              <a:noFill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1600200" y="403848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145040" y="403848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510240" y="403848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914400" y="2133360"/>
            <a:ext cx="0" cy="19047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3270240" y="1797120"/>
            <a:ext cx="0" cy="2241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5610240" y="1339920"/>
            <a:ext cx="0" cy="26985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7974000" y="958320"/>
            <a:ext cx="0" cy="30798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914400" y="3581280"/>
            <a:ext cx="2347920" cy="457200"/>
          </a:xfrm>
          <a:prstGeom prst="bevel">
            <a:avLst>
              <a:gd name="adj" fmla="val 5903"/>
            </a:avLst>
          </a:prstGeom>
          <a:gradFill rotWithShape="0">
            <a:gsLst>
              <a:gs pos="0">
                <a:srgbClr val="b1d3e3"/>
              </a:gs>
              <a:gs pos="100000">
                <a:srgbClr val="79b4d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271680" y="3048120"/>
            <a:ext cx="2347920" cy="990360"/>
          </a:xfrm>
          <a:prstGeom prst="bevel">
            <a:avLst>
              <a:gd name="adj" fmla="val 3046"/>
            </a:avLst>
          </a:prstGeom>
          <a:gradFill rotWithShape="0">
            <a:gsLst>
              <a:gs pos="0">
                <a:srgbClr val="c0c0dc"/>
              </a:gs>
              <a:gs pos="100000">
                <a:srgbClr val="8d8dc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619600" y="2438280"/>
            <a:ext cx="2347920" cy="1600200"/>
          </a:xfrm>
          <a:prstGeom prst="bevel">
            <a:avLst>
              <a:gd name="adj" fmla="val 2481"/>
            </a:avLst>
          </a:prstGeom>
          <a:gradFill rotWithShape="0">
            <a:gsLst>
              <a:gs pos="0">
                <a:srgbClr val="d8c8e9"/>
              </a:gs>
              <a:gs pos="100000">
                <a:srgbClr val="c4abd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914400" y="2409840"/>
            <a:ext cx="2286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meGallery is a Design Digital Content &amp; Contents mall developed by Guild Design Inc.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298680" y="1905120"/>
            <a:ext cx="2286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meGallery is a Design Digital Content &amp; Contents mall developed by Guild Design Inc.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646600" y="1295280"/>
            <a:ext cx="2286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meGallery is a Design Digital Content &amp; Contents mall developed by Guild Design Inc.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143000" y="35845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173240" y="459900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830840" y="459900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020600" y="5075280"/>
            <a:ext cx="3124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668840" y="5075280"/>
            <a:ext cx="3124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505320" y="33526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834160" y="30844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4T10:09:25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4:41Z</dcterms:modified>
  <cp:revision>3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