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0D4-838E-449A-8424-21A87B98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E8C-FB54-43AA-9934-208AB6CF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CFF-E759-4652-85F2-1E6326BA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29D-7F29-44B3-9E3D-EB1C2422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F77E-C552-48AC-A4CA-A810CC66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F95E-DE6C-4E54-AB3C-9A14B45B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23FE-BEE9-4AE6-8780-95C6B11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7C0F-7E82-40DD-9D50-59816E5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9BA2-DE3F-46FF-9CBE-463592E4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80F-F74B-4E57-8163-AA6C48D3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29D2-3FBE-472C-802D-38DE02E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9CF-8076-4F24-B953-2AEFDE2B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6B53-595B-4A20-A1B2-A8C40E5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BAE5-AFE8-4F2C-A086-62CE6F25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264-2FFE-4F89-91DF-0BADC695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E612-28B6-4874-A94B-593B5ACD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5E35-8197-4862-B2CB-1C1DAF01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0E3-88CE-486F-B5F1-DEB7CAA2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1E0-9649-474A-A698-AAA9D9F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FA6-BC0E-4EDF-8AB1-49A6B9EF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3B1-6E0C-4197-867B-BC01033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59B-5889-4BDC-8AE7-75977E29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4B7-2F97-4C14-8F77-8E1CE043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B9C-3912-458C-8482-A0FC3D4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647-03A5-448E-8632-7C37F245FF38}" type="slidenum"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E917-E090-46FF-887A-1825AD207356}" type="slidenum">
              <a:rPr b="0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484360" y="4581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hocolates"/>
          <p:cNvPicPr/>
          <p:nvPr/>
        </p:nvPicPr>
        <p:blipFill>
          <a:blip r:embed="rId17"/>
          <a:stretch/>
        </p:blipFill>
        <p:spPr>
          <a:xfrm>
            <a:off x="228600" y="806400"/>
            <a:ext cx="7467480" cy="6051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000" y="2387520"/>
            <a:ext cx="871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巧克力情人节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打包下载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upid"/>
          <p:cNvPicPr/>
          <p:nvPr/>
        </p:nvPicPr>
        <p:blipFill>
          <a:blip r:embed="rId2"/>
          <a:stretch/>
        </p:blipFill>
        <p:spPr>
          <a:xfrm>
            <a:off x="0" y="91440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upid_flying_hg_clr"/>
          <p:cNvPicPr/>
          <p:nvPr/>
        </p:nvPicPr>
        <p:blipFill>
          <a:blip r:embed="rId2"/>
          <a:stretch/>
        </p:blipFill>
        <p:spPr>
          <a:xfrm>
            <a:off x="0" y="4876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使用规范说明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5FE-4B2E-4688-84F8-9F22B5103911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eart_chocolate_for_you_hg_clr"/>
          <p:cNvPicPr/>
          <p:nvPr/>
        </p:nvPicPr>
        <p:blipFill>
          <a:blip r:embed="rId2"/>
          <a:stretch/>
        </p:blipFill>
        <p:spPr>
          <a:xfrm>
            <a:off x="162000" y="4657680"/>
            <a:ext cx="22003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3:32:43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9:30Z</dcterms:modified>
  <cp:revision>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