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7FC5-9E20-4733-96D2-B81665688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5EB5-E5F5-47B0-9CBD-497EACC1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9C1B-F60E-47E4-9C1D-7D2D27A31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2CD8-23AE-4D3E-8ED6-EF41061D5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C84C-E270-4A49-9867-E56E644B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41FD-C95F-4337-BDD8-3DD63889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C449-645E-41DF-830D-A6D98F2F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5CD7-CBD5-40EA-83C8-58F9CFC8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7F16-4116-4704-918C-ADFCC883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2375-FED2-4161-9E4E-D73DD595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2F63-C17E-49A8-AB88-A4BFA603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92D8-DA22-43D1-B499-0117C715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E2F2-25AD-43D8-8437-74B8F4967BA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5956-27CC-4FA4-83A7-9989A78E8F2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281160" y="5284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75080" y="189000"/>
            <a:ext cx="47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清明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忆清明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内容占位符 3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453360"/>
          </a:xfrm>
          <a:prstGeom prst="rect">
            <a:avLst/>
          </a:prstGeom>
          <a:ln w="0">
            <a:noFill/>
          </a:ln>
        </p:spPr>
      </p:pic>
      <p:pic>
        <p:nvPicPr>
          <p:cNvPr id="46" name="图片 4" descr=""/>
          <p:cNvPicPr/>
          <p:nvPr/>
        </p:nvPicPr>
        <p:blipFill>
          <a:blip r:embed="rId2"/>
          <a:srcRect l="0" t="91256" r="0" b="0"/>
          <a:stretch/>
        </p:blipFill>
        <p:spPr>
          <a:xfrm>
            <a:off x="-20520" y="0"/>
            <a:ext cx="9164520" cy="600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C9DA-F59C-4868-A3A9-C202E220DC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2T11:51:00Z</dcterms:created>
  <dc:creator>pc</dc:creator>
  <dc:description>www.eeppt.com;</dc:description>
  <cp:keywords>www.eeppt.com</cp:keywords>
  <dc:language>en-US</dc:language>
  <cp:lastModifiedBy>lenovo</cp:lastModifiedBy>
  <dcterms:modified xsi:type="dcterms:W3CDTF">2015-09-18T13:21:48Z</dcterms:modified>
  <cp:revision>7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