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4D94-F621-454C-8CF6-C2353723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534744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938D-778C-4B56-918D-548F7B74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16760" y="5028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53474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16760" y="53474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EFB9-FC3C-4F9F-B21F-917DEC6B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1600" y="50288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77760" y="50288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53474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1600" y="53474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77760" y="53474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D9F6-E647-4789-B4E8-E0DD05AF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5E11-8EA6-4B11-9149-3C43F518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50288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2559-3DD6-4987-AF16-ACA0AACF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8517-767B-446E-9D7F-F7A4048B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16760" y="502884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0C43-F6C8-42A4-AE79-6FA07151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4D05-BB1A-4836-B960-3D2EB3EA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012E-5AC8-48B6-923F-E4DCA9F7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16760" y="502884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53474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A45D-2780-4784-92B6-A4A719C7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50288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D65-7D97-4FED-978F-ACD1E5DE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16760" y="5028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16760" y="53474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8006-31E9-4760-B981-05E07B08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16760" y="5028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534744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031A-32D9-4446-835A-EBE313DB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534744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E625-35DA-43D1-87BB-8A4ACD75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16760" y="5028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53474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16760" y="53474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45E7-659E-42FC-8DF2-01B36B4A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1600" y="50288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77760" y="50288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53474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1600" y="53474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77760" y="53474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E1BA-9884-4ABF-B6B2-719BE244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2092-92E6-499A-8D85-B49D1E8C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16760" y="502884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9C9-BD55-4C9A-9773-F62E77E5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288B-422B-4BBD-81AE-94279746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6C1-A57F-4202-AC64-EC7A982E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16760" y="502884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53474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17E-CDA0-4D58-9181-93ABCF85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16760" y="5028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16760" y="53474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8CCC-2F4D-4E5F-888F-73FF9E2B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16760" y="5028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534744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CAC0-829A-4396-978F-3FBAEEF7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f53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7315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f5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f53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2f53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2f53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f53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2f53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2f5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f53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2f53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2f53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f53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2f53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2f53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f53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2f53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f53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2f53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f53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50A5-0362-4CC1-8D95-5B2D0956D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f53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767A-981E-4B02-BF7A-E76A4B7B5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f5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2f53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2f5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f5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2f53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2f53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f53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2f53"/>
              </a:solidFill>
              <a:latin typeface="Century Gothic"/>
            </a:endParaRPr>
          </a:p>
          <a:p>
            <a:pPr lvl="4" marL="1828800" algn="ctr">
              <a:spcBef>
                <a:spcPts val="451"/>
              </a:spcBef>
              <a:buClr>
                <a:srgbClr val="002f53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f53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2f53"/>
              </a:solidFill>
              <a:latin typeface="Century Gothic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f53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2f53"/>
              </a:solidFill>
              <a:latin typeface="Century Gothic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f53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2f53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f53"/>
                </a:solidFill>
                <a:latin typeface="Century Gothic"/>
              </a:rPr>
              <a:t>PRUSSIAN BLUE</a:t>
            </a: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440" y="50288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Your Subtitle Goes He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12280" y="45720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青色简洁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f53"/>
                </a:solidFill>
                <a:latin typeface="Century Gothic"/>
              </a:rPr>
              <a:t>YOUR TOPIC GOES HERE</a:t>
            </a: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315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f5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f53"/>
                </a:solidFill>
                <a:latin typeface="Century Gothic"/>
              </a:rPr>
              <a:t>Your Subtopics Go Here</a:t>
            </a:r>
            <a:endParaRPr b="0" lang="en-US" sz="2800" spc="-1" strike="noStrike">
              <a:solidFill>
                <a:srgbClr val="002f53"/>
              </a:solidFill>
              <a:latin typeface="Century Gothic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924680" y="3514680"/>
            <a:ext cx="10573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f53"/>
                </a:solidFill>
                <a:latin typeface="Century Gothic"/>
              </a:rPr>
              <a:t>YOUR TOPIC GOES HERE</a:t>
            </a: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315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Your Subtopics Go Here</a:t>
            </a:r>
            <a:endParaRPr b="0" lang="en-US" sz="28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f53"/>
                </a:solidFill>
                <a:latin typeface="Century Gothic"/>
              </a:rPr>
              <a:t>Transitional Page</a:t>
            </a: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2f53"/>
                </a:solidFill>
                <a:latin typeface="Century Gothic"/>
              </a:rPr>
              <a:t>使用规范说明</a:t>
            </a: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：</a:t>
            </a:r>
            <a:endParaRPr b="0" lang="en-US" sz="14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entury Gothic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entury Gothic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entury Gothic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entury Gothic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entury Gothi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特别说明：</a:t>
            </a:r>
            <a:endParaRPr b="0" lang="en-US" sz="14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：</a:t>
            </a:r>
            <a:endParaRPr b="0" lang="en-US" sz="14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C92C-55D0-4E3F-8978-F13C87512F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elements</a:t>
            </a: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3124440" cy="2343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981080" y="1276200"/>
            <a:ext cx="3124440" cy="2343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981080" y="4095720"/>
            <a:ext cx="3124440" cy="2343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638680" y="1276200"/>
            <a:ext cx="3124440" cy="2343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80880" y="2209680"/>
            <a:ext cx="1057320" cy="1362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440" y="50288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18:26:1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6:00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