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9D6-8E86-4575-A3F5-F9C03A5A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BF7-AC02-42D0-A5E2-10C7725C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146-A5CF-4C82-AA3F-5976B85C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35D-906D-4196-B78C-49E51546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4BD-9BBC-42F7-B330-9A55EA19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8F1-5E76-40D8-93B2-27A0E22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FC6-D897-4400-AB19-26F6FA6D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2CA-67A9-4A4F-ADEA-A60E0593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169-06F9-44B5-8EFE-43F7E502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629-16EE-4A95-A175-EE25C5D0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457-E68C-45AD-ACEB-C665457C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E80-0732-457F-98DA-39CE3B90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4C6-4F86-43BB-83E1-2CBE35F156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54760" y="1917720"/>
            <a:ext cx="1521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718a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776000" y="1413000"/>
            <a:ext cx="10951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718a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7000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爽商务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3E5-E69E-45D1-98B2-3FDC446533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18572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6212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071880" y="564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414072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786120" y="1000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140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069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00016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97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78628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35690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854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344880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28600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83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142884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599796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99764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352008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2354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14080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549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1:51Z</dcterms:modified>
  <cp:revision>30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