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481-9258-4E65-B209-6345D74C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F70-58CB-4FE6-AFD2-A4B25035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751-61C6-4E35-B486-228ED44E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ED9-9B7E-415E-B1A1-F7050E1C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731-1269-4EEC-8052-C9C76E20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7E4-4C69-4565-96F3-FDB8317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F08-91CB-44D3-8071-6DA6DD2F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1BF-CEA9-4656-9EF3-E0868A9B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F9F-BF3A-40CA-BC3D-AD7A955A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69C-BB2C-41D3-8D5E-FC399912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A49-CE08-4E0B-BA5E-A0A0A3D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679-FF78-4B2C-89E0-E2037F6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BF5-0ED5-413E-B731-3C0DFB3877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2600" y="33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七夕情人节精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3"/>
          <p:cNvGrpSpPr/>
          <p:nvPr/>
        </p:nvGrpSpPr>
        <p:grpSpPr>
          <a:xfrm>
            <a:off x="2700360" y="2705040"/>
            <a:ext cx="4896000" cy="684360"/>
            <a:chOff x="2700360" y="2705040"/>
            <a:chExt cx="4896000" cy="684360"/>
          </a:xfrm>
        </p:grpSpPr>
        <p:sp>
          <p:nvSpPr>
            <p:cNvPr id="45" name="任意多边形 5"/>
            <p:cNvSpPr/>
            <p:nvPr/>
          </p:nvSpPr>
          <p:spPr>
            <a:xfrm>
              <a:off x="2700360" y="270504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6"/>
            <p:cNvSpPr/>
            <p:nvPr/>
          </p:nvSpPr>
          <p:spPr>
            <a:xfrm>
              <a:off x="2748240" y="272160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"/>
          <p:cNvGrpSpPr/>
          <p:nvPr/>
        </p:nvGrpSpPr>
        <p:grpSpPr>
          <a:xfrm>
            <a:off x="2700360" y="3471840"/>
            <a:ext cx="4896000" cy="682560"/>
            <a:chOff x="2700360" y="3471840"/>
            <a:chExt cx="4896000" cy="682560"/>
          </a:xfrm>
        </p:grpSpPr>
        <p:sp>
          <p:nvSpPr>
            <p:cNvPr id="48" name="任意多边形 8"/>
            <p:cNvSpPr/>
            <p:nvPr/>
          </p:nvSpPr>
          <p:spPr>
            <a:xfrm>
              <a:off x="2700360" y="3471840"/>
              <a:ext cx="489600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"/>
            <p:cNvSpPr/>
            <p:nvPr/>
          </p:nvSpPr>
          <p:spPr>
            <a:xfrm>
              <a:off x="2748240" y="348840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9"/>
          <p:cNvGrpSpPr/>
          <p:nvPr/>
        </p:nvGrpSpPr>
        <p:grpSpPr>
          <a:xfrm>
            <a:off x="2700360" y="4237200"/>
            <a:ext cx="4896000" cy="684000"/>
            <a:chOff x="2700360" y="4237200"/>
            <a:chExt cx="4896000" cy="684000"/>
          </a:xfrm>
        </p:grpSpPr>
        <p:sp>
          <p:nvSpPr>
            <p:cNvPr id="51" name="任意多边形 11"/>
            <p:cNvSpPr/>
            <p:nvPr/>
          </p:nvSpPr>
          <p:spPr>
            <a:xfrm>
              <a:off x="2700360" y="4237200"/>
              <a:ext cx="489600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2"/>
            <p:cNvSpPr/>
            <p:nvPr/>
          </p:nvSpPr>
          <p:spPr>
            <a:xfrm>
              <a:off x="2748240" y="4253760"/>
              <a:ext cx="479988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2700360" y="5003640"/>
            <a:ext cx="4896000" cy="682920"/>
            <a:chOff x="2700360" y="5003640"/>
            <a:chExt cx="4896000" cy="682920"/>
          </a:xfrm>
        </p:grpSpPr>
        <p:sp>
          <p:nvSpPr>
            <p:cNvPr id="54" name="任意多边形 14"/>
            <p:cNvSpPr/>
            <p:nvPr/>
          </p:nvSpPr>
          <p:spPr>
            <a:xfrm>
              <a:off x="2700360" y="5003640"/>
              <a:ext cx="4896000" cy="68292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5"/>
            <p:cNvSpPr/>
            <p:nvPr/>
          </p:nvSpPr>
          <p:spPr>
            <a:xfrm>
              <a:off x="2748240" y="5020200"/>
              <a:ext cx="4799880" cy="64980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2700360" y="5769000"/>
            <a:ext cx="4896000" cy="684360"/>
            <a:chOff x="2700360" y="5769000"/>
            <a:chExt cx="4896000" cy="684360"/>
          </a:xfrm>
        </p:grpSpPr>
        <p:sp>
          <p:nvSpPr>
            <p:cNvPr id="57" name="任意多边形 17"/>
            <p:cNvSpPr/>
            <p:nvPr/>
          </p:nvSpPr>
          <p:spPr>
            <a:xfrm>
              <a:off x="2700360" y="576900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8"/>
            <p:cNvSpPr/>
            <p:nvPr/>
          </p:nvSpPr>
          <p:spPr>
            <a:xfrm>
              <a:off x="2748240" y="578556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1763640" y="1898640"/>
            <a:ext cx="5832720" cy="684360"/>
            <a:chOff x="1763640" y="1898640"/>
            <a:chExt cx="5832720" cy="684360"/>
          </a:xfrm>
        </p:grpSpPr>
        <p:sp>
          <p:nvSpPr>
            <p:cNvPr id="60" name="任意多边形 23"/>
            <p:cNvSpPr/>
            <p:nvPr/>
          </p:nvSpPr>
          <p:spPr>
            <a:xfrm>
              <a:off x="1763640" y="1898640"/>
              <a:ext cx="583272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1798920" y="1911960"/>
              <a:ext cx="5760000" cy="659160"/>
              <a:chOff x="1798920" y="1911960"/>
              <a:chExt cx="5760000" cy="659160"/>
            </a:xfrm>
          </p:grpSpPr>
          <p:pic>
            <p:nvPicPr>
              <p:cNvPr id="62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8920" y="1911960"/>
                <a:ext cx="576000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22"/>
              <p:cNvSpPr/>
              <p:nvPr/>
            </p:nvSpPr>
            <p:spPr>
              <a:xfrm>
                <a:off x="1810440" y="1914840"/>
                <a:ext cx="573840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23"/>
          <p:cNvGrpSpPr/>
          <p:nvPr/>
        </p:nvGrpSpPr>
        <p:grpSpPr>
          <a:xfrm>
            <a:off x="1765440" y="2705040"/>
            <a:ext cx="718920" cy="684360"/>
            <a:chOff x="1765440" y="2705040"/>
            <a:chExt cx="718920" cy="684360"/>
          </a:xfrm>
        </p:grpSpPr>
        <p:sp>
          <p:nvSpPr>
            <p:cNvPr id="65" name="圆角矩形 26"/>
            <p:cNvSpPr/>
            <p:nvPr/>
          </p:nvSpPr>
          <p:spPr>
            <a:xfrm>
              <a:off x="1765440" y="270504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5"/>
            <p:cNvGrpSpPr/>
            <p:nvPr/>
          </p:nvGrpSpPr>
          <p:grpSpPr>
            <a:xfrm>
              <a:off x="1794600" y="2716200"/>
              <a:ext cx="658800" cy="665280"/>
              <a:chOff x="1794600" y="2716200"/>
              <a:chExt cx="658800" cy="665280"/>
            </a:xfrm>
          </p:grpSpPr>
          <p:pic>
            <p:nvPicPr>
              <p:cNvPr id="67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4600" y="271620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27"/>
              <p:cNvSpPr/>
              <p:nvPr/>
            </p:nvSpPr>
            <p:spPr>
              <a:xfrm>
                <a:off x="1831680" y="27532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28"/>
          <p:cNvGrpSpPr/>
          <p:nvPr/>
        </p:nvGrpSpPr>
        <p:grpSpPr>
          <a:xfrm>
            <a:off x="1765440" y="3471840"/>
            <a:ext cx="718920" cy="682560"/>
            <a:chOff x="1765440" y="3471840"/>
            <a:chExt cx="718920" cy="682560"/>
          </a:xfrm>
        </p:grpSpPr>
        <p:sp>
          <p:nvSpPr>
            <p:cNvPr id="70" name="圆角矩形 29"/>
            <p:cNvSpPr/>
            <p:nvPr/>
          </p:nvSpPr>
          <p:spPr>
            <a:xfrm>
              <a:off x="1765440" y="3471840"/>
              <a:ext cx="71892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1794600" y="3485160"/>
              <a:ext cx="658800" cy="657360"/>
              <a:chOff x="1794600" y="3485160"/>
              <a:chExt cx="658800" cy="657360"/>
            </a:xfrm>
          </p:grpSpPr>
          <p:pic>
            <p:nvPicPr>
              <p:cNvPr id="72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794600" y="3485160"/>
                <a:ext cx="65880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32"/>
              <p:cNvSpPr/>
              <p:nvPr/>
            </p:nvSpPr>
            <p:spPr>
              <a:xfrm>
                <a:off x="1831680" y="351972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33"/>
          <p:cNvGrpSpPr/>
          <p:nvPr/>
        </p:nvGrpSpPr>
        <p:grpSpPr>
          <a:xfrm>
            <a:off x="1765440" y="4237200"/>
            <a:ext cx="718920" cy="684000"/>
            <a:chOff x="1765440" y="4237200"/>
            <a:chExt cx="718920" cy="684000"/>
          </a:xfrm>
        </p:grpSpPr>
        <p:sp>
          <p:nvSpPr>
            <p:cNvPr id="75" name="圆角矩形 32"/>
            <p:cNvSpPr/>
            <p:nvPr/>
          </p:nvSpPr>
          <p:spPr>
            <a:xfrm>
              <a:off x="1765440" y="4237200"/>
              <a:ext cx="71892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5"/>
            <p:cNvGrpSpPr/>
            <p:nvPr/>
          </p:nvGrpSpPr>
          <p:grpSpPr>
            <a:xfrm>
              <a:off x="1794600" y="4246560"/>
              <a:ext cx="658800" cy="664920"/>
              <a:chOff x="1794600" y="4246560"/>
              <a:chExt cx="658800" cy="664920"/>
            </a:xfrm>
          </p:grpSpPr>
          <p:pic>
            <p:nvPicPr>
              <p:cNvPr id="7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4600" y="4246560"/>
                <a:ext cx="65880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37"/>
              <p:cNvSpPr/>
              <p:nvPr/>
            </p:nvSpPr>
            <p:spPr>
              <a:xfrm>
                <a:off x="1831680" y="428544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38"/>
          <p:cNvGrpSpPr/>
          <p:nvPr/>
        </p:nvGrpSpPr>
        <p:grpSpPr>
          <a:xfrm>
            <a:off x="1765440" y="5003640"/>
            <a:ext cx="718920" cy="682920"/>
            <a:chOff x="1765440" y="5003640"/>
            <a:chExt cx="718920" cy="682920"/>
          </a:xfrm>
        </p:grpSpPr>
        <p:sp>
          <p:nvSpPr>
            <p:cNvPr id="80" name="圆角矩形 35"/>
            <p:cNvSpPr/>
            <p:nvPr/>
          </p:nvSpPr>
          <p:spPr>
            <a:xfrm>
              <a:off x="1765440" y="5003640"/>
              <a:ext cx="718920" cy="68292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0"/>
            <p:cNvGrpSpPr/>
            <p:nvPr/>
          </p:nvGrpSpPr>
          <p:grpSpPr>
            <a:xfrm>
              <a:off x="1794600" y="5015160"/>
              <a:ext cx="658800" cy="663840"/>
              <a:chOff x="1794600" y="5015160"/>
              <a:chExt cx="658800" cy="663840"/>
            </a:xfrm>
          </p:grpSpPr>
          <p:pic>
            <p:nvPicPr>
              <p:cNvPr id="82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794600" y="5015160"/>
                <a:ext cx="658800" cy="6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42"/>
              <p:cNvSpPr/>
              <p:nvPr/>
            </p:nvSpPr>
            <p:spPr>
              <a:xfrm>
                <a:off x="1831680" y="5051520"/>
                <a:ext cx="58608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43"/>
          <p:cNvGrpSpPr/>
          <p:nvPr/>
        </p:nvGrpSpPr>
        <p:grpSpPr>
          <a:xfrm>
            <a:off x="1765440" y="5769000"/>
            <a:ext cx="718920" cy="684360"/>
            <a:chOff x="1765440" y="5769000"/>
            <a:chExt cx="718920" cy="684360"/>
          </a:xfrm>
        </p:grpSpPr>
        <p:sp>
          <p:nvSpPr>
            <p:cNvPr id="85" name="圆角矩形 38"/>
            <p:cNvSpPr/>
            <p:nvPr/>
          </p:nvSpPr>
          <p:spPr>
            <a:xfrm>
              <a:off x="1765440" y="576900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45"/>
            <p:cNvGrpSpPr/>
            <p:nvPr/>
          </p:nvGrpSpPr>
          <p:grpSpPr>
            <a:xfrm>
              <a:off x="1794600" y="5776560"/>
              <a:ext cx="658800" cy="665280"/>
              <a:chOff x="1794600" y="5776560"/>
              <a:chExt cx="658800" cy="665280"/>
            </a:xfrm>
          </p:grpSpPr>
          <p:pic>
            <p:nvPicPr>
              <p:cNvPr id="87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794600" y="577656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7"/>
              <p:cNvSpPr/>
              <p:nvPr/>
            </p:nvSpPr>
            <p:spPr>
              <a:xfrm>
                <a:off x="1831680" y="58168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162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831-7172-42C7-A7A5-74155012DC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4"/>
          <p:cNvSpPr/>
          <p:nvPr/>
        </p:nvSpPr>
        <p:spPr>
          <a:xfrm>
            <a:off x="395280" y="573264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09:39:51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4:38Z</dcterms:modified>
  <cp:revision>1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