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B1C-1ADA-4846-B666-5C324791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F61-B566-4C90-BAD4-6C2081CF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A6E-F2FB-4011-9484-E1058315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960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92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960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92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008-A1EE-48C0-B366-8423B00E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17F5-8B27-41A2-88B4-7469FC44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22A-8CD4-40CD-83F4-250633F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038B-3002-401A-91A7-8A3FF51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FC7B-95FF-4011-974A-CEB26333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961-1874-49B6-939C-ADF618A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456408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4D8-4561-45E2-8DA3-FA894D59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2A9-4330-4F75-8C92-43ADA88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106-2950-4881-9417-AFBB68F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215B-EED0-4626-8333-50539FF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20D6-80B5-44EE-A152-A07AA9A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989-BCFC-447C-86AC-DC485C98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A4AC-7F8A-48AB-AA48-4488B1F2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960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92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9564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960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92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2DEA-4101-4E44-B99D-06847B5A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29E-1C51-4306-8923-A7B3E820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59A-F990-43A6-ACF5-4CD3B49F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7E2-A643-47F7-A63D-E41A329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456408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78E-3D3D-4E03-BE37-7A2CF77C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CC6-100A-4E1F-9935-A52DAFB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494-194C-440B-AD34-18B6E28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969-AE1F-4817-8B40-6B7A3216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7CB1-32B8-4EA5-97A2-4C90AC4891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837-D340-40F7-A17C-FD638ABF6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3070080"/>
            <a:ext cx="4280040" cy="50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POWERPOIN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44444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3807000"/>
            <a:ext cx="23763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5532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2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c0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dba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7698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3E3-7595-429E-8C0D-E322F74FE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908000" y="314640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386080" y="38606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2:17:15Z</dcterms:created>
  <dc:creator>幻灯片之家：www.eeppt.com; 北京锐得PPT</dc:creator>
  <dc:description>幻灯片之家：www.eeppt.com</dc:description>
  <cp:keywords>幻灯片之家：www.eeppt.com</cp:keywords>
  <dc:language>en-US</dc:language>
  <cp:lastModifiedBy>GHOST</cp:lastModifiedBy>
  <dcterms:modified xsi:type="dcterms:W3CDTF">2015-09-18T13:15:32Z</dcterms:modified>
  <cp:revision>3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