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0EA-502E-4445-A9CE-81BBFD28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844-D1C8-4469-93E9-6BC9613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CCF-23FA-4265-A4C1-0130B248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DC8-EDC1-432E-922C-9B10671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1376-DCEA-4CC9-9710-5B3E288B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DB71-9A8B-4A22-9CCF-BA92D875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7FCD-7AEC-40F8-AB6A-C370AD6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04F-8F8F-4F8D-927E-39998F3D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7D2-3831-46C8-A1B0-8AB2C97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BADA-DA8E-47FE-BD60-C42BAE8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6329-D56C-43FA-B2B4-B0FB403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817-ECC1-406C-9A24-BEB4C61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52E-70D4-49F5-87AC-755C60B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1C83-E9FA-4036-8E4C-61EF72D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EC5-E57B-46A8-B461-93143FF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F05A-04E4-4BE2-9EF7-375EFB96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D2E4-6B62-4489-B8E6-75D9CB7A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30D-48DB-46EF-A9F5-E412CDA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AD0-E8C8-48F0-A278-30E0EF8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62F-165B-406A-9670-92278D53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4E4-7C8D-4865-8B47-D3CEA09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1A8-1534-4CE3-8023-25DC9ED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59D-245A-4A1A-BEB7-E2414C15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A8A-F08F-4671-B4AE-E9768AA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nordridesign.cn/index.php" TargetMode="External"/><Relationship Id="rId3" Type="http://schemas.openxmlformats.org/officeDocument/2006/relationships/hyperlink" Target="http://www.nordridesign.cn/index.php" TargetMode="External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4E85-5060-44C7-B38F-4469D84BB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>
            <a:hlinkClick r:id="rId2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8">
            <a:hlinkClick r:id="rId3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pic13611"/>
          <p:cNvPicPr/>
          <p:nvPr/>
        </p:nvPicPr>
        <p:blipFill>
          <a:blip r:embed="rId5"/>
          <a:stretch/>
        </p:blipFill>
        <p:spPr>
          <a:xfrm>
            <a:off x="7667640" y="0"/>
            <a:ext cx="151272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任意多边形 6"/>
          <p:cNvSpPr/>
          <p:nvPr/>
        </p:nvSpPr>
        <p:spPr>
          <a:xfrm>
            <a:off x="1440" y="-23760"/>
            <a:ext cx="8028000" cy="1220760"/>
          </a:xfrm>
          <a:custGeom>
            <a:avLst/>
            <a:gdLst>
              <a:gd name="textAreaLeft" fmla="*/ 0 w 8028000"/>
              <a:gd name="textAreaRight" fmla="*/ 8028360 w 80280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7500958" h="3429024">
                <a:moveTo>
                  <a:pt x="0" y="0"/>
                </a:moveTo>
                <a:lnTo>
                  <a:pt x="7500958" y="0"/>
                </a:lnTo>
                <a:cubicBezTo>
                  <a:pt x="7118923" y="833988"/>
                  <a:pt x="7081776" y="2775409"/>
                  <a:pt x="7500958" y="3429024"/>
                </a:cubicBezTo>
                <a:lnTo>
                  <a:pt x="0" y="3429024"/>
                </a:lnTo>
                <a:lnTo>
                  <a:pt x="0" y="0"/>
                </a:lnTo>
                <a:close/>
              </a:path>
            </a:pathLst>
          </a:custGeom>
          <a:solidFill>
            <a:srgbClr val="ff441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未标题-3"/>
          <p:cNvPicPr/>
          <p:nvPr/>
        </p:nvPicPr>
        <p:blipFill>
          <a:blip r:embed="rId2"/>
          <a:stretch/>
        </p:blipFill>
        <p:spPr>
          <a:xfrm>
            <a:off x="0" y="0"/>
            <a:ext cx="9144000" cy="3946680"/>
          </a:xfrm>
          <a:prstGeom prst="rect">
            <a:avLst/>
          </a:prstGeom>
          <a:ln w="0">
            <a:noFill/>
          </a:ln>
        </p:spPr>
      </p:pic>
      <p:sp>
        <p:nvSpPr>
          <p:cNvPr id="47" name="任意多边形 1"/>
          <p:cNvSpPr/>
          <p:nvPr/>
        </p:nvSpPr>
        <p:spPr>
          <a:xfrm>
            <a:off x="0" y="1557360"/>
            <a:ext cx="9144000" cy="50007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000760"/>
              <a:gd name="textAreaBottom" fmla="*/ 5001120 h 5000760"/>
            </a:gdLst>
            <a:ahLst/>
            <a:rect l="textAreaLeft" t="textAreaTop" r="textAreaRight" b="textAreaBottom"/>
            <a:pathLst>
              <a:path w="9144000" h="5000684">
                <a:moveTo>
                  <a:pt x="0" y="1643098"/>
                </a:moveTo>
                <a:cubicBezTo>
                  <a:pt x="1221821" y="2027178"/>
                  <a:pt x="3128682" y="2529632"/>
                  <a:pt x="4652682" y="2255782"/>
                </a:cubicBezTo>
                <a:cubicBezTo>
                  <a:pt x="6176682" y="1981932"/>
                  <a:pt x="8410469" y="725338"/>
                  <a:pt x="9144000" y="0"/>
                </a:cubicBezTo>
                <a:lnTo>
                  <a:pt x="9144000" y="5000684"/>
                </a:lnTo>
                <a:lnTo>
                  <a:pt x="0" y="5000684"/>
                </a:lnTo>
                <a:lnTo>
                  <a:pt x="0" y="1643098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"/>
          <p:cNvSpPr/>
          <p:nvPr/>
        </p:nvSpPr>
        <p:spPr>
          <a:xfrm>
            <a:off x="0" y="2133720"/>
            <a:ext cx="9144000" cy="4429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429080"/>
              <a:gd name="textAreaBottom" fmla="*/ 4429440 h 4429080"/>
            </a:gdLst>
            <a:ahLst/>
            <a:rect l="textAreaLeft" t="textAreaTop" r="textAreaRight" b="textAreaBottom"/>
            <a:pathLst>
              <a:path w="9144000" h="4429228">
                <a:moveTo>
                  <a:pt x="0" y="1071642"/>
                </a:moveTo>
                <a:cubicBezTo>
                  <a:pt x="1221821" y="1455722"/>
                  <a:pt x="3128682" y="2077223"/>
                  <a:pt x="4652682" y="1898616"/>
                </a:cubicBezTo>
                <a:cubicBezTo>
                  <a:pt x="6176682" y="1720009"/>
                  <a:pt x="8410469" y="725338"/>
                  <a:pt x="9144000" y="0"/>
                </a:cubicBezTo>
                <a:lnTo>
                  <a:pt x="9144000" y="4429228"/>
                </a:lnTo>
                <a:lnTo>
                  <a:pt x="0" y="4429228"/>
                </a:lnTo>
                <a:lnTo>
                  <a:pt x="0" y="1071642"/>
                </a:lnTo>
                <a:close/>
              </a:path>
            </a:pathLst>
          </a:custGeom>
          <a:solidFill>
            <a:srgbClr val="ff1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116-F919-416D-9442-82CCED5BD3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任意多边形 3"/>
          <p:cNvSpPr/>
          <p:nvPr/>
        </p:nvSpPr>
        <p:spPr>
          <a:xfrm>
            <a:off x="0" y="2854440"/>
            <a:ext cx="9144000" cy="4032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032000"/>
              <a:gd name="textAreaBottom" fmla="*/ 4032360 h 4032000"/>
            </a:gdLst>
            <a:ahLst/>
            <a:rect l="textAreaLeft" t="textAreaTop" r="textAreaRight" b="textAreaBottom"/>
            <a:pathLst>
              <a:path w="9144000" h="3714872">
                <a:moveTo>
                  <a:pt x="0" y="357286"/>
                </a:moveTo>
                <a:cubicBezTo>
                  <a:pt x="1221821" y="741366"/>
                  <a:pt x="3128682" y="1458098"/>
                  <a:pt x="4652682" y="1398550"/>
                </a:cubicBezTo>
                <a:cubicBezTo>
                  <a:pt x="6176682" y="1339002"/>
                  <a:pt x="8410469" y="725338"/>
                  <a:pt x="9144000" y="0"/>
                </a:cubicBezTo>
                <a:lnTo>
                  <a:pt x="9144000" y="3714872"/>
                </a:lnTo>
                <a:lnTo>
                  <a:pt x="0" y="3714872"/>
                </a:lnTo>
                <a:lnTo>
                  <a:pt x="0" y="3572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62280" y="54450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5160" y="69228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七一建党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内容占位符 3"/>
          <p:cNvSpPr/>
          <p:nvPr/>
        </p:nvSpPr>
        <p:spPr>
          <a:xfrm>
            <a:off x="42876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27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99E-9A30-4E44-8340-B6D7C21B1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771640" y="49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27:46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14:35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