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95CE-8B78-485C-A0E6-CAB6E37DE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9926-192B-4FDC-8309-271DDC43A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3D4E-1B1F-4DD8-870A-80E7DCC3E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3027-E681-4AF1-9DD4-C8389A009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4259-EA1F-4652-8908-483DB0D44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0B95-596C-4A85-A438-B38827B4E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5833-294B-4547-9BED-36F728CB6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823B-C34C-4C3A-94F5-4273D5215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A594-9280-4D2C-A203-F95DEBBF6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FE65-DA01-4C3C-A139-64B0AFA3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1193-3837-4D57-9B59-3A32CC5F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ACDD-631C-4E8E-A72C-7CC18028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E9AC1-FDFC-4543-A856-C0937E9C89C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3EB0B-A645-4861-A3CD-5E27BB81CC3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7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6280" y="1989000"/>
            <a:ext cx="38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企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1658-5E6F-4573-BAA6-87DD7070CFA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2636640"/>
            <a:ext cx="835344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255997"/>
                </a:solidFill>
                <a:latin typeface="微软雅黑"/>
                <a:ea typeface="微软雅黑"/>
              </a:rPr>
              <a:t>谢  谢！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31T00:52:0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5:25Z</dcterms:modified>
  <cp:revision>1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