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181-8B69-470A-BA4F-65F31CF1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A44-E1B1-4337-B1C9-6D7D1B93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867C-5B13-4BAD-92CE-FFBBE09A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9959-4CF0-40C7-8C5A-D431DD45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8DB7-683A-41AE-9253-33CFB7C0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90D5-0075-47C4-90A1-F18ACA71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34C4-E823-4438-8034-5C41DB84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F0B-DB68-42FD-AAE3-5183DDD1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B29-E935-48A1-8A89-B0389FB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0327-F500-42B9-96AE-B58425A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3490-8C08-4BCD-8192-765A3EA5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A05E-A9EE-436B-9234-DE3C7BC8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20364-08CE-4C08-BA57-5405F5F0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014C-F57C-4917-9006-505A296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968D-C32F-4934-B29B-80FA8AA2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3827-426C-45C2-BBD0-E620377E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2684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47120" y="160020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0656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2684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47120" y="3964320"/>
            <a:ext cx="230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4088-ABBF-41C5-8CE4-5FC8AD32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F45-F6AE-473A-B27A-8235E465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80D4-E708-4445-8A86-B984876B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9D74-E426-4D00-BC1F-0CA27B32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6560" y="274320"/>
            <a:ext cx="7158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FB2-5B2E-4426-B64E-F87B52DE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D18-3AB7-494C-B9D5-4D830FE3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74600" y="396432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7C3-6837-450B-8600-161059B1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656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74600" y="1600200"/>
            <a:ext cx="3493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6560" y="3964320"/>
            <a:ext cx="715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D4FA-3438-45FF-B6A1-F3421B09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CDBF-E52D-43C9-9875-821D08AA31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6" descr=""/>
          <p:cNvPicPr/>
          <p:nvPr/>
        </p:nvPicPr>
        <p:blipFill>
          <a:blip r:embed="rId3"/>
          <a:stretch/>
        </p:blipFill>
        <p:spPr>
          <a:xfrm>
            <a:off x="6546960" y="5430960"/>
            <a:ext cx="2163600" cy="452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C7B5-F38F-4776-AB9A-E523938AB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清雅生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120" y="4191120"/>
            <a:ext cx="8001000" cy="176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562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29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6701-955A-42A5-AF24-138A1E4785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6560" y="274320"/>
            <a:ext cx="71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06560" y="1600200"/>
            <a:ext cx="715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05:40:35Z</dcterms:created>
  <dc:creator>pc</dc:creator>
  <dc:description>www.eeppt.com;</dc:description>
  <cp:keywords>www.eeppt.com</cp:keywords>
  <dc:language>en-US</dc:language>
  <cp:lastModifiedBy>Windows 用户</cp:lastModifiedBy>
  <dcterms:modified xsi:type="dcterms:W3CDTF">2015-09-18T13:21:54Z</dcterms:modified>
  <cp:revision>4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