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C03-BBFB-4A08-8EF1-7B745719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75C4-ECF3-4DA4-84A2-C823FA2B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1E06-3104-4FA4-A4BB-555389BE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62F-99F1-44C2-B8B6-63B19F01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276-5878-4EBC-A5DD-689E5715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156-206E-47A1-AA74-5B64007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C9D-3E30-4E2D-A3C6-19A5BB51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CF7-C6CB-47CE-B7BC-AEA85DD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DD13-7957-44F9-A8C0-202D9C6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4AA-6527-4344-A1D1-598382CE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B99-7FE7-46FB-8656-D5665478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66FA-3D97-4903-8BD8-E379589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ACB8-57C9-47B4-B8A1-5312B5C3C76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11.png"/><Relationship Id="rId6" Type="http://schemas.openxmlformats.org/officeDocument/2006/relationships/image" Target="../media/image2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&#32972;&#26223;&#38899;&#20048;.wav" TargetMode="External"/><Relationship Id="rId3" Type="http://schemas.microsoft.com/office/2007/relationships/media" Target="file:///tmp/home/.config/libreoffice/4/user/gallery/&#32972;&#26223;&#38899;&#20048;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rcRect l="0" t="0" r="-72" b="0"/>
          <a:stretch/>
        </p:blipFill>
        <p:spPr>
          <a:xfrm>
            <a:off x="5392800" y="0"/>
            <a:ext cx="3765600" cy="4700520"/>
          </a:xfrm>
          <a:prstGeom prst="rect">
            <a:avLst/>
          </a:prstGeom>
          <a:ln w="0">
            <a:noFill/>
          </a:ln>
        </p:spPr>
      </p:pic>
      <p:sp>
        <p:nvSpPr>
          <p:cNvPr id="78" name="矩形 3"/>
          <p:cNvSpPr/>
          <p:nvPr/>
        </p:nvSpPr>
        <p:spPr>
          <a:xfrm>
            <a:off x="0" y="0"/>
            <a:ext cx="9158400" cy="3654360"/>
          </a:xfrm>
          <a:prstGeom prst="pie">
            <a:avLst/>
          </a:prstGeom>
          <a:solidFill>
            <a:srgbClr val="558ed5"/>
          </a:solidFill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组合 13"/>
          <p:cNvGrpSpPr/>
          <p:nvPr/>
        </p:nvGrpSpPr>
        <p:grpSpPr>
          <a:xfrm>
            <a:off x="5562720" y="-25560"/>
            <a:ext cx="3987720" cy="3497400"/>
            <a:chOff x="5562720" y="-25560"/>
            <a:chExt cx="3987720" cy="3497400"/>
          </a:xfrm>
        </p:grpSpPr>
        <p:pic>
          <p:nvPicPr>
            <p:cNvPr id="80" name="Picture 4" descr=""/>
            <p:cNvPicPr/>
            <p:nvPr/>
          </p:nvPicPr>
          <p:blipFill>
            <a:blip r:embed="rId2"/>
            <a:srcRect l="0" t="0" r="103" b="196"/>
            <a:stretch/>
          </p:blipFill>
          <p:spPr>
            <a:xfrm>
              <a:off x="5562720" y="321480"/>
              <a:ext cx="1964880" cy="207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3" descr=""/>
            <p:cNvPicPr/>
            <p:nvPr/>
          </p:nvPicPr>
          <p:blipFill>
            <a:blip r:embed="rId3"/>
            <a:srcRect l="0" t="0" r="-47" b="52"/>
            <a:stretch/>
          </p:blipFill>
          <p:spPr>
            <a:xfrm>
              <a:off x="6954840" y="1533600"/>
              <a:ext cx="216252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4"/>
            <a:srcRect l="0" t="0" r="119" b="-165"/>
            <a:stretch/>
          </p:blipFill>
          <p:spPr>
            <a:xfrm>
              <a:off x="6999480" y="-25560"/>
              <a:ext cx="2550960" cy="1642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6" descr=""/>
          <p:cNvPicPr/>
          <p:nvPr/>
        </p:nvPicPr>
        <p:blipFill>
          <a:blip r:embed="rId5"/>
          <a:srcRect l="0" t="0" r="182" b="-165"/>
          <a:stretch/>
        </p:blipFill>
        <p:spPr>
          <a:xfrm>
            <a:off x="4164120" y="758880"/>
            <a:ext cx="1838160" cy="2712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128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1700280" y="374184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生产部工作汇报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5"/>
          <p:cNvSpPr/>
          <p:nvPr/>
        </p:nvSpPr>
        <p:spPr>
          <a:xfrm>
            <a:off x="-22320" y="3078000"/>
            <a:ext cx="9166320" cy="162108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963960" y="3078000"/>
            <a:ext cx="4703760" cy="161928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9" descr=""/>
          <p:cNvPicPr/>
          <p:nvPr/>
        </p:nvPicPr>
        <p:blipFill>
          <a:blip r:embed="rId2"/>
          <a:stretch/>
        </p:blipFill>
        <p:spPr>
          <a:xfrm>
            <a:off x="-22320" y="1860480"/>
            <a:ext cx="3067200" cy="3283200"/>
          </a:xfrm>
          <a:prstGeom prst="rect">
            <a:avLst/>
          </a:prstGeom>
          <a:ln w="0">
            <a:noFill/>
          </a:ln>
        </p:spPr>
      </p:pic>
      <p:pic>
        <p:nvPicPr>
          <p:cNvPr id="264" name="TextBox 11" descr=""/>
          <p:cNvPicPr/>
          <p:nvPr/>
        </p:nvPicPr>
        <p:blipFill>
          <a:blip r:embed="rId3"/>
          <a:stretch/>
        </p:blipFill>
        <p:spPr>
          <a:xfrm>
            <a:off x="1901880" y="1279440"/>
            <a:ext cx="3822480" cy="1177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"/>
          <p:cNvPicPr/>
          <p:nvPr/>
        </p:nvPicPr>
        <p:blipFill>
          <a:blip r:embed="rId4"/>
          <a:stretch/>
        </p:blipFill>
        <p:spPr>
          <a:xfrm>
            <a:off x="3365640" y="960480"/>
            <a:ext cx="1566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266" name="组合 7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267" name="矩形 8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8" name="Picture 217" descr=""/>
            <p:cNvPicPr/>
            <p:nvPr/>
          </p:nvPicPr>
          <p:blipFill>
            <a:blip r:embed="rId5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9" descr="H:\说明书\DSC_0209.jpg"/>
          <p:cNvPicPr/>
          <p:nvPr/>
        </p:nvPicPr>
        <p:blipFill>
          <a:blip r:embed="rId6"/>
          <a:stretch/>
        </p:blipFill>
        <p:spPr>
          <a:xfrm>
            <a:off x="8264520" y="3346560"/>
            <a:ext cx="768240" cy="17971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10" descr=""/>
          <p:cNvPicPr/>
          <p:nvPr/>
        </p:nvPicPr>
        <p:blipFill>
          <a:blip r:embed="rId7"/>
          <a:stretch/>
        </p:blipFill>
        <p:spPr>
          <a:xfrm>
            <a:off x="6462720" y="473040"/>
            <a:ext cx="2678040" cy="26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20">
                                      <p:cBhvr>
                                        <p:cTn id="49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-0.29323 1.11111E-006 E">
                                      <p:cBhvr>
                                        <p:cTn id="500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2" descr=""/>
          <p:cNvPicPr/>
          <p:nvPr/>
        </p:nvPicPr>
        <p:blipFill>
          <a:blip r:embed="rId1"/>
          <a:stretch/>
        </p:blipFill>
        <p:spPr>
          <a:xfrm>
            <a:off x="-1440" y="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87" name="矩形 5"/>
          <p:cNvSpPr/>
          <p:nvPr/>
        </p:nvSpPr>
        <p:spPr>
          <a:xfrm>
            <a:off x="0" y="0"/>
            <a:ext cx="9144000" cy="469584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0" y="4695840"/>
            <a:ext cx="9144000" cy="458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09760" y="-749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" descr=""/>
          <p:cNvPicPr/>
          <p:nvPr/>
        </p:nvPicPr>
        <p:blipFill>
          <a:blip r:embed="rId5"/>
          <a:stretch/>
        </p:blipFill>
        <p:spPr>
          <a:xfrm>
            <a:off x="5740560" y="1366920"/>
            <a:ext cx="3402000" cy="33195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" descr=""/>
          <p:cNvPicPr/>
          <p:nvPr/>
        </p:nvPicPr>
        <p:blipFill>
          <a:blip r:embed="rId6"/>
          <a:stretch/>
        </p:blipFill>
        <p:spPr>
          <a:xfrm>
            <a:off x="209520" y="3651120"/>
            <a:ext cx="2503440" cy="14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rcRect l="0" t="0" r="-15" b="-137"/>
          <a:stretch/>
        </p:blipFill>
        <p:spPr>
          <a:xfrm>
            <a:off x="-1440" y="501480"/>
            <a:ext cx="9140760" cy="9892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"/>
          <p:cNvPicPr/>
          <p:nvPr/>
        </p:nvPicPr>
        <p:blipFill>
          <a:blip r:embed="rId8"/>
          <a:stretch/>
        </p:blipFill>
        <p:spPr>
          <a:xfrm>
            <a:off x="5337000" y="4754520"/>
            <a:ext cx="3743640" cy="34128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f2f2"/>
            </a:gs>
            <a:gs pos="100000">
              <a:srgbClr val="f2f2f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33"/>
          <p:cNvGrpSpPr/>
          <p:nvPr/>
        </p:nvGrpSpPr>
        <p:grpSpPr>
          <a:xfrm>
            <a:off x="0" y="4676760"/>
            <a:ext cx="9144000" cy="474840"/>
            <a:chOff x="0" y="4676760"/>
            <a:chExt cx="9144000" cy="474840"/>
          </a:xfrm>
        </p:grpSpPr>
        <p:sp>
          <p:nvSpPr>
            <p:cNvPr id="95" name="矩形 34"/>
            <p:cNvSpPr/>
            <p:nvPr/>
          </p:nvSpPr>
          <p:spPr>
            <a:xfrm>
              <a:off x="0" y="4676760"/>
              <a:ext cx="9144000" cy="47484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4795920"/>
              <a:ext cx="2677320" cy="24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直接连接符 2"/>
          <p:cNvSpPr/>
          <p:nvPr/>
        </p:nvSpPr>
        <p:spPr>
          <a:xfrm>
            <a:off x="731880" y="1650960"/>
            <a:ext cx="14842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14"/>
          <p:cNvGrpSpPr/>
          <p:nvPr/>
        </p:nvGrpSpPr>
        <p:grpSpPr>
          <a:xfrm>
            <a:off x="2081160" y="1306440"/>
            <a:ext cx="270000" cy="351000"/>
            <a:chOff x="2081160" y="1306440"/>
            <a:chExt cx="270000" cy="351000"/>
          </a:xfrm>
        </p:grpSpPr>
        <p:sp>
          <p:nvSpPr>
            <p:cNvPr id="99" name="椭圆 22"/>
            <p:cNvSpPr/>
            <p:nvPr/>
          </p:nvSpPr>
          <p:spPr>
            <a:xfrm>
              <a:off x="2081160" y="1306440"/>
              <a:ext cx="270000" cy="351000"/>
            </a:xfrm>
            <a:custGeom>
              <a:avLst/>
              <a:gdLst/>
              <a:ahLst/>
              <a:rect l="l" t="t" r="r" b="b"/>
              <a:pathLst>
                <a:path w="763620" h="1082480">
                  <a:moveTo>
                    <a:pt x="381810" y="0"/>
                  </a:moveTo>
                  <a:cubicBezTo>
                    <a:pt x="592678" y="0"/>
                    <a:pt x="763620" y="170942"/>
                    <a:pt x="763620" y="381810"/>
                  </a:cubicBezTo>
                  <a:cubicBezTo>
                    <a:pt x="763620" y="513746"/>
                    <a:pt x="696701" y="630051"/>
                    <a:pt x="594932" y="698604"/>
                  </a:cubicBezTo>
                  <a:lnTo>
                    <a:pt x="372284" y="1082480"/>
                  </a:lnTo>
                  <a:lnTo>
                    <a:pt x="132262" y="668648"/>
                  </a:lnTo>
                  <a:cubicBezTo>
                    <a:pt x="50810" y="599871"/>
                    <a:pt x="0" y="496774"/>
                    <a:pt x="0" y="381810"/>
                  </a:cubicBezTo>
                  <a:cubicBezTo>
                    <a:pt x="0" y="170942"/>
                    <a:pt x="170942" y="0"/>
                    <a:pt x="381810" y="0"/>
                  </a:cubicBezTo>
                  <a:close/>
                </a:path>
              </a:pathLst>
            </a:cu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11"/>
            <p:cNvSpPr/>
            <p:nvPr/>
          </p:nvSpPr>
          <p:spPr>
            <a:xfrm>
              <a:off x="2117520" y="1339560"/>
              <a:ext cx="196920" cy="179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12"/>
          <p:cNvGrpSpPr/>
          <p:nvPr/>
        </p:nvGrpSpPr>
        <p:grpSpPr>
          <a:xfrm>
            <a:off x="600120" y="1508040"/>
            <a:ext cx="261720" cy="260280"/>
            <a:chOff x="600120" y="1508040"/>
            <a:chExt cx="261720" cy="260280"/>
          </a:xfrm>
        </p:grpSpPr>
        <p:sp>
          <p:nvSpPr>
            <p:cNvPr id="102" name="椭圆 13"/>
            <p:cNvSpPr/>
            <p:nvPr/>
          </p:nvSpPr>
          <p:spPr>
            <a:xfrm>
              <a:off x="600120" y="1508040"/>
              <a:ext cx="261720" cy="260280"/>
            </a:xfrm>
            <a:prstGeom prst="ellipse">
              <a:avLst/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14"/>
            <p:cNvSpPr/>
            <p:nvPr/>
          </p:nvSpPr>
          <p:spPr>
            <a:xfrm>
              <a:off x="641160" y="1547640"/>
              <a:ext cx="17928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 3"/>
          <p:cNvSpPr/>
          <p:nvPr/>
        </p:nvSpPr>
        <p:spPr>
          <a:xfrm>
            <a:off x="2745360" y="1177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质量问题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6"/>
          <p:cNvSpPr/>
          <p:nvPr/>
        </p:nvSpPr>
        <p:spPr>
          <a:xfrm>
            <a:off x="2216160" y="1650960"/>
            <a:ext cx="8557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接连接符 18"/>
          <p:cNvSpPr/>
          <p:nvPr/>
        </p:nvSpPr>
        <p:spPr>
          <a:xfrm>
            <a:off x="3071880" y="1650960"/>
            <a:ext cx="0" cy="107460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4"/>
          <p:cNvGrpSpPr/>
          <p:nvPr/>
        </p:nvGrpSpPr>
        <p:grpSpPr>
          <a:xfrm>
            <a:off x="3071880" y="2589120"/>
            <a:ext cx="350640" cy="271440"/>
            <a:chOff x="3071880" y="2589120"/>
            <a:chExt cx="350640" cy="271440"/>
          </a:xfrm>
        </p:grpSpPr>
        <p:sp>
          <p:nvSpPr>
            <p:cNvPr id="108" name="椭圆 22"/>
            <p:cNvSpPr/>
            <p:nvPr/>
          </p:nvSpPr>
          <p:spPr>
            <a:xfrm rot="5400000">
              <a:off x="3111480" y="2549520"/>
              <a:ext cx="271440" cy="350640"/>
            </a:xfrm>
            <a:custGeom>
              <a:avLst/>
              <a:gdLst/>
              <a:ahLst/>
              <a:rect l="l" t="t" r="r" b="b"/>
              <a:pathLst>
                <a:path w="763620" h="1082480">
                  <a:moveTo>
                    <a:pt x="381810" y="0"/>
                  </a:moveTo>
                  <a:cubicBezTo>
                    <a:pt x="592678" y="0"/>
                    <a:pt x="763620" y="170942"/>
                    <a:pt x="763620" y="381810"/>
                  </a:cubicBezTo>
                  <a:cubicBezTo>
                    <a:pt x="763620" y="513746"/>
                    <a:pt x="696701" y="630051"/>
                    <a:pt x="594932" y="698604"/>
                  </a:cubicBezTo>
                  <a:lnTo>
                    <a:pt x="372284" y="1082480"/>
                  </a:lnTo>
                  <a:lnTo>
                    <a:pt x="132262" y="668648"/>
                  </a:lnTo>
                  <a:cubicBezTo>
                    <a:pt x="50810" y="599871"/>
                    <a:pt x="0" y="496774"/>
                    <a:pt x="0" y="381810"/>
                  </a:cubicBezTo>
                  <a:cubicBezTo>
                    <a:pt x="0" y="170942"/>
                    <a:pt x="170942" y="0"/>
                    <a:pt x="381810" y="0"/>
                  </a:cubicBezTo>
                  <a:close/>
                </a:path>
              </a:pathLst>
            </a:cu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23"/>
            <p:cNvSpPr/>
            <p:nvPr/>
          </p:nvSpPr>
          <p:spPr>
            <a:xfrm rot="5400000">
              <a:off x="3200400" y="2634840"/>
              <a:ext cx="198360" cy="179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矩形 8"/>
          <p:cNvSpPr/>
          <p:nvPr/>
        </p:nvSpPr>
        <p:spPr>
          <a:xfrm>
            <a:off x="4171680" y="25416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各部门工作以及遇到问题汇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接连接符 25"/>
          <p:cNvSpPr/>
          <p:nvPr/>
        </p:nvSpPr>
        <p:spPr>
          <a:xfrm>
            <a:off x="3071880" y="2595600"/>
            <a:ext cx="0" cy="126036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直接连接符 27"/>
          <p:cNvSpPr/>
          <p:nvPr/>
        </p:nvSpPr>
        <p:spPr>
          <a:xfrm>
            <a:off x="3071880" y="3855960"/>
            <a:ext cx="250812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4"/>
          <p:cNvSpPr/>
          <p:nvPr/>
        </p:nvSpPr>
        <p:spPr>
          <a:xfrm>
            <a:off x="4994280" y="40226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副总总结综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组合 30"/>
          <p:cNvGrpSpPr/>
          <p:nvPr/>
        </p:nvGrpSpPr>
        <p:grpSpPr>
          <a:xfrm>
            <a:off x="5450040" y="3718080"/>
            <a:ext cx="260280" cy="260280"/>
            <a:chOff x="5450040" y="3718080"/>
            <a:chExt cx="260280" cy="260280"/>
          </a:xfrm>
        </p:grpSpPr>
        <p:sp>
          <p:nvSpPr>
            <p:cNvPr id="115" name="椭圆 31"/>
            <p:cNvSpPr/>
            <p:nvPr/>
          </p:nvSpPr>
          <p:spPr>
            <a:xfrm>
              <a:off x="5450040" y="3718080"/>
              <a:ext cx="260280" cy="260280"/>
            </a:xfrm>
            <a:prstGeom prst="ellipse">
              <a:avLst/>
            </a:prstGeom>
            <a:solidFill>
              <a:srgbClr val="0a6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椭圆 32"/>
            <p:cNvSpPr/>
            <p:nvPr/>
          </p:nvSpPr>
          <p:spPr>
            <a:xfrm>
              <a:off x="5491080" y="3757680"/>
              <a:ext cx="177840" cy="177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矩形 26"/>
          <p:cNvSpPr/>
          <p:nvPr/>
        </p:nvSpPr>
        <p:spPr>
          <a:xfrm>
            <a:off x="0" y="235080"/>
            <a:ext cx="2389320" cy="850680"/>
          </a:xfrm>
          <a:prstGeom prst="rect">
            <a:avLst/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2"/>
          <a:stretch/>
        </p:blipFill>
        <p:spPr>
          <a:xfrm>
            <a:off x="-284040" y="17640"/>
            <a:ext cx="2981160" cy="1457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rcRect l="0" t="0" r="0" b="22852"/>
          <a:stretch/>
        </p:blipFill>
        <p:spPr>
          <a:xfrm>
            <a:off x="2128680" y="115920"/>
            <a:ext cx="3687840" cy="9698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9" descr=""/>
          <p:cNvPicPr/>
          <p:nvPr/>
        </p:nvPicPr>
        <p:blipFill>
          <a:blip r:embed="rId4"/>
          <a:stretch/>
        </p:blipFill>
        <p:spPr>
          <a:xfrm>
            <a:off x="6437160" y="2039760"/>
            <a:ext cx="2705400" cy="264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pic3.nipic.com/20090624/213291_095144068_2.jpg"/>
          <p:cNvPicPr/>
          <p:nvPr/>
        </p:nvPicPr>
        <p:blipFill>
          <a:blip r:embed="rId5"/>
          <a:stretch/>
        </p:blipFill>
        <p:spPr>
          <a:xfrm>
            <a:off x="7897680" y="3718080"/>
            <a:ext cx="1014480" cy="136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pic>
        <p:nvPicPr>
          <p:cNvPr id="122" name="图片 33" descr=""/>
          <p:cNvPicPr/>
          <p:nvPr/>
        </p:nvPicPr>
        <p:blipFill>
          <a:blip r:embed="rId6"/>
          <a:stretch/>
        </p:blipFill>
        <p:spPr>
          <a:xfrm>
            <a:off x="2987640" y="4197240"/>
            <a:ext cx="1266840" cy="941400"/>
          </a:xfrm>
          <a:prstGeom prst="rect">
            <a:avLst/>
          </a:prstGeom>
          <a:ln w="0">
            <a:noFill/>
          </a:ln>
        </p:spPr>
      </p:pic>
      <p:sp>
        <p:nvSpPr>
          <p:cNvPr id="123" name="矩形 33"/>
          <p:cNvSpPr/>
          <p:nvPr/>
        </p:nvSpPr>
        <p:spPr>
          <a:xfrm>
            <a:off x="290880" y="1768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生产计划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2"/>
          <p:cNvGrpSpPr/>
          <p:nvPr/>
        </p:nvGrpSpPr>
        <p:grpSpPr>
          <a:xfrm>
            <a:off x="141120" y="790560"/>
            <a:ext cx="8661600" cy="3851280"/>
            <a:chOff x="141120" y="790560"/>
            <a:chExt cx="8661600" cy="3851280"/>
          </a:xfrm>
        </p:grpSpPr>
        <p:sp>
          <p:nvSpPr>
            <p:cNvPr id="125" name="矩形 1"/>
            <p:cNvSpPr/>
            <p:nvPr/>
          </p:nvSpPr>
          <p:spPr>
            <a:xfrm>
              <a:off x="385560" y="1087200"/>
              <a:ext cx="8417160" cy="3554640"/>
            </a:xfrm>
            <a:prstGeom prst="rect">
              <a:avLst/>
            </a:prstGeom>
            <a:solidFill>
              <a:srgbClr val="ddd9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组合 14"/>
            <p:cNvGrpSpPr/>
            <p:nvPr/>
          </p:nvGrpSpPr>
          <p:grpSpPr>
            <a:xfrm>
              <a:off x="141120" y="790560"/>
              <a:ext cx="542880" cy="701280"/>
              <a:chOff x="141120" y="790560"/>
              <a:chExt cx="542880" cy="701280"/>
            </a:xfrm>
          </p:grpSpPr>
          <p:sp>
            <p:nvSpPr>
              <p:cNvPr id="127" name="椭圆 22"/>
              <p:cNvSpPr/>
              <p:nvPr/>
            </p:nvSpPr>
            <p:spPr>
              <a:xfrm>
                <a:off x="141120" y="790560"/>
                <a:ext cx="542880" cy="701280"/>
              </a:xfrm>
              <a:custGeom>
                <a:avLst/>
                <a:gdLst/>
                <a:ahLst/>
                <a:rect l="l" t="t" r="r" b="b"/>
                <a:pathLst>
                  <a:path w="763620" h="1082480">
                    <a:moveTo>
                      <a:pt x="381810" y="0"/>
                    </a:moveTo>
                    <a:cubicBezTo>
                      <a:pt x="592678" y="0"/>
                      <a:pt x="763620" y="170942"/>
                      <a:pt x="763620" y="381810"/>
                    </a:cubicBezTo>
                    <a:cubicBezTo>
                      <a:pt x="763620" y="513746"/>
                      <a:pt x="696701" y="630051"/>
                      <a:pt x="594932" y="698604"/>
                    </a:cubicBezTo>
                    <a:lnTo>
                      <a:pt x="372284" y="1082480"/>
                    </a:lnTo>
                    <a:lnTo>
                      <a:pt x="132262" y="668648"/>
                    </a:lnTo>
                    <a:cubicBezTo>
                      <a:pt x="50810" y="599871"/>
                      <a:pt x="0" y="496774"/>
                      <a:pt x="0" y="381810"/>
                    </a:cubicBezTo>
                    <a:cubicBezTo>
                      <a:pt x="0" y="170942"/>
                      <a:pt x="170942" y="0"/>
                      <a:pt x="381810" y="0"/>
                    </a:cubicBezTo>
                    <a:close/>
                  </a:path>
                </a:pathLst>
              </a:custGeom>
              <a:solidFill>
                <a:srgbClr val="0a6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椭圆 12"/>
              <p:cNvSpPr/>
              <p:nvPr/>
            </p:nvSpPr>
            <p:spPr>
              <a:xfrm>
                <a:off x="215640" y="855360"/>
                <a:ext cx="395280" cy="36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9" name="组合 9"/>
          <p:cNvGrpSpPr/>
          <p:nvPr/>
        </p:nvGrpSpPr>
        <p:grpSpPr>
          <a:xfrm>
            <a:off x="0" y="0"/>
            <a:ext cx="9166320" cy="476280"/>
            <a:chOff x="0" y="0"/>
            <a:chExt cx="9166320" cy="476280"/>
          </a:xfrm>
        </p:grpSpPr>
        <p:sp>
          <p:nvSpPr>
            <p:cNvPr id="130" name="矩形 10"/>
            <p:cNvSpPr/>
            <p:nvPr/>
          </p:nvSpPr>
          <p:spPr>
            <a:xfrm>
              <a:off x="21960" y="0"/>
              <a:ext cx="914436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1" name="Picture 217" descr=""/>
            <p:cNvPicPr/>
            <p:nvPr/>
          </p:nvPicPr>
          <p:blipFill>
            <a:blip r:embed="rId1"/>
            <a:stretch/>
          </p:blipFill>
          <p:spPr>
            <a:xfrm>
              <a:off x="0" y="117360"/>
              <a:ext cx="2731680" cy="25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3"/>
          <p:cNvSpPr/>
          <p:nvPr/>
        </p:nvSpPr>
        <p:spPr>
          <a:xfrm>
            <a:off x="679320" y="1401840"/>
            <a:ext cx="776304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月拖欠发货订单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铜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昆明陈琳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1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0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ZB-25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不锈钢叶轮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泵体、不锈钢叶轮、电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仓库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化工泵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--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方泵体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） 三相电机（已到） 四氟机封（已到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府谷县瑞智、鲍洪才、王潮溪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tretch/>
        </p:blipFill>
        <p:spPr>
          <a:xfrm>
            <a:off x="8263080" y="3484440"/>
            <a:ext cx="645840" cy="14893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679320" y="3484440"/>
            <a:ext cx="7763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拖欠发货订单共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679320" y="3998880"/>
            <a:ext cx="77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为止共欠订单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5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a6e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0" y="0"/>
            <a:ext cx="9144000" cy="464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书本"/>
          <p:cNvPicPr/>
          <p:nvPr/>
        </p:nvPicPr>
        <p:blipFill>
          <a:blip r:embed="rId1"/>
          <a:stretch/>
        </p:blipFill>
        <p:spPr>
          <a:xfrm>
            <a:off x="-12600" y="2054160"/>
            <a:ext cx="2200320" cy="308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2000"/>
              </a:srgbClr>
            </a:outerShdw>
          </a:effectLst>
        </p:spPr>
      </p:pic>
      <p:sp>
        <p:nvSpPr>
          <p:cNvPr id="138" name="圆角矩形 10"/>
          <p:cNvSpPr/>
          <p:nvPr/>
        </p:nvSpPr>
        <p:spPr>
          <a:xfrm>
            <a:off x="-12600" y="639720"/>
            <a:ext cx="1487520" cy="762120"/>
          </a:xfrm>
          <a:prstGeom prst="roundRect">
            <a:avLst>
              <a:gd name="adj" fmla="val 0"/>
            </a:avLst>
          </a:prstGeom>
          <a:solidFill>
            <a:srgbClr val="0a6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等腰三角形 11"/>
          <p:cNvSpPr/>
          <p:nvPr/>
        </p:nvSpPr>
        <p:spPr>
          <a:xfrm rot="5400000">
            <a:off x="6851520" y="3874680"/>
            <a:ext cx="174600" cy="200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等腰三角形 12"/>
          <p:cNvSpPr/>
          <p:nvPr/>
        </p:nvSpPr>
        <p:spPr>
          <a:xfrm rot="5400000">
            <a:off x="7102080" y="3875040"/>
            <a:ext cx="174600" cy="199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22"/>
          <p:cNvSpPr/>
          <p:nvPr/>
        </p:nvSpPr>
        <p:spPr>
          <a:xfrm>
            <a:off x="5085720" y="3813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平台合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等腰三角形 16"/>
          <p:cNvSpPr/>
          <p:nvPr/>
        </p:nvSpPr>
        <p:spPr>
          <a:xfrm>
            <a:off x="1557360" y="1401840"/>
            <a:ext cx="284040" cy="174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等腰三角形 17"/>
          <p:cNvSpPr/>
          <p:nvPr/>
        </p:nvSpPr>
        <p:spPr>
          <a:xfrm>
            <a:off x="2097000" y="1401840"/>
            <a:ext cx="285840" cy="1746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520" bIns="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3851280" y="2036880"/>
            <a:ext cx="4906800" cy="825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报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订单原因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00" y="591840"/>
            <a:ext cx="8851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订单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完成情况</a:t>
            </a:r>
            <a:r>
              <a:rPr b="1" lang="en-US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---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生产部</a:t>
            </a:r>
            <a:r>
              <a:rPr b="1" lang="en-US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---</a:t>
            </a:r>
            <a:r>
              <a:rPr b="1" lang="zh-CN" sz="4000" spc="-1" strike="noStrike">
                <a:solidFill>
                  <a:srgbClr val="0a6ec8"/>
                </a:solidFill>
                <a:latin typeface="微软雅黑"/>
                <a:ea typeface="微软雅黑"/>
              </a:rPr>
              <a:t>报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图片 13" descr=""/>
          <p:cNvPicPr/>
          <p:nvPr/>
        </p:nvPicPr>
        <p:blipFill>
          <a:blip r:embed="rId2"/>
          <a:stretch/>
        </p:blipFill>
        <p:spPr>
          <a:xfrm>
            <a:off x="7983360" y="2036880"/>
            <a:ext cx="706680" cy="29955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2360" y="16272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直接连接符 42"/>
          <p:cNvSpPr/>
          <p:nvPr/>
        </p:nvSpPr>
        <p:spPr>
          <a:xfrm flipV="1">
            <a:off x="566640" y="674640"/>
            <a:ext cx="0" cy="35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152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矩形 1"/>
          <p:cNvSpPr/>
          <p:nvPr/>
        </p:nvSpPr>
        <p:spPr>
          <a:xfrm>
            <a:off x="3627360" y="1405080"/>
            <a:ext cx="55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总接单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率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2.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35"/>
          <p:cNvSpPr/>
          <p:nvPr/>
        </p:nvSpPr>
        <p:spPr>
          <a:xfrm>
            <a:off x="2660760" y="137808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2598840" y="1332000"/>
            <a:ext cx="931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2604960" y="15746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66"/>
          <p:cNvSpPr/>
          <p:nvPr/>
        </p:nvSpPr>
        <p:spPr>
          <a:xfrm>
            <a:off x="2660760" y="162072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直接连接符 13"/>
          <p:cNvSpPr/>
          <p:nvPr/>
        </p:nvSpPr>
        <p:spPr>
          <a:xfrm>
            <a:off x="555480" y="42372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椭圆 7168"/>
          <p:cNvGrpSpPr/>
          <p:nvPr/>
        </p:nvGrpSpPr>
        <p:grpSpPr>
          <a:xfrm>
            <a:off x="433440" y="4127400"/>
            <a:ext cx="243000" cy="243000"/>
            <a:chOff x="433440" y="4127400"/>
            <a:chExt cx="243000" cy="243000"/>
          </a:xfrm>
        </p:grpSpPr>
        <p:pic>
          <p:nvPicPr>
            <p:cNvPr id="161" name="椭圆 7168" descr=""/>
            <p:cNvPicPr/>
            <p:nvPr/>
          </p:nvPicPr>
          <p:blipFill>
            <a:blip r:embed="rId2"/>
            <a:stretch/>
          </p:blipFill>
          <p:spPr>
            <a:xfrm>
              <a:off x="433440" y="4127400"/>
              <a:ext cx="24300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06520" y="4176720"/>
              <a:ext cx="968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矩形 1"/>
          <p:cNvSpPr/>
          <p:nvPr/>
        </p:nvSpPr>
        <p:spPr>
          <a:xfrm>
            <a:off x="915840" y="4387680"/>
            <a:ext cx="6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53"/>
          <p:cNvSpPr/>
          <p:nvPr/>
        </p:nvSpPr>
        <p:spPr>
          <a:xfrm>
            <a:off x="1062000" y="2004840"/>
            <a:ext cx="380880" cy="2232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162000" y="7714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890640" y="1679400"/>
            <a:ext cx="7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2.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67"/>
          <p:cNvSpPr/>
          <p:nvPr/>
        </p:nvSpPr>
        <p:spPr>
          <a:xfrm>
            <a:off x="1062000" y="2806560"/>
            <a:ext cx="380880" cy="143064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172360" y="-60480"/>
            <a:ext cx="862200" cy="147168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1854360" y="4387680"/>
            <a:ext cx="6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3"/>
          <p:cNvSpPr/>
          <p:nvPr/>
        </p:nvSpPr>
        <p:spPr>
          <a:xfrm>
            <a:off x="2000160" y="1374840"/>
            <a:ext cx="381240" cy="2862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1911240" y="10494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5"/>
          <p:cNvSpPr/>
          <p:nvPr/>
        </p:nvSpPr>
        <p:spPr>
          <a:xfrm>
            <a:off x="2000160" y="3565440"/>
            <a:ext cx="381240" cy="6717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3627360" y="2747880"/>
            <a:ext cx="5516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总接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率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1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8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3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8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3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8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3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8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63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8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直接连接符 42"/>
          <p:cNvSpPr/>
          <p:nvPr/>
        </p:nvSpPr>
        <p:spPr>
          <a:xfrm flipV="1">
            <a:off x="385920" y="2436840"/>
            <a:ext cx="0" cy="20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178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矩形 1"/>
          <p:cNvSpPr/>
          <p:nvPr/>
        </p:nvSpPr>
        <p:spPr>
          <a:xfrm>
            <a:off x="33480" y="1222200"/>
            <a:ext cx="9110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接订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3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经完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小型潜水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未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35"/>
          <p:cNvSpPr/>
          <p:nvPr/>
        </p:nvSpPr>
        <p:spPr>
          <a:xfrm>
            <a:off x="4248000" y="248292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4186080" y="2436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4192560" y="2679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66"/>
          <p:cNvSpPr/>
          <p:nvPr/>
        </p:nvSpPr>
        <p:spPr>
          <a:xfrm>
            <a:off x="4248000" y="272556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 13"/>
          <p:cNvSpPr/>
          <p:nvPr/>
        </p:nvSpPr>
        <p:spPr>
          <a:xfrm>
            <a:off x="374760" y="4462560"/>
            <a:ext cx="41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椭圆 7168"/>
          <p:cNvGrpSpPr/>
          <p:nvPr/>
        </p:nvGrpSpPr>
        <p:grpSpPr>
          <a:xfrm>
            <a:off x="249120" y="4352760"/>
            <a:ext cx="244440" cy="243000"/>
            <a:chOff x="249120" y="4352760"/>
            <a:chExt cx="244440" cy="243000"/>
          </a:xfrm>
        </p:grpSpPr>
        <p:pic>
          <p:nvPicPr>
            <p:cNvPr id="187" name="椭圆 7168" descr=""/>
            <p:cNvPicPr/>
            <p:nvPr/>
          </p:nvPicPr>
          <p:blipFill>
            <a:blip r:embed="rId2"/>
            <a:stretch/>
          </p:blipFill>
          <p:spPr>
            <a:xfrm>
              <a:off x="249120" y="435276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26880" y="4402080"/>
              <a:ext cx="954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矩形 1"/>
          <p:cNvSpPr/>
          <p:nvPr/>
        </p:nvSpPr>
        <p:spPr>
          <a:xfrm>
            <a:off x="3941640" y="4462560"/>
            <a:ext cx="13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名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596880" y="44625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Q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1192320" y="446256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1917720" y="4462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Y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2516040" y="44625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DX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3273480" y="446256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漩涡自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Z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53"/>
          <p:cNvSpPr/>
          <p:nvPr/>
        </p:nvSpPr>
        <p:spPr>
          <a:xfrm>
            <a:off x="880920" y="2482920"/>
            <a:ext cx="135000" cy="1979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54"/>
          <p:cNvSpPr/>
          <p:nvPr/>
        </p:nvSpPr>
        <p:spPr>
          <a:xfrm>
            <a:off x="1531800" y="2541600"/>
            <a:ext cx="135000" cy="19209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55"/>
          <p:cNvSpPr/>
          <p:nvPr/>
        </p:nvSpPr>
        <p:spPr>
          <a:xfrm>
            <a:off x="2209680" y="4102200"/>
            <a:ext cx="135000" cy="360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56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57"/>
          <p:cNvSpPr/>
          <p:nvPr/>
        </p:nvSpPr>
        <p:spPr>
          <a:xfrm>
            <a:off x="3706920" y="3343320"/>
            <a:ext cx="135000" cy="11192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58"/>
          <p:cNvSpPr/>
          <p:nvPr/>
        </p:nvSpPr>
        <p:spPr>
          <a:xfrm>
            <a:off x="1531800" y="2922480"/>
            <a:ext cx="135000" cy="1540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-19080" y="24796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703440" y="2257560"/>
            <a:ext cx="55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9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"/>
          <p:cNvSpPr/>
          <p:nvPr/>
        </p:nvSpPr>
        <p:spPr>
          <a:xfrm>
            <a:off x="1347840" y="226368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4.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2023920" y="387180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1"/>
          <p:cNvSpPr/>
          <p:nvPr/>
        </p:nvSpPr>
        <p:spPr>
          <a:xfrm>
            <a:off x="2762280" y="364644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1"/>
          <p:cNvSpPr/>
          <p:nvPr/>
        </p:nvSpPr>
        <p:spPr>
          <a:xfrm>
            <a:off x="3514680" y="31114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.1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67"/>
          <p:cNvSpPr/>
          <p:nvPr/>
        </p:nvSpPr>
        <p:spPr>
          <a:xfrm>
            <a:off x="880920" y="3227400"/>
            <a:ext cx="135000" cy="1235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68"/>
          <p:cNvSpPr/>
          <p:nvPr/>
        </p:nvSpPr>
        <p:spPr>
          <a:xfrm>
            <a:off x="2209680" y="4281480"/>
            <a:ext cx="135000" cy="181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69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70"/>
          <p:cNvSpPr/>
          <p:nvPr/>
        </p:nvSpPr>
        <p:spPr>
          <a:xfrm>
            <a:off x="3706920" y="3986280"/>
            <a:ext cx="135000" cy="4762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217000" y="4680"/>
            <a:ext cx="765000" cy="13064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37"/>
          <p:cNvSpPr/>
          <p:nvPr/>
        </p:nvSpPr>
        <p:spPr>
          <a:xfrm>
            <a:off x="923760" y="4757760"/>
            <a:ext cx="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40"/>
          <p:cNvSpPr/>
          <p:nvPr/>
        </p:nvSpPr>
        <p:spPr>
          <a:xfrm>
            <a:off x="919080" y="4867200"/>
            <a:ext cx="410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41"/>
          <p:cNvSpPr/>
          <p:nvPr/>
        </p:nvSpPr>
        <p:spPr>
          <a:xfrm>
            <a:off x="5021280" y="2211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24600" y="2222640"/>
          <a:ext cx="3857400" cy="2689200"/>
        </p:xfrm>
        <a:graphic>
          <a:graphicData uri="http://schemas.openxmlformats.org/drawingml/2006/table">
            <a:tbl>
              <a:tblPr/>
              <a:tblGrid>
                <a:gridCol w="569520"/>
                <a:gridCol w="1111320"/>
                <a:gridCol w="306360"/>
                <a:gridCol w="306360"/>
                <a:gridCol w="1184400"/>
                <a:gridCol w="379440"/>
              </a:tblGrid>
              <a:tr h="3128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温州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高铮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郑慧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10-10-0.7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15-12-1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50-18-5.5SJY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40-22-5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方文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15-12-1.5SJ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搅匀转子 叶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南通莱恩电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WQ15-20-2.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石家庄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7-7-0.5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9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成都明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25-15-2.2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50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蒋法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QD3-7-0.25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7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7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7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6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1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6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1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直接连接符 42"/>
          <p:cNvSpPr/>
          <p:nvPr/>
        </p:nvSpPr>
        <p:spPr>
          <a:xfrm flipV="1">
            <a:off x="385920" y="2436840"/>
            <a:ext cx="0" cy="202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6"/>
          <p:cNvSpPr/>
          <p:nvPr/>
        </p:nvSpPr>
        <p:spPr>
          <a:xfrm flipV="1">
            <a:off x="-20160" y="4957560"/>
            <a:ext cx="9164520" cy="1857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"/>
          <p:cNvSpPr/>
          <p:nvPr/>
        </p:nvSpPr>
        <p:spPr>
          <a:xfrm>
            <a:off x="-20520" y="592200"/>
            <a:ext cx="916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完成情况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部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(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锈钢水泵）报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2"/>
          <p:cNvGrpSpPr/>
          <p:nvPr/>
        </p:nvGrpSpPr>
        <p:grpSpPr>
          <a:xfrm>
            <a:off x="0" y="6480"/>
            <a:ext cx="9144000" cy="476280"/>
            <a:chOff x="0" y="6480"/>
            <a:chExt cx="9144000" cy="476280"/>
          </a:xfrm>
        </p:grpSpPr>
        <p:sp>
          <p:nvSpPr>
            <p:cNvPr id="220" name="矩形 1"/>
            <p:cNvSpPr/>
            <p:nvPr/>
          </p:nvSpPr>
          <p:spPr>
            <a:xfrm>
              <a:off x="0" y="6480"/>
              <a:ext cx="9144000" cy="476280"/>
            </a:xfrm>
            <a:prstGeom prst="rect">
              <a:avLst/>
            </a:prstGeom>
            <a:solidFill>
              <a:srgbClr val="0069ba"/>
            </a:solidFill>
            <a:ln w="25560">
              <a:solidFill>
                <a:srgbClr val="0069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1" name="Picture 217" descr=""/>
            <p:cNvPicPr/>
            <p:nvPr/>
          </p:nvPicPr>
          <p:blipFill>
            <a:blip r:embed="rId1"/>
            <a:stretch/>
          </p:blipFill>
          <p:spPr>
            <a:xfrm>
              <a:off x="32040" y="126360"/>
              <a:ext cx="2677320" cy="24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矩形 1"/>
          <p:cNvSpPr/>
          <p:nvPr/>
        </p:nvSpPr>
        <p:spPr>
          <a:xfrm>
            <a:off x="33480" y="1222200"/>
            <a:ext cx="91105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8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共接订单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3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到交货期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已经完成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3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8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小型潜水泵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完成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漩涡自吸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油浸泵未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污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未完成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型水泵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35"/>
          <p:cNvSpPr/>
          <p:nvPr/>
        </p:nvSpPr>
        <p:spPr>
          <a:xfrm>
            <a:off x="4248000" y="2482920"/>
            <a:ext cx="135000" cy="1159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4186080" y="2436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矩形 1"/>
          <p:cNvSpPr/>
          <p:nvPr/>
        </p:nvSpPr>
        <p:spPr>
          <a:xfrm>
            <a:off x="4192560" y="2679840"/>
            <a:ext cx="932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台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6"/>
          <p:cNvSpPr/>
          <p:nvPr/>
        </p:nvSpPr>
        <p:spPr>
          <a:xfrm>
            <a:off x="4248000" y="2725560"/>
            <a:ext cx="135000" cy="1177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直接连接符 13"/>
          <p:cNvSpPr/>
          <p:nvPr/>
        </p:nvSpPr>
        <p:spPr>
          <a:xfrm>
            <a:off x="374760" y="4462560"/>
            <a:ext cx="412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椭圆 7168"/>
          <p:cNvGrpSpPr/>
          <p:nvPr/>
        </p:nvGrpSpPr>
        <p:grpSpPr>
          <a:xfrm>
            <a:off x="249120" y="4352760"/>
            <a:ext cx="244440" cy="243000"/>
            <a:chOff x="249120" y="4352760"/>
            <a:chExt cx="244440" cy="243000"/>
          </a:xfrm>
        </p:grpSpPr>
        <p:pic>
          <p:nvPicPr>
            <p:cNvPr id="229" name="椭圆 7168" descr=""/>
            <p:cNvPicPr/>
            <p:nvPr/>
          </p:nvPicPr>
          <p:blipFill>
            <a:blip r:embed="rId2"/>
            <a:stretch/>
          </p:blipFill>
          <p:spPr>
            <a:xfrm>
              <a:off x="249120" y="4352760"/>
              <a:ext cx="2444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26880" y="4402080"/>
              <a:ext cx="954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矩形 1"/>
          <p:cNvSpPr/>
          <p:nvPr/>
        </p:nvSpPr>
        <p:spPr>
          <a:xfrm>
            <a:off x="3941640" y="4462560"/>
            <a:ext cx="13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名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1"/>
          <p:cNvSpPr/>
          <p:nvPr/>
        </p:nvSpPr>
        <p:spPr>
          <a:xfrm>
            <a:off x="596880" y="44625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污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Q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1192320" y="446256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化工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"/>
          <p:cNvSpPr/>
          <p:nvPr/>
        </p:nvSpPr>
        <p:spPr>
          <a:xfrm>
            <a:off x="1917720" y="446256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油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Y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2516040" y="44625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型潜水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QDX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3273480" y="4462560"/>
            <a:ext cx="9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漩涡自吸泵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WZB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53"/>
          <p:cNvSpPr/>
          <p:nvPr/>
        </p:nvSpPr>
        <p:spPr>
          <a:xfrm>
            <a:off x="880920" y="2482920"/>
            <a:ext cx="135000" cy="19796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54"/>
          <p:cNvSpPr/>
          <p:nvPr/>
        </p:nvSpPr>
        <p:spPr>
          <a:xfrm>
            <a:off x="1531800" y="2541600"/>
            <a:ext cx="135000" cy="19209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55"/>
          <p:cNvSpPr/>
          <p:nvPr/>
        </p:nvSpPr>
        <p:spPr>
          <a:xfrm>
            <a:off x="2209680" y="4102200"/>
            <a:ext cx="135000" cy="36036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56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57"/>
          <p:cNvSpPr/>
          <p:nvPr/>
        </p:nvSpPr>
        <p:spPr>
          <a:xfrm>
            <a:off x="3706920" y="3343320"/>
            <a:ext cx="135000" cy="1119240"/>
          </a:xfrm>
          <a:prstGeom prst="rect">
            <a:avLst/>
          </a:prstGeom>
          <a:solidFill>
            <a:srgbClr val="0069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58"/>
          <p:cNvSpPr/>
          <p:nvPr/>
        </p:nvSpPr>
        <p:spPr>
          <a:xfrm>
            <a:off x="1531800" y="2922480"/>
            <a:ext cx="135000" cy="1540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1"/>
          <p:cNvSpPr/>
          <p:nvPr/>
        </p:nvSpPr>
        <p:spPr>
          <a:xfrm>
            <a:off x="-19080" y="2479680"/>
            <a:ext cx="46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1"/>
          <p:cNvSpPr/>
          <p:nvPr/>
        </p:nvSpPr>
        <p:spPr>
          <a:xfrm>
            <a:off x="703440" y="2257560"/>
            <a:ext cx="556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69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1347840" y="226368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84.5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1"/>
          <p:cNvSpPr/>
          <p:nvPr/>
        </p:nvSpPr>
        <p:spPr>
          <a:xfrm>
            <a:off x="2023920" y="387180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.3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2762280" y="364644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3514680" y="31114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.1%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67"/>
          <p:cNvSpPr/>
          <p:nvPr/>
        </p:nvSpPr>
        <p:spPr>
          <a:xfrm>
            <a:off x="880920" y="3227400"/>
            <a:ext cx="135000" cy="123516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8"/>
          <p:cNvSpPr/>
          <p:nvPr/>
        </p:nvSpPr>
        <p:spPr>
          <a:xfrm>
            <a:off x="2209680" y="4281480"/>
            <a:ext cx="135000" cy="1810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69"/>
          <p:cNvSpPr/>
          <p:nvPr/>
        </p:nvSpPr>
        <p:spPr>
          <a:xfrm>
            <a:off x="2959200" y="4224240"/>
            <a:ext cx="135000" cy="23832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70"/>
          <p:cNvSpPr/>
          <p:nvPr/>
        </p:nvSpPr>
        <p:spPr>
          <a:xfrm>
            <a:off x="3706920" y="3986280"/>
            <a:ext cx="135000" cy="4762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0" descr="H:\说明书\DSC_0224.jpg"/>
          <p:cNvPicPr/>
          <p:nvPr/>
        </p:nvPicPr>
        <p:blipFill>
          <a:blip r:embed="rId3"/>
          <a:stretch/>
        </p:blipFill>
        <p:spPr>
          <a:xfrm>
            <a:off x="8217000" y="4680"/>
            <a:ext cx="765000" cy="13064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37"/>
          <p:cNvSpPr/>
          <p:nvPr/>
        </p:nvSpPr>
        <p:spPr>
          <a:xfrm>
            <a:off x="2276640" y="4757760"/>
            <a:ext cx="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40"/>
          <p:cNvSpPr/>
          <p:nvPr/>
        </p:nvSpPr>
        <p:spPr>
          <a:xfrm>
            <a:off x="2278080" y="48672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接连接符 41"/>
          <p:cNvSpPr/>
          <p:nvPr/>
        </p:nvSpPr>
        <p:spPr>
          <a:xfrm>
            <a:off x="5021280" y="2211480"/>
            <a:ext cx="0" cy="264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157720" y="2436840"/>
          <a:ext cx="3824280" cy="1940040"/>
        </p:xfrm>
        <a:graphic>
          <a:graphicData uri="http://schemas.openxmlformats.org/drawingml/2006/table">
            <a:tbl>
              <a:tblPr/>
              <a:tblGrid>
                <a:gridCol w="390600"/>
                <a:gridCol w="760320"/>
                <a:gridCol w="244440"/>
                <a:gridCol w="270000"/>
                <a:gridCol w="809640"/>
                <a:gridCol w="223920"/>
                <a:gridCol w="223560"/>
                <a:gridCol w="641520"/>
                <a:gridCol w="260280"/>
              </a:tblGrid>
              <a:tr h="357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大磊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65-10-3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口径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转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9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昆明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陈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00-12-5.5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出水口配法兰 电缆线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出水口法兰 机筒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22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昆明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陈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60-11-7.5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出水口配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法兰 电缆线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出水口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法兰 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叶轮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5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南通莱恩电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38-14-2.2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全精铸 </a:t>
                      </a:r>
                      <a:br>
                        <a:rPr sz="900"/>
                      </a:b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用客户电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松川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a6ec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Y12.5-50-4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3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法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寸配法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37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7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7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66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1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6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1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02:54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26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0e2a0000000000010250600207f7000400038000</vt:lpwstr>
  </property>
</Properties>
</file>