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8F3BA-6C63-4DFE-B7B6-368169C389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9E2B-6C4A-46A3-A219-1C10DB82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4C10A-F44E-4439-8B57-BBDC518D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182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6404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182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66404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C05FC-08FC-4EC7-924A-35BF7F1474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8D718-AAB4-4075-BE25-FD5CEDB4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358A0-1AB3-49B2-B362-00FA91D5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535BC7-2BFB-43F5-9B0C-B096EF2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355B2-F212-4E86-BC73-7CE71935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DC71E-4118-41F5-9B8D-1287E1E7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0" y="2971800"/>
            <a:ext cx="4572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3DD30-F744-404B-ABFA-99154BB6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5028-9E03-4ED0-86F0-DCC2F42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06C4-1BD7-4F77-B98F-9AF5D060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2328E-BD4A-4752-BE43-B02335FB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BC583-A14D-4B16-A5CF-67F91E0B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BB549-4496-4D5F-BBC5-73C04607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1D652-CA0E-4641-BF66-D142A7E1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11820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664040" y="396216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611820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7664040" y="4240800"/>
            <a:ext cx="14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AFD29-D409-4778-95E1-2EE90E5A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708E-6BAB-4325-916F-2F65292D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ED4E-47F0-4470-8B74-983BA2A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F880-0657-48A8-86BD-7A14F215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0" y="2971800"/>
            <a:ext cx="4572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1B9B-6ACF-4935-815E-9F341F38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C7511-555F-4825-8C21-B50F291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914880" y="424080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2A93A-E142-4B33-8D83-CC9A10FF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914880" y="3962160"/>
            <a:ext cx="2230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0" y="4240800"/>
            <a:ext cx="45720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6DFC2-69BA-40EA-8F84-8AA74CD0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83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5448240" y="890640"/>
            <a:ext cx="3700440" cy="1231920"/>
          </a:xfrm>
          <a:custGeom>
            <a:avLst/>
            <a:gdLst/>
            <a:ahLst/>
            <a:rect l="l" t="t" r="r" b="b"/>
            <a:pathLst>
              <a:path w="2331" h="776">
                <a:moveTo>
                  <a:pt x="0" y="0"/>
                </a:moveTo>
                <a:cubicBezTo>
                  <a:pt x="616" y="64"/>
                  <a:pt x="832" y="96"/>
                  <a:pt x="1312" y="232"/>
                </a:cubicBezTo>
                <a:cubicBezTo>
                  <a:pt x="1792" y="368"/>
                  <a:pt x="2280" y="745"/>
                  <a:pt x="2328" y="776"/>
                </a:cubicBezTo>
                <a:lnTo>
                  <a:pt x="2331" y="431"/>
                </a:lnTo>
                <a:cubicBezTo>
                  <a:pt x="2108" y="307"/>
                  <a:pt x="1380" y="104"/>
                  <a:pt x="992" y="32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dbe4c"/>
              </a:gs>
              <a:gs pos="100000">
                <a:srgbClr val="d6eac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152280"/>
            <a:ext cx="9144000" cy="1427400"/>
          </a:xfrm>
          <a:custGeom>
            <a:avLst/>
            <a:gdLst/>
            <a:ahLst/>
            <a:rect l="l" t="t" r="r" b="b"/>
            <a:pathLst>
              <a:path w="5760" h="899">
                <a:moveTo>
                  <a:pt x="0" y="625"/>
                </a:moveTo>
                <a:cubicBezTo>
                  <a:pt x="466" y="515"/>
                  <a:pt x="1509" y="423"/>
                  <a:pt x="3017" y="451"/>
                </a:cubicBezTo>
                <a:cubicBezTo>
                  <a:pt x="4525" y="479"/>
                  <a:pt x="5486" y="753"/>
                  <a:pt x="5760" y="899"/>
                </a:cubicBezTo>
                <a:lnTo>
                  <a:pt x="5760" y="218"/>
                </a:lnTo>
                <a:cubicBezTo>
                  <a:pt x="5273" y="73"/>
                  <a:pt x="3797" y="0"/>
                  <a:pt x="2837" y="31"/>
                </a:cubicBezTo>
                <a:cubicBezTo>
                  <a:pt x="1798" y="54"/>
                  <a:pt x="448" y="285"/>
                  <a:pt x="0" y="401"/>
                </a:cubicBezTo>
                <a:lnTo>
                  <a:pt x="0" y="625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2979c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0948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b136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08dea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4114800" y="655272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3B83-E445-4F16-80E7-0E1DA45419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0912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4572000" cy="609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45720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4483080"/>
            <a:ext cx="412272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35353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17600" y="0"/>
            <a:ext cx="6926400" cy="6859440"/>
          </a:xfrm>
          <a:custGeom>
            <a:avLst/>
            <a:gdLst/>
            <a:ahLst/>
            <a:rect l="l" t="t" r="r" b="b"/>
            <a:pathLst>
              <a:path w="4363" h="4321">
                <a:moveTo>
                  <a:pt x="189" y="0"/>
                </a:moveTo>
                <a:lnTo>
                  <a:pt x="561" y="181"/>
                </a:lnTo>
                <a:lnTo>
                  <a:pt x="943" y="488"/>
                </a:lnTo>
                <a:lnTo>
                  <a:pt x="1221" y="953"/>
                </a:lnTo>
                <a:lnTo>
                  <a:pt x="1413" y="1615"/>
                </a:lnTo>
                <a:lnTo>
                  <a:pt x="1290" y="2642"/>
                </a:lnTo>
                <a:lnTo>
                  <a:pt x="0" y="4321"/>
                </a:lnTo>
                <a:lnTo>
                  <a:pt x="4349" y="4321"/>
                </a:lnTo>
                <a:lnTo>
                  <a:pt x="4363" y="0"/>
                </a:lnTo>
                <a:lnTo>
                  <a:pt x="189" y="0"/>
                </a:lnTo>
                <a:close/>
              </a:path>
            </a:pathLst>
          </a:custGeom>
          <a:gradFill rotWithShape="0">
            <a:gsLst>
              <a:gs pos="0">
                <a:srgbClr val="308dea"/>
              </a:gs>
              <a:gs pos="100000">
                <a:srgbClr val="f7fa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924280"/>
            <a:ext cx="4665600" cy="1009440"/>
          </a:xfrm>
          <a:prstGeom prst="rect">
            <a:avLst/>
          </a:prstGeom>
          <a:gradFill rotWithShape="0">
            <a:gsLst>
              <a:gs pos="0">
                <a:srgbClr val="0c1f42"/>
              </a:gs>
              <a:gs pos="100000">
                <a:srgbClr val="1c459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7dbe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260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291d62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924280"/>
            <a:ext cx="464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84720" y="3933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65160" y="0"/>
            <a:ext cx="3822840" cy="6870600"/>
          </a:xfrm>
          <a:custGeom>
            <a:avLst/>
            <a:gdLst/>
            <a:ahLst/>
            <a:rect l="l" t="t" r="r" b="b"/>
            <a:pathLst>
              <a:path w="2408" h="4328">
                <a:moveTo>
                  <a:pt x="864" y="0"/>
                </a:moveTo>
                <a:cubicBezTo>
                  <a:pt x="2026" y="270"/>
                  <a:pt x="2408" y="1624"/>
                  <a:pt x="1984" y="2576"/>
                </a:cubicBezTo>
                <a:cubicBezTo>
                  <a:pt x="1560" y="3528"/>
                  <a:pt x="880" y="3969"/>
                  <a:pt x="0" y="4320"/>
                </a:cubicBezTo>
                <a:lnTo>
                  <a:pt x="1208" y="4328"/>
                </a:lnTo>
                <a:cubicBezTo>
                  <a:pt x="1520" y="4072"/>
                  <a:pt x="2144" y="3336"/>
                  <a:pt x="2272" y="2560"/>
                </a:cubicBezTo>
                <a:cubicBezTo>
                  <a:pt x="2400" y="1784"/>
                  <a:pt x="2280" y="416"/>
                  <a:pt x="1000" y="0"/>
                </a:cubicBezTo>
                <a:lnTo>
                  <a:pt x="864" y="0"/>
                </a:lnTo>
                <a:close/>
              </a:path>
            </a:pathLst>
          </a:custGeom>
          <a:gradFill rotWithShape="0">
            <a:gsLst>
              <a:gs pos="0">
                <a:srgbClr val="daeccd"/>
              </a:gs>
              <a:gs pos="100000">
                <a:srgbClr val="7dbe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0" y="2971800"/>
            <a:ext cx="4572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A254-ED13-4C72-B093-5D9E74C31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37240" y="6110280"/>
            <a:ext cx="230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0" y="2987640"/>
            <a:ext cx="4503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236232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3481200" y="45720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试管实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47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7db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08de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08de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94c7e"/>
                </a:gs>
                <a:gs pos="50000">
                  <a:srgbClr val="308dea"/>
                </a:gs>
                <a:gs pos="100000">
                  <a:srgbClr val="194c7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08dea">
                    <a:alpha val="0"/>
                  </a:srgbClr>
                </a:gs>
                <a:gs pos="100000">
                  <a:srgbClr val="1e599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63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b1362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1180f"/>
                </a:gs>
                <a:gs pos="100000">
                  <a:srgbClr val="b1362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f1d11"/>
                </a:gs>
                <a:gs pos="50000">
                  <a:srgbClr val="b13621"/>
                </a:gs>
                <a:gs pos="100000">
                  <a:srgbClr val="5f1d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b13621">
                    <a:alpha val="0"/>
                  </a:srgbClr>
                </a:gs>
                <a:gs pos="100000">
                  <a:srgbClr val="7022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73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78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1371600" y="1143000"/>
            <a:ext cx="5715000" cy="5330520"/>
            <a:chOff x="1371600" y="1143000"/>
            <a:chExt cx="5715000" cy="5330520"/>
          </a:xfrm>
        </p:grpSpPr>
        <p:sp>
          <p:nvSpPr>
            <p:cNvPr id="286" name=""/>
            <p:cNvSpPr/>
            <p:nvPr/>
          </p:nvSpPr>
          <p:spPr>
            <a:xfrm rot="13770000">
              <a:off x="4704120" y="3727440"/>
              <a:ext cx="1015560" cy="19620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cecec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20856000">
              <a:off x="2679480" y="3248280"/>
              <a:ext cx="1035360" cy="182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394200">
              <a:off x="4839120" y="2089440"/>
              <a:ext cx="631440" cy="1360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643560" y="2125080"/>
              <a:ext cx="1652400" cy="1684080"/>
              <a:chOff x="3643560" y="2125080"/>
              <a:chExt cx="1652400" cy="168408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643560" y="2125080"/>
                <a:ext cx="1652400" cy="1684080"/>
                <a:chOff x="3643560" y="2125080"/>
                <a:chExt cx="1652400" cy="16840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643560" y="2125080"/>
                  <a:ext cx="165240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08dea"/>
                    </a:gs>
                    <a:gs pos="100000">
                      <a:srgbClr val="0b223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32200" y="2152800"/>
                  <a:ext cx="127476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08de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3750120" y="2857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089320" y="1143000"/>
              <a:ext cx="925200" cy="912240"/>
              <a:chOff x="5089320" y="1143000"/>
              <a:chExt cx="925200" cy="9122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089320" y="1143000"/>
                <a:ext cx="894960" cy="912240"/>
                <a:chOff x="5089320" y="1143000"/>
                <a:chExt cx="894960" cy="912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089320" y="1143000"/>
                  <a:ext cx="894960" cy="91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13621"/>
                    </a:gs>
                    <a:gs pos="100000">
                      <a:srgbClr val="2a0d0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191560" y="1158120"/>
                  <a:ext cx="690480" cy="344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b136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5105160" y="149364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1371600" y="2476440"/>
              <a:ext cx="1789920" cy="1894680"/>
              <a:chOff x="1371600" y="2476440"/>
              <a:chExt cx="1789920" cy="189468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1371600" y="2476440"/>
                <a:ext cx="1789920" cy="1894680"/>
                <a:chOff x="1371600" y="2476440"/>
                <a:chExt cx="1789920" cy="18946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371600" y="2476440"/>
                  <a:ext cx="1789920" cy="1894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40d6"/>
                    </a:gs>
                    <a:gs pos="100000">
                      <a:srgbClr val="38288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576080" y="2507760"/>
                  <a:ext cx="1380600" cy="714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5940d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1487520" y="33184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5020920" y="3879720"/>
              <a:ext cx="2065680" cy="2105280"/>
              <a:chOff x="5020920" y="3879720"/>
              <a:chExt cx="2065680" cy="2105280"/>
            </a:xfrm>
          </p:grpSpPr>
          <p:grpSp>
            <p:nvGrpSpPr>
              <p:cNvPr id="305" name=""/>
              <p:cNvGrpSpPr/>
              <p:nvPr/>
            </p:nvGrpSpPr>
            <p:grpSpPr>
              <a:xfrm>
                <a:off x="5020920" y="3879720"/>
                <a:ext cx="2065680" cy="2105280"/>
                <a:chOff x="5020920" y="3879720"/>
                <a:chExt cx="2065680" cy="21052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020920" y="3879720"/>
                  <a:ext cx="206568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3f61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257080" y="391464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dbe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>
                <a:off x="5336280" y="47919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1577880" y="444132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1440" y="3812760"/>
              <a:ext cx="145584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65080" y="5985360"/>
              <a:ext cx="1454400" cy="4881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27200" y="2125080"/>
              <a:ext cx="667080" cy="244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Marketing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16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b13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1c459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ada1ea"/>
                </a:gs>
                <a:gs pos="100000">
                  <a:srgbClr val="5940d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be4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39880" y="2889360"/>
              <a:ext cx="1703520" cy="16873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7dbe4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436628"/>
                </a:gs>
                <a:gs pos="50000">
                  <a:srgbClr val="7dbe4c"/>
                </a:gs>
                <a:gs pos="100000">
                  <a:srgbClr val="43662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68400" y="297180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7dbe4c">
                    <a:alpha val="0"/>
                  </a:srgbClr>
                </a:gs>
                <a:gs pos="100000">
                  <a:srgbClr val="4f783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41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348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355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363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377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382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0" y="1828800"/>
            <a:ext cx="9144000" cy="4188960"/>
            <a:chOff x="0" y="1828800"/>
            <a:chExt cx="9144000" cy="4188960"/>
          </a:xfrm>
        </p:grpSpPr>
        <p:grpSp>
          <p:nvGrpSpPr>
            <p:cNvPr id="394" name=""/>
            <p:cNvGrpSpPr/>
            <p:nvPr/>
          </p:nvGrpSpPr>
          <p:grpSpPr>
            <a:xfrm>
              <a:off x="0" y="3238560"/>
              <a:ext cx="9144000" cy="122040"/>
              <a:chOff x="0" y="3238560"/>
              <a:chExt cx="9144000" cy="122040"/>
            </a:xfrm>
          </p:grpSpPr>
          <p:sp>
            <p:nvSpPr>
              <p:cNvPr id="395" name=""/>
              <p:cNvSpPr/>
              <p:nvPr/>
            </p:nvSpPr>
            <p:spPr>
              <a:xfrm>
                <a:off x="0" y="3238560"/>
                <a:ext cx="9144000" cy="47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0" y="3285360"/>
                <a:ext cx="9144000" cy="752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762120" y="2685960"/>
              <a:ext cx="1931760" cy="3265200"/>
              <a:chOff x="762120" y="2685960"/>
              <a:chExt cx="1931760" cy="3265200"/>
            </a:xfrm>
          </p:grpSpPr>
          <p:grpSp>
            <p:nvGrpSpPr>
              <p:cNvPr id="398" name=""/>
              <p:cNvGrpSpPr/>
              <p:nvPr/>
            </p:nvGrpSpPr>
            <p:grpSpPr>
              <a:xfrm>
                <a:off x="1167840" y="3526560"/>
                <a:ext cx="1526040" cy="2424600"/>
                <a:chOff x="1167840" y="3526560"/>
                <a:chExt cx="1526040" cy="2424600"/>
              </a:xfrm>
            </p:grpSpPr>
            <p:grpSp>
              <p:nvGrpSpPr>
                <p:cNvPr id="399" name=""/>
                <p:cNvGrpSpPr/>
                <p:nvPr/>
              </p:nvGrpSpPr>
              <p:grpSpPr>
                <a:xfrm>
                  <a:off x="1167840" y="3684240"/>
                  <a:ext cx="1420200" cy="2266920"/>
                  <a:chOff x="1167840" y="3684240"/>
                  <a:chExt cx="1420200" cy="226692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rot="3876600">
                    <a:off x="74016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rot="3876600">
                    <a:off x="210744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1604160" y="3526560"/>
                  <a:ext cx="1089720" cy="1739520"/>
                  <a:chOff x="1604160" y="3526560"/>
                  <a:chExt cx="1089720" cy="173952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V="1" rot="3876600">
                    <a:off x="127548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V="1" rot="3876600">
                    <a:off x="230940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762120" y="2685960"/>
                <a:ext cx="1270440" cy="1309320"/>
                <a:chOff x="762120" y="2685960"/>
                <a:chExt cx="1270440" cy="13093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6212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84600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600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90072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915840" y="2844360"/>
                  <a:ext cx="962280" cy="992880"/>
                  <a:chOff x="915840" y="2844360"/>
                  <a:chExt cx="962280" cy="9928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91584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92808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93780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99036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6" name=""/>
              <p:cNvSpPr/>
              <p:nvPr/>
            </p:nvSpPr>
            <p:spPr>
              <a:xfrm rot="3925800">
                <a:off x="112896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3925800">
                <a:off x="159048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424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7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8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5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8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481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1c4590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c4590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85" name=""/>
              <p:cNvCxnSpPr>
                <a:stCxn id="481" idx="3"/>
                <a:endCxn id="482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  <p:cxnSp>
            <p:nvCxnSpPr>
              <p:cNvPr id="486" name=""/>
              <p:cNvCxnSpPr>
                <a:stCxn id="482" idx="3"/>
                <a:endCxn id="483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  <p:cxnSp>
            <p:nvCxnSpPr>
              <p:cNvPr id="487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1c459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490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492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13621"/>
                  </a:gs>
                  <a:gs pos="100000">
                    <a:srgbClr val="7b2516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39085"/>
                  </a:gs>
                  <a:gs pos="50000">
                    <a:srgbClr val="b13621">
                      <a:alpha val="0"/>
                    </a:srgbClr>
                  </a:gs>
                  <a:gs pos="100000">
                    <a:srgbClr val="d390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497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0cf7c"/>
                  </a:gs>
                  <a:gs pos="100000">
                    <a:srgbClr val="7dbe4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be4c">
                      <a:alpha val="0"/>
                    </a:srgbClr>
                  </a:gs>
                  <a:gs pos="100000">
                    <a:srgbClr val="c7e2b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504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506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bb5f0"/>
                  </a:gs>
                  <a:gs pos="100000">
                    <a:srgbClr val="308de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8dea">
                      <a:alpha val="0"/>
                    </a:srgbClr>
                  </a:gs>
                  <a:gs pos="100000">
                    <a:srgbClr val="99c6f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1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1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2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3957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3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b13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990720" y="2209680"/>
          <a:ext cx="7467480" cy="319896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dbe4c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5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5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459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i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604080" y="504360"/>
            <a:ext cx="7379640" cy="5581800"/>
            <a:chOff x="604080" y="504360"/>
            <a:chExt cx="7379640" cy="5581800"/>
          </a:xfrm>
        </p:grpSpPr>
        <p:sp>
          <p:nvSpPr>
            <p:cNvPr id="547" name=""/>
            <p:cNvSpPr/>
            <p:nvPr/>
          </p:nvSpPr>
          <p:spPr>
            <a:xfrm>
              <a:off x="2141640" y="42912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cfcfc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01600">
              <a:off x="1452240" y="21794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01600">
              <a:off x="1471320" y="20163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388880" y="20016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a7d287"/>
                </a:gs>
                <a:gs pos="100000">
                  <a:srgbClr val="7dbe4c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rot="20602200">
              <a:off x="1437840" y="20012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6b2013"/>
                </a:gs>
                <a:gs pos="100000">
                  <a:srgbClr val="b1362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95720" y="20138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306069"/>
                </a:gs>
                <a:gs pos="100000">
                  <a:srgbClr val="5cb8ca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05800" y="19944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302274"/>
                </a:gs>
                <a:gs pos="100000">
                  <a:srgbClr val="5940d6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2933640" y="27302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24560" y="3409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29680" y="21909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58480" y="2495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604080" y="504360"/>
              <a:ext cx="7379640" cy="5581800"/>
              <a:chOff x="604080" y="504360"/>
              <a:chExt cx="7379640" cy="5581800"/>
            </a:xfrm>
          </p:grpSpPr>
          <p:sp>
            <p:nvSpPr>
              <p:cNvPr id="559" name=""/>
              <p:cNvSpPr/>
              <p:nvPr/>
            </p:nvSpPr>
            <p:spPr>
              <a:xfrm>
                <a:off x="5448240" y="34484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08dea"/>
                  </a:gs>
                  <a:gs pos="100000">
                    <a:srgbClr val="1d558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rot="20539200">
                <a:off x="1022400" y="14083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582800" y="39247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100000">
                    <a:srgbClr val="308dea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53200" y="37152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3143880" y="4400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27640" y="39909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3036960" y="29815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914400" y="1447920"/>
            <a:ext cx="7391160" cy="4724280"/>
            <a:chOff x="914400" y="1447920"/>
            <a:chExt cx="7391160" cy="4724280"/>
          </a:xfrm>
        </p:grpSpPr>
        <p:sp>
          <p:nvSpPr>
            <p:cNvPr id="569" name=""/>
            <p:cNvSpPr/>
            <p:nvPr/>
          </p:nvSpPr>
          <p:spPr>
            <a:xfrm>
              <a:off x="1806480" y="2210040"/>
              <a:ext cx="553104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362320" y="1447920"/>
              <a:ext cx="44193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36729"/>
                </a:gs>
                <a:gs pos="50000">
                  <a:srgbClr val="7dbe4c"/>
                </a:gs>
                <a:gs pos="100000">
                  <a:srgbClr val="436729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6160" y="28195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914400" y="4083120"/>
              <a:ext cx="1486080" cy="1989000"/>
              <a:chOff x="914400" y="4083120"/>
              <a:chExt cx="1486080" cy="1989000"/>
            </a:xfrm>
          </p:grpSpPr>
          <p:grpSp>
            <p:nvGrpSpPr>
              <p:cNvPr id="573" name=""/>
              <p:cNvGrpSpPr/>
              <p:nvPr/>
            </p:nvGrpSpPr>
            <p:grpSpPr>
              <a:xfrm>
                <a:off x="914400" y="4083120"/>
                <a:ext cx="1486080" cy="1514520"/>
                <a:chOff x="914400" y="4083120"/>
                <a:chExt cx="1486080" cy="151452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914400" y="4083120"/>
                  <a:ext cx="1486080" cy="1514520"/>
                  <a:chOff x="914400" y="4083120"/>
                  <a:chExt cx="1486080" cy="1514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914400" y="408312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5940d6"/>
                      </a:gs>
                      <a:gs pos="100000">
                        <a:srgbClr val="38288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1084320" y="410796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5940d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7" name=""/>
                <p:cNvSpPr/>
                <p:nvPr/>
              </p:nvSpPr>
              <p:spPr>
                <a:xfrm>
                  <a:off x="1072440" y="485424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1066680" y="568332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6781680" y="4038840"/>
              <a:ext cx="1523880" cy="2066760"/>
              <a:chOff x="6781680" y="4038840"/>
              <a:chExt cx="1523880" cy="206676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6781680" y="4038840"/>
                <a:ext cx="1523880" cy="1531800"/>
                <a:chOff x="6781680" y="4038840"/>
                <a:chExt cx="1523880" cy="1531800"/>
              </a:xfrm>
            </p:grpSpPr>
            <p:grpSp>
              <p:nvGrpSpPr>
                <p:cNvPr id="581" name=""/>
                <p:cNvGrpSpPr/>
                <p:nvPr/>
              </p:nvGrpSpPr>
              <p:grpSpPr>
                <a:xfrm>
                  <a:off x="6781680" y="4038840"/>
                  <a:ext cx="1523880" cy="1531800"/>
                  <a:chOff x="6781680" y="4038840"/>
                  <a:chExt cx="1523880" cy="1531800"/>
                </a:xfrm>
              </p:grpSpPr>
              <p:sp>
                <p:nvSpPr>
                  <p:cNvPr id="582" name=""/>
                  <p:cNvSpPr/>
                  <p:nvPr/>
                </p:nvSpPr>
                <p:spPr>
                  <a:xfrm>
                    <a:off x="6781680" y="403884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08dea"/>
                      </a:gs>
                      <a:gs pos="100000">
                        <a:srgbClr val="0b223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6955920" y="406404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08de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4" name=""/>
                <p:cNvSpPr/>
                <p:nvPr/>
              </p:nvSpPr>
              <p:spPr>
                <a:xfrm>
                  <a:off x="6924600" y="47527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"/>
              <p:cNvSpPr/>
              <p:nvPr/>
            </p:nvSpPr>
            <p:spPr>
              <a:xfrm>
                <a:off x="6824520" y="561852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2819520" y="4083120"/>
              <a:ext cx="1523880" cy="2089080"/>
              <a:chOff x="2819520" y="4083120"/>
              <a:chExt cx="1523880" cy="2089080"/>
            </a:xfrm>
          </p:grpSpPr>
          <p:grpSp>
            <p:nvGrpSpPr>
              <p:cNvPr id="587" name=""/>
              <p:cNvGrpSpPr/>
              <p:nvPr/>
            </p:nvGrpSpPr>
            <p:grpSpPr>
              <a:xfrm>
                <a:off x="2819520" y="4083120"/>
                <a:ext cx="1523880" cy="1521000"/>
                <a:chOff x="2819520" y="4083120"/>
                <a:chExt cx="1523880" cy="15210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2819520" y="408312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3f61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993760" y="410832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7dbe4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0" name=""/>
              <p:cNvSpPr/>
              <p:nvPr/>
            </p:nvSpPr>
            <p:spPr>
              <a:xfrm>
                <a:off x="2895840" y="481320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819520" y="568332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4876920" y="4038840"/>
              <a:ext cx="1523880" cy="2089080"/>
              <a:chOff x="4876920" y="4038840"/>
              <a:chExt cx="1523880" cy="208908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4876920" y="4038840"/>
                <a:ext cx="1523880" cy="1521000"/>
                <a:chOff x="4876920" y="4038840"/>
                <a:chExt cx="1523880" cy="152100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4876920" y="4038840"/>
                  <a:ext cx="1523880" cy="1521000"/>
                  <a:chOff x="4876920" y="4038840"/>
                  <a:chExt cx="1523880" cy="152100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4876920" y="4038840"/>
                    <a:ext cx="1523880" cy="1521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b13621"/>
                      </a:gs>
                      <a:gs pos="100000">
                        <a:srgbClr val="5a1b1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5051160" y="4064040"/>
                    <a:ext cx="1175400" cy="57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b1362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" name=""/>
                <p:cNvSpPr/>
                <p:nvPr/>
              </p:nvSpPr>
              <p:spPr>
                <a:xfrm>
                  <a:off x="4953240" y="4768920"/>
                  <a:ext cx="1371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"/>
              <p:cNvSpPr/>
              <p:nvPr/>
            </p:nvSpPr>
            <p:spPr>
              <a:xfrm>
                <a:off x="4876920" y="563904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1981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42e"/>
              </a:gs>
              <a:gs pos="50000">
                <a:srgbClr val="eab764"/>
              </a:gs>
              <a:gs pos="100000">
                <a:srgbClr val="6b542e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743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406b"/>
              </a:gs>
              <a:gs pos="50000">
                <a:srgbClr val="308dea"/>
              </a:gs>
              <a:gs pos="100000">
                <a:srgbClr val="16406b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35053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4675"/>
              </a:gs>
              <a:gs pos="50000">
                <a:srgbClr val="3399ff"/>
              </a:gs>
              <a:gs pos="100000">
                <a:srgbClr val="174675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2670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02f67"/>
              </a:gs>
              <a:gs pos="50000">
                <a:srgbClr val="8d67e1"/>
              </a:gs>
              <a:gs pos="100000">
                <a:srgbClr val="402f67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50292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00"/>
              </a:gs>
              <a:gs pos="50000">
                <a:srgbClr val="99cc00"/>
              </a:gs>
              <a:gs pos="100000">
                <a:srgbClr val="465e00"/>
              </a:gs>
            </a:gsLst>
            <a:lin ang="540000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7dbe4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08dea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B8C08-ACA6-4476-BA8B-C00684CBBE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4724280" y="3086280"/>
            <a:ext cx="4343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7dbe4c"/>
                    </a:gs>
                    <a:gs pos="100000">
                      <a:srgbClr val="308dea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7dbe4c"/>
                  </a:gs>
                  <a:gs pos="100000">
                    <a:srgbClr val="308dea"/>
                  </a:gs>
                </a:gsLst>
                <a:lin ang="1080000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0" y="3962160"/>
            <a:ext cx="4572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Hot Tip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dbe4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8dea"/>
                </a:solidFill>
                <a:latin typeface="Verdana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308dea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08d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136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Slide Master]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b13621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1c459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08d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1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485e4"/>
              </a:gs>
              <a:gs pos="100000">
                <a:srgbClr val="5940d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1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c5c24"/>
                    </a:gs>
                    <a:gs pos="100000">
                      <a:srgbClr val="7dbe4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dbe4c"/>
                    </a:gs>
                    <a:gs pos="100000">
                      <a:srgbClr val="c4e1a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b13621"/>
                  </a:gs>
                  <a:gs pos="100000">
                    <a:srgbClr val="5118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2b8b0"/>
                  </a:gs>
                  <a:gs pos="100000">
                    <a:srgbClr val="b13621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48235"/>
                    </a:srgbClr>
                  </a:gs>
                  <a:gs pos="100000">
                    <a:srgbClr val="8b2a1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b13621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2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4e9c5"/>
              </a:gs>
              <a:gs pos="100000">
                <a:srgbClr val="7dbe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31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be4c"/>
                </a:gs>
                <a:gs pos="100000">
                  <a:srgbClr val="2a411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b13621"/>
                </a:gs>
                <a:gs pos="100000">
                  <a:srgbClr val="37100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5940d6"/>
                </a:gs>
                <a:gs pos="100000">
                  <a:srgbClr val="1f1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08dea"/>
                </a:gs>
                <a:gs pos="100000">
                  <a:srgbClr val="1030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dbe4c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49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69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0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5b5d2"/>
                  </a:gs>
                  <a:gs pos="100000">
                    <a:srgbClr val="1c459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7dbe4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436628"/>
                  </a:gs>
                  <a:gs pos="50000">
                    <a:srgbClr val="7dbe4c"/>
                  </a:gs>
                  <a:gs pos="100000">
                    <a:srgbClr val="43662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6406b"/>
                </a:gs>
                <a:gs pos="50000">
                  <a:srgbClr val="308dea"/>
                </a:gs>
                <a:gs pos="100000">
                  <a:srgbClr val="16406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1180f"/>
                </a:gs>
                <a:gs pos="50000">
                  <a:srgbClr val="b13621"/>
                </a:gs>
                <a:gs pos="100000">
                  <a:srgbClr val="5118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5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09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1d62"/>
                  </a:gs>
                  <a:gs pos="50000">
                    <a:srgbClr val="5940d6"/>
                  </a:gs>
                  <a:gs pos="100000">
                    <a:srgbClr val="291d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5940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5723"/>
                  </a:gs>
                  <a:gs pos="50000">
                    <a:srgbClr val="7dbe4c"/>
                  </a:gs>
                  <a:gs pos="100000">
                    <a:srgbClr val="39572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7dbe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406b"/>
                  </a:gs>
                  <a:gs pos="50000">
                    <a:srgbClr val="308dea"/>
                  </a:gs>
                  <a:gs pos="100000">
                    <a:srgbClr val="16406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1180f"/>
                  </a:gs>
                  <a:gs pos="50000">
                    <a:srgbClr val="b13621"/>
                  </a:gs>
                  <a:gs pos="100000">
                    <a:srgbClr val="5118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b136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402e9a"/>
                  </a:gs>
                  <a:gs pos="50000">
                    <a:srgbClr val="5940d6"/>
                  </a:gs>
                  <a:gs pos="100000">
                    <a:srgbClr val="402e9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5a8936"/>
                  </a:gs>
                  <a:gs pos="50000">
                    <a:srgbClr val="7dbe4c"/>
                  </a:gs>
                  <a:gs pos="100000">
                    <a:srgbClr val="5a893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08d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265a9"/>
                  </a:gs>
                  <a:gs pos="50000">
                    <a:srgbClr val="308dea"/>
                  </a:gs>
                  <a:gs pos="100000">
                    <a:srgbClr val="2265a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7f2717"/>
                  </a:gs>
                  <a:gs pos="50000">
                    <a:srgbClr val="b13621"/>
                  </a:gs>
                  <a:gs pos="100000">
                    <a:srgbClr val="7f271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0240" y="2602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i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224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7dbe4c"/>
                </a:gs>
                <a:gs pos="100000">
                  <a:srgbClr val="88c35b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5940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1d62"/>
                </a:gs>
                <a:gs pos="50000">
                  <a:srgbClr val="5940d6"/>
                </a:gs>
                <a:gs pos="100000">
                  <a:srgbClr val="291d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7dbe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95723"/>
                </a:gs>
                <a:gs pos="50000">
                  <a:srgbClr val="7dbe4c"/>
                </a:gs>
                <a:gs pos="100000">
                  <a:srgbClr val="3957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08dea"/>
                </a:gs>
                <a:gs pos="100000">
                  <a:srgbClr val="87bcf1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237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08d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2365a"/>
                  </a:gs>
                  <a:gs pos="50000">
                    <a:srgbClr val="308dea"/>
                  </a:gs>
                  <a:gs pos="100000">
                    <a:srgbClr val="12365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20Z</dcterms:modified>
  <cp:revision>6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