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E70-8E01-4CD5-AF4B-392E8EC0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4876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0920" y="5231520"/>
            <a:ext cx="4876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410-17B7-4F3A-BF40-4AE74B6C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0920" y="523152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80040" y="523152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62F-19A3-444F-AFA3-F1CF262E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29720" y="495288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78520" y="495288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80920" y="523152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5229720" y="523152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878520" y="523152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A98-D2BA-4B3B-8450-4791084D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80920" y="49528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6000"/>
            <a:ext cx="609624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0920" y="523152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80920" y="49528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073-4CA2-45AD-9F7D-F665D614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80040" y="523152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80920" y="5231520"/>
            <a:ext cx="4876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4876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0920" y="5231520"/>
            <a:ext cx="4876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80920" y="523152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80040" y="523152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9720" y="495288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78520" y="495288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580920" y="523152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229720" y="523152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878520" y="5231520"/>
            <a:ext cx="156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EC4-63E3-4772-8713-6B22653C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B3C-863F-4F76-A792-D2ECDECE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C61-E472-4A48-8F1A-D3192B24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8280" y="2286000"/>
            <a:ext cx="609624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43C-EA7E-49FD-BB30-789EF971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80920" y="523152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7C8-7781-4DB1-9B97-C8E80F71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80040" y="523152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947-4A34-49B4-8748-04057FFB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8092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80040" y="4952880"/>
            <a:ext cx="2379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80920" y="5231520"/>
            <a:ext cx="4876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363-7C33-4E8E-AB4F-9EECD98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3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6d1f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6d1f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6d1f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07D0-DD41-430B-8ECE-DC2FF25C6A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85800" y="380880"/>
            <a:ext cx="7696080" cy="533520"/>
            <a:chOff x="685800" y="380880"/>
            <a:chExt cx="7696080" cy="533520"/>
          </a:xfrm>
        </p:grpSpPr>
        <p:sp>
          <p:nvSpPr>
            <p:cNvPr id="7" name=""/>
            <p:cNvSpPr/>
            <p:nvPr/>
          </p:nvSpPr>
          <p:spPr>
            <a:xfrm>
              <a:off x="685800" y="38088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5800" y="914400"/>
              <a:ext cx="7696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81880" y="38088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6d1f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6d1f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6d1f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6096240" cy="1447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17397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400"/>
            </a:br>
            <a:r>
              <a:rPr b="1" i="1" lang="en-US" sz="72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6d1f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b6d1f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80920" y="49528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987200" y="6858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d1f6"/>
                </a:solidFill>
                <a:latin typeface="Arial"/>
              </a:rPr>
              <a:t>深蓝企业工作报告</a:t>
            </a:r>
            <a:r>
              <a:rPr b="0" lang="zh-CN" sz="4000" spc="-1" strike="noStrike">
                <a:solidFill>
                  <a:srgbClr val="b6d1f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b6d1f6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38080" y="1981080"/>
            <a:ext cx="7397640" cy="2895480"/>
            <a:chOff x="838080" y="1981080"/>
            <a:chExt cx="7397640" cy="2895480"/>
          </a:xfrm>
        </p:grpSpPr>
        <p:sp>
          <p:nvSpPr>
            <p:cNvPr id="250" name=""/>
            <p:cNvSpPr/>
            <p:nvPr/>
          </p:nvSpPr>
          <p:spPr>
            <a:xfrm>
              <a:off x="2931840" y="2738160"/>
              <a:ext cx="489240" cy="54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83240" y="273816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41960" y="1987560"/>
              <a:ext cx="2093760" cy="20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41960" y="1987560"/>
              <a:ext cx="2093760" cy="204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78400" y="212076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10080" y="2131920"/>
              <a:ext cx="1819440" cy="177948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0"/>
                  </a:srgbClr>
                </a:gs>
                <a:gs pos="100000">
                  <a:srgbClr val="a1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77040" y="2209680"/>
              <a:ext cx="1638000" cy="160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1981080"/>
              <a:ext cx="209376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080" y="1981080"/>
              <a:ext cx="209376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6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74520" y="211428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363652"/>
                </a:gs>
                <a:gs pos="50000">
                  <a:srgbClr val="666699"/>
                </a:gs>
                <a:gs pos="100000">
                  <a:srgbClr val="36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76320" y="211752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666699">
                    <a:alpha val="0"/>
                  </a:srgbClr>
                </a:gs>
                <a:gs pos="100000">
                  <a:srgbClr val="40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5240" y="2203200"/>
              <a:ext cx="1639800" cy="160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092240" y="2227320"/>
              <a:ext cx="1585800" cy="1552320"/>
              <a:chOff x="1092240" y="2227320"/>
              <a:chExt cx="1585800" cy="1552320"/>
            </a:xfrm>
          </p:grpSpPr>
          <p:sp>
            <p:nvSpPr>
              <p:cNvPr id="263" name=""/>
              <p:cNvSpPr/>
              <p:nvPr/>
            </p:nvSpPr>
            <p:spPr>
              <a:xfrm>
                <a:off x="1092240" y="2227320"/>
                <a:ext cx="1585800" cy="15523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12400" y="2235960"/>
                <a:ext cx="1547640" cy="1513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8960" y="2250720"/>
                <a:ext cx="1471680" cy="1414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215000" y="2290320"/>
                <a:ext cx="1308240" cy="1148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490920" y="1987560"/>
              <a:ext cx="2093760" cy="20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90920" y="1987560"/>
              <a:ext cx="2093760" cy="204768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27360" y="212076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28800" y="2124000"/>
              <a:ext cx="1820880" cy="178128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17720" y="2209680"/>
              <a:ext cx="1639800" cy="160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744720" y="2227320"/>
              <a:ext cx="1586160" cy="1552320"/>
              <a:chOff x="3744720" y="2227320"/>
              <a:chExt cx="1586160" cy="1552320"/>
            </a:xfrm>
          </p:grpSpPr>
          <p:sp>
            <p:nvSpPr>
              <p:cNvPr id="273" name=""/>
              <p:cNvSpPr/>
              <p:nvPr/>
            </p:nvSpPr>
            <p:spPr>
              <a:xfrm>
                <a:off x="3744720" y="2227320"/>
                <a:ext cx="1586160" cy="15523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64880" y="2235960"/>
                <a:ext cx="1548000" cy="1513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81440" y="2250720"/>
                <a:ext cx="1472040" cy="1414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67480" y="2290320"/>
                <a:ext cx="1308600" cy="1148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6406920" y="2227320"/>
              <a:ext cx="1586160" cy="1552320"/>
              <a:chOff x="6406920" y="2227320"/>
              <a:chExt cx="1586160" cy="1552320"/>
            </a:xfrm>
          </p:grpSpPr>
          <p:sp>
            <p:nvSpPr>
              <p:cNvPr id="278" name=""/>
              <p:cNvSpPr/>
              <p:nvPr/>
            </p:nvSpPr>
            <p:spPr>
              <a:xfrm>
                <a:off x="6406920" y="2227320"/>
                <a:ext cx="1586160" cy="15523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27080" y="2235960"/>
                <a:ext cx="1548000" cy="1513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43640" y="2250720"/>
                <a:ext cx="1472040" cy="1414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29680" y="2290320"/>
                <a:ext cx="1308600" cy="1148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85600" y="43876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35200" y="43876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3880" y="4387680"/>
              <a:ext cx="1993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01200" y="2801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60160" y="2801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19480" y="2801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295280" y="1295280"/>
            <a:ext cx="6858000" cy="4495680"/>
            <a:chOff x="1295280" y="1295280"/>
            <a:chExt cx="6858000" cy="4495680"/>
          </a:xfrm>
        </p:grpSpPr>
        <p:sp>
          <p:nvSpPr>
            <p:cNvPr id="290" name=""/>
            <p:cNvSpPr/>
            <p:nvPr/>
          </p:nvSpPr>
          <p:spPr>
            <a:xfrm>
              <a:off x="1295280" y="17524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dcd2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3760" y="31240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467160" y="3504960"/>
              <a:ext cx="1704960" cy="2028960"/>
              <a:chOff x="3467160" y="3504960"/>
              <a:chExt cx="1704960" cy="2028960"/>
            </a:xfrm>
          </p:grpSpPr>
          <p:sp>
            <p:nvSpPr>
              <p:cNvPr id="293" name=""/>
              <p:cNvSpPr/>
              <p:nvPr/>
            </p:nvSpPr>
            <p:spPr>
              <a:xfrm rot="20876400">
                <a:off x="3535560" y="47242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67160" y="35049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87680" y="35143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05320" y="35305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97480" y="35748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84760" y="41320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630080" y="3124080"/>
              <a:ext cx="1371240" cy="1718640"/>
              <a:chOff x="1630080" y="3124080"/>
              <a:chExt cx="1371240" cy="1718640"/>
            </a:xfrm>
          </p:grpSpPr>
          <p:sp>
            <p:nvSpPr>
              <p:cNvPr id="300" name=""/>
              <p:cNvSpPr/>
              <p:nvPr/>
            </p:nvSpPr>
            <p:spPr>
              <a:xfrm rot="20826600">
                <a:off x="1706400" y="41144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1630080" y="3124080"/>
                <a:ext cx="1371240" cy="1441080"/>
                <a:chOff x="1630080" y="3124080"/>
                <a:chExt cx="1371240" cy="14410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630080" y="31240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648080" y="31323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661040" y="31456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732680" y="31824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910520" y="36302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"/>
            <p:cNvGrpSpPr/>
            <p:nvPr/>
          </p:nvGrpSpPr>
          <p:grpSpPr>
            <a:xfrm>
              <a:off x="1444680" y="1752480"/>
              <a:ext cx="1099440" cy="1139760"/>
              <a:chOff x="1444680" y="1752480"/>
              <a:chExt cx="1099440" cy="1139760"/>
            </a:xfrm>
          </p:grpSpPr>
          <p:sp>
            <p:nvSpPr>
              <p:cNvPr id="308" name=""/>
              <p:cNvSpPr/>
              <p:nvPr/>
            </p:nvSpPr>
            <p:spPr>
              <a:xfrm>
                <a:off x="1444680" y="23590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20640" y="17524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33240" y="17571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44400" y="17683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98400" y="17938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17560" y="21016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49400" y="1295280"/>
              <a:ext cx="804960" cy="762120"/>
              <a:chOff x="2849400" y="1295280"/>
              <a:chExt cx="804960" cy="762120"/>
            </a:xfrm>
          </p:grpSpPr>
          <p:sp>
            <p:nvSpPr>
              <p:cNvPr id="315" name=""/>
              <p:cNvSpPr/>
              <p:nvPr/>
            </p:nvSpPr>
            <p:spPr>
              <a:xfrm>
                <a:off x="2849400" y="18288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800" y="12952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81160" y="12985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7640" y="13046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24000" y="13237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2000" y="15192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789200" y="1353960"/>
            <a:ext cx="5800680" cy="4476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62120" y="62485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b6d1f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6d1f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1863720"/>
            <a:ext cx="2163600" cy="3165480"/>
            <a:chOff x="990720" y="1863720"/>
            <a:chExt cx="2163600" cy="3165480"/>
          </a:xfrm>
        </p:grpSpPr>
        <p:sp>
          <p:nvSpPr>
            <p:cNvPr id="326" name=""/>
            <p:cNvSpPr/>
            <p:nvPr/>
          </p:nvSpPr>
          <p:spPr>
            <a:xfrm>
              <a:off x="99072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2420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4148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4148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735200" y="1863720"/>
              <a:ext cx="642960" cy="642960"/>
              <a:chOff x="1735200" y="1863720"/>
              <a:chExt cx="642960" cy="642960"/>
            </a:xfrm>
          </p:grpSpPr>
          <p:sp>
            <p:nvSpPr>
              <p:cNvPr id="331" name=""/>
              <p:cNvSpPr/>
              <p:nvPr/>
            </p:nvSpPr>
            <p:spPr>
              <a:xfrm>
                <a:off x="173520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4168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4960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5608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8992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87524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704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715000" y="1863720"/>
            <a:ext cx="2163600" cy="3165480"/>
            <a:chOff x="5715000" y="1863720"/>
            <a:chExt cx="2163600" cy="3165480"/>
          </a:xfrm>
        </p:grpSpPr>
        <p:sp>
          <p:nvSpPr>
            <p:cNvPr id="339" name=""/>
            <p:cNvSpPr/>
            <p:nvPr/>
          </p:nvSpPr>
          <p:spPr>
            <a:xfrm>
              <a:off x="571500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4848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576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6576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459480" y="1863720"/>
              <a:ext cx="642960" cy="642960"/>
              <a:chOff x="6459480" y="1863720"/>
              <a:chExt cx="642960" cy="642960"/>
            </a:xfrm>
          </p:grpSpPr>
          <p:sp>
            <p:nvSpPr>
              <p:cNvPr id="344" name=""/>
              <p:cNvSpPr/>
              <p:nvPr/>
            </p:nvSpPr>
            <p:spPr>
              <a:xfrm>
                <a:off x="645948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6596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7388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8036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51420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59952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352680" y="1863720"/>
            <a:ext cx="2163600" cy="3165480"/>
            <a:chOff x="3352680" y="1863720"/>
            <a:chExt cx="2163600" cy="3165480"/>
          </a:xfrm>
        </p:grpSpPr>
        <p:sp>
          <p:nvSpPr>
            <p:cNvPr id="352" name=""/>
            <p:cNvSpPr/>
            <p:nvPr/>
          </p:nvSpPr>
          <p:spPr>
            <a:xfrm>
              <a:off x="335268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8616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0344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0344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9716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3640" y="18684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11560" y="18716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17680" y="18781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52960" y="18939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3720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2900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0" y="1676520"/>
            <a:ext cx="9144000" cy="3883320"/>
            <a:chOff x="0" y="1676520"/>
            <a:chExt cx="9144000" cy="3883320"/>
          </a:xfrm>
        </p:grpSpPr>
        <p:grpSp>
          <p:nvGrpSpPr>
            <p:cNvPr id="365" name=""/>
            <p:cNvGrpSpPr/>
            <p:nvPr/>
          </p:nvGrpSpPr>
          <p:grpSpPr>
            <a:xfrm>
              <a:off x="0" y="2911680"/>
              <a:ext cx="9144000" cy="147240"/>
              <a:chOff x="0" y="2911680"/>
              <a:chExt cx="9144000" cy="14724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2911680"/>
                <a:ext cx="9144000" cy="40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951280"/>
                <a:ext cx="9144000" cy="1076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62120" y="2293920"/>
              <a:ext cx="1891800" cy="3265920"/>
              <a:chOff x="762120" y="2293920"/>
              <a:chExt cx="1891800" cy="326592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1148760" y="3170160"/>
                <a:ext cx="1505160" cy="2389680"/>
                <a:chOff x="1148760" y="3170160"/>
                <a:chExt cx="1505160" cy="238968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1148760" y="3326040"/>
                  <a:ext cx="1400040" cy="2233800"/>
                  <a:chOff x="1148760" y="3326040"/>
                  <a:chExt cx="1400040" cy="22338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rot="3876600">
                    <a:off x="727560" y="41997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3876600">
                    <a:off x="2075040" y="506592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1579680" y="3170160"/>
                  <a:ext cx="1074240" cy="1713960"/>
                  <a:chOff x="1579680" y="3170160"/>
                  <a:chExt cx="1074240" cy="17139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V="1" rot="3876600">
                    <a:off x="1256400" y="384012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V="1" rot="3876600">
                    <a:off x="2274840" y="451224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6" name=""/>
              <p:cNvGrpSpPr/>
              <p:nvPr/>
            </p:nvGrpSpPr>
            <p:grpSpPr>
              <a:xfrm>
                <a:off x="762120" y="2293920"/>
                <a:ext cx="1289520" cy="1288440"/>
                <a:chOff x="762120" y="2293920"/>
                <a:chExt cx="1289520" cy="12884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62120" y="22939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62120" y="22939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47440" y="237744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47440" y="238032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902880" y="2434680"/>
                  <a:ext cx="100764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918360" y="2449800"/>
                  <a:ext cx="976680" cy="977040"/>
                  <a:chOff x="918360" y="2449800"/>
                  <a:chExt cx="976680" cy="97704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918360" y="2449800"/>
                    <a:ext cx="97668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930600" y="2455200"/>
                    <a:ext cx="95328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940680" y="2464560"/>
                    <a:ext cx="90648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993960" y="2489400"/>
                    <a:ext cx="80568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"/>
              <p:cNvSpPr/>
              <p:nvPr/>
            </p:nvSpPr>
            <p:spPr>
              <a:xfrm rot="3925800">
                <a:off x="1147320" y="4152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3925800">
                <a:off x="1630440" y="3877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644920" y="2293920"/>
              <a:ext cx="1977840" cy="3195720"/>
              <a:chOff x="2644920" y="2293920"/>
              <a:chExt cx="1977840" cy="319572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3117960" y="3100320"/>
                <a:ext cx="1504800" cy="2389320"/>
                <a:chOff x="3117960" y="3100320"/>
                <a:chExt cx="1504800" cy="238932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3117960" y="3255840"/>
                  <a:ext cx="1400040" cy="2233800"/>
                  <a:chOff x="3117960" y="3255840"/>
                  <a:chExt cx="1400040" cy="223380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3876600">
                    <a:off x="2696760" y="41295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3876600">
                    <a:off x="4044240" y="49960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3548520" y="3100320"/>
                  <a:ext cx="1074240" cy="1713960"/>
                  <a:chOff x="3548520" y="3100320"/>
                  <a:chExt cx="1074240" cy="17139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V="1" rot="3876600">
                    <a:off x="3225240" y="37702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V="1" rot="3876600">
                    <a:off x="4243680" y="44424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2644920" y="2293920"/>
                <a:ext cx="1290960" cy="1288440"/>
                <a:chOff x="2644920" y="2293920"/>
                <a:chExt cx="1290960" cy="12884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44920" y="22939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44920" y="22939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730240" y="237744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730240" y="238032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785680" y="2434680"/>
                  <a:ext cx="100872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2801160" y="2449800"/>
                  <a:ext cx="977760" cy="977040"/>
                  <a:chOff x="2801160" y="2449800"/>
                  <a:chExt cx="977760" cy="97704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2801160" y="2449800"/>
                    <a:ext cx="97776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813400" y="2455200"/>
                    <a:ext cx="95436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823480" y="2464560"/>
                    <a:ext cx="90756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876760" y="2489400"/>
                    <a:ext cx="80676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8" name=""/>
              <p:cNvSpPr/>
              <p:nvPr/>
            </p:nvSpPr>
            <p:spPr>
              <a:xfrm rot="3925800">
                <a:off x="3053880" y="40806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925800">
                <a:off x="3534840" y="3806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4591080" y="2293920"/>
              <a:ext cx="1976400" cy="3195720"/>
              <a:chOff x="4591080" y="2293920"/>
              <a:chExt cx="1976400" cy="319572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062680" y="3100320"/>
                <a:ext cx="1504800" cy="2389320"/>
                <a:chOff x="5062680" y="3100320"/>
                <a:chExt cx="1504800" cy="238932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5062680" y="3255840"/>
                  <a:ext cx="1400040" cy="2233800"/>
                  <a:chOff x="5062680" y="3255840"/>
                  <a:chExt cx="1400040" cy="223380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3876600">
                    <a:off x="4641480" y="41295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3876600">
                    <a:off x="5988960" y="49960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5493240" y="3100320"/>
                  <a:ext cx="1074240" cy="1713960"/>
                  <a:chOff x="5493240" y="3100320"/>
                  <a:chExt cx="1074240" cy="17139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V="1" rot="3876600">
                    <a:off x="5169960" y="37702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V="1" rot="3876600">
                    <a:off x="6188400" y="44424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4591080" y="2293920"/>
                <a:ext cx="1289160" cy="1288440"/>
                <a:chOff x="4591080" y="2293920"/>
                <a:chExt cx="1289160" cy="1288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591080" y="22939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591080" y="22939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76400" y="237744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76400" y="238032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731840" y="2434680"/>
                  <a:ext cx="100728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4747320" y="2449800"/>
                  <a:ext cx="976320" cy="977040"/>
                  <a:chOff x="4747320" y="2449800"/>
                  <a:chExt cx="976320" cy="9770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4747320" y="2449800"/>
                    <a:ext cx="97632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759560" y="2455200"/>
                    <a:ext cx="95292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769640" y="2464560"/>
                    <a:ext cx="90612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822920" y="2489400"/>
                    <a:ext cx="80532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9" name=""/>
              <p:cNvSpPr/>
              <p:nvPr/>
            </p:nvSpPr>
            <p:spPr>
              <a:xfrm rot="3925800">
                <a:off x="5037120" y="4082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3925800">
                <a:off x="5515920" y="3806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6519960" y="2152800"/>
              <a:ext cx="2168280" cy="3402360"/>
              <a:chOff x="6519960" y="2152800"/>
              <a:chExt cx="2168280" cy="34023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7185960" y="3169440"/>
                <a:ext cx="1502280" cy="2385720"/>
                <a:chOff x="7185960" y="3169440"/>
                <a:chExt cx="1502280" cy="238572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7185960" y="3324960"/>
                  <a:ext cx="1397880" cy="2230200"/>
                  <a:chOff x="7185960" y="3324960"/>
                  <a:chExt cx="1397880" cy="223020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3876600">
                    <a:off x="6765480" y="4197240"/>
                    <a:ext cx="2238480" cy="48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3876600">
                    <a:off x="8110080" y="5062680"/>
                    <a:ext cx="35172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615800" y="3169440"/>
                  <a:ext cx="1072440" cy="1711440"/>
                  <a:chOff x="7615800" y="3169440"/>
                  <a:chExt cx="1072440" cy="17114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V="1" rot="3876600">
                    <a:off x="7292880" y="3839040"/>
                    <a:ext cx="1717920" cy="37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 rot="3876600">
                    <a:off x="8309520" y="4510080"/>
                    <a:ext cx="27000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b6d1f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9" name=""/>
              <p:cNvSpPr/>
              <p:nvPr/>
            </p:nvSpPr>
            <p:spPr>
              <a:xfrm>
                <a:off x="6519960" y="21528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519960" y="21528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616800" y="22543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18240" y="22561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680160" y="2320920"/>
                <a:ext cx="1211400" cy="120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6697800" y="2340000"/>
                <a:ext cx="1173240" cy="1171800"/>
                <a:chOff x="6697800" y="2340000"/>
                <a:chExt cx="1173240" cy="11718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97800" y="2340000"/>
                  <a:ext cx="1173240" cy="117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712560" y="2346480"/>
                  <a:ext cx="1144800" cy="11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724800" y="2357640"/>
                  <a:ext cx="108900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88520" y="2387520"/>
                  <a:ext cx="968040" cy="86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 rot="3925800">
                <a:off x="7140240" y="4136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3925800">
                <a:off x="7647480" y="3925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1046160" y="1714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36880" y="1714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17880" y="17146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64760" y="16765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51" idx="3"/>
              <a:endCxn id="452" idx="1"/>
            </p:cNvCxnSpPr>
            <p:nvPr/>
          </p:nvCxnSpPr>
          <p:spPr>
            <a:xfrm>
              <a:off x="1743120" y="1879200"/>
              <a:ext cx="1162440" cy="1080"/>
            </a:xfrm>
            <a:prstGeom prst="straightConnector1">
              <a:avLst/>
            </a:prstGeom>
            <a:ln w="9360">
              <a:solidFill>
                <a:srgbClr val="b6d1f6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2" idx="3"/>
              <a:endCxn id="453" idx="1"/>
            </p:cNvCxnSpPr>
            <p:nvPr/>
          </p:nvCxnSpPr>
          <p:spPr>
            <a:xfrm>
              <a:off x="3634920" y="1879200"/>
              <a:ext cx="1151640" cy="1080"/>
            </a:xfrm>
            <a:prstGeom prst="straightConnector1">
              <a:avLst/>
            </a:prstGeom>
            <a:ln w="9360">
              <a:solidFill>
                <a:srgbClr val="b6d1f6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3"/>
              <a:endCxn id="454" idx="1"/>
            </p:cNvCxnSpPr>
            <p:nvPr/>
          </p:nvCxnSpPr>
          <p:spPr>
            <a:xfrm>
              <a:off x="5516280" y="1879200"/>
              <a:ext cx="1159560" cy="2520"/>
            </a:xfrm>
            <a:prstGeom prst="straightConnector1">
              <a:avLst/>
            </a:prstGeom>
            <a:ln w="9360">
              <a:solidFill>
                <a:srgbClr val="b6d1f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259092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dcd2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259092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666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2590920"/>
            <a:ext cx="2667240" cy="266688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99cc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30280" y="16765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97120" y="16765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38680" y="16765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8dcd2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77120" y="3124080"/>
            <a:ext cx="1511280" cy="2514600"/>
          </a:xfrm>
          <a:custGeom>
            <a:avLst/>
            <a:gdLst>
              <a:gd name="textAreaLeft" fmla="*/ 60840 w 1511280"/>
              <a:gd name="textAreaRight" fmla="*/ 1450440 w 1511280"/>
              <a:gd name="textAreaTop" fmla="*/ 60840 h 2514600"/>
              <a:gd name="textAreaBottom" fmla="*/ 2453760 h 2514600"/>
            </a:gdLst>
            <a:ahLst/>
            <a:rect l="textAreaLeft" t="textAreaTop" r="textAreaRight" b="textAreaBottom"/>
            <a:pathLst>
              <a:path w="21600" h="35937">
                <a:moveTo>
                  <a:pt x="2969" y="0"/>
                </a:moveTo>
                <a:arcTo wR="2969" hR="2969" stAng="16200000" swAng="-5400000"/>
                <a:lnTo>
                  <a:pt x="0" y="32968"/>
                </a:lnTo>
                <a:arcTo wR="2969" hR="2969" stAng="10800000" swAng="-5400000"/>
                <a:lnTo>
                  <a:pt x="18631" y="3593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6d1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99160" y="3124080"/>
            <a:ext cx="1525320" cy="2514600"/>
          </a:xfrm>
          <a:custGeom>
            <a:avLst/>
            <a:gdLst>
              <a:gd name="textAreaLeft" fmla="*/ 61200 w 1525320"/>
              <a:gd name="textAreaRight" fmla="*/ 1464120 w 15253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606">
                <a:moveTo>
                  <a:pt x="2969" y="0"/>
                </a:moveTo>
                <a:arcTo wR="2969" hR="2969" stAng="16200000" swAng="-5400000"/>
                <a:lnTo>
                  <a:pt x="0" y="32637"/>
                </a:lnTo>
                <a:arcTo wR="2969" hR="2969" stAng="10800000" swAng="-5400000"/>
                <a:lnTo>
                  <a:pt x="18631" y="356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6d1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3124080"/>
            <a:ext cx="1595160" cy="2514600"/>
          </a:xfrm>
          <a:custGeom>
            <a:avLst/>
            <a:gdLst>
              <a:gd name="textAreaLeft" fmla="*/ 64080 w 1595160"/>
              <a:gd name="textAreaRight" fmla="*/ 1531080 w 1595160"/>
              <a:gd name="textAreaTop" fmla="*/ 64080 h 2514600"/>
              <a:gd name="textAreaBottom" fmla="*/ 2450520 h 2514600"/>
            </a:gdLst>
            <a:ahLst/>
            <a:rect l="textAreaLeft" t="textAreaTop" r="textAreaRight" b="textAreaBottom"/>
            <a:pathLst>
              <a:path w="21600" h="34047">
                <a:moveTo>
                  <a:pt x="2969" y="0"/>
                </a:moveTo>
                <a:arcTo wR="2969" hR="2969" stAng="16200000" swAng="-5400000"/>
                <a:lnTo>
                  <a:pt x="0" y="31078"/>
                </a:lnTo>
                <a:arcTo wR="2969" hR="2969" stAng="10800000" swAng="-5400000"/>
                <a:lnTo>
                  <a:pt x="18631" y="3404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6d1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3124080"/>
            <a:ext cx="1676520" cy="251460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14600"/>
              <a:gd name="textAreaBottom" fmla="*/ 2447280 h 2514600"/>
            </a:gdLst>
            <a:ahLst/>
            <a:rect l="textAreaLeft" t="textAreaTop" r="textAreaRight" b="textAreaBottom"/>
            <a:pathLst>
              <a:path w="21600" h="32395">
                <a:moveTo>
                  <a:pt x="2969" y="0"/>
                </a:moveTo>
                <a:arcTo wR="2969" hR="2969" stAng="16200000" swAng="-5400000"/>
                <a:lnTo>
                  <a:pt x="0" y="29426"/>
                </a:lnTo>
                <a:arcTo wR="2969" hR="2969" stAng="10800000" swAng="-5400000"/>
                <a:lnTo>
                  <a:pt x="18631" y="3239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6d1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519920" y="1565640"/>
            <a:ext cx="6014520" cy="1287720"/>
            <a:chOff x="1519920" y="1565640"/>
            <a:chExt cx="6014520" cy="1287720"/>
          </a:xfrm>
        </p:grpSpPr>
        <p:grpSp>
          <p:nvGrpSpPr>
            <p:cNvPr id="471" name=""/>
            <p:cNvGrpSpPr/>
            <p:nvPr/>
          </p:nvGrpSpPr>
          <p:grpSpPr>
            <a:xfrm>
              <a:off x="1519920" y="1565640"/>
              <a:ext cx="6014520" cy="1287720"/>
              <a:chOff x="1519920" y="1565640"/>
              <a:chExt cx="6014520" cy="1287720"/>
            </a:xfrm>
          </p:grpSpPr>
          <p:sp>
            <p:nvSpPr>
              <p:cNvPr id="472" name=""/>
              <p:cNvSpPr/>
              <p:nvPr/>
            </p:nvSpPr>
            <p:spPr>
              <a:xfrm rot="3418800">
                <a:off x="1719360" y="1770480"/>
                <a:ext cx="853200" cy="9388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2615400" y="1935360"/>
                <a:ext cx="871560" cy="121320"/>
                <a:chOff x="2615400" y="1935360"/>
                <a:chExt cx="871560" cy="1213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2615400" y="193536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98920" y="193608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54840" y="193716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675"/>
                    </a:gs>
                    <a:gs pos="50000">
                      <a:srgbClr val="0099ff"/>
                    </a:gs>
                    <a:gs pos="100000">
                      <a:srgbClr val="004675"/>
                    </a:gs>
                  </a:gsLst>
                  <a:lin ang="5400000"/>
                </a:gradFill>
                <a:ln w="1260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425400" y="197532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675"/>
                    </a:gs>
                    <a:gs pos="50000">
                      <a:srgbClr val="0099ff"/>
                    </a:gs>
                    <a:gs pos="100000">
                      <a:srgbClr val="0046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 rot="3418800">
                <a:off x="3329280" y="170964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8dcd2f"/>
                  </a:gs>
                  <a:gs pos="100000">
                    <a:srgbClr val="405e15"/>
                  </a:gs>
                </a:gsLst>
                <a:lin ang="198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4225320" y="1935360"/>
                <a:ext cx="871560" cy="121320"/>
                <a:chOff x="4225320" y="1935360"/>
                <a:chExt cx="871560" cy="1213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225320" y="193536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308840" y="193608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964760" y="193716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675"/>
                    </a:gs>
                    <a:gs pos="50000">
                      <a:srgbClr val="0099ff"/>
                    </a:gs>
                    <a:gs pos="100000">
                      <a:srgbClr val="004675"/>
                    </a:gs>
                  </a:gsLst>
                  <a:lin ang="5400000"/>
                </a:gradFill>
                <a:ln w="1260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035320" y="197532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675"/>
                    </a:gs>
                    <a:gs pos="50000">
                      <a:srgbClr val="0099ff"/>
                    </a:gs>
                    <a:gs pos="100000">
                      <a:srgbClr val="0046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 rot="3418800">
                <a:off x="4871520" y="1709280"/>
                <a:ext cx="853200" cy="93924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5835240" y="1935360"/>
                <a:ext cx="1140120" cy="121320"/>
                <a:chOff x="5835240" y="1935360"/>
                <a:chExt cx="1140120" cy="1213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35240" y="1935360"/>
                  <a:ext cx="19224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44320" y="1936080"/>
                  <a:ext cx="94500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802560" y="1937160"/>
                  <a:ext cx="17280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675"/>
                    </a:gs>
                    <a:gs pos="50000">
                      <a:srgbClr val="0099ff"/>
                    </a:gs>
                    <a:gs pos="100000">
                      <a:srgbClr val="004675"/>
                    </a:gs>
                  </a:gsLst>
                  <a:lin ang="5400000"/>
                </a:gradFill>
                <a:ln w="1260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894720" y="1975320"/>
                  <a:ext cx="4860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675"/>
                    </a:gs>
                    <a:gs pos="50000">
                      <a:srgbClr val="0099ff"/>
                    </a:gs>
                    <a:gs pos="100000">
                      <a:srgbClr val="0046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 rot="3418800">
                <a:off x="6481440" y="170928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8dcd2f"/>
                  </a:gs>
                  <a:gs pos="100000">
                    <a:srgbClr val="405e15"/>
                  </a:gs>
                </a:gsLst>
                <a:lin ang="198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1826280" y="2048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5000" y="2048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61520" y="2048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02040" y="2048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671120" y="3211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23600" y="3211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3211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2600" y="3211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084320" y="1968480"/>
          <a:ext cx="7053120" cy="3156120"/>
        </p:xfrm>
        <a:graphic>
          <a:graphicData uri="http://schemas.openxmlformats.org/drawingml/2006/table">
            <a:tbl>
              <a:tblPr/>
              <a:tblGrid>
                <a:gridCol w="1589040"/>
                <a:gridCol w="1112760"/>
                <a:gridCol w="1086120"/>
                <a:gridCol w="1087200"/>
                <a:gridCol w="1090800"/>
                <a:gridCol w="108720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6d1f6"/>
                      </a:solidFill>
                    </a:lnR>
                    <a:lnT>
                      <a:noFill/>
                    </a:lnT>
                    <a:lnB w="5760">
                      <a:solidFill>
                        <a:srgbClr val="b6d1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173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173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173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173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17397d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b6d1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6d1f6"/>
                      </a:solidFill>
                    </a:lnL>
                    <a:lnR w="5760">
                      <a:solidFill>
                        <a:srgbClr val="b6d1f6"/>
                      </a:solidFill>
                    </a:lnR>
                    <a:lnT w="5760">
                      <a:solidFill>
                        <a:srgbClr val="b6d1f6"/>
                      </a:solidFill>
                    </a:lnT>
                    <a:lnB w="5760">
                      <a:solidFill>
                        <a:srgbClr val="b6d1f6"/>
                      </a:solidFill>
                    </a:lnB>
                    <a:solidFill>
                      <a:srgbClr val="b6d1f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>
            <a:off x="685800" y="1447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b6d1f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6d1f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33280" y="1176480"/>
            <a:ext cx="6701040" cy="4630680"/>
            <a:chOff x="1133280" y="1176480"/>
            <a:chExt cx="6701040" cy="4630680"/>
          </a:xfrm>
        </p:grpSpPr>
        <p:sp>
          <p:nvSpPr>
            <p:cNvPr id="504" name=""/>
            <p:cNvSpPr/>
            <p:nvPr/>
          </p:nvSpPr>
          <p:spPr>
            <a:xfrm>
              <a:off x="2189160" y="4225320"/>
              <a:ext cx="5205240" cy="1184400"/>
            </a:xfrm>
            <a:prstGeom prst="ellipse">
              <a:avLst/>
            </a:prstGeom>
            <a:solidFill>
              <a:srgbClr val="00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20601600">
              <a:off x="1458360" y="216972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601600">
              <a:off x="1514160" y="201456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0601600">
              <a:off x="1429200" y="2007720"/>
              <a:ext cx="5563440" cy="28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rot="20602200">
              <a:off x="1410480" y="2023200"/>
              <a:ext cx="5613480" cy="27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01600">
              <a:off x="1436400" y="2015280"/>
              <a:ext cx="5541480" cy="271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rot="20602200">
              <a:off x="1418040" y="2012400"/>
              <a:ext cx="5561640" cy="270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01600">
              <a:off x="2939400" y="269928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61160" y="29127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20200" y="20358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57480" y="24742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81560" y="298584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20539200">
              <a:off x="1438200" y="2036160"/>
              <a:ext cx="6106680" cy="285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2320" y="344736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57480" y="3424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7120" y="4155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8440" y="40089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01600">
              <a:off x="3038400" y="2941560"/>
              <a:ext cx="2523240" cy="10458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579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94400" y="382644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523520" y="1608120"/>
            <a:ext cx="6297840" cy="3878280"/>
            <a:chOff x="1523520" y="1608120"/>
            <a:chExt cx="6297840" cy="3878280"/>
          </a:xfrm>
        </p:grpSpPr>
        <p:sp>
          <p:nvSpPr>
            <p:cNvPr id="525" name=""/>
            <p:cNvSpPr/>
            <p:nvPr/>
          </p:nvSpPr>
          <p:spPr>
            <a:xfrm flipH="1">
              <a:off x="1523520" y="5481720"/>
              <a:ext cx="166068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523520" y="4700520"/>
              <a:ext cx="214308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523520" y="3890880"/>
              <a:ext cx="251604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523880" y="3094200"/>
              <a:ext cx="294480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523520" y="2292480"/>
              <a:ext cx="33735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523520" y="1608120"/>
              <a:ext cx="37479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36640" y="1608120"/>
              <a:ext cx="1440" cy="6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36640" y="229248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36640" y="310212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36640" y="3911760"/>
              <a:ext cx="1440" cy="80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36640" y="4721040"/>
              <a:ext cx="1440" cy="74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27000" y="1798560"/>
              <a:ext cx="14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27000" y="2590920"/>
              <a:ext cx="14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27000" y="3379680"/>
              <a:ext cx="14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27000" y="4172040"/>
              <a:ext cx="14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7000" y="4962600"/>
              <a:ext cx="143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8200" y="4295880"/>
              <a:ext cx="803160" cy="118908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35280" y="4295880"/>
              <a:ext cx="3738600" cy="5061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71680" y="4800600"/>
              <a:ext cx="4127400" cy="685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00600" y="3622680"/>
              <a:ext cx="70812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60800" y="3622680"/>
              <a:ext cx="2808360" cy="3794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05120" y="400032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81560" y="2957400"/>
              <a:ext cx="620640" cy="935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83080" y="2957400"/>
              <a:ext cx="187488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20920" y="3208320"/>
              <a:ext cx="2427480" cy="6843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57840" y="2282760"/>
              <a:ext cx="533160" cy="812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11480" y="2282760"/>
              <a:ext cx="936720" cy="12240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43200" y="2403360"/>
              <a:ext cx="1581120" cy="6922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30880" y="1608120"/>
              <a:ext cx="45072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64040" y="1608120"/>
              <a:ext cx="73332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70600" y="1974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70600" y="2700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70600" y="3490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70600" y="4281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0600" y="50720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76520" y="1905120"/>
            <a:ext cx="5333400" cy="634680"/>
            <a:chOff x="1676520" y="1905120"/>
            <a:chExt cx="5333400" cy="634680"/>
          </a:xfrm>
        </p:grpSpPr>
        <p:sp>
          <p:nvSpPr>
            <p:cNvPr id="92" name=""/>
            <p:cNvSpPr/>
            <p:nvPr/>
          </p:nvSpPr>
          <p:spPr>
            <a:xfrm>
              <a:off x="2209680" y="253692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6880" y="200340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676520" y="1905120"/>
              <a:ext cx="685080" cy="634680"/>
              <a:chOff x="1676520" y="1905120"/>
              <a:chExt cx="685080" cy="634680"/>
            </a:xfrm>
          </p:grpSpPr>
          <p:sp>
            <p:nvSpPr>
              <p:cNvPr id="95" name=""/>
              <p:cNvSpPr/>
              <p:nvPr/>
            </p:nvSpPr>
            <p:spPr>
              <a:xfrm>
                <a:off x="1681920" y="191556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76520" y="19051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94256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405e15"/>
                  </a:gs>
                  <a:gs pos="50000">
                    <a:srgbClr val="8dcd2f"/>
                  </a:gs>
                  <a:gs pos="100000">
                    <a:srgbClr val="405e15"/>
                  </a:gs>
                </a:gsLst>
                <a:lin ang="1350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836720" y="199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676520" y="2708280"/>
            <a:ext cx="5333400" cy="634680"/>
            <a:chOff x="1676520" y="2708280"/>
            <a:chExt cx="5333400" cy="634680"/>
          </a:xfrm>
        </p:grpSpPr>
        <p:sp>
          <p:nvSpPr>
            <p:cNvPr id="100" name=""/>
            <p:cNvSpPr/>
            <p:nvPr/>
          </p:nvSpPr>
          <p:spPr>
            <a:xfrm>
              <a:off x="2209680" y="333072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66880" y="279720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676520" y="2708280"/>
              <a:ext cx="685080" cy="634680"/>
              <a:chOff x="1676520" y="2708280"/>
              <a:chExt cx="685080" cy="6346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81920" y="27187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76520" y="27082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16120" y="27457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836720" y="2801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6520" y="3567240"/>
            <a:ext cx="5333400" cy="634680"/>
            <a:chOff x="1676520" y="3567240"/>
            <a:chExt cx="5333400" cy="634680"/>
          </a:xfrm>
        </p:grpSpPr>
        <p:sp>
          <p:nvSpPr>
            <p:cNvPr id="108" name=""/>
            <p:cNvSpPr/>
            <p:nvPr/>
          </p:nvSpPr>
          <p:spPr>
            <a:xfrm>
              <a:off x="2209680" y="416880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361332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676520" y="3567240"/>
              <a:ext cx="685080" cy="634680"/>
              <a:chOff x="1676520" y="3567240"/>
              <a:chExt cx="685080" cy="634680"/>
            </a:xfrm>
          </p:grpSpPr>
          <p:sp>
            <p:nvSpPr>
              <p:cNvPr id="111" name=""/>
              <p:cNvSpPr/>
              <p:nvPr/>
            </p:nvSpPr>
            <p:spPr>
              <a:xfrm>
                <a:off x="1681920" y="35776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76520" y="356724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360468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405e15"/>
                  </a:gs>
                  <a:gs pos="50000">
                    <a:srgbClr val="8dcd2f"/>
                  </a:gs>
                  <a:gs pos="100000">
                    <a:srgbClr val="405e15"/>
                  </a:gs>
                </a:gsLst>
                <a:lin ang="1350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836720" y="363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6520" y="4394160"/>
            <a:ext cx="5333400" cy="634680"/>
            <a:chOff x="1676520" y="4394160"/>
            <a:chExt cx="5333400" cy="634680"/>
          </a:xfrm>
        </p:grpSpPr>
        <p:sp>
          <p:nvSpPr>
            <p:cNvPr id="116" name=""/>
            <p:cNvSpPr/>
            <p:nvPr/>
          </p:nvSpPr>
          <p:spPr>
            <a:xfrm>
              <a:off x="2209680" y="500688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66880" y="447336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676520" y="4394160"/>
              <a:ext cx="685080" cy="634680"/>
              <a:chOff x="1676520" y="4394160"/>
              <a:chExt cx="685080" cy="634680"/>
            </a:xfrm>
          </p:grpSpPr>
          <p:sp>
            <p:nvSpPr>
              <p:cNvPr id="119" name=""/>
              <p:cNvSpPr/>
              <p:nvPr/>
            </p:nvSpPr>
            <p:spPr>
              <a:xfrm>
                <a:off x="1681920" y="44046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676520" y="439416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443160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9360">
                <a:solidFill>
                  <a:srgbClr val="b6d1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836720" y="448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6d1f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5BC-27F1-4920-BB6D-DDA997F960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1981080" y="304812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dcd2f"/>
                    </a:gs>
                    <a:gs pos="100000">
                      <a:srgbClr val="0099cc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dcd2f"/>
                  </a:gs>
                  <a:gs pos="100000">
                    <a:srgbClr val="0099cc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580920" y="49528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1920" y="129852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57913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b6d1f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b6d1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10080" y="2895480"/>
            <a:ext cx="2286000" cy="2666880"/>
            <a:chOff x="5410080" y="2895480"/>
            <a:chExt cx="2286000" cy="2666880"/>
          </a:xfrm>
        </p:grpSpPr>
        <p:sp>
          <p:nvSpPr>
            <p:cNvPr id="128" name=""/>
            <p:cNvSpPr/>
            <p:nvPr/>
          </p:nvSpPr>
          <p:spPr>
            <a:xfrm>
              <a:off x="5410080" y="28954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360" y="309060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95280" y="2895480"/>
            <a:ext cx="2286000" cy="2666880"/>
            <a:chOff x="1295280" y="2895480"/>
            <a:chExt cx="2286000" cy="2666880"/>
          </a:xfrm>
        </p:grpSpPr>
        <p:sp>
          <p:nvSpPr>
            <p:cNvPr id="131" name=""/>
            <p:cNvSpPr/>
            <p:nvPr/>
          </p:nvSpPr>
          <p:spPr>
            <a:xfrm>
              <a:off x="1295280" y="289548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90680" y="30956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222720" y="27986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dfe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74400" y="27986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ded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400040"/>
            <a:ext cx="2998440" cy="1601280"/>
            <a:chOff x="3048120" y="140004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400040"/>
              <a:ext cx="2998440" cy="1601280"/>
              <a:chOff x="3048120" y="1400040"/>
              <a:chExt cx="2998440" cy="1601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048120" y="1542960"/>
                <a:ext cx="2998440" cy="1458360"/>
                <a:chOff x="3048120" y="1542960"/>
                <a:chExt cx="2998440" cy="14583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080880" y="1589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4a"/>
                    </a:gs>
                    <a:gs pos="100000">
                      <a:srgbClr val="ff99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154296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99"/>
                    </a:gs>
                    <a:gs pos="100000">
                      <a:srgbClr val="fed0d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6d1f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189240" y="140004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24160" y="140796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daec"/>
                  </a:gs>
                  <a:gs pos="100000">
                    <a:srgbClr val="0099c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51160" y="142056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48235"/>
                    </a:srgbClr>
                  </a:gs>
                  <a:gs pos="100000">
                    <a:srgbClr val="0078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2920" y="144756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882960" y="16002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040" y="1305360"/>
            <a:ext cx="7554600" cy="4800960"/>
            <a:chOff x="914040" y="1305360"/>
            <a:chExt cx="7554600" cy="4800960"/>
          </a:xfrm>
        </p:grpSpPr>
        <p:sp>
          <p:nvSpPr>
            <p:cNvPr id="147" name=""/>
            <p:cNvSpPr/>
            <p:nvPr/>
          </p:nvSpPr>
          <p:spPr>
            <a:xfrm rot="20241600">
              <a:off x="1493640" y="2439360"/>
              <a:ext cx="6400800" cy="2532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e6f4f9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4757760" y="2349000"/>
              <a:ext cx="995400" cy="276120"/>
            </a:xfrm>
            <a:prstGeom prst="ellipse">
              <a:avLst/>
            </a:prstGeom>
            <a:solidFill>
              <a:srgbClr val="0f086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7461360" y="2625480"/>
              <a:ext cx="996840" cy="274680"/>
            </a:xfrm>
            <a:prstGeom prst="ellipse">
              <a:avLst/>
            </a:prstGeom>
            <a:solidFill>
              <a:srgbClr val="0f086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3048120" y="5410080"/>
              <a:ext cx="996840" cy="274680"/>
            </a:xfrm>
            <a:prstGeom prst="ellipse">
              <a:avLst/>
            </a:prstGeom>
            <a:solidFill>
              <a:srgbClr val="0f086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5824440" y="4689000"/>
              <a:ext cx="997200" cy="276120"/>
            </a:xfrm>
            <a:prstGeom prst="ellipse">
              <a:avLst/>
            </a:prstGeom>
            <a:solidFill>
              <a:srgbClr val="0f086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2408400" y="3725280"/>
              <a:ext cx="996840" cy="276480"/>
            </a:xfrm>
            <a:prstGeom prst="ellipse">
              <a:avLst/>
            </a:prstGeom>
            <a:solidFill>
              <a:srgbClr val="0f086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46400" y="1662120"/>
              <a:ext cx="1198800" cy="1150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57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7040" y="3038400"/>
              <a:ext cx="1200240" cy="1150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2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21080" y="4640040"/>
              <a:ext cx="1198440" cy="1150920"/>
            </a:xfrm>
            <a:prstGeom prst="ellipse">
              <a:avLst/>
            </a:prstGeom>
            <a:gradFill rotWithShape="0">
              <a:gsLst>
                <a:gs pos="0">
                  <a:srgbClr val="8dcd2f"/>
                </a:gs>
                <a:gs pos="100000">
                  <a:srgbClr val="3248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3440" y="4002120"/>
              <a:ext cx="1199880" cy="115092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1640" y="1868400"/>
              <a:ext cx="1131840" cy="1150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323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03400" y="342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54560" y="2074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94520" y="2325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21240" y="4414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87840" y="5046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89280" y="3456000"/>
              <a:ext cx="2421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7200" y="1920600"/>
              <a:ext cx="1676520" cy="1462320"/>
            </a:xfrm>
            <a:prstGeom prst="line">
              <a:avLst/>
            </a:prstGeom>
            <a:ln w="9360">
              <a:solidFill>
                <a:srgbClr val="b6d1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cxnSp>
          <p:nvCxnSpPr>
            <p:cNvPr id="165" name=""/>
            <p:cNvCxnSpPr/>
            <p:nvPr/>
          </p:nvCxnSpPr>
          <p:spPr>
            <a:xfrm flipH="1">
              <a:off x="914040" y="1920240"/>
              <a:ext cx="1883520" cy="1080"/>
            </a:xfrm>
            <a:prstGeom prst="straightConnector1">
              <a:avLst/>
            </a:prstGeom>
            <a:ln w="9360">
              <a:solidFill>
                <a:srgbClr val="b6d1f6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989640" y="1523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19320" y="1447920"/>
            <a:ext cx="6629400" cy="4056840"/>
            <a:chOff x="1219320" y="1447920"/>
            <a:chExt cx="6629400" cy="4056840"/>
          </a:xfrm>
        </p:grpSpPr>
        <p:sp>
          <p:nvSpPr>
            <p:cNvPr id="169" name=""/>
            <p:cNvSpPr/>
            <p:nvPr/>
          </p:nvSpPr>
          <p:spPr>
            <a:xfrm>
              <a:off x="3741120" y="3714840"/>
              <a:ext cx="1585080" cy="567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41120" y="321912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41120" y="272304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6480" y="2936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36480" y="343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36480" y="3929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92760" y="2510640"/>
              <a:ext cx="504360" cy="191268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rgbClr val="b6d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201456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1320" y="222696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19280" y="201456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1280" y="222696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3800" y="2510640"/>
              <a:ext cx="501120" cy="191268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rgbClr val="b6d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20760" y="1447920"/>
              <a:ext cx="2882160" cy="5666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9800" y="2156400"/>
              <a:ext cx="1657080" cy="49572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rgbClr val="b6d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4160" y="1664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92760" y="4919400"/>
              <a:ext cx="2882160" cy="566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4160" y="513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88560" y="4352400"/>
              <a:ext cx="1660320" cy="48852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rgbClr val="b6d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sp>
          <p:nvSpPr>
            <p:cNvPr id="189" name="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e15"/>
                </a:gs>
                <a:gs pos="50000">
                  <a:srgbClr val="8dcd2f"/>
                </a:gs>
                <a:gs pos="100000">
                  <a:srgbClr val="405e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e15"/>
                </a:gs>
                <a:gs pos="50000">
                  <a:srgbClr val="8dcd2f"/>
                </a:gs>
                <a:gs pos="100000">
                  <a:srgbClr val="405e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e15"/>
                </a:gs>
                <a:gs pos="50000">
                  <a:srgbClr val="8dcd2f"/>
                </a:gs>
                <a:gs pos="100000">
                  <a:srgbClr val="405e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895480" y="2057400"/>
              <a:ext cx="3196800" cy="2841480"/>
              <a:chOff x="2895480" y="2057400"/>
              <a:chExt cx="3196800" cy="2841480"/>
            </a:xfrm>
          </p:grpSpPr>
          <p:sp>
            <p:nvSpPr>
              <p:cNvPr id="196" name="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d6ea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5400000">
                <a:off x="5683320" y="311652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d6ea"/>
                  </a:gs>
                  <a:gs pos="100000">
                    <a:srgbClr val="0099c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10800000">
                <a:off x="4250520" y="45720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d6ea"/>
                  </a:gs>
                  <a:gs pos="100000">
                    <a:srgbClr val="0099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22360" y="205740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68880" y="220176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895252"/>
                  </a:gs>
                  <a:gs pos="50000">
                    <a:srgbClr val="ff9999"/>
                  </a:gs>
                  <a:gs pos="100000">
                    <a:srgbClr val="89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13480" y="312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b6d1f6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66320" y="1828800"/>
            <a:ext cx="7086600" cy="3580920"/>
            <a:chOff x="1066320" y="1828800"/>
            <a:chExt cx="7086600" cy="3580920"/>
          </a:xfrm>
        </p:grpSpPr>
        <p:sp>
          <p:nvSpPr>
            <p:cNvPr id="215" name=""/>
            <p:cNvSpPr/>
            <p:nvPr/>
          </p:nvSpPr>
          <p:spPr>
            <a:xfrm>
              <a:off x="7563960" y="1828800"/>
              <a:ext cx="582840" cy="9039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73960" y="1828800"/>
              <a:ext cx="337896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78240" y="2727000"/>
              <a:ext cx="581400" cy="8978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4800" y="2718000"/>
              <a:ext cx="3632040" cy="5850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90720" y="3614760"/>
              <a:ext cx="579960" cy="9039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07520" y="4505760"/>
              <a:ext cx="582840" cy="9039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5480" y="4510080"/>
              <a:ext cx="41248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066680" y="5403960"/>
              <a:ext cx="1198800" cy="0"/>
            </a:xfrm>
            <a:prstGeom prst="line">
              <a:avLst/>
            </a:prstGeom>
            <a:ln w="9360">
              <a:solidFill>
                <a:srgbClr val="b6d1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066320" y="4505760"/>
              <a:ext cx="2036520" cy="0"/>
            </a:xfrm>
            <a:prstGeom prst="line">
              <a:avLst/>
            </a:prstGeom>
            <a:ln w="9360">
              <a:solidFill>
                <a:srgbClr val="b6d1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066680" y="3619440"/>
              <a:ext cx="2875680" cy="0"/>
            </a:xfrm>
            <a:prstGeom prst="line">
              <a:avLst/>
            </a:prstGeom>
            <a:ln w="9360">
              <a:solidFill>
                <a:srgbClr val="b6d1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066320" y="2734200"/>
              <a:ext cx="3714840" cy="0"/>
            </a:xfrm>
            <a:prstGeom prst="line">
              <a:avLst/>
            </a:prstGeom>
            <a:ln w="9360">
              <a:solidFill>
                <a:srgbClr val="b6d1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066680" y="1834560"/>
              <a:ext cx="4552560" cy="0"/>
            </a:xfrm>
            <a:prstGeom prst="line">
              <a:avLst/>
            </a:prstGeom>
            <a:ln w="9360">
              <a:solidFill>
                <a:srgbClr val="b6d1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47400" y="1828800"/>
              <a:ext cx="0" cy="931680"/>
            </a:xfrm>
            <a:prstGeom prst="line">
              <a:avLst/>
            </a:prstGeom>
            <a:ln w="9360">
              <a:solidFill>
                <a:srgbClr val="b6d1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47400" y="2760480"/>
              <a:ext cx="0" cy="871560"/>
            </a:xfrm>
            <a:prstGeom prst="line">
              <a:avLst/>
            </a:prstGeom>
            <a:ln w="9360">
              <a:solidFill>
                <a:srgbClr val="b6d1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47400" y="3632400"/>
              <a:ext cx="0" cy="871560"/>
            </a:xfrm>
            <a:prstGeom prst="line">
              <a:avLst/>
            </a:prstGeom>
            <a:ln w="9360">
              <a:solidFill>
                <a:srgbClr val="b6d1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47400" y="4505760"/>
              <a:ext cx="0" cy="871560"/>
            </a:xfrm>
            <a:prstGeom prst="line">
              <a:avLst/>
            </a:prstGeom>
            <a:ln w="9360">
              <a:solidFill>
                <a:srgbClr val="b6d1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3800" y="2002680"/>
              <a:ext cx="1857240" cy="29095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0080" y="2406600"/>
              <a:ext cx="2797560" cy="324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36600" y="3303360"/>
              <a:ext cx="3047400" cy="31860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02120" y="3614760"/>
              <a:ext cx="3874320" cy="5821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03200" y="4196880"/>
              <a:ext cx="3300840" cy="31716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64400" y="5089320"/>
              <a:ext cx="3550320" cy="3171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84840" y="2175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84840" y="3057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84840" y="3980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84840" y="48423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b6d1f6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38080" y="1371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b6d1f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b6d1f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600200"/>
            <a:ext cx="5562720" cy="4191120"/>
          </a:xfrm>
          <a:prstGeom prst="rightArrow">
            <a:avLst>
              <a:gd name="adj1" fmla="val 79306"/>
              <a:gd name="adj2" fmla="val 32874"/>
            </a:avLst>
          </a:prstGeom>
          <a:gradFill rotWithShape="0">
            <a:gsLst>
              <a:gs pos="0">
                <a:srgbClr val="b6d1f6"/>
              </a:gs>
              <a:gs pos="100000">
                <a:srgbClr val="1739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2280" y="216864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6699"/>
              </a:gs>
              <a:gs pos="100000">
                <a:srgbClr val="2f2f4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2280" y="323388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2280" y="429912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dcd2f"/>
              </a:gs>
              <a:gs pos="100000">
                <a:srgbClr val="405e1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6d1f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971800"/>
            <a:ext cx="27432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6d1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1:43Z</dcterms:modified>
  <cp:revision>32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