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D5C-F889-46A7-BA6E-02A8F8F4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290-21B1-4F01-89AB-053EE146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A91-0A9D-4E01-926D-241C9847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7DA-5BC6-4ACE-8A19-DDD8BB63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C64-44CE-472A-B813-737E2F3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51E-1CB1-47A5-AB3A-36FE7275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622-70BD-47E6-A6A4-0B8DCF18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C7F-738B-406C-B226-593AEB83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E92-F9DE-4066-95C8-2E1AD57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CD9-871D-4743-B7E6-B5E1FF62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2AF-DCE2-497E-8E94-4FF6FBAE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CC4-09EE-490B-8D77-7B944ED4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7643-7662-4486-9698-99C454B92E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7402-BDFA-4BE5-B8CA-602C23920A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1214280" y="4429080"/>
            <a:ext cx="6789960" cy="1370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23520" y="11592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生日庆祝卡通幻灯片在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占位符 11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0" y="357120"/>
            <a:ext cx="9144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5"/>
          <p:cNvSpPr/>
          <p:nvPr/>
        </p:nvSpPr>
        <p:spPr>
          <a:xfrm>
            <a:off x="135360" y="45594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6"/>
          <p:cNvSpPr/>
          <p:nvPr/>
        </p:nvSpPr>
        <p:spPr>
          <a:xfrm>
            <a:off x="4635720" y="45594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7"/>
          <p:cNvSpPr/>
          <p:nvPr/>
        </p:nvSpPr>
        <p:spPr>
          <a:xfrm>
            <a:off x="2286000" y="2066760"/>
            <a:ext cx="4929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Way to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2560" y="499680"/>
            <a:ext cx="4357800" cy="442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2920" y="499680"/>
            <a:ext cx="4357800" cy="44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45E-07FF-4398-988D-803D50F63D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占位符 16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21"/>
          <p:cNvSpPr/>
          <p:nvPr/>
        </p:nvSpPr>
        <p:spPr>
          <a:xfrm>
            <a:off x="3214800" y="0"/>
            <a:ext cx="592920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142920" y="0"/>
            <a:ext cx="300024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Way to Show th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V through DVD .PlayerShare PowerPoint in Popular Video Form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PowerPoint online in Flash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28640" y="214200"/>
            <a:ext cx="2714760" cy="250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14680" y="214200"/>
            <a:ext cx="2714760" cy="250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214680" y="2785680"/>
            <a:ext cx="2714760" cy="25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428640" y="2785680"/>
            <a:ext cx="2714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7"/>
          <p:cNvSpPr/>
          <p:nvPr/>
        </p:nvSpPr>
        <p:spPr>
          <a:xfrm>
            <a:off x="142920" y="142920"/>
            <a:ext cx="7215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4"/>
          <p:cNvSpPr/>
          <p:nvPr/>
        </p:nvSpPr>
        <p:spPr>
          <a:xfrm>
            <a:off x="257760" y="2430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9"/>
          <p:cNvSpPr/>
          <p:nvPr/>
        </p:nvSpPr>
        <p:spPr>
          <a:xfrm>
            <a:off x="3758040" y="2430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our 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0"/>
          <p:cNvSpPr/>
          <p:nvPr/>
        </p:nvSpPr>
        <p:spPr>
          <a:xfrm rot="5400000">
            <a:off x="5654160" y="1940040"/>
            <a:ext cx="4572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42840" y="357120"/>
            <a:ext cx="342900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2560" y="357120"/>
            <a:ext cx="3429000" cy="585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1ED-93DE-4F54-BDB3-1F70329B27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7"/>
          <p:cNvSpPr/>
          <p:nvPr/>
        </p:nvSpPr>
        <p:spPr>
          <a:xfrm>
            <a:off x="500040" y="214200"/>
            <a:ext cx="82152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0"/>
          <p:cNvSpPr/>
          <p:nvPr/>
        </p:nvSpPr>
        <p:spPr>
          <a:xfrm>
            <a:off x="500040" y="4214880"/>
            <a:ext cx="564372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lay Power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on TV through DVD .Player Share PowerPoint in Popular Video Form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Upload PowerPoint online in Flash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2960" y="356760"/>
            <a:ext cx="3929040" cy="1785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2920" y="356760"/>
            <a:ext cx="3929400" cy="1785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42960" y="2214360"/>
            <a:ext cx="392904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642920" y="2214360"/>
            <a:ext cx="3929400" cy="1785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65894"/>
                </a:solidFill>
                <a:uFillTx/>
                <a:latin typeface="Arial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4B1-7808-4B30-A54B-D117E3ECE0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占位符 4" descr=""/>
          <p:cNvPicPr/>
          <p:nvPr/>
        </p:nvPicPr>
        <p:blipFill>
          <a:blip r:embed="rId1"/>
          <a:srcRect l="0" t="1174" r="0" b="1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3"/>
          <p:cNvSpPr/>
          <p:nvPr/>
        </p:nvSpPr>
        <p:spPr>
          <a:xfrm>
            <a:off x="1925280" y="4071960"/>
            <a:ext cx="526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5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2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