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215-9C6E-407A-B391-35777FDB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F33-0032-4DED-AC24-B7AB120C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65D-2F3D-49DB-A098-26AAD5BD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E8B-BEAC-424D-839C-2481DD54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E151-0F1F-47A9-A793-5510B544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30E6-20F5-4067-BBB5-4BE64D74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D5FD-2136-4EC6-8AA5-2A8D188D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FC89-5836-406A-9676-B285800B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5915-D913-4D44-B6CE-9A0C3831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0E88-9DAC-4ABB-A73B-D4059348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DDD3-E680-4B0D-8AF9-4B9184F4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ECD-27DC-4DEF-AB23-8ECC39D3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F887-3246-4619-B581-390CA1F0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463E-C7E9-48A2-85B0-9F9DAA8F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9B86-65FB-4F51-90C9-C63A6682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FF3B-EC42-492C-BCFA-B7186952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6A8F-3559-4CFE-A355-117AF6E2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5C0-DC65-43E4-A2B5-AE3FBE79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858-8D31-4C7A-9D70-90D97AA0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C8C-FF18-4F19-898A-AF8707F2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BB3-4B2D-4E79-9B52-39383E0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718-0CFF-418F-8669-00D0DED0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DD1-6F83-4BAF-82F5-BA4DA3A1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E85-FB45-4186-A0A1-08F6681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online.sccnn.com/html/design/vi/20120306152046(2).ht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BC0F-EE63-4D58-90F6-08E0E648F2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3386160"/>
            <a:ext cx="9144000" cy="933480"/>
          </a:xfrm>
          <a:prstGeom prst="rect">
            <a:avLst/>
          </a:prstGeom>
          <a:solidFill>
            <a:srgbClr val="de2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online.sccnn.com/img2/1045/tbf120306-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47840"/>
            <a:ext cx="5715000" cy="3876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575-4DF6-423B-925D-9E1928739F9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3780000" y="44118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篮球时尚运动模版系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857840" y="499572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北京国通联合广告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5160" y="476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尚篮球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幻灯片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F4B9-1742-470A-ACF1-68452F4AA5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直接连接符 9"/>
          <p:cNvSpPr/>
          <p:nvPr/>
        </p:nvSpPr>
        <p:spPr>
          <a:xfrm>
            <a:off x="3851280" y="1484280"/>
            <a:ext cx="4897440" cy="0"/>
          </a:xfrm>
          <a:prstGeom prst="line">
            <a:avLst/>
          </a:prstGeom>
          <a:ln w="9360">
            <a:solidFill>
              <a:srgbClr val="de2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6084720" y="836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5927760" y="25336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927760" y="33465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5927760" y="4159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927760" y="49719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5:51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50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