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563DA-86A0-4E03-A1E4-F1002849DF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7920" y="370440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20D90-AFA2-412D-BC7D-72B78FBB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79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05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8BE98-954D-4D2F-A48F-2483EE51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24840" y="35053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1760" y="35053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7920" y="37044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24840" y="37044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1760" y="37044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941B8-A8F1-4023-9250-E2D0032BAA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B76E4-0288-4A95-8194-4B950DFC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7920" y="35053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F5770-5295-4108-8014-FB574B43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3E261-DDCF-456B-A62B-B11D7A13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167AF-343B-40A2-9FD6-90F45982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2D92C-425C-49D5-B779-0CE7783F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2666520"/>
            <a:ext cx="7848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DAFCD-CA65-4003-B119-05541FF4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79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7E40A-4ECE-4AF0-A36E-FBB0D703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7920" y="35053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403B5-949A-4648-B51F-5E778241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005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49D67-FB19-436D-ADD9-6D5E1F7F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7920" y="370440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2A0D3-30AC-4C10-9399-2DAADDC0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7920" y="370440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39741-E997-4D67-8592-393B8242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79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6005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1EEF6-2BE1-4019-86EA-731F8E6A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24840" y="35053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11760" y="35053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7920" y="37044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524840" y="37044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11760" y="37044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D1BB0-F974-4110-917E-07170C04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F6F8-6111-4966-A79B-5BBA653F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BDAE4-62AE-4630-8499-2F1F322E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5BBC7-9516-4A05-AA89-388AF006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666520"/>
            <a:ext cx="7848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17195-BBB4-4CFD-A163-5D074D00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79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FC6CD-7D8D-4C46-B021-2A4EBDB5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0520" y="37044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87DEC-6471-4609-A372-2734DA36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79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0520" y="35053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7920" y="370440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C194F-901D-4A0B-A3D3-706C0A38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19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647676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29714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EFAC-6659-408B-AB42-D8D30C604D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152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197e7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695F-95D7-4718-A170-A806BE91E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958160" y="1857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197e7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8487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手术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医疗幻灯片免费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588520" y="3581280"/>
            <a:ext cx="75960" cy="228600"/>
          </a:xfrm>
          <a:prstGeom prst="rect">
            <a:avLst/>
          </a:prstGeom>
          <a:solidFill>
            <a:srgbClr val="5dbd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437920" y="35053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55640" y="2203560"/>
            <a:ext cx="7632720" cy="3054240"/>
            <a:chOff x="755640" y="2203560"/>
            <a:chExt cx="7632720" cy="3054240"/>
          </a:xfrm>
        </p:grpSpPr>
        <p:sp>
          <p:nvSpPr>
            <p:cNvPr id="244" name=""/>
            <p:cNvSpPr/>
            <p:nvPr/>
          </p:nvSpPr>
          <p:spPr>
            <a:xfrm>
              <a:off x="2916360" y="300204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19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51640" y="300204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d17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27640" y="221004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17f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27640" y="221004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17fb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69120" y="235116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704462"/>
                </a:gs>
                <a:gs pos="50000">
                  <a:srgbClr val="d17fb6"/>
                </a:gs>
                <a:gs pos="100000">
                  <a:srgbClr val="7044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00800" y="23623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d17fb6">
                    <a:alpha val="0"/>
                  </a:srgbClr>
                </a:gs>
                <a:gs pos="100000">
                  <a:srgbClr val="8450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70640" y="244476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5640" y="220356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e3981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5640" y="220356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3981d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96760" y="23446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7a510f"/>
                </a:gs>
                <a:gs pos="50000">
                  <a:srgbClr val="e3981d"/>
                </a:gs>
                <a:gs pos="100000">
                  <a:srgbClr val="7a510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98560" y="23479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e3981d">
                    <a:alpha val="0"/>
                  </a:srgbClr>
                </a:gs>
                <a:gs pos="100000">
                  <a:srgbClr val="8f601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90720" y="243864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017720" y="2463840"/>
              <a:ext cx="1636560" cy="1636920"/>
              <a:chOff x="1017720" y="2463840"/>
              <a:chExt cx="1636560" cy="1636920"/>
            </a:xfrm>
          </p:grpSpPr>
          <p:sp>
            <p:nvSpPr>
              <p:cNvPr id="257" name=""/>
              <p:cNvSpPr/>
              <p:nvPr/>
            </p:nvSpPr>
            <p:spPr>
              <a:xfrm>
                <a:off x="1017720" y="246384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038600" y="247284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055520" y="248868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144440" y="253044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3492360" y="221004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197e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92360" y="221004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2c456a"/>
                </a:gs>
                <a:gs pos="100000">
                  <a:srgbClr val="6197e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33840" y="23511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4517c"/>
                </a:gs>
                <a:gs pos="50000">
                  <a:srgbClr val="6197e7"/>
                </a:gs>
                <a:gs pos="100000">
                  <a:srgbClr val="3451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35280" y="23544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97e7">
                    <a:alpha val="0"/>
                  </a:srgbClr>
                </a:gs>
                <a:gs pos="100000">
                  <a:srgbClr val="3d5f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27440" y="244476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754440" y="2463840"/>
              <a:ext cx="1636560" cy="1636920"/>
              <a:chOff x="3754440" y="2463840"/>
              <a:chExt cx="1636560" cy="1636920"/>
            </a:xfrm>
          </p:grpSpPr>
          <p:sp>
            <p:nvSpPr>
              <p:cNvPr id="267" name=""/>
              <p:cNvSpPr/>
              <p:nvPr/>
            </p:nvSpPr>
            <p:spPr>
              <a:xfrm>
                <a:off x="3754440" y="246384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775320" y="247284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792240" y="248868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881160" y="253044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6500880" y="2463840"/>
              <a:ext cx="1636560" cy="1636920"/>
              <a:chOff x="6500880" y="2463840"/>
              <a:chExt cx="1636560" cy="1636920"/>
            </a:xfrm>
          </p:grpSpPr>
          <p:sp>
            <p:nvSpPr>
              <p:cNvPr id="272" name=""/>
              <p:cNvSpPr/>
              <p:nvPr/>
            </p:nvSpPr>
            <p:spPr>
              <a:xfrm>
                <a:off x="6500880" y="246384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21760" y="247284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38680" y="248868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627600" y="253044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804960" y="474192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38440" y="474192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91360" y="474192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52240" y="3068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95440" y="3068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38640" y="3068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62120" y="1619280"/>
            <a:ext cx="7162200" cy="4400640"/>
            <a:chOff x="762120" y="1619280"/>
            <a:chExt cx="7162200" cy="4400640"/>
          </a:xfrm>
        </p:grpSpPr>
        <p:sp>
          <p:nvSpPr>
            <p:cNvPr id="284" name=""/>
            <p:cNvSpPr/>
            <p:nvPr/>
          </p:nvSpPr>
          <p:spPr>
            <a:xfrm>
              <a:off x="762120" y="1981080"/>
              <a:ext cx="594324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5dbdab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57440" y="35812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2714400" y="3828960"/>
              <a:ext cx="1704600" cy="2028960"/>
              <a:chOff x="2714400" y="3828960"/>
              <a:chExt cx="1704600" cy="2028960"/>
            </a:xfrm>
          </p:grpSpPr>
          <p:sp>
            <p:nvSpPr>
              <p:cNvPr id="287" name=""/>
              <p:cNvSpPr/>
              <p:nvPr/>
            </p:nvSpPr>
            <p:spPr>
              <a:xfrm rot="20876400">
                <a:off x="2782440" y="5048280"/>
                <a:ext cx="143784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14400" y="3828960"/>
                <a:ext cx="170460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34560" y="3838320"/>
                <a:ext cx="166500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752200" y="3854520"/>
                <a:ext cx="158400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44360" y="3898800"/>
                <a:ext cx="140904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131640" y="445608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863280" y="3448080"/>
              <a:ext cx="1370880" cy="1718640"/>
              <a:chOff x="863280" y="3448080"/>
              <a:chExt cx="1370880" cy="1718640"/>
            </a:xfrm>
          </p:grpSpPr>
          <p:sp>
            <p:nvSpPr>
              <p:cNvPr id="294" name=""/>
              <p:cNvSpPr/>
              <p:nvPr/>
            </p:nvSpPr>
            <p:spPr>
              <a:xfrm rot="20826600">
                <a:off x="939240" y="4438440"/>
                <a:ext cx="113292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863280" y="3448080"/>
                <a:ext cx="1370880" cy="1441080"/>
                <a:chOff x="863280" y="3448080"/>
                <a:chExt cx="1370880" cy="14410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863280" y="3448080"/>
                  <a:ext cx="137088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81280" y="3456360"/>
                  <a:ext cx="133668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94240" y="346968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965880" y="3506400"/>
                  <a:ext cx="113184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143720" y="39542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"/>
            <p:cNvGrpSpPr/>
            <p:nvPr/>
          </p:nvGrpSpPr>
          <p:grpSpPr>
            <a:xfrm>
              <a:off x="762120" y="2076480"/>
              <a:ext cx="1099440" cy="1139760"/>
              <a:chOff x="762120" y="2076480"/>
              <a:chExt cx="1099440" cy="1139760"/>
            </a:xfrm>
          </p:grpSpPr>
          <p:sp>
            <p:nvSpPr>
              <p:cNvPr id="302" name=""/>
              <p:cNvSpPr/>
              <p:nvPr/>
            </p:nvSpPr>
            <p:spPr>
              <a:xfrm>
                <a:off x="762120" y="2683080"/>
                <a:ext cx="91404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38080" y="2076480"/>
                <a:ext cx="102348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50680" y="2081160"/>
                <a:ext cx="99972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61840" y="2092320"/>
                <a:ext cx="95040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915840" y="211788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35000" y="24256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028600" y="1619280"/>
              <a:ext cx="804240" cy="762120"/>
              <a:chOff x="2028600" y="1619280"/>
              <a:chExt cx="804240" cy="762120"/>
            </a:xfrm>
          </p:grpSpPr>
          <p:sp>
            <p:nvSpPr>
              <p:cNvPr id="309" name=""/>
              <p:cNvSpPr/>
              <p:nvPr/>
            </p:nvSpPr>
            <p:spPr>
              <a:xfrm>
                <a:off x="2028600" y="2152800"/>
                <a:ext cx="68544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50640" y="1619280"/>
                <a:ext cx="68220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60000" y="162252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66480" y="1628640"/>
                <a:ext cx="63288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02840" y="16477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220840" y="18432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17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ed5"/>
                </a:gs>
                <a:gs pos="100000">
                  <a:srgbClr val="5dbda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ed5"/>
                </a:gs>
                <a:gs pos="100000">
                  <a:srgbClr val="5dbda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ed5"/>
                </a:gs>
                <a:gs pos="100000">
                  <a:srgbClr val="5dbda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fded5"/>
                </a:gs>
                <a:gs pos="100000">
                  <a:srgbClr val="5dbda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ed5"/>
                </a:gs>
                <a:gs pos="100000">
                  <a:srgbClr val="5dbda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ed5"/>
                </a:gs>
                <a:gs pos="100000">
                  <a:srgbClr val="5dbda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17f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17fb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704462"/>
                </a:gs>
                <a:gs pos="50000">
                  <a:srgbClr val="d17fb6"/>
                </a:gs>
                <a:gs pos="100000">
                  <a:srgbClr val="7044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d17fb6">
                    <a:alpha val="0"/>
                  </a:srgbClr>
                </a:gs>
                <a:gs pos="100000">
                  <a:srgbClr val="8450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42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182600" y="2168640"/>
            <a:ext cx="2163600" cy="3165480"/>
            <a:chOff x="1182600" y="2168640"/>
            <a:chExt cx="2163600" cy="3165480"/>
          </a:xfrm>
        </p:grpSpPr>
        <p:sp>
          <p:nvSpPr>
            <p:cNvPr id="349" name=""/>
            <p:cNvSpPr/>
            <p:nvPr/>
          </p:nvSpPr>
          <p:spPr>
            <a:xfrm>
              <a:off x="118260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1608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3336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3336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1927080" y="2168640"/>
              <a:ext cx="642960" cy="642960"/>
              <a:chOff x="1927080" y="2168640"/>
              <a:chExt cx="642960" cy="642960"/>
            </a:xfrm>
          </p:grpSpPr>
          <p:sp>
            <p:nvSpPr>
              <p:cNvPr id="354" name=""/>
              <p:cNvSpPr/>
              <p:nvPr/>
            </p:nvSpPr>
            <p:spPr>
              <a:xfrm>
                <a:off x="1927080" y="2168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33560" y="2173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41480" y="2177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947960" y="2183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981800" y="2198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206712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5892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5913360" y="2165400"/>
            <a:ext cx="2163600" cy="3165480"/>
            <a:chOff x="5913360" y="2165400"/>
            <a:chExt cx="2163600" cy="3165480"/>
          </a:xfrm>
        </p:grpSpPr>
        <p:sp>
          <p:nvSpPr>
            <p:cNvPr id="362" name=""/>
            <p:cNvSpPr/>
            <p:nvPr/>
          </p:nvSpPr>
          <p:spPr>
            <a:xfrm>
              <a:off x="5913360" y="2473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46840" y="2481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64120" y="4545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64120" y="2503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6657840" y="2165400"/>
              <a:ext cx="642960" cy="642960"/>
              <a:chOff x="6657840" y="2165400"/>
              <a:chExt cx="642960" cy="642960"/>
            </a:xfrm>
          </p:grpSpPr>
          <p:sp>
            <p:nvSpPr>
              <p:cNvPr id="367" name=""/>
              <p:cNvSpPr/>
              <p:nvPr/>
            </p:nvSpPr>
            <p:spPr>
              <a:xfrm>
                <a:off x="6657840" y="2165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664320" y="2170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672240" y="2174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678720" y="2179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12560" y="2195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6797880" y="2257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89680" y="2927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544920" y="2168640"/>
            <a:ext cx="2163600" cy="3165480"/>
            <a:chOff x="3544920" y="2168640"/>
            <a:chExt cx="2163600" cy="3165480"/>
          </a:xfrm>
        </p:grpSpPr>
        <p:sp>
          <p:nvSpPr>
            <p:cNvPr id="375" name=""/>
            <p:cNvSpPr/>
            <p:nvPr/>
          </p:nvSpPr>
          <p:spPr>
            <a:xfrm>
              <a:off x="354492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7840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9568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9568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89400" y="2168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95880" y="21733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03800" y="21765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09920" y="21830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45200" y="21988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2944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2124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17fb6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0" y="1512720"/>
            <a:ext cx="9144000" cy="4366080"/>
            <a:chOff x="0" y="1512720"/>
            <a:chExt cx="9144000" cy="4366080"/>
          </a:xfrm>
        </p:grpSpPr>
        <p:sp>
          <p:nvSpPr>
            <p:cNvPr id="389" name=""/>
            <p:cNvSpPr/>
            <p:nvPr/>
          </p:nvSpPr>
          <p:spPr>
            <a:xfrm>
              <a:off x="0" y="280188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285408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396720" y="2205000"/>
              <a:ext cx="2183040" cy="3600720"/>
              <a:chOff x="396720" y="2205000"/>
              <a:chExt cx="2183040" cy="360072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873720" y="3124080"/>
                <a:ext cx="1706040" cy="2681640"/>
                <a:chOff x="873720" y="3124080"/>
                <a:chExt cx="1706040" cy="2681640"/>
              </a:xfrm>
            </p:grpSpPr>
            <p:grpSp>
              <p:nvGrpSpPr>
                <p:cNvPr id="393" name=""/>
                <p:cNvGrpSpPr/>
                <p:nvPr/>
              </p:nvGrpSpPr>
              <p:grpSpPr>
                <a:xfrm>
                  <a:off x="873720" y="3303000"/>
                  <a:ext cx="1578600" cy="2502720"/>
                  <a:chOff x="873720" y="3303000"/>
                  <a:chExt cx="1578600" cy="250272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 rot="3876600">
                    <a:off x="410040" y="42750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rot="3876600">
                    <a:off x="1915920" y="52437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1368360" y="3124080"/>
                  <a:ext cx="1211400" cy="1920240"/>
                  <a:chOff x="1368360" y="3124080"/>
                  <a:chExt cx="1211400" cy="192024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 flipV="1" rot="3876600">
                    <a:off x="1012680" y="38700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V="1" rot="3876600">
                    <a:off x="2150640" y="46213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9" name=""/>
              <p:cNvGrpSpPr/>
              <p:nvPr/>
            </p:nvGrpSpPr>
            <p:grpSpPr>
              <a:xfrm>
                <a:off x="396720" y="2205000"/>
                <a:ext cx="1441800" cy="1440720"/>
                <a:chOff x="396720" y="2205000"/>
                <a:chExt cx="1441800" cy="14407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396720" y="22050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96720" y="22050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92120" y="229860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92120" y="230184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54040" y="236232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5" name=""/>
                <p:cNvGrpSpPr/>
                <p:nvPr/>
              </p:nvGrpSpPr>
              <p:grpSpPr>
                <a:xfrm>
                  <a:off x="571320" y="2379600"/>
                  <a:ext cx="1092240" cy="1092960"/>
                  <a:chOff x="571320" y="2379600"/>
                  <a:chExt cx="1092240" cy="109296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571320" y="237960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585360" y="238572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596520" y="239616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655920" y="242388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0" name=""/>
              <p:cNvSpPr/>
              <p:nvPr/>
            </p:nvSpPr>
            <p:spPr>
              <a:xfrm rot="3925800">
                <a:off x="897840" y="4150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3925800">
                <a:off x="1401840" y="38584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2379600" y="2205000"/>
              <a:ext cx="2183040" cy="3600720"/>
              <a:chOff x="2379600" y="2205000"/>
              <a:chExt cx="2183040" cy="360072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2856600" y="3124080"/>
                <a:ext cx="1706040" cy="2681640"/>
                <a:chOff x="2856600" y="3124080"/>
                <a:chExt cx="1706040" cy="2681640"/>
              </a:xfrm>
            </p:grpSpPr>
            <p:grpSp>
              <p:nvGrpSpPr>
                <p:cNvPr id="414" name=""/>
                <p:cNvGrpSpPr/>
                <p:nvPr/>
              </p:nvGrpSpPr>
              <p:grpSpPr>
                <a:xfrm>
                  <a:off x="2856600" y="3303000"/>
                  <a:ext cx="1578600" cy="2502720"/>
                  <a:chOff x="2856600" y="3303000"/>
                  <a:chExt cx="1578600" cy="250272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rot="3876600">
                    <a:off x="2392920" y="42750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rot="3876600">
                    <a:off x="3898800" y="52437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3351240" y="3124080"/>
                  <a:ext cx="1211400" cy="1920240"/>
                  <a:chOff x="3351240" y="3124080"/>
                  <a:chExt cx="1211400" cy="192024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V="1" rot="3876600">
                    <a:off x="2995560" y="38700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V="1" rot="3876600">
                    <a:off x="4133520" y="46213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0" name=""/>
              <p:cNvGrpSpPr/>
              <p:nvPr/>
            </p:nvGrpSpPr>
            <p:grpSpPr>
              <a:xfrm>
                <a:off x="2379600" y="2205000"/>
                <a:ext cx="1441800" cy="1440720"/>
                <a:chOff x="2379600" y="2205000"/>
                <a:chExt cx="1441800" cy="14407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2379600" y="22050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379600" y="22050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475000" y="229860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475000" y="230184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536920" y="236232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6" name=""/>
                <p:cNvGrpSpPr/>
                <p:nvPr/>
              </p:nvGrpSpPr>
              <p:grpSpPr>
                <a:xfrm>
                  <a:off x="2554200" y="2379600"/>
                  <a:ext cx="1092240" cy="1092960"/>
                  <a:chOff x="2554200" y="2379600"/>
                  <a:chExt cx="1092240" cy="109296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2554200" y="237960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568240" y="238572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579400" y="239616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638800" y="242388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1" name=""/>
              <p:cNvSpPr/>
              <p:nvPr/>
            </p:nvSpPr>
            <p:spPr>
              <a:xfrm rot="3925800">
                <a:off x="2874960" y="4150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3925800">
                <a:off x="3378240" y="38584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427640" y="2205000"/>
              <a:ext cx="2182680" cy="3600720"/>
              <a:chOff x="4427640" y="2205000"/>
              <a:chExt cx="2182680" cy="360072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4904280" y="3124080"/>
                <a:ext cx="1706040" cy="2681640"/>
                <a:chOff x="4904280" y="3124080"/>
                <a:chExt cx="1706040" cy="2681640"/>
              </a:xfrm>
            </p:grpSpPr>
            <p:grpSp>
              <p:nvGrpSpPr>
                <p:cNvPr id="435" name=""/>
                <p:cNvGrpSpPr/>
                <p:nvPr/>
              </p:nvGrpSpPr>
              <p:grpSpPr>
                <a:xfrm>
                  <a:off x="4904280" y="3303000"/>
                  <a:ext cx="1578600" cy="2502720"/>
                  <a:chOff x="4904280" y="3303000"/>
                  <a:chExt cx="1578600" cy="250272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rot="3876600">
                    <a:off x="4440600" y="42750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rot="3876600">
                    <a:off x="5946480" y="52437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5398920" y="3124080"/>
                  <a:ext cx="1211400" cy="1920240"/>
                  <a:chOff x="5398920" y="3124080"/>
                  <a:chExt cx="1211400" cy="192024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 rot="3876600">
                    <a:off x="5043240" y="38700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V="1" rot="3876600">
                    <a:off x="6181200" y="46213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1" name=""/>
              <p:cNvGrpSpPr/>
              <p:nvPr/>
            </p:nvGrpSpPr>
            <p:grpSpPr>
              <a:xfrm>
                <a:off x="4427640" y="2205000"/>
                <a:ext cx="1441440" cy="1440720"/>
                <a:chOff x="4427640" y="2205000"/>
                <a:chExt cx="1441440" cy="14407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4427640" y="220500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427640" y="220500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523040" y="229860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523040" y="230184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584960" y="2362320"/>
                  <a:ext cx="112644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4602240" y="2379600"/>
                  <a:ext cx="1091880" cy="1092960"/>
                  <a:chOff x="4602240" y="2379600"/>
                  <a:chExt cx="1091880" cy="109296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4602240" y="237960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4616280" y="238572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4627440" y="239616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4686840" y="242388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2" name=""/>
              <p:cNvSpPr/>
              <p:nvPr/>
            </p:nvSpPr>
            <p:spPr>
              <a:xfrm rot="3925800">
                <a:off x="4932000" y="4150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3925800">
                <a:off x="5435640" y="38584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6442200" y="2046240"/>
              <a:ext cx="2399760" cy="3832560"/>
              <a:chOff x="6442200" y="2046240"/>
              <a:chExt cx="2399760" cy="383256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7136280" y="3197160"/>
                <a:ext cx="1705680" cy="2681640"/>
                <a:chOff x="7136280" y="3197160"/>
                <a:chExt cx="1705680" cy="2681640"/>
              </a:xfrm>
            </p:grpSpPr>
            <p:grpSp>
              <p:nvGrpSpPr>
                <p:cNvPr id="456" name=""/>
                <p:cNvGrpSpPr/>
                <p:nvPr/>
              </p:nvGrpSpPr>
              <p:grpSpPr>
                <a:xfrm>
                  <a:off x="7136280" y="3376080"/>
                  <a:ext cx="1578600" cy="2502720"/>
                  <a:chOff x="7136280" y="3376080"/>
                  <a:chExt cx="1578600" cy="250272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 rot="3876600">
                    <a:off x="6672600" y="43480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rot="3876600">
                    <a:off x="8178480" y="53168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7630560" y="3197160"/>
                  <a:ext cx="1211400" cy="1920240"/>
                  <a:chOff x="7630560" y="3197160"/>
                  <a:chExt cx="1211400" cy="192024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 flipV="1" rot="3876600">
                    <a:off x="7274880" y="39430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V="1" rot="3876600">
                    <a:off x="8412840" y="469476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2" name=""/>
              <p:cNvSpPr/>
              <p:nvPr/>
            </p:nvSpPr>
            <p:spPr>
              <a:xfrm>
                <a:off x="6442200" y="204624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42200" y="204624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558120" y="215892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559560" y="216216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32640" y="223524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6653160" y="2255760"/>
                <a:ext cx="1312920" cy="1310400"/>
                <a:chOff x="6653160" y="2255760"/>
                <a:chExt cx="1312920" cy="131040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6653160" y="2255760"/>
                  <a:ext cx="131292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669720" y="2262960"/>
                  <a:ext cx="12812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683400" y="227556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754680" y="230904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 rot="3925800">
                <a:off x="7147080" y="4309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3925800">
                <a:off x="7649640" y="4017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777960" y="15555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68400" y="15555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49840" y="15555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795000" y="15127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8" name=""/>
            <p:cNvCxnSpPr>
              <a:stCxn id="474" idx="3"/>
              <a:endCxn id="475" idx="1"/>
            </p:cNvCxnSpPr>
            <p:nvPr/>
          </p:nvCxnSpPr>
          <p:spPr>
            <a:xfrm>
              <a:off x="1514160" y="1739520"/>
              <a:ext cx="1222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9" name=""/>
            <p:cNvCxnSpPr>
              <a:stCxn id="475" idx="3"/>
              <a:endCxn id="476" idx="1"/>
            </p:cNvCxnSpPr>
            <p:nvPr/>
          </p:nvCxnSpPr>
          <p:spPr>
            <a:xfrm>
              <a:off x="3504960" y="1739520"/>
              <a:ext cx="121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0" name=""/>
            <p:cNvCxnSpPr>
              <a:stCxn id="476" idx="3"/>
              <a:endCxn id="477" idx="1"/>
            </p:cNvCxnSpPr>
            <p:nvPr/>
          </p:nvCxnSpPr>
          <p:spPr>
            <a:xfrm>
              <a:off x="5486040" y="1739880"/>
              <a:ext cx="1220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2a574e"/>
              </a:gs>
              <a:gs pos="100000">
                <a:srgbClr val="5dbdab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03a53"/>
              </a:gs>
              <a:gs pos="100000">
                <a:srgbClr val="d17fb6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c456a"/>
              </a:gs>
              <a:gs pos="100000">
                <a:srgbClr val="6197e7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c456a"/>
              </a:gs>
              <a:gs pos="100000">
                <a:srgbClr val="6197e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03a53"/>
              </a:gs>
              <a:gs pos="100000">
                <a:srgbClr val="d17fb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a574e"/>
              </a:gs>
              <a:gs pos="100000">
                <a:srgbClr val="5dbda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11680" y="1858680"/>
            <a:ext cx="6436800" cy="1387800"/>
            <a:chOff x="1111680" y="1858680"/>
            <a:chExt cx="6436800" cy="1387800"/>
          </a:xfrm>
        </p:grpSpPr>
        <p:sp>
          <p:nvSpPr>
            <p:cNvPr id="494" name="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197e7"/>
                </a:gs>
                <a:gs pos="100000">
                  <a:srgbClr val="2c456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2286360" y="2255400"/>
              <a:ext cx="932040" cy="131760"/>
              <a:chOff x="2286360" y="2255400"/>
              <a:chExt cx="932040" cy="131760"/>
            </a:xfrm>
          </p:grpSpPr>
          <p:sp>
            <p:nvSpPr>
              <p:cNvPr id="496" name="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375640" y="22564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7728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5252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 rot="3418800">
              <a:off x="304308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a57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4007520" y="2255400"/>
              <a:ext cx="932040" cy="131760"/>
              <a:chOff x="4007520" y="2255400"/>
              <a:chExt cx="932040" cy="131760"/>
            </a:xfrm>
          </p:grpSpPr>
          <p:sp>
            <p:nvSpPr>
              <p:cNvPr id="502" name=""/>
              <p:cNvSpPr/>
              <p:nvPr/>
            </p:nvSpPr>
            <p:spPr>
              <a:xfrm>
                <a:off x="400752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096800" y="22564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79844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87368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 rot="3418800">
              <a:off x="4692240" y="20178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6197e7"/>
                </a:gs>
                <a:gs pos="100000">
                  <a:srgbClr val="2c456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5728680" y="2255400"/>
              <a:ext cx="1218600" cy="131760"/>
              <a:chOff x="5728680" y="2255400"/>
              <a:chExt cx="1218600" cy="131760"/>
            </a:xfrm>
          </p:grpSpPr>
          <p:sp>
            <p:nvSpPr>
              <p:cNvPr id="508" name=""/>
              <p:cNvSpPr/>
              <p:nvPr/>
            </p:nvSpPr>
            <p:spPr>
              <a:xfrm>
                <a:off x="5728680" y="225540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84532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762600" y="22575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861240" y="22986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 rot="3418800">
              <a:off x="6413400" y="20178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a57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611280" y="1830240"/>
          <a:ext cx="7691400" cy="338472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3981d"/>
                        </a:gs>
                        <a:gs pos="100000">
                          <a:srgbClr val="efc98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3981d"/>
                        </a:gs>
                        <a:gs pos="100000">
                          <a:srgbClr val="efc98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3981d"/>
                        </a:gs>
                        <a:gs pos="100000">
                          <a:srgbClr val="efc98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3981d"/>
                        </a:gs>
                        <a:gs pos="100000">
                          <a:srgbClr val="efc98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3981d"/>
                        </a:gs>
                        <a:gs pos="100000">
                          <a:srgbClr val="efc98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3981d"/>
                        </a:gs>
                        <a:gs pos="100000">
                          <a:srgbClr val="efc98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29560" y="1212480"/>
            <a:ext cx="7431480" cy="4917960"/>
            <a:chOff x="529560" y="1212480"/>
            <a:chExt cx="7431480" cy="4917960"/>
          </a:xfrm>
        </p:grpSpPr>
        <p:sp>
          <p:nvSpPr>
            <p:cNvPr id="525" name=""/>
            <p:cNvSpPr/>
            <p:nvPr/>
          </p:nvSpPr>
          <p:spPr>
            <a:xfrm>
              <a:off x="2187720" y="446544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20601600">
              <a:off x="1461960" y="2352240"/>
              <a:ext cx="576288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0601600">
              <a:off x="1517400" y="219060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0601600">
              <a:off x="1382760" y="2208600"/>
              <a:ext cx="5748840" cy="292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67" y="14960"/>
                  </a:moveTo>
                  <a:arcTo wR="10800" hR="10800" stAng="1359439" swAng="2520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67" y="14960"/>
                  </a:moveTo>
                  <a:arcTo wR="10800" hR="10800" stAng="1359439" swAng="2520569"/>
                </a:path>
              </a:pathLst>
            </a:custGeom>
            <a:solidFill>
              <a:srgbClr val="d9a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20601600">
              <a:off x="1434960" y="2175840"/>
              <a:ext cx="569844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20602200">
              <a:off x="1438200" y="218952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20601600">
              <a:off x="1440000" y="2188080"/>
              <a:ext cx="56826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rot="20602200">
              <a:off x="1423800" y="219492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0601600">
              <a:off x="4506840" y="3511440"/>
              <a:ext cx="1220760" cy="1498680"/>
            </a:xfrm>
            <a:custGeom>
              <a:avLst/>
              <a:gdLst/>
              <a:ahLst/>
              <a:rect l="l" t="t" r="r" b="b"/>
              <a:pathLst>
                <a:path w="480" h="716">
                  <a:moveTo>
                    <a:pt x="480" y="716"/>
                  </a:moveTo>
                  <a:lnTo>
                    <a:pt x="480" y="60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6a93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01600">
              <a:off x="4400280" y="3258720"/>
              <a:ext cx="2562120" cy="809640"/>
            </a:xfrm>
            <a:custGeom>
              <a:avLst/>
              <a:gdLst/>
              <a:ahLst/>
              <a:rect l="l" t="t" r="r" b="b"/>
              <a:pathLst>
                <a:path w="1008" h="388">
                  <a:moveTo>
                    <a:pt x="1008" y="388"/>
                  </a:moveTo>
                  <a:lnTo>
                    <a:pt x="1000" y="28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529560" y="1509840"/>
              <a:ext cx="6918480" cy="4356720"/>
              <a:chOff x="529560" y="1509840"/>
              <a:chExt cx="6918480" cy="4356720"/>
            </a:xfrm>
          </p:grpSpPr>
          <p:sp>
            <p:nvSpPr>
              <p:cNvPr id="536" name=""/>
              <p:cNvSpPr/>
              <p:nvPr/>
            </p:nvSpPr>
            <p:spPr>
              <a:xfrm rot="20712600">
                <a:off x="782280" y="2281320"/>
                <a:ext cx="6412680" cy="281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20712600">
                <a:off x="4186080" y="3479400"/>
                <a:ext cx="1377360" cy="153648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2973"/>
                  </a:gs>
                  <a:gs pos="100000">
                    <a:srgbClr val="696097"/>
                  </a:gs>
                </a:gsLst>
                <a:lin ang="14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20712600">
                <a:off x="5562000" y="3647520"/>
                <a:ext cx="1579320" cy="97956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1003680" y="1212480"/>
              <a:ext cx="6957360" cy="4863240"/>
              <a:chOff x="1003680" y="1212480"/>
              <a:chExt cx="6957360" cy="4863240"/>
            </a:xfrm>
          </p:grpSpPr>
          <p:sp>
            <p:nvSpPr>
              <p:cNvPr id="540" name=""/>
              <p:cNvSpPr/>
              <p:nvPr/>
            </p:nvSpPr>
            <p:spPr>
              <a:xfrm rot="20601600">
                <a:off x="6073560" y="3550680"/>
                <a:ext cx="1555560" cy="109224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b88a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20539200">
                <a:off x="1323720" y="2098440"/>
                <a:ext cx="6316920" cy="30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20601600">
                <a:off x="4757760" y="3380760"/>
                <a:ext cx="1332000" cy="168912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dd3"/>
                  </a:gs>
                  <a:gs pos="100000">
                    <a:srgbClr val="5007a1"/>
                  </a:gs>
                </a:gsLst>
                <a:lin ang="144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 rot="20601600">
              <a:off x="2979720" y="290448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601600">
              <a:off x="3056040" y="3139560"/>
              <a:ext cx="2624040" cy="109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716080" y="27255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15880" y="22683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7080" y="30304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058480" y="43257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10960" y="45543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92400" y="37162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087560" y="1542960"/>
            <a:ext cx="7390800" cy="4156200"/>
            <a:chOff x="1087560" y="1542960"/>
            <a:chExt cx="7390800" cy="4156200"/>
          </a:xfrm>
        </p:grpSpPr>
        <p:sp>
          <p:nvSpPr>
            <p:cNvPr id="553" name=""/>
            <p:cNvSpPr/>
            <p:nvPr/>
          </p:nvSpPr>
          <p:spPr>
            <a:xfrm>
              <a:off x="2077920" y="2305080"/>
              <a:ext cx="553032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849320" y="1542960"/>
              <a:ext cx="579060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5684"/>
                </a:gs>
                <a:gs pos="50000">
                  <a:srgbClr val="6197e7"/>
                </a:gs>
                <a:gs pos="100000">
                  <a:srgbClr val="375684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28600" y="2914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1087560" y="4178160"/>
              <a:ext cx="1485720" cy="1514520"/>
              <a:chOff x="1087560" y="4178160"/>
              <a:chExt cx="1485720" cy="151452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1087560" y="4178160"/>
                <a:ext cx="1485720" cy="1514520"/>
                <a:chOff x="1087560" y="4178160"/>
                <a:chExt cx="1485720" cy="15145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1087560" y="4178160"/>
                  <a:ext cx="148572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66"/>
                    </a:gs>
                    <a:gs pos="100000">
                      <a:srgbClr val="000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257120" y="420300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1245240" y="49492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2992320" y="4178160"/>
              <a:ext cx="1523520" cy="1521000"/>
              <a:chOff x="2992320" y="4178160"/>
              <a:chExt cx="1523520" cy="152100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2992320" y="4178160"/>
                <a:ext cx="1523520" cy="1521000"/>
                <a:chOff x="2992320" y="4178160"/>
                <a:chExt cx="1523520" cy="152100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2992320" y="4178160"/>
                  <a:ext cx="152352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7fb6"/>
                    </a:gs>
                    <a:gs pos="100000">
                      <a:srgbClr val="6a40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66200" y="420336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d17f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>
                <a:off x="3068280" y="4908240"/>
                <a:ext cx="137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5049720" y="4133880"/>
              <a:ext cx="1523520" cy="1520640"/>
              <a:chOff x="5049720" y="4133880"/>
              <a:chExt cx="1523520" cy="1520640"/>
            </a:xfrm>
          </p:grpSpPr>
          <p:grpSp>
            <p:nvGrpSpPr>
              <p:cNvPr id="567" name=""/>
              <p:cNvGrpSpPr/>
              <p:nvPr/>
            </p:nvGrpSpPr>
            <p:grpSpPr>
              <a:xfrm>
                <a:off x="5049720" y="4133880"/>
                <a:ext cx="1523520" cy="1520640"/>
                <a:chOff x="5049720" y="4133880"/>
                <a:chExt cx="1523520" cy="15206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5049720" y="4133880"/>
                  <a:ext cx="152352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97e7"/>
                    </a:gs>
                    <a:gs pos="100000">
                      <a:srgbClr val="314d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5223600" y="41590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197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"/>
              <p:cNvSpPr/>
              <p:nvPr/>
            </p:nvSpPr>
            <p:spPr>
              <a:xfrm>
                <a:off x="5125680" y="4863600"/>
                <a:ext cx="137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6954480" y="4133880"/>
              <a:ext cx="1523880" cy="1531800"/>
              <a:chOff x="6954480" y="4133880"/>
              <a:chExt cx="1523880" cy="1531800"/>
            </a:xfrm>
          </p:grpSpPr>
          <p:grpSp>
            <p:nvGrpSpPr>
              <p:cNvPr id="572" name=""/>
              <p:cNvGrpSpPr/>
              <p:nvPr/>
            </p:nvGrpSpPr>
            <p:grpSpPr>
              <a:xfrm>
                <a:off x="6954480" y="4133880"/>
                <a:ext cx="1523880" cy="1531800"/>
                <a:chOff x="6954480" y="4133880"/>
                <a:chExt cx="1523880" cy="153180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6954480" y="4133880"/>
                  <a:ext cx="152388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981d"/>
                    </a:gs>
                    <a:gs pos="100000">
                      <a:srgbClr val="36240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128720" y="4159080"/>
                  <a:ext cx="117540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3981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"/>
              <p:cNvSpPr/>
              <p:nvPr/>
            </p:nvSpPr>
            <p:spPr>
              <a:xfrm>
                <a:off x="7097400" y="48477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28800" y="1947960"/>
            <a:ext cx="5410080" cy="664920"/>
            <a:chOff x="1828800" y="1947960"/>
            <a:chExt cx="5410080" cy="664920"/>
          </a:xfrm>
        </p:grpSpPr>
        <p:grpSp>
          <p:nvGrpSpPr>
            <p:cNvPr id="89" name=""/>
            <p:cNvGrpSpPr/>
            <p:nvPr/>
          </p:nvGrpSpPr>
          <p:grpSpPr>
            <a:xfrm>
              <a:off x="1828800" y="1947960"/>
              <a:ext cx="762120" cy="664920"/>
              <a:chOff x="1828800" y="1947960"/>
              <a:chExt cx="762120" cy="664920"/>
            </a:xfrm>
          </p:grpSpPr>
          <p:sp>
            <p:nvSpPr>
              <p:cNvPr id="90" name=""/>
              <p:cNvSpPr/>
              <p:nvPr/>
            </p:nvSpPr>
            <p:spPr>
              <a:xfrm>
                <a:off x="1834920" y="1959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828800" y="1947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873080" y="1987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5dbdab"/>
                  </a:gs>
                  <a:gs pos="100000">
                    <a:srgbClr val="2a574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2438280" y="255708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70120" y="2023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27520" y="204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828800" y="2862360"/>
            <a:ext cx="5410080" cy="664920"/>
            <a:chOff x="1828800" y="2862360"/>
            <a:chExt cx="5410080" cy="664920"/>
          </a:xfrm>
        </p:grpSpPr>
        <p:grpSp>
          <p:nvGrpSpPr>
            <p:cNvPr id="97" name=""/>
            <p:cNvGrpSpPr/>
            <p:nvPr/>
          </p:nvGrpSpPr>
          <p:grpSpPr>
            <a:xfrm>
              <a:off x="1828800" y="2862360"/>
              <a:ext cx="762120" cy="664920"/>
              <a:chOff x="1828800" y="2862360"/>
              <a:chExt cx="762120" cy="664920"/>
            </a:xfrm>
          </p:grpSpPr>
          <p:sp>
            <p:nvSpPr>
              <p:cNvPr id="98" name=""/>
              <p:cNvSpPr/>
              <p:nvPr/>
            </p:nvSpPr>
            <p:spPr>
              <a:xfrm>
                <a:off x="1834920" y="28735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28800" y="28623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73080" y="29016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197e7"/>
                  </a:gs>
                  <a:gs pos="100000">
                    <a:srgbClr val="2c456a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2438280" y="347148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70120" y="29383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27520" y="296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28800" y="3754440"/>
            <a:ext cx="5410080" cy="665280"/>
            <a:chOff x="1828800" y="3754440"/>
            <a:chExt cx="5410080" cy="665280"/>
          </a:xfrm>
        </p:grpSpPr>
        <p:grpSp>
          <p:nvGrpSpPr>
            <p:cNvPr id="105" name=""/>
            <p:cNvGrpSpPr/>
            <p:nvPr/>
          </p:nvGrpSpPr>
          <p:grpSpPr>
            <a:xfrm>
              <a:off x="1828800" y="3754440"/>
              <a:ext cx="762120" cy="665280"/>
              <a:chOff x="1828800" y="3754440"/>
              <a:chExt cx="762120" cy="665280"/>
            </a:xfrm>
          </p:grpSpPr>
          <p:sp>
            <p:nvSpPr>
              <p:cNvPr id="106" name=""/>
              <p:cNvSpPr/>
              <p:nvPr/>
            </p:nvSpPr>
            <p:spPr>
              <a:xfrm>
                <a:off x="1834920" y="3765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828800" y="3754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873080" y="3793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5dbdab"/>
                  </a:gs>
                  <a:gs pos="100000">
                    <a:srgbClr val="2a574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2438280" y="43639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70120" y="3830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27520" y="385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828800" y="4668840"/>
            <a:ext cx="5410080" cy="665280"/>
            <a:chOff x="1828800" y="4668840"/>
            <a:chExt cx="5410080" cy="665280"/>
          </a:xfrm>
        </p:grpSpPr>
        <p:grpSp>
          <p:nvGrpSpPr>
            <p:cNvPr id="113" name=""/>
            <p:cNvGrpSpPr/>
            <p:nvPr/>
          </p:nvGrpSpPr>
          <p:grpSpPr>
            <a:xfrm>
              <a:off x="1828800" y="4668840"/>
              <a:ext cx="762120" cy="665280"/>
              <a:chOff x="1828800" y="4668840"/>
              <a:chExt cx="762120" cy="665280"/>
            </a:xfrm>
          </p:grpSpPr>
          <p:sp>
            <p:nvSpPr>
              <p:cNvPr id="114" name=""/>
              <p:cNvSpPr/>
              <p:nvPr/>
            </p:nvSpPr>
            <p:spPr>
              <a:xfrm>
                <a:off x="1834920" y="4680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828800" y="46688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73080" y="47080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197e7"/>
                  </a:gs>
                  <a:gs pos="100000">
                    <a:srgbClr val="2c456a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438280" y="52783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70120" y="47451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27520" y="4767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 flipV="1">
            <a:off x="4419720" y="739800"/>
            <a:ext cx="0" cy="58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17fb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4113B-58D8-4941-90FE-61E77FCE67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495680" y="2720880"/>
            <a:ext cx="4267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197e7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69696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197e7"/>
                  </a:gs>
                </a:gsLst>
                <a:lin ang="5400000"/>
              </a:gradFill>
              <a:effectLst>
                <a:outerShdw dist="17819" dir="2700000" blurRad="0" rotWithShape="0">
                  <a:srgbClr val="96969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0" name=""/>
          <p:cNvSpPr/>
          <p:nvPr/>
        </p:nvSpPr>
        <p:spPr>
          <a:xfrm>
            <a:off x="8677440" y="3581280"/>
            <a:ext cx="75960" cy="228600"/>
          </a:xfrm>
          <a:prstGeom prst="rect">
            <a:avLst/>
          </a:prstGeom>
          <a:solidFill>
            <a:srgbClr val="619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3360"/>
            <a:ext cx="8229600" cy="35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19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6197e7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6197e7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6197e7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6197e7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419720" y="739800"/>
            <a:ext cx="0" cy="58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5105520"/>
            <a:ext cx="632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562720" y="3324240"/>
            <a:ext cx="2286000" cy="2666880"/>
            <a:chOff x="5562720" y="3324240"/>
            <a:chExt cx="2286000" cy="2666880"/>
          </a:xfrm>
        </p:grpSpPr>
        <p:sp>
          <p:nvSpPr>
            <p:cNvPr id="127" name=""/>
            <p:cNvSpPr/>
            <p:nvPr/>
          </p:nvSpPr>
          <p:spPr>
            <a:xfrm>
              <a:off x="5562720" y="33242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15000" y="3519360"/>
              <a:ext cx="2057400" cy="16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uild Desig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one of aligned company with Microsoft Ltd, and we develop and provide the design templates for Office 97, 2000, and XP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143000" y="3324240"/>
            <a:ext cx="2286000" cy="2666880"/>
            <a:chOff x="1143000" y="3324240"/>
            <a:chExt cx="2286000" cy="2666880"/>
          </a:xfrm>
        </p:grpSpPr>
        <p:sp>
          <p:nvSpPr>
            <p:cNvPr id="130" name=""/>
            <p:cNvSpPr/>
            <p:nvPr/>
          </p:nvSpPr>
          <p:spPr>
            <a:xfrm>
              <a:off x="1143000" y="33242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38400" y="35244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22272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ae9e3"/>
              </a:gs>
              <a:gs pos="100000">
                <a:srgbClr val="5dbda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87440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cddf6"/>
              </a:gs>
              <a:gs pos="100000">
                <a:srgbClr val="6197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48120" y="1600200"/>
            <a:ext cx="2998440" cy="1601280"/>
            <a:chOff x="3048120" y="1600200"/>
            <a:chExt cx="2998440" cy="1601280"/>
          </a:xfrm>
        </p:grpSpPr>
        <p:grpSp>
          <p:nvGrpSpPr>
            <p:cNvPr id="135" name=""/>
            <p:cNvGrpSpPr/>
            <p:nvPr/>
          </p:nvGrpSpPr>
          <p:grpSpPr>
            <a:xfrm>
              <a:off x="3048120" y="1600200"/>
              <a:ext cx="2998440" cy="1601280"/>
              <a:chOff x="3048120" y="1600200"/>
              <a:chExt cx="2998440" cy="160128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3048120" y="1743120"/>
                <a:ext cx="2998440" cy="1458360"/>
                <a:chOff x="3048120" y="1743120"/>
                <a:chExt cx="2998440" cy="145836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080880" y="17895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d58"/>
                    </a:gs>
                    <a:gs pos="100000">
                      <a:srgbClr val="d17fb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48120" y="174312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981d"/>
                    </a:gs>
                    <a:gs pos="100000">
                      <a:srgbClr val="f1d09a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3189240" y="16002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197e7"/>
                  </a:gs>
                  <a:gs pos="100000">
                    <a:srgbClr val="2c456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24160" y="160812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7d9f5"/>
                  </a:gs>
                  <a:gs pos="100000">
                    <a:srgbClr val="6197e7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51160" y="162072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6197e7">
                      <a:alpha val="48235"/>
                    </a:srgbClr>
                  </a:gs>
                  <a:gs pos="100000">
                    <a:srgbClr val="4c77b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82920" y="164772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6197e7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882960" y="180036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6840" y="1327320"/>
            <a:ext cx="7750080" cy="5225400"/>
            <a:chOff x="456840" y="1327320"/>
            <a:chExt cx="7750080" cy="5225400"/>
          </a:xfrm>
        </p:grpSpPr>
        <p:sp>
          <p:nvSpPr>
            <p:cNvPr id="146" name=""/>
            <p:cNvSpPr/>
            <p:nvPr/>
          </p:nvSpPr>
          <p:spPr>
            <a:xfrm rot="20241600">
              <a:off x="1077840" y="2538000"/>
              <a:ext cx="6853320" cy="28033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1f1f1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9880" y="167616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d17fb6"/>
                </a:gs>
                <a:gs pos="100000">
                  <a:srgbClr val="472b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95280" y="32004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6197e7"/>
                </a:gs>
                <a:gs pos="100000">
                  <a:srgbClr val="1e2f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78000" y="48974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1433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52880" y="42670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535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81680" y="190476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e3981d"/>
                </a:gs>
                <a:gs pos="100000">
                  <a:srgbClr val="4e340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22520" y="36576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39640" y="21333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71480" y="2411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81560" y="4724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60600" y="53481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76720" y="365760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73200" y="1963440"/>
              <a:ext cx="1793880" cy="16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/>
            <p:nvPr/>
          </p:nvCxnSpPr>
          <p:spPr>
            <a:xfrm flipH="1">
              <a:off x="456840" y="196308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0" name=""/>
            <p:cNvSpPr/>
            <p:nvPr/>
          </p:nvSpPr>
          <p:spPr>
            <a:xfrm>
              <a:off x="534600" y="15238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990720" y="1687680"/>
            <a:ext cx="7010280" cy="4255920"/>
            <a:chOff x="990720" y="1687680"/>
            <a:chExt cx="7010280" cy="4255920"/>
          </a:xfrm>
        </p:grpSpPr>
        <p:sp>
          <p:nvSpPr>
            <p:cNvPr id="163" name=""/>
            <p:cNvSpPr/>
            <p:nvPr/>
          </p:nvSpPr>
          <p:spPr>
            <a:xfrm>
              <a:off x="3657600" y="403884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c456a"/>
                </a:gs>
                <a:gs pos="50000">
                  <a:srgbClr val="6197e7"/>
                </a:gs>
                <a:gs pos="100000">
                  <a:srgbClr val="2c45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57600" y="350532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c456a"/>
                </a:gs>
                <a:gs pos="50000">
                  <a:srgbClr val="6197e7"/>
                </a:gs>
                <a:gs pos="100000">
                  <a:srgbClr val="2c45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57600" y="297180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c456a"/>
                </a:gs>
                <a:gs pos="50000">
                  <a:srgbClr val="6197e7"/>
                </a:gs>
                <a:gs pos="100000">
                  <a:srgbClr val="2c45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99040" y="320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99040" y="3735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9040" y="4268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71800" y="2743200"/>
              <a:ext cx="533520" cy="20574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90720" y="2210040"/>
              <a:ext cx="1828800" cy="312408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080"/>
                <a:gd name="textAreaBottom" fmla="*/ 3034800 h 3124080"/>
              </a:gdLst>
              <a:ahLst/>
              <a:rect l="textAreaLeft" t="textAreaTop" r="textAreaRight" b="textAreaBottom"/>
              <a:pathLst>
                <a:path w="21600" h="36896">
                  <a:moveTo>
                    <a:pt x="3600" y="0"/>
                  </a:moveTo>
                  <a:arcTo wR="3600" hR="3600" stAng="16200000" swAng="-5400000"/>
                  <a:lnTo>
                    <a:pt x="0" y="33296"/>
                  </a:lnTo>
                  <a:arcTo wR="3600" hR="3600" stAng="10800000" swAng="-5400000"/>
                  <a:lnTo>
                    <a:pt x="18000" y="36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7040" y="243864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72200" y="2210040"/>
              <a:ext cx="1828800" cy="312408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080"/>
                <a:gd name="textAreaBottom" fmla="*/ 3034800 h 3124080"/>
              </a:gdLst>
              <a:ahLst/>
              <a:rect l="textAreaLeft" t="textAreaTop" r="textAreaRight" b="textAreaBottom"/>
              <a:pathLst>
                <a:path w="21600" h="36896">
                  <a:moveTo>
                    <a:pt x="3600" y="0"/>
                  </a:moveTo>
                  <a:arcTo wR="3600" hR="3600" stAng="16200000" swAng="-5400000"/>
                  <a:lnTo>
                    <a:pt x="0" y="33296"/>
                  </a:lnTo>
                  <a:arcTo wR="3600" hR="3600" stAng="10800000" swAng="-5400000"/>
                  <a:lnTo>
                    <a:pt x="18000" y="36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48520" y="243864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89640" y="2743200"/>
              <a:ext cx="530280" cy="20574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67280" y="1687680"/>
              <a:ext cx="2743200" cy="53352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03a53"/>
                </a:gs>
                <a:gs pos="50000">
                  <a:srgbClr val="d17fb6"/>
                </a:gs>
                <a:gs pos="100000">
                  <a:srgbClr val="603a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24480" y="2362320"/>
              <a:ext cx="1752480" cy="533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bbbbb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74920" y="1833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98960" y="5334120"/>
              <a:ext cx="2743200" cy="609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74920" y="5567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02160" y="4724640"/>
              <a:ext cx="1755720" cy="5252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bbbbb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17fb6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38080" y="1752480"/>
            <a:ext cx="7391520" cy="3581280"/>
            <a:chOff x="838080" y="1752480"/>
            <a:chExt cx="7391520" cy="3581280"/>
          </a:xfrm>
        </p:grpSpPr>
        <p:grpSp>
          <p:nvGrpSpPr>
            <p:cNvPr id="184" name=""/>
            <p:cNvGrpSpPr/>
            <p:nvPr/>
          </p:nvGrpSpPr>
          <p:grpSpPr>
            <a:xfrm>
              <a:off x="2895480" y="1752480"/>
              <a:ext cx="3196800" cy="2890800"/>
              <a:chOff x="2895480" y="1752480"/>
              <a:chExt cx="3196800" cy="2890800"/>
            </a:xfrm>
          </p:grpSpPr>
          <p:sp>
            <p:nvSpPr>
              <p:cNvPr id="185" name=""/>
              <p:cNvSpPr/>
              <p:nvPr/>
            </p:nvSpPr>
            <p:spPr>
              <a:xfrm flipH="1" rot="16200000">
                <a:off x="2813400" y="286596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rot="5400000">
                <a:off x="5683320" y="281160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rot="10800000">
                <a:off x="4250520" y="4316400"/>
                <a:ext cx="48960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22360" y="1752480"/>
                <a:ext cx="2566440" cy="2563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68880" y="1896840"/>
                <a:ext cx="2272320" cy="227016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02440" y="203184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d17fb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02440" y="203184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634560" y="216360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704462"/>
                  </a:gs>
                  <a:gs pos="50000">
                    <a:srgbClr val="d17fb6"/>
                  </a:gs>
                  <a:gs pos="100000">
                    <a:srgbClr val="70446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34560" y="216360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838080" y="335268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8460d"/>
                </a:gs>
                <a:gs pos="50000">
                  <a:srgbClr val="e3981d"/>
                </a:gs>
                <a:gs pos="100000">
                  <a:srgbClr val="6846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080" y="281916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8460d"/>
                </a:gs>
                <a:gs pos="50000">
                  <a:srgbClr val="e3981d"/>
                </a:gs>
                <a:gs pos="100000">
                  <a:srgbClr val="6846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22860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8460d"/>
                </a:gs>
                <a:gs pos="50000">
                  <a:srgbClr val="e3981d"/>
                </a:gs>
                <a:gs pos="100000">
                  <a:srgbClr val="6846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24480" y="335268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c456a"/>
                </a:gs>
                <a:gs pos="50000">
                  <a:srgbClr val="6197e7"/>
                </a:gs>
                <a:gs pos="100000">
                  <a:srgbClr val="2c45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24480" y="281916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c456a"/>
                </a:gs>
                <a:gs pos="50000">
                  <a:srgbClr val="6197e7"/>
                </a:gs>
                <a:gs pos="100000">
                  <a:srgbClr val="2c45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24480" y="22860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c456a"/>
                </a:gs>
                <a:gs pos="50000">
                  <a:srgbClr val="6197e7"/>
                </a:gs>
                <a:gs pos="100000">
                  <a:srgbClr val="2c45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12400" y="2819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57440" y="480060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730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730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730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926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926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926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0" name="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21480" y="1752480"/>
              <a:ext cx="356004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36240" y="2726640"/>
              <a:ext cx="3827520" cy="6260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24280" y="3691440"/>
              <a:ext cx="610560" cy="979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914400" y="2734920"/>
              <a:ext cx="39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04840" y="1752480"/>
              <a:ext cx="0" cy="10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04840" y="27626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08000" y="1941840"/>
              <a:ext cx="195732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6880" y="237996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37680" y="3353040"/>
              <a:ext cx="3212640" cy="34524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61080" y="4321800"/>
              <a:ext cx="3476880" cy="34524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76200" y="5290560"/>
              <a:ext cx="374112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41920" y="5021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8080" y="1600200"/>
            <a:ext cx="5964120" cy="4495680"/>
          </a:xfrm>
          <a:prstGeom prst="rightArrow">
            <a:avLst>
              <a:gd name="adj1" fmla="val 79306"/>
              <a:gd name="adj2" fmla="val 32859"/>
            </a:avLst>
          </a:prstGeom>
          <a:gradFill rotWithShape="0">
            <a:gsLst>
              <a:gs pos="0">
                <a:srgbClr val="6197e7">
                  <a:alpha val="50196"/>
                </a:srgbClr>
              </a:gs>
              <a:gs pos="100000">
                <a:srgbClr val="d2e1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197e7"/>
              </a:gs>
              <a:gs pos="100000">
                <a:srgbClr val="2c456a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dbdab"/>
              </a:gs>
              <a:gs pos="100000">
                <a:srgbClr val="2a574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3200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18Z</dcterms:modified>
  <cp:revision>3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