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417D-ED48-44C5-BF20-82C5935209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788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9149-05CA-421B-8D91-3812DF98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260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9156-BE57-4F52-9139-E7FAD54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316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2120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316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2120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6836-3CFD-42E4-9ADF-3561193ACC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9CD9D-5836-4D46-B865-0B15EAAE2A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3FCE6-A781-4611-AD4E-651CCDE1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C8444-9A26-4F77-9DF0-809017A2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E3E28-244D-4F0D-8110-EC358752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E82E1-4D15-49B9-82C2-8507DF22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7732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8B665-A51E-4E45-B84D-0679BF94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92BCB-CD0A-4858-BD43-CBD5EA66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5EE2-1B73-45EB-BE79-73BBA60C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7260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49432-3831-41B9-84B4-00C7A168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56761-1E98-4424-A78A-31183C90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788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0F4CC-1565-4E02-AE89-B9410114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7260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7CC8C-FF41-48C2-91FE-408BC574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316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2120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316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2120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58FB3-E178-4E8A-B294-49406B7603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8294-A131-4BE6-98F3-24A0A6C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75C8-AF1C-413D-ADDD-58173166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EDCD-327B-464D-9F1F-1D37210B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7732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AE6D-8C6B-46F9-8003-1C3E307F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E61A-1E1D-4B0A-A553-8D6D0121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260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57D0-DB7F-424D-AFA7-A917EE8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C5FC-CDE9-43C3-80B9-DE893BFB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DC66-DBC4-41C3-9EFF-F158B41363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238960" y="447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0F64-1D4E-441D-B61B-FA26995DE0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c0c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80769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手援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62320" y="9525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43000" y="1981080"/>
            <a:ext cx="7086600" cy="3833640"/>
            <a:chOff x="1143000" y="1981080"/>
            <a:chExt cx="7086600" cy="3833640"/>
          </a:xfrm>
        </p:grpSpPr>
        <p:sp>
          <p:nvSpPr>
            <p:cNvPr id="262" name=""/>
            <p:cNvSpPr/>
            <p:nvPr/>
          </p:nvSpPr>
          <p:spPr>
            <a:xfrm>
              <a:off x="1143000" y="19810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c0c0fe">
                    <a:alpha val="12156"/>
                  </a:srgbClr>
                </a:gs>
                <a:gs pos="50000">
                  <a:srgbClr val="9999ff"/>
                </a:gs>
                <a:gs pos="100000">
                  <a:srgbClr val="c0c0fe">
                    <a:alpha val="1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47920" y="22860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c1da9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52720" y="23112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8fc"/>
                </a:gs>
                <a:gs pos="100000">
                  <a:srgbClr val="4ea7e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83200" y="29732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4fb"/>
                </a:gs>
                <a:gs pos="100000">
                  <a:srgbClr val="855ad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9600" y="36338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8fc"/>
                </a:gs>
                <a:gs pos="100000">
                  <a:srgbClr val="4ea7e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83200" y="42940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4fb"/>
                </a:gs>
                <a:gs pos="100000">
                  <a:srgbClr val="855ad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52720" y="49561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8fc"/>
                </a:gs>
                <a:gs pos="100000">
                  <a:srgbClr val="4ea7e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86720" y="30477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447920" y="1619280"/>
            <a:ext cx="6933600" cy="4400640"/>
            <a:chOff x="1447920" y="1619280"/>
            <a:chExt cx="6933600" cy="4400640"/>
          </a:xfrm>
        </p:grpSpPr>
        <p:sp>
          <p:nvSpPr>
            <p:cNvPr id="272" name=""/>
            <p:cNvSpPr/>
            <p:nvPr/>
          </p:nvSpPr>
          <p:spPr>
            <a:xfrm>
              <a:off x="1447920" y="1981080"/>
              <a:ext cx="594324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14640" y="3505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0876400">
              <a:off x="3544560" y="504828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76520" y="382896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9704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4320" y="385452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6480" y="38988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9376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826600">
              <a:off x="1701720" y="443844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625400" y="3448080"/>
              <a:ext cx="1370880" cy="1441080"/>
              <a:chOff x="1625400" y="3448080"/>
              <a:chExt cx="1370880" cy="1441080"/>
            </a:xfrm>
          </p:grpSpPr>
          <p:sp>
            <p:nvSpPr>
              <p:cNvPr id="282" name=""/>
              <p:cNvSpPr/>
              <p:nvPr/>
            </p:nvSpPr>
            <p:spPr>
              <a:xfrm>
                <a:off x="1625400" y="344808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43400" y="345636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563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28000" y="350640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84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523880" y="268308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9840" y="20764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12800" y="208116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2360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7600" y="211788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971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0720" y="215280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2760" y="161928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22480" y="1622520"/>
              <a:ext cx="66456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28600" y="16286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65320" y="164772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296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6d6d6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302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35825"/>
                </a:gs>
                <a:gs pos="50000">
                  <a:srgbClr val="93c052"/>
                </a:gs>
                <a:gs pos="100000">
                  <a:srgbClr val="43582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35825"/>
                </a:gs>
                <a:gs pos="50000">
                  <a:srgbClr val="93c052"/>
                </a:gs>
                <a:gs pos="100000">
                  <a:srgbClr val="43582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35825"/>
                </a:gs>
                <a:gs pos="50000">
                  <a:srgbClr val="93c052"/>
                </a:gs>
                <a:gs pos="100000">
                  <a:srgbClr val="43582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295280" y="1752480"/>
            <a:ext cx="6781680" cy="4267080"/>
            <a:chOff x="1295280" y="1752480"/>
            <a:chExt cx="6781680" cy="4267080"/>
          </a:xfrm>
        </p:grpSpPr>
        <p:grpSp>
          <p:nvGrpSpPr>
            <p:cNvPr id="313" name=""/>
            <p:cNvGrpSpPr/>
            <p:nvPr/>
          </p:nvGrpSpPr>
          <p:grpSpPr>
            <a:xfrm>
              <a:off x="2895480" y="2743200"/>
              <a:ext cx="3580920" cy="1904040"/>
              <a:chOff x="2895480" y="2743200"/>
              <a:chExt cx="3580920" cy="1904040"/>
            </a:xfrm>
          </p:grpSpPr>
          <p:sp>
            <p:nvSpPr>
              <p:cNvPr id="314" name=""/>
              <p:cNvSpPr/>
              <p:nvPr/>
            </p:nvSpPr>
            <p:spPr>
              <a:xfrm rot="10800000">
                <a:off x="5866920" y="274320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914800">
                <a:off x="3581640" y="403812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lin ang="144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95480" y="274320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3815000">
                <a:off x="5181480" y="403812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lin ang="185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504960" y="1752480"/>
              <a:ext cx="2361960" cy="2437920"/>
              <a:chOff x="3504960" y="1752480"/>
              <a:chExt cx="2361960" cy="243792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3504960" y="1752480"/>
                <a:ext cx="2361960" cy="2437920"/>
                <a:chOff x="3504960" y="1752480"/>
                <a:chExt cx="2361960" cy="24379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504960" y="1752480"/>
                  <a:ext cx="2358000" cy="24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8755a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509280" y="1772640"/>
                  <a:ext cx="2357640" cy="241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d8755a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634920" y="1910160"/>
                  <a:ext cx="204624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3f30"/>
                    </a:gs>
                    <a:gs pos="50000">
                      <a:srgbClr val="d8755a"/>
                    </a:gs>
                    <a:gs pos="100000">
                      <a:srgbClr val="743f3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628080" y="1899000"/>
                  <a:ext cx="204660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0"/>
                      </a:srgbClr>
                    </a:gs>
                    <a:gs pos="100000">
                      <a:srgbClr val="884a3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36440" y="2017080"/>
                  <a:ext cx="1842840" cy="18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"/>
                <p:cNvGrpSpPr/>
                <p:nvPr/>
              </p:nvGrpSpPr>
              <p:grpSpPr>
                <a:xfrm>
                  <a:off x="3777480" y="2045520"/>
                  <a:ext cx="1786680" cy="1833480"/>
                  <a:chOff x="3777480" y="2045520"/>
                  <a:chExt cx="1786680" cy="183348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3777480" y="2045520"/>
                    <a:ext cx="1786680" cy="183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800160" y="2055600"/>
                    <a:ext cx="1743480" cy="178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818880" y="2073240"/>
                    <a:ext cx="1658160" cy="167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915720" y="2120040"/>
                    <a:ext cx="1473840" cy="135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0" name=""/>
              <p:cNvSpPr/>
              <p:nvPr/>
            </p:nvSpPr>
            <p:spPr>
              <a:xfrm>
                <a:off x="3962160" y="2514600"/>
                <a:ext cx="1434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637320" y="2286000"/>
              <a:ext cx="1439640" cy="1439640"/>
              <a:chOff x="6637320" y="2286000"/>
              <a:chExt cx="1439640" cy="143964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637320" y="2286000"/>
                <a:ext cx="1439640" cy="1439640"/>
                <a:chOff x="6637320" y="2286000"/>
                <a:chExt cx="1439640" cy="14396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637320" y="228600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37320" y="228600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32360" y="237924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732360" y="2382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794280" y="244296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"/>
                <p:cNvGrpSpPr/>
                <p:nvPr/>
              </p:nvGrpSpPr>
              <p:grpSpPr>
                <a:xfrm>
                  <a:off x="6811560" y="2460240"/>
                  <a:ext cx="1090440" cy="1091880"/>
                  <a:chOff x="6811560" y="2460240"/>
                  <a:chExt cx="1090440" cy="10918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811560" y="2460240"/>
                    <a:ext cx="109044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825240" y="246636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836760" y="247680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895800" y="250452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3" name=""/>
              <p:cNvSpPr/>
              <p:nvPr/>
            </p:nvSpPr>
            <p:spPr>
              <a:xfrm>
                <a:off x="6993000" y="281916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257800" y="4495680"/>
              <a:ext cx="1444680" cy="1523880"/>
              <a:chOff x="5257800" y="4495680"/>
              <a:chExt cx="1444680" cy="1523880"/>
            </a:xfrm>
          </p:grpSpPr>
          <p:sp>
            <p:nvSpPr>
              <p:cNvPr id="345" name=""/>
              <p:cNvSpPr/>
              <p:nvPr/>
            </p:nvSpPr>
            <p:spPr>
              <a:xfrm>
                <a:off x="5257800" y="449568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66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57800" y="449568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f669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51400" y="4593960"/>
                <a:ext cx="1257480" cy="1327320"/>
              </a:xfrm>
              <a:prstGeom prst="ellipse">
                <a:avLst/>
              </a:prstGeom>
              <a:gradFill rotWithShape="0">
                <a:gsLst>
                  <a:gs pos="0">
                    <a:srgbClr val="893652"/>
                  </a:gs>
                  <a:gs pos="50000">
                    <a:srgbClr val="ff6699"/>
                  </a:gs>
                  <a:gs pos="100000">
                    <a:srgbClr val="8936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34120" y="4572000"/>
                <a:ext cx="1255680" cy="1326960"/>
              </a:xfrm>
              <a:prstGeom prst="ellipse">
                <a:avLst/>
              </a:prstGeom>
              <a:gradFill rotWithShape="0">
                <a:gsLst>
                  <a:gs pos="0">
                    <a:srgbClr val="ff6699">
                      <a:alpha val="0"/>
                    </a:srgbClr>
                  </a:gs>
                  <a:gs pos="100000">
                    <a:srgbClr val="a1406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19800" y="4662360"/>
                <a:ext cx="1130400" cy="119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10080" y="4647960"/>
                <a:ext cx="1094040" cy="11541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51480" y="4687920"/>
                <a:ext cx="1068480" cy="11253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64080" y="4698720"/>
                <a:ext cx="1015920" cy="105264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22760" y="4728960"/>
                <a:ext cx="903600" cy="854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39400" y="50893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295280" y="2286000"/>
              <a:ext cx="1445760" cy="1523520"/>
              <a:chOff x="1295280" y="2286000"/>
              <a:chExt cx="1445760" cy="152352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295280" y="2286000"/>
                <a:ext cx="1445760" cy="1523520"/>
                <a:chOff x="1295280" y="2286000"/>
                <a:chExt cx="1445760" cy="15235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295280" y="228600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295280" y="228600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cc66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389240" y="2385000"/>
                  <a:ext cx="125784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d36"/>
                    </a:gs>
                    <a:gs pos="50000">
                      <a:srgbClr val="00cc66"/>
                    </a:gs>
                    <a:gs pos="100000">
                      <a:srgbClr val="00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390680" y="2385000"/>
                  <a:ext cx="125640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0"/>
                      </a:srgbClr>
                    </a:gs>
                    <a:gs pos="100000">
                      <a:srgbClr val="00814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58000" y="2452320"/>
                  <a:ext cx="1130400" cy="11912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476360" y="2471400"/>
                  <a:ext cx="1095480" cy="115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490040" y="2478600"/>
                  <a:ext cx="1068480" cy="11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01200" y="2489040"/>
                  <a:ext cx="1016640" cy="10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60240" y="2519280"/>
                  <a:ext cx="904320" cy="85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1676880" y="28796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598480" y="4495680"/>
              <a:ext cx="1440000" cy="1440000"/>
              <a:chOff x="2598480" y="4495680"/>
              <a:chExt cx="1440000" cy="144000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598480" y="4495680"/>
                <a:ext cx="1440000" cy="1440000"/>
                <a:chOff x="2598480" y="4495680"/>
                <a:chExt cx="1440000" cy="14400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598480" y="4495680"/>
                  <a:ext cx="144000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3965e1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598480" y="4495680"/>
                  <a:ext cx="144000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3965e1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88840" y="4591080"/>
                  <a:ext cx="124956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e3679"/>
                    </a:gs>
                    <a:gs pos="50000">
                      <a:srgbClr val="3965e1"/>
                    </a:gs>
                    <a:gs pos="100000">
                      <a:srgbClr val="1e367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688840" y="460044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>
                        <a:alpha val="0"/>
                      </a:srgbClr>
                    </a:gs>
                    <a:gs pos="100000">
                      <a:srgbClr val="25439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750760" y="4662360"/>
                  <a:ext cx="1125720" cy="11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100000">
                      <a:srgbClr val="0305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2779560" y="4676760"/>
                  <a:ext cx="1090440" cy="1092240"/>
                  <a:chOff x="2779560" y="4676760"/>
                  <a:chExt cx="1090440" cy="10922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2779560" y="467676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793240" y="4682880"/>
                    <a:ext cx="106416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804760" y="469332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863800" y="472104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" name=""/>
              <p:cNvSpPr/>
              <p:nvPr/>
            </p:nvSpPr>
            <p:spPr>
              <a:xfrm>
                <a:off x="2951640" y="502128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83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5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09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70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4" name=""/>
              <p:cNvCxnSpPr>
                <a:stCxn id="470" idx="3"/>
                <a:endCxn id="471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</p:cxnSp>
          <p:cxnSp>
            <p:nvCxnSpPr>
              <p:cNvPr id="475" name=""/>
              <p:cNvCxnSpPr>
                <a:stCxn id="471" idx="3"/>
                <a:endCxn id="472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</p:cxnSp>
          <p:cxnSp>
            <p:nvCxnSpPr>
              <p:cNvPr id="476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774880" y="2158560"/>
            <a:ext cx="4013640" cy="4252320"/>
            <a:chOff x="2774880" y="2158560"/>
            <a:chExt cx="4013640" cy="4252320"/>
          </a:xfrm>
        </p:grpSpPr>
        <p:sp>
          <p:nvSpPr>
            <p:cNvPr id="479" name=""/>
            <p:cNvSpPr/>
            <p:nvPr/>
          </p:nvSpPr>
          <p:spPr>
            <a:xfrm>
              <a:off x="2782800" y="349560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200000">
              <a:off x="4471200" y="241236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4ea7ea"/>
                </a:gs>
                <a:gs pos="100000">
                  <a:srgbClr val="234c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810880" y="2158560"/>
              <a:ext cx="2482920" cy="2629800"/>
              <a:chOff x="2810880" y="2158560"/>
              <a:chExt cx="2482920" cy="2629800"/>
            </a:xfrm>
          </p:grpSpPr>
          <p:sp>
            <p:nvSpPr>
              <p:cNvPr id="482" name=""/>
              <p:cNvSpPr/>
              <p:nvPr/>
            </p:nvSpPr>
            <p:spPr>
              <a:xfrm rot="12600000">
                <a:off x="2864880" y="386532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200000">
                <a:off x="3260160" y="307008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7200000">
                <a:off x="4333320" y="214308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rot="14400000">
              <a:off x="4584960" y="4265640"/>
              <a:ext cx="136548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d2964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615920" y="3038760"/>
              <a:ext cx="2172600" cy="2758320"/>
              <a:chOff x="4615920" y="3038760"/>
              <a:chExt cx="2172600" cy="2758320"/>
            </a:xfrm>
          </p:grpSpPr>
          <p:sp>
            <p:nvSpPr>
              <p:cNvPr id="487" name=""/>
              <p:cNvSpPr/>
              <p:nvPr/>
            </p:nvSpPr>
            <p:spPr>
              <a:xfrm rot="19800000">
                <a:off x="4670280" y="335772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4400000">
                <a:off x="5059800" y="3949560"/>
                <a:ext cx="150444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4400000">
                <a:off x="5883120" y="470448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2774880" y="4700520"/>
              <a:ext cx="2493360" cy="1395000"/>
              <a:chOff x="2774880" y="4700520"/>
              <a:chExt cx="2493360" cy="1395000"/>
            </a:xfrm>
          </p:grpSpPr>
          <p:sp>
            <p:nvSpPr>
              <p:cNvPr id="491" name=""/>
              <p:cNvSpPr/>
              <p:nvPr/>
            </p:nvSpPr>
            <p:spPr>
              <a:xfrm>
                <a:off x="2774880" y="4700520"/>
                <a:ext cx="581760" cy="110124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5400000">
                <a:off x="4254480" y="5081760"/>
                <a:ext cx="1387080" cy="64044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299040" y="5023440"/>
                <a:ext cx="1597320" cy="77832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533520" y="517356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29400" y="5097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8120" y="1973160"/>
            <a:ext cx="32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03960" y="35863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08360" y="35863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25720" y="35863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19320" y="35863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280160" y="2016000"/>
            <a:ext cx="6214680" cy="1324440"/>
            <a:chOff x="1280160" y="2016000"/>
            <a:chExt cx="6214680" cy="1324440"/>
          </a:xfrm>
        </p:grpSpPr>
        <p:sp>
          <p:nvSpPr>
            <p:cNvPr id="503" name=""/>
            <p:cNvSpPr/>
            <p:nvPr/>
          </p:nvSpPr>
          <p:spPr>
            <a:xfrm rot="3418800">
              <a:off x="1487880" y="22237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410920" y="2396880"/>
              <a:ext cx="901080" cy="124200"/>
              <a:chOff x="2410920" y="2396880"/>
              <a:chExt cx="901080" cy="124200"/>
            </a:xfrm>
          </p:grpSpPr>
          <p:sp>
            <p:nvSpPr>
              <p:cNvPr id="505" name=""/>
              <p:cNvSpPr/>
              <p:nvPr/>
            </p:nvSpPr>
            <p:spPr>
              <a:xfrm>
                <a:off x="2410920" y="23968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497320" y="23976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75560" y="23986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248280" y="24375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rot="3418800">
              <a:off x="3152520" y="21614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075560" y="2396880"/>
              <a:ext cx="901080" cy="124200"/>
              <a:chOff x="4075560" y="2396880"/>
              <a:chExt cx="901080" cy="124200"/>
            </a:xfrm>
          </p:grpSpPr>
          <p:sp>
            <p:nvSpPr>
              <p:cNvPr id="511" name=""/>
              <p:cNvSpPr/>
              <p:nvPr/>
            </p:nvSpPr>
            <p:spPr>
              <a:xfrm>
                <a:off x="4075560" y="23968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61960" y="23976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840200" y="23986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912920" y="24375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rot="3418800">
              <a:off x="4747680" y="216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740200" y="2396880"/>
              <a:ext cx="1178280" cy="124200"/>
              <a:chOff x="5740200" y="2396880"/>
              <a:chExt cx="1178280" cy="124200"/>
            </a:xfrm>
          </p:grpSpPr>
          <p:sp>
            <p:nvSpPr>
              <p:cNvPr id="517" name=""/>
              <p:cNvSpPr/>
              <p:nvPr/>
            </p:nvSpPr>
            <p:spPr>
              <a:xfrm>
                <a:off x="5740200" y="23968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53240" y="23976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39920" y="23986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35320" y="24375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rot="3418800">
              <a:off x="6412320" y="21614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5948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904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366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322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012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950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906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8592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063800" y="2403360"/>
          <a:ext cx="7281720" cy="3395520"/>
        </p:xfrm>
        <a:graphic>
          <a:graphicData uri="http://schemas.openxmlformats.org/drawingml/2006/table">
            <a:tbl>
              <a:tblPr/>
              <a:tblGrid>
                <a:gridCol w="1820880"/>
                <a:gridCol w="1820880"/>
                <a:gridCol w="1819080"/>
                <a:gridCol w="1820880"/>
              </a:tblGrid>
              <a:tr h="547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5a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5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77320" y="1217880"/>
            <a:ext cx="5481000" cy="5149080"/>
            <a:chOff x="1777320" y="1217880"/>
            <a:chExt cx="5481000" cy="5149080"/>
          </a:xfrm>
        </p:grpSpPr>
        <p:sp>
          <p:nvSpPr>
            <p:cNvPr id="534" name=""/>
            <p:cNvSpPr/>
            <p:nvPr/>
          </p:nvSpPr>
          <p:spPr>
            <a:xfrm rot="20805000">
              <a:off x="4744800" y="29512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61200">
              <a:off x="2950920" y="25002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4128200">
              <a:off x="4798080" y="97344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a00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1777320" y="1722960"/>
              <a:ext cx="5481000" cy="4644000"/>
              <a:chOff x="1777320" y="1722960"/>
              <a:chExt cx="5481000" cy="4644000"/>
            </a:xfrm>
          </p:grpSpPr>
          <p:sp>
            <p:nvSpPr>
              <p:cNvPr id="538" name=""/>
              <p:cNvSpPr/>
              <p:nvPr/>
            </p:nvSpPr>
            <p:spPr>
              <a:xfrm>
                <a:off x="4547160" y="305100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6256200">
                <a:off x="2950920" y="235044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4922600">
                <a:off x="4928760" y="120240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037040" y="3014640"/>
              <a:ext cx="1339560" cy="1338120"/>
              <a:chOff x="4037040" y="3014640"/>
              <a:chExt cx="1339560" cy="1338120"/>
            </a:xfrm>
          </p:grpSpPr>
          <p:sp>
            <p:nvSpPr>
              <p:cNvPr id="542" name=""/>
              <p:cNvSpPr/>
              <p:nvPr/>
            </p:nvSpPr>
            <p:spPr>
              <a:xfrm>
                <a:off x="4037040" y="301464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190040" y="303660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4232520" y="35053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17520" y="3205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13240" y="23763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47880" y="4927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550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5ada">
                    <a:alpha val="64313"/>
                  </a:srgbClr>
                </a:gs>
                <a:gs pos="100000">
                  <a:srgbClr val="efeaf9"/>
                </a:gs>
              </a:gsLst>
              <a:lin ang="5400000"/>
            </a:gradFill>
            <a:ln w="25560">
              <a:solidFill>
                <a:srgbClr val="855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1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3" name="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4ea7ea">
                    <a:alpha val="60000"/>
                  </a:srgbClr>
                </a:gs>
                <a:gs pos="100000">
                  <a:srgbClr val="cde5f8"/>
                </a:gs>
              </a:gsLst>
              <a:lin ang="5400000"/>
            </a:gradFill>
            <a:ln w="25560">
              <a:solidFill>
                <a:srgbClr val="4ea7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4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4c6b"/>
                </a:gs>
                <a:gs pos="50000">
                  <a:srgbClr val="4ea7ea"/>
                </a:gs>
                <a:gs pos="100000">
                  <a:srgbClr val="234c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78000" y="2151000"/>
            <a:ext cx="4737240" cy="507960"/>
            <a:chOff x="2178000" y="2151000"/>
            <a:chExt cx="4737240" cy="507960"/>
          </a:xfrm>
        </p:grpSpPr>
        <p:sp>
          <p:nvSpPr>
            <p:cNvPr id="89" name=""/>
            <p:cNvSpPr/>
            <p:nvPr/>
          </p:nvSpPr>
          <p:spPr>
            <a:xfrm>
              <a:off x="2495520" y="2151000"/>
              <a:ext cx="441972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78000" y="2239920"/>
              <a:ext cx="380880" cy="380880"/>
              <a:chOff x="2178000" y="2239920"/>
              <a:chExt cx="380880" cy="380880"/>
            </a:xfrm>
          </p:grpSpPr>
          <p:sp>
            <p:nvSpPr>
              <p:cNvPr id="91" name=""/>
              <p:cNvSpPr/>
              <p:nvPr/>
            </p:nvSpPr>
            <p:spPr>
              <a:xfrm>
                <a:off x="2178000" y="223992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99600" y="226116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19400" y="22813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19400" y="22813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38840" y="23007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38840" y="23007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2178000" y="2921040"/>
            <a:ext cx="4724280" cy="507960"/>
            <a:chOff x="2178000" y="2921040"/>
            <a:chExt cx="4724280" cy="507960"/>
          </a:xfrm>
        </p:grpSpPr>
        <p:sp>
          <p:nvSpPr>
            <p:cNvPr id="98" name=""/>
            <p:cNvSpPr/>
            <p:nvPr/>
          </p:nvSpPr>
          <p:spPr>
            <a:xfrm>
              <a:off x="2482920" y="2921040"/>
              <a:ext cx="441936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5ad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178000" y="3027240"/>
              <a:ext cx="380880" cy="381240"/>
              <a:chOff x="2178000" y="3027240"/>
              <a:chExt cx="380880" cy="381240"/>
            </a:xfrm>
          </p:grpSpPr>
          <p:sp>
            <p:nvSpPr>
              <p:cNvPr id="100" name=""/>
              <p:cNvSpPr/>
              <p:nvPr/>
            </p:nvSpPr>
            <p:spPr>
              <a:xfrm>
                <a:off x="2178000" y="30272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199600" y="30484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19400" y="3068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19400" y="3068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38840" y="3088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38840" y="3088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225c31"/>
                  </a:gs>
                  <a:gs pos="100000">
                    <a:srgbClr val="48be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178000" y="3683160"/>
            <a:ext cx="4724280" cy="507960"/>
            <a:chOff x="2178000" y="3683160"/>
            <a:chExt cx="4724280" cy="507960"/>
          </a:xfrm>
        </p:grpSpPr>
        <p:sp>
          <p:nvSpPr>
            <p:cNvPr id="107" name=""/>
            <p:cNvSpPr/>
            <p:nvPr/>
          </p:nvSpPr>
          <p:spPr>
            <a:xfrm>
              <a:off x="2482920" y="3683160"/>
              <a:ext cx="441936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178000" y="3759480"/>
              <a:ext cx="380880" cy="380880"/>
              <a:chOff x="2178000" y="3759480"/>
              <a:chExt cx="380880" cy="380880"/>
            </a:xfrm>
          </p:grpSpPr>
          <p:sp>
            <p:nvSpPr>
              <p:cNvPr id="109" name=""/>
              <p:cNvSpPr/>
              <p:nvPr/>
            </p:nvSpPr>
            <p:spPr>
              <a:xfrm>
                <a:off x="2178000" y="375948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99600" y="378072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19400" y="380088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19400" y="380088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2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38840" y="382032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38840" y="382032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f566c"/>
                  </a:gs>
                  <a:gs pos="100000">
                    <a:srgbClr val="21b3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178000" y="4444920"/>
            <a:ext cx="4756320" cy="507960"/>
            <a:chOff x="2178000" y="4444920"/>
            <a:chExt cx="4756320" cy="507960"/>
          </a:xfrm>
        </p:grpSpPr>
        <p:sp>
          <p:nvSpPr>
            <p:cNvPr id="116" name=""/>
            <p:cNvSpPr/>
            <p:nvPr/>
          </p:nvSpPr>
          <p:spPr>
            <a:xfrm>
              <a:off x="2514600" y="4444920"/>
              <a:ext cx="441972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5ad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178000" y="4546440"/>
              <a:ext cx="380880" cy="381240"/>
              <a:chOff x="2178000" y="4546440"/>
              <a:chExt cx="380880" cy="381240"/>
            </a:xfrm>
          </p:grpSpPr>
          <p:sp>
            <p:nvSpPr>
              <p:cNvPr id="118" name=""/>
              <p:cNvSpPr/>
              <p:nvPr/>
            </p:nvSpPr>
            <p:spPr>
              <a:xfrm>
                <a:off x="2178000" y="45464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99600" y="45676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19400" y="45878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19400" y="45878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38840" y="46072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38840" y="46072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44316c"/>
                  </a:gs>
                  <a:gs pos="100000">
                    <a:srgbClr val="8d67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2178000" y="5207040"/>
            <a:ext cx="4718160" cy="507960"/>
            <a:chOff x="2178000" y="5207040"/>
            <a:chExt cx="4718160" cy="507960"/>
          </a:xfrm>
        </p:grpSpPr>
        <p:sp>
          <p:nvSpPr>
            <p:cNvPr id="125" name=""/>
            <p:cNvSpPr/>
            <p:nvPr/>
          </p:nvSpPr>
          <p:spPr>
            <a:xfrm>
              <a:off x="2476440" y="5207040"/>
              <a:ext cx="441972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178000" y="5256360"/>
              <a:ext cx="355680" cy="380880"/>
              <a:chOff x="2178000" y="5256360"/>
              <a:chExt cx="35568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8000" y="5256360"/>
                <a:ext cx="3556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98160" y="5277600"/>
                <a:ext cx="31500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16520" y="5297760"/>
                <a:ext cx="2779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16520" y="5297760"/>
                <a:ext cx="277920" cy="298080"/>
              </a:xfrm>
              <a:prstGeom prst="ellipse">
                <a:avLst/>
              </a:prstGeom>
              <a:gradFill rotWithShape="0">
                <a:gsLst>
                  <a:gs pos="0">
                    <a:srgbClr val="e35e2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4880" y="5317200"/>
                <a:ext cx="241560" cy="25884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34880" y="5317200"/>
                <a:ext cx="241560" cy="258840"/>
              </a:xfrm>
              <a:prstGeom prst="ellipse">
                <a:avLst/>
              </a:prstGeom>
              <a:gradFill rotWithShape="0">
                <a:gsLst>
                  <a:gs pos="0">
                    <a:srgbClr val="6d2d10"/>
                  </a:gs>
                  <a:gs pos="100000">
                    <a:srgbClr val="e35e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93FA-4825-49A4-941D-E3A9A1C843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2133360" y="44197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581280" y="838080"/>
            <a:ext cx="4953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ea7ea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ea7ea"/>
                  </a:gs>
                  <a:gs pos="100000">
                    <a:srgbClr val="0000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4800" y="1828800"/>
            <a:ext cx="77886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41008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62720" y="3505320"/>
            <a:ext cx="2286000" cy="2666880"/>
            <a:chOff x="5562720" y="3505320"/>
            <a:chExt cx="2286000" cy="2666880"/>
          </a:xfrm>
        </p:grpSpPr>
        <p:sp>
          <p:nvSpPr>
            <p:cNvPr id="138" name=""/>
            <p:cNvSpPr/>
            <p:nvPr/>
          </p:nvSpPr>
          <p:spPr>
            <a:xfrm>
              <a:off x="556272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370044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43000" y="3505320"/>
            <a:ext cx="2286000" cy="2666880"/>
            <a:chOff x="1143000" y="3505320"/>
            <a:chExt cx="2286000" cy="2666880"/>
          </a:xfrm>
        </p:grpSpPr>
        <p:sp>
          <p:nvSpPr>
            <p:cNvPr id="141" name=""/>
            <p:cNvSpPr/>
            <p:nvPr/>
          </p:nvSpPr>
          <p:spPr>
            <a:xfrm>
              <a:off x="114300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3705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9d690"/>
              </a:gs>
              <a:gs pos="100000">
                <a:srgbClr val="93c0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48120" y="1781280"/>
            <a:ext cx="2998440" cy="1601280"/>
            <a:chOff x="3048120" y="1781280"/>
            <a:chExt cx="2998440" cy="1601280"/>
          </a:xfrm>
        </p:grpSpPr>
        <p:grpSp>
          <p:nvGrpSpPr>
            <p:cNvPr id="146" name=""/>
            <p:cNvGrpSpPr/>
            <p:nvPr/>
          </p:nvGrpSpPr>
          <p:grpSpPr>
            <a:xfrm>
              <a:off x="3048120" y="1781280"/>
              <a:ext cx="2998440" cy="1601280"/>
              <a:chOff x="3048120" y="1781280"/>
              <a:chExt cx="2998440" cy="16012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048120" y="1924200"/>
                <a:ext cx="2998440" cy="1458360"/>
                <a:chOff x="3048120" y="1924200"/>
                <a:chExt cx="2998440" cy="1458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080880" y="19706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19242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3189240" y="17812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ea7ea"/>
                  </a:gs>
                  <a:gs pos="100000">
                    <a:srgbClr val="234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24160" y="17892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0dff6"/>
                  </a:gs>
                  <a:gs pos="100000">
                    <a:srgbClr val="4ea7ea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51160" y="18018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ea7ea">
                      <a:alpha val="48235"/>
                    </a:srgbClr>
                  </a:gs>
                  <a:gs pos="100000">
                    <a:srgbClr val="3d83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82920" y="18288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ea7ea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882960" y="19814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157" name="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46e2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>
                    <a:alpha val="0"/>
                  </a:srgbClr>
                </a:gs>
                <a:gs pos="100000">
                  <a:srgbClr val="c9df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e9c4"/>
                </a:gs>
                <a:gs pos="100000">
                  <a:srgbClr val="93c05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>
                    <a:alpha val="0"/>
                  </a:srgbClr>
                </a:gs>
                <a:gs pos="100000">
                  <a:srgbClr val="c3db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165" name="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d2964"/>
                </a:gs>
                <a:gs pos="100000">
                  <a:srgbClr val="855ada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168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5ada">
                      <a:alpha val="0"/>
                    </a:srgbClr>
                  </a:gs>
                  <a:gs pos="100000">
                    <a:srgbClr val="cab8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ab8ee"/>
                  </a:gs>
                  <a:gs pos="100000">
                    <a:srgbClr val="855ad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5ada"/>
                </a:gs>
                <a:gs pos="100000">
                  <a:srgbClr val="e8e0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74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c5c9a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176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75760" y="349596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99ff">
                      <a:alpha val="0"/>
                    </a:srgbClr>
                  </a:gs>
                  <a:gs pos="100000">
                    <a:srgbClr val="a4a4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75760" y="208044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cdcfe"/>
                  </a:gs>
                  <a:gs pos="100000">
                    <a:srgbClr val="9999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ebe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84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4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d1e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13320" y="3770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16600" y="245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26600" y="26924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34320" y="4692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4400" y="523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8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2048040"/>
            <a:ext cx="6477120" cy="4125960"/>
            <a:chOff x="1295280" y="2048040"/>
            <a:chExt cx="6477120" cy="4125960"/>
          </a:xfrm>
        </p:grpSpPr>
        <p:sp>
          <p:nvSpPr>
            <p:cNvPr id="202" name=""/>
            <p:cNvSpPr/>
            <p:nvPr/>
          </p:nvSpPr>
          <p:spPr>
            <a:xfrm>
              <a:off x="3759120" y="435312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9120" y="3846600"/>
              <a:ext cx="1549440" cy="57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59120" y="334044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5040" y="3559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5040" y="4065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35040" y="457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5520" y="3122640"/>
              <a:ext cx="492120" cy="1954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5280" y="26164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65120" y="28339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3280" y="26164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53120" y="28339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51480" y="3122640"/>
              <a:ext cx="490320" cy="1954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55680" y="2048040"/>
              <a:ext cx="2816280" cy="57960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34c6b"/>
                </a:gs>
                <a:gs pos="50000">
                  <a:srgbClr val="4ea7ea"/>
                </a:gs>
                <a:gs pos="100000">
                  <a:srgbClr val="234c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28880" y="27608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3080" y="2259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25520" y="5585040"/>
              <a:ext cx="2816280" cy="5778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3080" y="5805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08360" y="5005440"/>
              <a:ext cx="162252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8080" y="1905120"/>
            <a:ext cx="7383960" cy="4420800"/>
            <a:chOff x="838080" y="1905120"/>
            <a:chExt cx="7383960" cy="4420800"/>
          </a:xfrm>
        </p:grpSpPr>
        <p:grpSp>
          <p:nvGrpSpPr>
            <p:cNvPr id="222" name=""/>
            <p:cNvGrpSpPr/>
            <p:nvPr/>
          </p:nvGrpSpPr>
          <p:grpSpPr>
            <a:xfrm>
              <a:off x="2361960" y="1905120"/>
              <a:ext cx="4419360" cy="4376160"/>
              <a:chOff x="2361960" y="1905120"/>
              <a:chExt cx="4419360" cy="4376160"/>
            </a:xfrm>
          </p:grpSpPr>
          <p:sp>
            <p:nvSpPr>
              <p:cNvPr id="223" name="Puzzle3"/>
              <p:cNvSpPr/>
              <p:nvPr/>
            </p:nvSpPr>
            <p:spPr>
              <a:xfrm>
                <a:off x="4513680" y="19051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16994"/>
                  </a:gs>
                  <a:gs pos="100000">
                    <a:srgbClr val="4ea7e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Puzzle2"/>
              <p:cNvSpPr/>
              <p:nvPr/>
            </p:nvSpPr>
            <p:spPr>
              <a:xfrm>
                <a:off x="4008960" y="35992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cde1af"/>
                  </a:gs>
                  <a:gs pos="100000">
                    <a:srgbClr val="93c052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Puzzle4"/>
              <p:cNvSpPr/>
              <p:nvPr/>
            </p:nvSpPr>
            <p:spPr>
              <a:xfrm>
                <a:off x="2935800" y="35733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9c9fe"/>
                  </a:gs>
                  <a:gs pos="100000">
                    <a:srgbClr val="9999ff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Puzzle1"/>
              <p:cNvSpPr/>
              <p:nvPr/>
            </p:nvSpPr>
            <p:spPr>
              <a:xfrm>
                <a:off x="2361960" y="26085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3d2964"/>
                  </a:gs>
                  <a:gs pos="100000">
                    <a:srgbClr val="855ada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6477840" y="42811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3671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560" y="19810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59576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33" name=""/>
            <p:cNvSpPr/>
            <p:nvPr/>
          </p:nvSpPr>
          <p:spPr>
            <a:xfrm>
              <a:off x="7834320" y="2286000"/>
              <a:ext cx="5760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ea7ea"/>
                </a:gs>
                <a:gs pos="100000">
                  <a:srgbClr val="234c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3320" y="311796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73680" y="3949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435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2360" y="4776840"/>
              <a:ext cx="408132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872640" y="2276640"/>
              <a:ext cx="5033880" cy="3324240"/>
              <a:chOff x="872640" y="2276640"/>
              <a:chExt cx="5033880" cy="332424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873000" y="5599440"/>
                <a:ext cx="165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24720" y="26006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24720" y="34275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24720" y="42912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24720" y="50976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84560" y="2440080"/>
                <a:ext cx="183816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a7ea"/>
                  </a:gs>
                  <a:gs pos="100000">
                    <a:srgbClr val="234c6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079960" y="2827440"/>
              <a:ext cx="2766960" cy="304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6060a1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44760" y="3657600"/>
              <a:ext cx="3016440" cy="298440"/>
            </a:xfrm>
            <a:prstGeom prst="rect">
              <a:avLst/>
            </a:prstGeom>
            <a:gradFill rotWithShape="0">
              <a:gsLst>
                <a:gs pos="0">
                  <a:srgbClr val="4ea7ea"/>
                </a:gs>
                <a:gs pos="50000">
                  <a:srgbClr val="336e9b"/>
                </a:gs>
                <a:gs pos="100000">
                  <a:srgbClr val="4ea7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9280" y="3949920"/>
              <a:ext cx="383400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5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22520" y="44928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855ada"/>
                </a:gs>
                <a:gs pos="50000">
                  <a:srgbClr val="60419d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560" y="5318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93c052"/>
                </a:gs>
                <a:gs pos="50000">
                  <a:srgbClr val="3e5122"/>
                </a:gs>
                <a:gs pos="100000">
                  <a:srgbClr val="93c0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1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