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3FB-FD17-4F7E-8BE2-216417DC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676-8683-4AD2-899A-AE7C08A3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D2A-6DC8-4B0E-95C9-2B76CC90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39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33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3488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39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533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257-4A57-43AA-83C3-44128933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537-18D7-4E38-B6CF-618A33E9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A77-203D-41D6-BEC2-8E9FE0A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794-3BA2-4C39-ACA8-8CE78904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6CD5-B757-4553-A5C2-0EE7C951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5F8C-22DE-40F1-B56D-B46FEC3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34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B9C7-ECE7-45F5-9C9F-B477E9C2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3671-91B5-4E0A-9644-1219C69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CF7-FBF2-452A-B598-8484D27E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D26C-E5F8-4374-8356-8E42253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191-C8B7-4B9E-8D19-411C90D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35C-4E7E-46AC-9E11-CB4D90A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FD6D-D9F3-484C-A8A6-84438D7E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39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33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3488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439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533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1066-3AE5-4175-857C-1C0F6646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DD9-63A6-4794-9FF4-A39F9E35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7AB-ABF6-4CDB-9A9A-13CE5AB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D9E-23C8-4015-9A56-5594BED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4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512-D4A9-4526-9CD8-381E3593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D58-76EE-4A51-8660-00DDC0C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36E-78CE-44DE-A72F-928CC73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184-46C3-4436-A74D-0D7DC216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F44B-1E5A-4334-A918-390C53890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328B-1FCB-460C-9449-71CEBBD6C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会议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6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A644-01BA-406F-ACCB-1AEEBAC094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0" y="6072120"/>
            <a:ext cx="2857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714760" y="62866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492280"/>
            <a:ext cx="59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5242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幻灯片之家：www.eeppt.com</dc:creator>
  <dc:description/>
  <cp:keywords>幻灯片之家：www.eeppt.com</cp:keywords>
  <dc:language>en-US</dc:language>
  <cp:lastModifiedBy/>
  <dcterms:modified xsi:type="dcterms:W3CDTF">2015-09-18T13:18:0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