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4245-729B-4B3E-BBBA-9B0E19E3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447920" y="40885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E6D-0B63-484C-B3D9-B8BA782A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27880" y="3809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447920" y="4088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27880" y="4088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71F-4FC3-4CF1-ABF3-EDA9C206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11880" y="3809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776200" y="3809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447920" y="4088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611880" y="4088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776200" y="4088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8B6B-2B76-4DCF-BF89-7179B059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8391-A89C-4ABB-9973-4C2781F0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447920" y="3809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FDBA-AFF2-4C4E-90A9-C59486CA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DFEE-E552-4FFA-AC2D-8A74C253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27880" y="3809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4A0E-B9E4-4807-86FE-B1A4EF2E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3E05-37C7-482B-9FF3-0EEE14A4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520" y="1460160"/>
            <a:ext cx="815328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4483-62E6-445D-8DEA-B6DC8E19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27880" y="3809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7920" y="4088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39B7-8528-4CC7-B156-F6B3EE49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447920" y="3809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C8AD-C107-4D04-B972-870C043F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27880" y="3809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27880" y="4088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681F-5343-4E5D-AD52-255095A4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27880" y="3809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47920" y="40885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7D69-C962-4E44-8773-AFE08BE2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447920" y="40885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1FE4-63EA-4304-9796-596DBE0B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27880" y="3809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447920" y="4088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27880" y="4088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C145-B7E5-4DDB-B71E-E9C794E5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611880" y="3809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776200" y="3809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447920" y="4088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611880" y="4088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776200" y="4088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A5B9-2BF6-4019-BCF5-A0FA163E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315-4464-4108-994B-95D2EC6A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27880" y="3809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7B9-19BD-40F8-A211-9090FE65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D73-6118-4F63-9EB0-C5F7E9AB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33520" y="1460160"/>
            <a:ext cx="815328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2AA6-9BE8-4567-8257-2D7142AC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3809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4088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BB8-5EF6-4E00-A6A5-C23AD307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27880" y="3809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27880" y="4088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D673-E51E-4A21-93DE-E488F5A9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27880" y="3809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47920" y="40885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2198-BA49-46B0-B5EA-FE209571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438880"/>
            <a:ext cx="9144000" cy="1419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d0d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5560" y="76320"/>
            <a:ext cx="8534160" cy="1358640"/>
          </a:xfrm>
          <a:prstGeom prst="ellipse">
            <a:avLst/>
          </a:prstGeom>
          <a:gradFill rotWithShape="0">
            <a:gsLst>
              <a:gs pos="0">
                <a:srgbClr val="5353ff"/>
              </a:gs>
              <a:gs pos="100000">
                <a:srgbClr val="0d0d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72720" y="65527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17184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Gulim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8B3D-E2AD-449B-92C4-69262270B3C8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901800"/>
            <a:ext cx="9144000" cy="535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c8f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9ac8f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ab3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c8f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9ac8f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535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c8f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9ac8f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c8f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9ac8f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d0d7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c8f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9ac8f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c8f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9ac8f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c8f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9ac8fa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"/>
          <p:cNvSpPr/>
          <p:nvPr/>
        </p:nvSpPr>
        <p:spPr>
          <a:xfrm flipH="1" rot="19726200">
            <a:off x="7740000" y="234720"/>
            <a:ext cx="1730160" cy="760320"/>
          </a:xfrm>
          <a:prstGeom prst="blockArc">
            <a:avLst>
              <a:gd name="adj1" fmla="val 13640447"/>
              <a:gd name="adj2" fmla="val 18759553"/>
              <a:gd name="adj3" fmla="val 10569"/>
            </a:avLst>
          </a:prstGeom>
          <a:gradFill rotWithShape="0">
            <a:gsLst>
              <a:gs pos="0">
                <a:srgbClr val="9ac8fa"/>
              </a:gs>
              <a:gs pos="100000">
                <a:srgbClr val="5353ff"/>
              </a:gs>
            </a:gsLst>
            <a:lin ang="8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8258040" y="120600"/>
            <a:ext cx="376200" cy="376200"/>
            <a:chOff x="8258040" y="120600"/>
            <a:chExt cx="376200" cy="376200"/>
          </a:xfrm>
        </p:grpSpPr>
        <p:sp>
          <p:nvSpPr>
            <p:cNvPr id="11" name=""/>
            <p:cNvSpPr/>
            <p:nvPr/>
          </p:nvSpPr>
          <p:spPr>
            <a:xfrm>
              <a:off x="8258040" y="120600"/>
              <a:ext cx="376200" cy="376200"/>
            </a:xfrm>
            <a:prstGeom prst="ellipse">
              <a:avLst/>
            </a:prstGeom>
            <a:solidFill>
              <a:srgbClr val="39a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61360" y="241200"/>
              <a:ext cx="209520" cy="209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9ab3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rot="19033200">
              <a:off x="8289360" y="178920"/>
              <a:ext cx="158760" cy="8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9ab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748640" y="566640"/>
            <a:ext cx="479520" cy="479520"/>
            <a:chOff x="7748640" y="566640"/>
            <a:chExt cx="479520" cy="479520"/>
          </a:xfrm>
        </p:grpSpPr>
        <p:sp>
          <p:nvSpPr>
            <p:cNvPr id="15" name=""/>
            <p:cNvSpPr/>
            <p:nvPr/>
          </p:nvSpPr>
          <p:spPr>
            <a:xfrm>
              <a:off x="7748640" y="566640"/>
              <a:ext cx="479520" cy="479520"/>
            </a:xfrm>
            <a:prstGeom prst="ellipse">
              <a:avLst/>
            </a:prstGeom>
            <a:solidFill>
              <a:srgbClr val="4d8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880400" y="720720"/>
              <a:ext cx="266760" cy="26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d8d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9033200">
              <a:off x="7787880" y="640800"/>
              <a:ext cx="203400" cy="11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d8d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8881920" y="0"/>
            <a:ext cx="247680" cy="247680"/>
            <a:chOff x="8881920" y="0"/>
            <a:chExt cx="247680" cy="247680"/>
          </a:xfrm>
        </p:grpSpPr>
        <p:sp>
          <p:nvSpPr>
            <p:cNvPr id="19" name=""/>
            <p:cNvSpPr/>
            <p:nvPr/>
          </p:nvSpPr>
          <p:spPr>
            <a:xfrm>
              <a:off x="8881920" y="0"/>
              <a:ext cx="247680" cy="247680"/>
            </a:xfrm>
            <a:prstGeom prst="ellipse">
              <a:avLst/>
            </a:prstGeom>
            <a:solidFill>
              <a:srgbClr val="9ac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950320" y="79200"/>
              <a:ext cx="1364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ac8f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9033200">
              <a:off x="8902440" y="37800"/>
              <a:ext cx="104760" cy="57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ac8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876240"/>
            <a:ext cx="9144000" cy="63720"/>
          </a:xfrm>
          <a:prstGeom prst="rect">
            <a:avLst/>
          </a:prstGeom>
          <a:gradFill rotWithShape="0">
            <a:gsLst>
              <a:gs pos="0">
                <a:srgbClr val="0d0d79"/>
              </a:gs>
              <a:gs pos="100000">
                <a:srgbClr val="9ac8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d0d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22400" y="336600"/>
            <a:ext cx="7074000" cy="6184800"/>
          </a:xfrm>
          <a:prstGeom prst="ellipse">
            <a:avLst/>
          </a:prstGeom>
          <a:gradFill rotWithShape="0">
            <a:gsLst>
              <a:gs pos="0">
                <a:srgbClr val="5353ff"/>
              </a:gs>
              <a:gs pos="100000">
                <a:srgbClr val="0d0d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600" y="9684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8dff"/>
                </a:solidFill>
                <a:latin typeface="Lucida Sans Unicode"/>
                <a:ea typeface="Gulim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782880"/>
            <a:ext cx="9144000" cy="1663920"/>
          </a:xfrm>
          <a:prstGeom prst="rect">
            <a:avLst/>
          </a:prstGeom>
          <a:gradFill rotWithShape="0">
            <a:gsLst>
              <a:gs pos="0">
                <a:srgbClr val="5353ff"/>
              </a:gs>
              <a:gs pos="100000">
                <a:srgbClr val="0d0d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384880"/>
            <a:ext cx="9144000" cy="1460520"/>
          </a:xfrm>
          <a:prstGeom prst="rect">
            <a:avLst/>
          </a:prstGeom>
          <a:gradFill rotWithShape="0">
            <a:gsLst>
              <a:gs pos="0">
                <a:srgbClr val="0d0d79"/>
              </a:gs>
              <a:gs pos="100000">
                <a:srgbClr val="9ac8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25960" y="4775040"/>
            <a:ext cx="2663640" cy="508320"/>
          </a:xfrm>
          <a:prstGeom prst="ellipse">
            <a:avLst/>
          </a:prstGeom>
          <a:gradFill rotWithShape="0">
            <a:gsLst>
              <a:gs pos="0">
                <a:srgbClr val="262675"/>
              </a:gs>
              <a:gs pos="50000">
                <a:srgbClr val="5353ff"/>
              </a:gs>
              <a:gs pos="100000">
                <a:srgbClr val="262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 rot="20754600">
            <a:off x="1917720" y="3590640"/>
            <a:ext cx="5991120" cy="2282760"/>
          </a:xfrm>
          <a:prstGeom prst="donut">
            <a:avLst>
              <a:gd name="adj" fmla="val 3069"/>
            </a:avLst>
          </a:prstGeom>
          <a:gradFill rotWithShape="0">
            <a:gsLst>
              <a:gs pos="0">
                <a:srgbClr val="0d0d79"/>
              </a:gs>
              <a:gs pos="50000">
                <a:srgbClr val="5353ff"/>
              </a:gs>
              <a:gs pos="100000">
                <a:srgbClr val="0d0d79"/>
              </a:gs>
            </a:gsLst>
            <a:lin ang="116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7C0B-5ABE-40BE-8347-9893B5D298F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03840" y="5181480"/>
            <a:ext cx="1714680" cy="381240"/>
          </a:xfrm>
          <a:prstGeom prst="ellipse">
            <a:avLst/>
          </a:prstGeom>
          <a:gradFill rotWithShape="0">
            <a:gsLst>
              <a:gs pos="0">
                <a:srgbClr val="262675"/>
              </a:gs>
              <a:gs pos="50000">
                <a:srgbClr val="5353ff"/>
              </a:gs>
              <a:gs pos="100000">
                <a:srgbClr val="262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6324480"/>
            <a:ext cx="2050920" cy="444600"/>
          </a:xfrm>
          <a:prstGeom prst="ellipse">
            <a:avLst/>
          </a:prstGeom>
          <a:gradFill rotWithShape="0">
            <a:gsLst>
              <a:gs pos="0">
                <a:srgbClr val="4d8dff"/>
              </a:gs>
              <a:gs pos="50000">
                <a:srgbClr val="9ac8fa"/>
              </a:gs>
              <a:gs pos="100000">
                <a:srgbClr val="4d8d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5397480"/>
            <a:ext cx="9144000" cy="1434960"/>
            <a:chOff x="0" y="5397480"/>
            <a:chExt cx="9144000" cy="1434960"/>
          </a:xfrm>
        </p:grpSpPr>
        <p:sp>
          <p:nvSpPr>
            <p:cNvPr id="73" name=""/>
            <p:cNvSpPr/>
            <p:nvPr/>
          </p:nvSpPr>
          <p:spPr>
            <a:xfrm>
              <a:off x="0" y="6692760"/>
              <a:ext cx="9144000" cy="0"/>
            </a:xfrm>
            <a:prstGeom prst="line">
              <a:avLst/>
            </a:prstGeom>
            <a:ln w="3816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566040"/>
              <a:ext cx="9144000" cy="0"/>
            </a:xfrm>
            <a:prstGeom prst="line">
              <a:avLst/>
            </a:prstGeom>
            <a:ln w="3816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451560"/>
              <a:ext cx="9144000" cy="0"/>
            </a:xfrm>
            <a:prstGeom prst="line">
              <a:avLst/>
            </a:prstGeom>
            <a:ln w="3816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6337440"/>
              <a:ext cx="9144000" cy="0"/>
            </a:xfrm>
            <a:prstGeom prst="line">
              <a:avLst/>
            </a:prstGeom>
            <a:ln w="3816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6222960"/>
              <a:ext cx="9144000" cy="0"/>
            </a:xfrm>
            <a:prstGeom prst="line">
              <a:avLst/>
            </a:prstGeom>
            <a:ln w="3816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6127560"/>
              <a:ext cx="9144000" cy="0"/>
            </a:xfrm>
            <a:prstGeom prst="line">
              <a:avLst/>
            </a:prstGeom>
            <a:ln w="3816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6032520"/>
              <a:ext cx="9144000" cy="0"/>
            </a:xfrm>
            <a:prstGeom prst="line">
              <a:avLst/>
            </a:prstGeom>
            <a:ln w="3816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5943600"/>
              <a:ext cx="9144000" cy="0"/>
            </a:xfrm>
            <a:prstGeom prst="line">
              <a:avLst/>
            </a:prstGeom>
            <a:ln w="3816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5867280"/>
              <a:ext cx="9144000" cy="0"/>
            </a:xfrm>
            <a:prstGeom prst="line">
              <a:avLst/>
            </a:prstGeom>
            <a:ln w="3816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5791320"/>
              <a:ext cx="9144000" cy="0"/>
            </a:xfrm>
            <a:prstGeom prst="line">
              <a:avLst/>
            </a:prstGeom>
            <a:ln w="3816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715000"/>
              <a:ext cx="9144000" cy="0"/>
            </a:xfrm>
            <a:prstGeom prst="line">
              <a:avLst/>
            </a:prstGeom>
            <a:ln w="3816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651640"/>
              <a:ext cx="9144000" cy="0"/>
            </a:xfrm>
            <a:prstGeom prst="line">
              <a:avLst/>
            </a:prstGeom>
            <a:ln w="2844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587920"/>
              <a:ext cx="9144000" cy="0"/>
            </a:xfrm>
            <a:prstGeom prst="line">
              <a:avLst/>
            </a:prstGeom>
            <a:ln w="2844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524560"/>
              <a:ext cx="9144000" cy="0"/>
            </a:xfrm>
            <a:prstGeom prst="line">
              <a:avLst/>
            </a:prstGeom>
            <a:ln w="2844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460840"/>
              <a:ext cx="9144000" cy="0"/>
            </a:xfrm>
            <a:prstGeom prst="line">
              <a:avLst/>
            </a:prstGeom>
            <a:ln w="2844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5397480"/>
              <a:ext cx="9144000" cy="0"/>
            </a:xfrm>
            <a:prstGeom prst="line">
              <a:avLst/>
            </a:prstGeom>
            <a:ln w="2844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832440"/>
              <a:ext cx="9144000" cy="0"/>
            </a:xfrm>
            <a:prstGeom prst="line">
              <a:avLst/>
            </a:prstGeom>
            <a:ln w="3816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0" y="3819600"/>
            <a:ext cx="9144000" cy="1523880"/>
            <a:chOff x="0" y="3819600"/>
            <a:chExt cx="9144000" cy="1523880"/>
          </a:xfrm>
        </p:grpSpPr>
        <p:sp>
          <p:nvSpPr>
            <p:cNvPr id="91" name=""/>
            <p:cNvSpPr/>
            <p:nvPr/>
          </p:nvSpPr>
          <p:spPr>
            <a:xfrm>
              <a:off x="0" y="5343480"/>
              <a:ext cx="9144000" cy="0"/>
            </a:xfrm>
            <a:prstGeom prst="line">
              <a:avLst/>
            </a:prstGeom>
            <a:ln w="2844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3056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526752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522936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519120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15304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1148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0770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503892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500076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96260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492444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8862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8484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81032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77216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73400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69584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6576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46198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458172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454356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450540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446724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44290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43912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435312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431496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427680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423864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42004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0" y="41626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412452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408636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404820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401004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39718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39340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389592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385776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381960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0" y="3758760"/>
            <a:ext cx="9131040" cy="787320"/>
            <a:chOff x="0" y="3758760"/>
            <a:chExt cx="9131040" cy="787320"/>
          </a:xfrm>
        </p:grpSpPr>
        <p:grpSp>
          <p:nvGrpSpPr>
            <p:cNvPr id="133" name=""/>
            <p:cNvGrpSpPr/>
            <p:nvPr/>
          </p:nvGrpSpPr>
          <p:grpSpPr>
            <a:xfrm>
              <a:off x="0" y="3758760"/>
              <a:ext cx="4495680" cy="787320"/>
              <a:chOff x="0" y="3758760"/>
              <a:chExt cx="4495680" cy="78732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0" y="3758760"/>
                <a:ext cx="4419720" cy="78732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0" y="3759120"/>
                <a:ext cx="4419720" cy="71136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0" y="3759120"/>
                <a:ext cx="4444920" cy="59688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0" y="3771360"/>
                <a:ext cx="4444920" cy="48276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0" y="3759120"/>
                <a:ext cx="4444920" cy="39384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0" y="3771720"/>
                <a:ext cx="4457880" cy="29232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0" y="3784680"/>
                <a:ext cx="4457880" cy="20304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0" y="3771720"/>
                <a:ext cx="4457880" cy="13968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0" y="3771360"/>
                <a:ext cx="4495680" cy="6372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4635360" y="3758760"/>
              <a:ext cx="4495680" cy="787320"/>
              <a:chOff x="4635360" y="3758760"/>
              <a:chExt cx="4495680" cy="787320"/>
            </a:xfrm>
          </p:grpSpPr>
          <p:sp>
            <p:nvSpPr>
              <p:cNvPr id="144" name=""/>
              <p:cNvSpPr/>
              <p:nvPr/>
            </p:nvSpPr>
            <p:spPr>
              <a:xfrm flipH="1" flipV="1">
                <a:off x="4711320" y="3758760"/>
                <a:ext cx="4419720" cy="78732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4711320" y="3759120"/>
                <a:ext cx="4419720" cy="71136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flipV="1">
                <a:off x="4686120" y="3759120"/>
                <a:ext cx="4444920" cy="59688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flipV="1">
                <a:off x="4686120" y="3771360"/>
                <a:ext cx="4444920" cy="48276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flipV="1">
                <a:off x="4686120" y="3759120"/>
                <a:ext cx="4444920" cy="39384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flipV="1">
                <a:off x="4673160" y="3771720"/>
                <a:ext cx="4457880" cy="29232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4673160" y="3784680"/>
                <a:ext cx="4457880" cy="20304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>
                <a:off x="4673160" y="3771720"/>
                <a:ext cx="4457880" cy="13968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4635360" y="3771360"/>
                <a:ext cx="4495680" cy="6372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-360" y="3771000"/>
            <a:ext cx="9144360" cy="3049920"/>
            <a:chOff x="-360" y="3771000"/>
            <a:chExt cx="9144360" cy="3049920"/>
          </a:xfrm>
        </p:grpSpPr>
        <p:sp>
          <p:nvSpPr>
            <p:cNvPr id="154" name=""/>
            <p:cNvSpPr/>
            <p:nvPr/>
          </p:nvSpPr>
          <p:spPr>
            <a:xfrm>
              <a:off x="4572000" y="3772080"/>
              <a:ext cx="228600" cy="304776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750120" y="3771000"/>
              <a:ext cx="830880" cy="304992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819520" y="3772080"/>
              <a:ext cx="1676160" cy="304776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828440" y="3772080"/>
              <a:ext cx="2590920" cy="304776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762120" y="3772080"/>
              <a:ext cx="3657600" cy="304776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-360" y="3772080"/>
              <a:ext cx="4419720" cy="289512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-360" y="3772080"/>
              <a:ext cx="4419720" cy="236196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-360" y="3772080"/>
              <a:ext cx="4419720" cy="198072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-360" y="3772080"/>
              <a:ext cx="4419720" cy="1676160"/>
            </a:xfrm>
            <a:prstGeom prst="line">
              <a:avLst/>
            </a:prstGeom>
            <a:ln w="2844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-360" y="3772080"/>
              <a:ext cx="4419720" cy="1447560"/>
            </a:xfrm>
            <a:prstGeom prst="line">
              <a:avLst/>
            </a:prstGeom>
            <a:ln w="2844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-360" y="3772080"/>
              <a:ext cx="4419720" cy="1294920"/>
            </a:xfrm>
            <a:prstGeom prst="line">
              <a:avLst/>
            </a:prstGeom>
            <a:ln w="1260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-360" y="3772080"/>
              <a:ext cx="4419720" cy="1142640"/>
            </a:xfrm>
            <a:prstGeom prst="line">
              <a:avLst/>
            </a:prstGeom>
            <a:ln w="1260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-360" y="3772080"/>
              <a:ext cx="4419720" cy="990360"/>
            </a:xfrm>
            <a:prstGeom prst="line">
              <a:avLst/>
            </a:prstGeom>
            <a:ln w="1260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-360" y="3772080"/>
              <a:ext cx="4419720" cy="914040"/>
            </a:xfrm>
            <a:prstGeom prst="line">
              <a:avLst/>
            </a:prstGeom>
            <a:ln w="1260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0" y="3772080"/>
              <a:ext cx="4495680" cy="837720"/>
            </a:xfrm>
            <a:prstGeom prst="line">
              <a:avLst/>
            </a:prstGeom>
            <a:ln w="93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0" y="3772080"/>
              <a:ext cx="1219320" cy="304776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8320" y="3772080"/>
              <a:ext cx="2133360" cy="304776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24280" y="3772080"/>
              <a:ext cx="3048120" cy="304776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3772080"/>
              <a:ext cx="4038840" cy="304776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24280" y="3772080"/>
              <a:ext cx="4419720" cy="266652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00600" y="3772080"/>
              <a:ext cx="4343400" cy="220932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3772080"/>
              <a:ext cx="4343400" cy="190476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76920" y="3772080"/>
              <a:ext cx="4267080" cy="167616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52880" y="3772080"/>
              <a:ext cx="4191120" cy="1447560"/>
            </a:xfrm>
            <a:prstGeom prst="line">
              <a:avLst/>
            </a:prstGeom>
            <a:ln w="2844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52880" y="3772080"/>
              <a:ext cx="4191120" cy="1294920"/>
            </a:xfrm>
            <a:prstGeom prst="line">
              <a:avLst/>
            </a:prstGeom>
            <a:ln w="2844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29200" y="3772080"/>
              <a:ext cx="4114800" cy="1142640"/>
            </a:xfrm>
            <a:prstGeom prst="line">
              <a:avLst/>
            </a:prstGeom>
            <a:ln w="1260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05520" y="3772080"/>
              <a:ext cx="4038480" cy="1066320"/>
            </a:xfrm>
            <a:prstGeom prst="line">
              <a:avLst/>
            </a:prstGeom>
            <a:ln w="1260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3772080"/>
              <a:ext cx="4191120" cy="914040"/>
            </a:xfrm>
            <a:prstGeom prst="line">
              <a:avLst/>
            </a:prstGeom>
            <a:ln w="1260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20754600">
            <a:off x="1676520" y="3374640"/>
            <a:ext cx="5991120" cy="2282760"/>
          </a:xfrm>
          <a:prstGeom prst="donut">
            <a:avLst>
              <a:gd name="adj" fmla="val 3069"/>
            </a:avLst>
          </a:prstGeom>
          <a:gradFill rotWithShape="0">
            <a:gsLst>
              <a:gs pos="0">
                <a:srgbClr val="4d8dff"/>
              </a:gs>
              <a:gs pos="100000">
                <a:srgbClr val="ffffff"/>
              </a:gs>
            </a:gsLst>
            <a:lin ang="8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001880" y="4203720"/>
            <a:ext cx="2057040" cy="2057040"/>
            <a:chOff x="1001880" y="4203720"/>
            <a:chExt cx="2057040" cy="2057040"/>
          </a:xfrm>
        </p:grpSpPr>
        <p:sp>
          <p:nvSpPr>
            <p:cNvPr id="184" name=""/>
            <p:cNvSpPr/>
            <p:nvPr/>
          </p:nvSpPr>
          <p:spPr>
            <a:xfrm>
              <a:off x="1001880" y="4203720"/>
              <a:ext cx="2057040" cy="2057040"/>
            </a:xfrm>
            <a:prstGeom prst="ellipse">
              <a:avLst/>
            </a:prstGeom>
            <a:solidFill>
              <a:srgbClr val="39a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68160" y="4865400"/>
              <a:ext cx="1139040" cy="1139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9ab3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9033200">
              <a:off x="1172880" y="4521960"/>
              <a:ext cx="866160" cy="477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9ab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343320" y="2127240"/>
            <a:ext cx="2440080" cy="2440080"/>
            <a:chOff x="3343320" y="2127240"/>
            <a:chExt cx="2440080" cy="2440080"/>
          </a:xfrm>
        </p:grpSpPr>
        <p:sp>
          <p:nvSpPr>
            <p:cNvPr id="188" name=""/>
            <p:cNvSpPr/>
            <p:nvPr/>
          </p:nvSpPr>
          <p:spPr>
            <a:xfrm>
              <a:off x="3343320" y="2127240"/>
              <a:ext cx="2440080" cy="2440080"/>
            </a:xfrm>
            <a:prstGeom prst="ellipse">
              <a:avLst/>
            </a:prstGeom>
            <a:solidFill>
              <a:srgbClr val="4d8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16520" y="2911320"/>
              <a:ext cx="1347840" cy="1352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d8d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9033200">
              <a:off x="3549600" y="2503080"/>
              <a:ext cx="1025640" cy="56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d8d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607080" y="3386160"/>
            <a:ext cx="1693800" cy="1693800"/>
            <a:chOff x="6607080" y="3386160"/>
            <a:chExt cx="1693800" cy="1693800"/>
          </a:xfrm>
        </p:grpSpPr>
        <p:sp>
          <p:nvSpPr>
            <p:cNvPr id="192" name=""/>
            <p:cNvSpPr/>
            <p:nvPr/>
          </p:nvSpPr>
          <p:spPr>
            <a:xfrm>
              <a:off x="6607080" y="3386160"/>
              <a:ext cx="1693800" cy="1693800"/>
            </a:xfrm>
            <a:prstGeom prst="ellipse">
              <a:avLst/>
            </a:prstGeom>
            <a:solidFill>
              <a:srgbClr val="9ac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73640" y="3930840"/>
              <a:ext cx="938520" cy="938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ac8f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9033200">
              <a:off x="6747840" y="3649320"/>
              <a:ext cx="714600" cy="392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ac8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5353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d0d79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360" y="774360"/>
            <a:ext cx="8115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Gulim"/>
              </a:rPr>
              <a:t>三维立体企业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320840" y="1371600"/>
            <a:ext cx="6477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c8fa"/>
                </a:solidFill>
                <a:latin typeface="Verdana"/>
                <a:ea typeface="Gulim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BE46-BA0F-4C41-80B9-236EED4E17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360" y="774360"/>
            <a:ext cx="8115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Thank You!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"/>
          <p:cNvSpPr/>
          <p:nvPr/>
        </p:nvSpPr>
        <p:spPr>
          <a:xfrm>
            <a:off x="1320840" y="1371600"/>
            <a:ext cx="6477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c8fa"/>
                </a:solidFill>
                <a:latin typeface="Verdana"/>
                <a:ea typeface="Gulim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9ac8f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79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d0d79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ac8f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35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53ff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9ac8f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d0d79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9ac8f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d0d79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ac8fa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66400" y="216000"/>
            <a:ext cx="83566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6400" y="216000"/>
            <a:ext cx="83566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549440" y="2043000"/>
            <a:ext cx="4651200" cy="623880"/>
            <a:chOff x="1549440" y="2043000"/>
            <a:chExt cx="4651200" cy="623880"/>
          </a:xfrm>
        </p:grpSpPr>
        <p:sp>
          <p:nvSpPr>
            <p:cNvPr id="239" name=""/>
            <p:cNvSpPr/>
            <p:nvPr/>
          </p:nvSpPr>
          <p:spPr>
            <a:xfrm>
              <a:off x="1549440" y="206856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49440" y="204300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9033200">
              <a:off x="1575000" y="213804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562040" y="2881440"/>
            <a:ext cx="4651200" cy="623880"/>
            <a:chOff x="1562040" y="2881440"/>
            <a:chExt cx="4651200" cy="623880"/>
          </a:xfrm>
        </p:grpSpPr>
        <p:sp>
          <p:nvSpPr>
            <p:cNvPr id="243" name=""/>
            <p:cNvSpPr/>
            <p:nvPr/>
          </p:nvSpPr>
          <p:spPr>
            <a:xfrm>
              <a:off x="1562040" y="290700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2040" y="288144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353ff"/>
                </a:gs>
                <a:gs pos="100000">
                  <a:srgbClr val="262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9033200">
              <a:off x="1587600" y="297648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3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549440" y="3745080"/>
            <a:ext cx="4651200" cy="623880"/>
            <a:chOff x="1549440" y="3745080"/>
            <a:chExt cx="4651200" cy="623880"/>
          </a:xfrm>
        </p:grpSpPr>
        <p:sp>
          <p:nvSpPr>
            <p:cNvPr id="247" name=""/>
            <p:cNvSpPr/>
            <p:nvPr/>
          </p:nvSpPr>
          <p:spPr>
            <a:xfrm>
              <a:off x="1549440" y="377064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49440" y="374508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9033200">
              <a:off x="1575000" y="384012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562040" y="4583160"/>
            <a:ext cx="4651200" cy="623880"/>
            <a:chOff x="1562040" y="4583160"/>
            <a:chExt cx="4651200" cy="623880"/>
          </a:xfrm>
        </p:grpSpPr>
        <p:sp>
          <p:nvSpPr>
            <p:cNvPr id="251" name=""/>
            <p:cNvSpPr/>
            <p:nvPr/>
          </p:nvSpPr>
          <p:spPr>
            <a:xfrm>
              <a:off x="1562040" y="460872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62040" y="458316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353ff"/>
                </a:gs>
                <a:gs pos="100000">
                  <a:srgbClr val="262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9033200">
              <a:off x="1587600" y="467820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3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1994040" y="2149560"/>
            <a:ext cx="3633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1. Int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006640" y="297504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2.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19240" y="3838680"/>
            <a:ext cx="3888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3. Challengers For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31840" y="467676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4. Con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12920" y="1432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d0d7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87520" y="1368360"/>
            <a:ext cx="8072280" cy="835200"/>
          </a:xfrm>
          <a:custGeom>
            <a:avLst/>
            <a:gdLst>
              <a:gd name="textAreaLeft" fmla="*/ 0 w 8072280"/>
              <a:gd name="textAreaRight" fmla="*/ 8072280 w 807228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85" y="0"/>
                </a:lnTo>
                <a:lnTo>
                  <a:pt x="21600" y="10800"/>
                </a:lnTo>
                <a:lnTo>
                  <a:pt x="2018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ac8f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0080" y="1809720"/>
            <a:ext cx="3610080" cy="4132440"/>
          </a:xfrm>
          <a:custGeom>
            <a:avLst/>
            <a:gdLst>
              <a:gd name="textAreaLeft" fmla="*/ 72720 w 3610080"/>
              <a:gd name="textAreaRight" fmla="*/ 3537360 w 3610080"/>
              <a:gd name="textAreaTop" fmla="*/ 72720 h 4132440"/>
              <a:gd name="textAreaBottom" fmla="*/ 4059720 h 4132440"/>
            </a:gdLst>
            <a:ahLst/>
            <a:rect l="textAreaLeft" t="textAreaTop" r="textAreaRight" b="textAreaBottom"/>
            <a:pathLst>
              <a:path w="21600" h="24725">
                <a:moveTo>
                  <a:pt x="1491" y="0"/>
                </a:moveTo>
                <a:arcTo wR="1491" hR="1491" stAng="16200000" swAng="-5400000"/>
                <a:lnTo>
                  <a:pt x="0" y="23234"/>
                </a:lnTo>
                <a:arcTo wR="1491" hR="1491" stAng="10800000" swAng="-5400000"/>
                <a:lnTo>
                  <a:pt x="20109" y="24725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952560" y="1500120"/>
            <a:ext cx="3136680" cy="623880"/>
            <a:chOff x="952560" y="1500120"/>
            <a:chExt cx="3136680" cy="623880"/>
          </a:xfrm>
        </p:grpSpPr>
        <p:sp>
          <p:nvSpPr>
            <p:cNvPr id="262" name=""/>
            <p:cNvSpPr/>
            <p:nvPr/>
          </p:nvSpPr>
          <p:spPr>
            <a:xfrm>
              <a:off x="952560" y="1525680"/>
              <a:ext cx="313488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52560" y="1500120"/>
              <a:ext cx="313668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9033200">
              <a:off x="977400" y="1595160"/>
              <a:ext cx="22644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397160" y="160668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91160" y="1805040"/>
            <a:ext cx="3609720" cy="4132080"/>
          </a:xfrm>
          <a:custGeom>
            <a:avLst/>
            <a:gdLst>
              <a:gd name="textAreaLeft" fmla="*/ 72720 w 3609720"/>
              <a:gd name="textAreaRight" fmla="*/ 3537000 w 3609720"/>
              <a:gd name="textAreaTop" fmla="*/ 72720 h 4132080"/>
              <a:gd name="textAreaBottom" fmla="*/ 4059360 h 4132080"/>
            </a:gdLst>
            <a:ahLst/>
            <a:rect l="textAreaLeft" t="textAreaTop" r="textAreaRight" b="textAreaBottom"/>
            <a:pathLst>
              <a:path w="21600" h="24725">
                <a:moveTo>
                  <a:pt x="1491" y="0"/>
                </a:moveTo>
                <a:arcTo wR="1491" hR="1491" stAng="16200000" swAng="-5400000"/>
                <a:lnTo>
                  <a:pt x="0" y="23234"/>
                </a:lnTo>
                <a:arcTo wR="1491" hR="1491" stAng="10800000" swAng="-5400000"/>
                <a:lnTo>
                  <a:pt x="20109" y="24725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d0d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913280" y="1495440"/>
            <a:ext cx="3137040" cy="623880"/>
            <a:chOff x="4913280" y="1495440"/>
            <a:chExt cx="3137040" cy="623880"/>
          </a:xfrm>
        </p:grpSpPr>
        <p:sp>
          <p:nvSpPr>
            <p:cNvPr id="268" name=""/>
            <p:cNvSpPr/>
            <p:nvPr/>
          </p:nvSpPr>
          <p:spPr>
            <a:xfrm>
              <a:off x="4913280" y="1521000"/>
              <a:ext cx="313524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913280" y="1495440"/>
              <a:ext cx="313704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353ff"/>
                </a:gs>
                <a:gs pos="100000">
                  <a:srgbClr val="262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9033200">
              <a:off x="4938840" y="159048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3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5357880" y="160164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66400" y="216000"/>
            <a:ext cx="83566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add tit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66400" y="216000"/>
            <a:ext cx="83566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add tit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 rot="20386800">
            <a:off x="1730160" y="1992240"/>
            <a:ext cx="5576760" cy="3129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4d8dff"/>
              </a:gs>
            </a:gsLst>
            <a:lin ang="14712000"/>
          </a:gradFill>
          <a:ln w="19080">
            <a:solidFill>
              <a:srgbClr val="4d8d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20386200">
            <a:off x="1898280" y="2079720"/>
            <a:ext cx="4946760" cy="2798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9ab3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40080" y="1231920"/>
            <a:ext cx="234288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9ab3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39ab3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Text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62440" y="4229280"/>
            <a:ext cx="2343240" cy="162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4d8df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4d8d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Tex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4800" y="330984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ac8fa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9ac8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Tex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89680" y="1951200"/>
            <a:ext cx="2343240" cy="162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353f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5353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Tex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3666960" y="2658960"/>
            <a:ext cx="4694400" cy="836640"/>
            <a:chOff x="3666960" y="2658960"/>
            <a:chExt cx="4694400" cy="836640"/>
          </a:xfrm>
        </p:grpSpPr>
        <p:sp>
          <p:nvSpPr>
            <p:cNvPr id="281" name=""/>
            <p:cNvSpPr/>
            <p:nvPr/>
          </p:nvSpPr>
          <p:spPr>
            <a:xfrm>
              <a:off x="7759440" y="2658960"/>
              <a:ext cx="60192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66960" y="265896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679920" y="3776760"/>
            <a:ext cx="4707000" cy="836640"/>
            <a:chOff x="3679920" y="3776760"/>
            <a:chExt cx="4707000" cy="836640"/>
          </a:xfrm>
        </p:grpSpPr>
        <p:sp>
          <p:nvSpPr>
            <p:cNvPr id="284" name=""/>
            <p:cNvSpPr/>
            <p:nvPr/>
          </p:nvSpPr>
          <p:spPr>
            <a:xfrm>
              <a:off x="7747200" y="3776760"/>
              <a:ext cx="63972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ac8f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79920" y="377676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9ac8fa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692520" y="4894200"/>
            <a:ext cx="4694400" cy="836640"/>
            <a:chOff x="3692520" y="4894200"/>
            <a:chExt cx="4694400" cy="836640"/>
          </a:xfrm>
        </p:grpSpPr>
        <p:sp>
          <p:nvSpPr>
            <p:cNvPr id="287" name=""/>
            <p:cNvSpPr/>
            <p:nvPr/>
          </p:nvSpPr>
          <p:spPr>
            <a:xfrm>
              <a:off x="7785000" y="4894200"/>
              <a:ext cx="60192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92520" y="489420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654360" y="1541520"/>
            <a:ext cx="4707000" cy="836640"/>
            <a:chOff x="3654360" y="1541520"/>
            <a:chExt cx="4707000" cy="836640"/>
          </a:xfrm>
        </p:grpSpPr>
        <p:sp>
          <p:nvSpPr>
            <p:cNvPr id="290" name=""/>
            <p:cNvSpPr/>
            <p:nvPr/>
          </p:nvSpPr>
          <p:spPr>
            <a:xfrm>
              <a:off x="7721640" y="1541520"/>
              <a:ext cx="63972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ac8f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54360" y="154152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9ac8fa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692440" y="2286000"/>
            <a:ext cx="1317600" cy="339840"/>
          </a:xfrm>
          <a:custGeom>
            <a:avLst/>
            <a:gdLst/>
            <a:ahLst/>
            <a:rect l="l" t="t" r="r" b="b"/>
            <a:pathLst>
              <a:path w="814" h="198">
                <a:moveTo>
                  <a:pt x="189" y="198"/>
                </a:moveTo>
                <a:lnTo>
                  <a:pt x="814" y="140"/>
                </a:lnTo>
                <a:lnTo>
                  <a:pt x="617" y="17"/>
                </a:lnTo>
                <a:lnTo>
                  <a:pt x="0" y="0"/>
                </a:lnTo>
                <a:lnTo>
                  <a:pt x="189" y="198"/>
                </a:lnTo>
                <a:close/>
              </a:path>
            </a:pathLst>
          </a:custGeom>
          <a:gradFill rotWithShape="0">
            <a:gsLst>
              <a:gs pos="0">
                <a:srgbClr val="9ac8fa"/>
              </a:gs>
              <a:gs pos="100000">
                <a:srgbClr val="465c7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33560" y="3119400"/>
            <a:ext cx="2691000" cy="655560"/>
          </a:xfrm>
          <a:custGeom>
            <a:avLst/>
            <a:gdLst/>
            <a:ahLst/>
            <a:rect l="l" t="t" r="r" b="b"/>
            <a:pathLst>
              <a:path w="1695" h="412">
                <a:moveTo>
                  <a:pt x="304" y="412"/>
                </a:moveTo>
                <a:lnTo>
                  <a:pt x="1695" y="313"/>
                </a:lnTo>
                <a:lnTo>
                  <a:pt x="1366" y="157"/>
                </a:lnTo>
                <a:lnTo>
                  <a:pt x="0" y="0"/>
                </a:lnTo>
                <a:lnTo>
                  <a:pt x="304" y="412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50920" y="3879720"/>
            <a:ext cx="4049640" cy="1057320"/>
          </a:xfrm>
          <a:custGeom>
            <a:avLst/>
            <a:gdLst/>
            <a:ahLst/>
            <a:rect l="l" t="t" r="r" b="b"/>
            <a:pathLst>
              <a:path w="2526" h="658">
                <a:moveTo>
                  <a:pt x="444" y="658"/>
                </a:moveTo>
                <a:lnTo>
                  <a:pt x="2526" y="527"/>
                </a:lnTo>
                <a:lnTo>
                  <a:pt x="2155" y="313"/>
                </a:lnTo>
                <a:lnTo>
                  <a:pt x="0" y="0"/>
                </a:lnTo>
                <a:lnTo>
                  <a:pt x="444" y="658"/>
                </a:lnTo>
                <a:close/>
              </a:path>
            </a:pathLst>
          </a:custGeom>
          <a:gradFill rotWithShape="0">
            <a:gsLst>
              <a:gs pos="0">
                <a:srgbClr val="4d8dff"/>
              </a:gs>
              <a:gs pos="100000">
                <a:srgbClr val="23407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59000" y="4702320"/>
            <a:ext cx="4284720" cy="1228680"/>
          </a:xfrm>
          <a:custGeom>
            <a:avLst/>
            <a:gdLst/>
            <a:ahLst/>
            <a:rect l="l" t="t" r="r" b="b"/>
            <a:pathLst>
              <a:path w="2699" h="774">
                <a:moveTo>
                  <a:pt x="0" y="774"/>
                </a:moveTo>
                <a:lnTo>
                  <a:pt x="2699" y="560"/>
                </a:lnTo>
                <a:lnTo>
                  <a:pt x="2403" y="0"/>
                </a:lnTo>
                <a:lnTo>
                  <a:pt x="313" y="140"/>
                </a:lnTo>
                <a:lnTo>
                  <a:pt x="0" y="774"/>
                </a:lnTo>
                <a:close/>
              </a:path>
            </a:pathLst>
          </a:custGeom>
          <a:gradFill rotWithShape="0">
            <a:gsLst>
              <a:gs pos="0">
                <a:srgbClr val="4d8dff"/>
              </a:gs>
              <a:gs pos="100000">
                <a:srgbClr val="234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20960" y="3605040"/>
            <a:ext cx="3160800" cy="1149480"/>
          </a:xfrm>
          <a:custGeom>
            <a:avLst/>
            <a:gdLst/>
            <a:ahLst/>
            <a:rect l="l" t="t" r="r" b="b"/>
            <a:pathLst>
              <a:path w="1991" h="724">
                <a:moveTo>
                  <a:pt x="0" y="724"/>
                </a:moveTo>
                <a:lnTo>
                  <a:pt x="1991" y="584"/>
                </a:lnTo>
                <a:lnTo>
                  <a:pt x="1695" y="0"/>
                </a:lnTo>
                <a:lnTo>
                  <a:pt x="304" y="99"/>
                </a:lnTo>
                <a:lnTo>
                  <a:pt x="0" y="724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455920" y="2535120"/>
            <a:ext cx="2090520" cy="1096920"/>
          </a:xfrm>
          <a:custGeom>
            <a:avLst/>
            <a:gdLst/>
            <a:ahLst/>
            <a:rect l="l" t="t" r="r" b="b"/>
            <a:pathLst>
              <a:path w="1317" h="700">
                <a:moveTo>
                  <a:pt x="0" y="700"/>
                </a:moveTo>
                <a:lnTo>
                  <a:pt x="1317" y="601"/>
                </a:lnTo>
                <a:lnTo>
                  <a:pt x="980" y="0"/>
                </a:lnTo>
                <a:lnTo>
                  <a:pt x="346" y="49"/>
                </a:lnTo>
                <a:lnTo>
                  <a:pt x="0" y="700"/>
                </a:lnTo>
                <a:close/>
              </a:path>
            </a:pathLst>
          </a:custGeom>
          <a:gradFill rotWithShape="0">
            <a:gsLst>
              <a:gs pos="0">
                <a:srgbClr val="465c73"/>
              </a:gs>
              <a:gs pos="100000">
                <a:srgbClr val="9ac8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44880" y="1528920"/>
            <a:ext cx="900000" cy="939600"/>
          </a:xfrm>
          <a:custGeom>
            <a:avLst/>
            <a:gdLst/>
            <a:ahLst/>
            <a:rect l="l" t="t" r="r" b="b"/>
            <a:pathLst>
              <a:path w="567" h="592">
                <a:moveTo>
                  <a:pt x="0" y="592"/>
                </a:moveTo>
                <a:lnTo>
                  <a:pt x="567" y="543"/>
                </a:lnTo>
                <a:lnTo>
                  <a:pt x="288" y="0"/>
                </a:lnTo>
                <a:lnTo>
                  <a:pt x="0" y="592"/>
                </a:lnTo>
                <a:close/>
              </a:path>
            </a:pathLst>
          </a:custGeom>
          <a:gradFill rotWithShape="0">
            <a:gsLst>
              <a:gs pos="0">
                <a:srgbClr val="9ac8fa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9760" y="3879720"/>
            <a:ext cx="1358640" cy="2051280"/>
          </a:xfrm>
          <a:custGeom>
            <a:avLst/>
            <a:gdLst/>
            <a:ahLst/>
            <a:rect l="l" t="t" r="r" b="b"/>
            <a:pathLst>
              <a:path w="856" h="1292">
                <a:moveTo>
                  <a:pt x="535" y="1292"/>
                </a:moveTo>
                <a:lnTo>
                  <a:pt x="856" y="658"/>
                </a:lnTo>
                <a:lnTo>
                  <a:pt x="412" y="0"/>
                </a:lnTo>
                <a:lnTo>
                  <a:pt x="0" y="395"/>
                </a:lnTo>
                <a:lnTo>
                  <a:pt x="535" y="1292"/>
                </a:lnTo>
                <a:close/>
              </a:path>
            </a:pathLst>
          </a:custGeom>
          <a:gradFill rotWithShape="0">
            <a:gsLst>
              <a:gs pos="0">
                <a:srgbClr val="234075"/>
              </a:gs>
              <a:gs pos="100000">
                <a:srgbClr val="4d8d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54240" y="3110040"/>
            <a:ext cx="1162080" cy="1646280"/>
          </a:xfrm>
          <a:custGeom>
            <a:avLst/>
            <a:gdLst/>
            <a:ahLst/>
            <a:rect l="l" t="t" r="r" b="b"/>
            <a:pathLst>
              <a:path w="732" h="1070">
                <a:moveTo>
                  <a:pt x="428" y="1070"/>
                </a:moveTo>
                <a:lnTo>
                  <a:pt x="0" y="420"/>
                </a:lnTo>
                <a:lnTo>
                  <a:pt x="428" y="0"/>
                </a:lnTo>
                <a:lnTo>
                  <a:pt x="732" y="420"/>
                </a:lnTo>
                <a:lnTo>
                  <a:pt x="428" y="1070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35360" y="1541520"/>
            <a:ext cx="666720" cy="927000"/>
          </a:xfrm>
          <a:custGeom>
            <a:avLst/>
            <a:gdLst/>
            <a:ahLst/>
            <a:rect l="l" t="t" r="r" b="b"/>
            <a:pathLst>
              <a:path w="420" h="584">
                <a:moveTo>
                  <a:pt x="140" y="584"/>
                </a:moveTo>
                <a:lnTo>
                  <a:pt x="0" y="411"/>
                </a:lnTo>
                <a:lnTo>
                  <a:pt x="420" y="0"/>
                </a:lnTo>
                <a:lnTo>
                  <a:pt x="140" y="584"/>
                </a:lnTo>
                <a:close/>
              </a:path>
            </a:pathLst>
          </a:custGeom>
          <a:gradFill rotWithShape="0">
            <a:gsLst>
              <a:gs pos="0">
                <a:srgbClr val="9ac8fa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25720" y="2287440"/>
            <a:ext cx="966600" cy="1343160"/>
          </a:xfrm>
          <a:custGeom>
            <a:avLst/>
            <a:gdLst/>
            <a:ahLst/>
            <a:rect l="l" t="t" r="r" b="b"/>
            <a:pathLst>
              <a:path w="609" h="806">
                <a:moveTo>
                  <a:pt x="280" y="806"/>
                </a:moveTo>
                <a:lnTo>
                  <a:pt x="609" y="197"/>
                </a:lnTo>
                <a:lnTo>
                  <a:pt x="428" y="0"/>
                </a:lnTo>
                <a:lnTo>
                  <a:pt x="0" y="411"/>
                </a:lnTo>
                <a:lnTo>
                  <a:pt x="280" y="806"/>
                </a:lnTo>
                <a:close/>
              </a:path>
            </a:pathLst>
          </a:custGeom>
          <a:gradFill rotWithShape="0">
            <a:gsLst>
              <a:gs pos="0">
                <a:srgbClr val="465c73"/>
              </a:gs>
              <a:gs pos="100000">
                <a:srgbClr val="9ac8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74960" y="506268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90960" y="397044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55840" y="287820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59240" y="186228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79"/>
                </a:solidFill>
                <a:latin typeface="Verdana"/>
                <a:ea typeface="Gulim"/>
              </a:rPr>
              <a:t>Text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66400" y="216000"/>
            <a:ext cx="83566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add tit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282760" y="243360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2760" y="3174840"/>
            <a:ext cx="15289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82760" y="3914640"/>
            <a:ext cx="15289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82760" y="465624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11680" y="2433600"/>
            <a:ext cx="15271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11680" y="3174840"/>
            <a:ext cx="15271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11680" y="3914640"/>
            <a:ext cx="15271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11680" y="4656240"/>
            <a:ext cx="15271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8800" y="2433600"/>
            <a:ext cx="152856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38800" y="3174840"/>
            <a:ext cx="152856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8800" y="3914640"/>
            <a:ext cx="152856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8800" y="4656240"/>
            <a:ext cx="152856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67360" y="243360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67360" y="3174840"/>
            <a:ext cx="15289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67360" y="3914640"/>
            <a:ext cx="15289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67360" y="465624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41240" y="2433600"/>
            <a:ext cx="1541520" cy="741240"/>
          </a:xfrm>
          <a:prstGeom prst="rect">
            <a:avLst/>
          </a:prstGeom>
          <a:gradFill rotWithShape="0">
            <a:gsLst>
              <a:gs pos="0">
                <a:srgbClr val="39ab39"/>
              </a:gs>
              <a:gs pos="100000">
                <a:srgbClr val="1a4e1a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41240" y="3174840"/>
            <a:ext cx="1541520" cy="739800"/>
          </a:xfrm>
          <a:prstGeom prst="rect">
            <a:avLst/>
          </a:prstGeom>
          <a:gradFill rotWithShape="0">
            <a:gsLst>
              <a:gs pos="0">
                <a:srgbClr val="39ab39"/>
              </a:gs>
              <a:gs pos="100000">
                <a:srgbClr val="1a4e1a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41240" y="3914640"/>
            <a:ext cx="1541520" cy="741600"/>
          </a:xfrm>
          <a:prstGeom prst="rect">
            <a:avLst/>
          </a:prstGeom>
          <a:gradFill rotWithShape="0">
            <a:gsLst>
              <a:gs pos="0">
                <a:srgbClr val="39ab39"/>
              </a:gs>
              <a:gs pos="100000">
                <a:srgbClr val="1a4e1a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41240" y="4656240"/>
            <a:ext cx="1541520" cy="741240"/>
          </a:xfrm>
          <a:prstGeom prst="rect">
            <a:avLst/>
          </a:prstGeom>
          <a:gradFill rotWithShape="0">
            <a:gsLst>
              <a:gs pos="0">
                <a:srgbClr val="39ab39"/>
              </a:gs>
              <a:gs pos="100000">
                <a:srgbClr val="1a4e1a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827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5353ff"/>
              </a:gs>
              <a:gs pos="100000">
                <a:srgbClr val="2626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11680" y="2039760"/>
            <a:ext cx="1527120" cy="393840"/>
          </a:xfrm>
          <a:prstGeom prst="rect">
            <a:avLst/>
          </a:prstGeom>
          <a:gradFill rotWithShape="0">
            <a:gsLst>
              <a:gs pos="0">
                <a:srgbClr val="5353ff"/>
              </a:gs>
              <a:gs pos="100000">
                <a:srgbClr val="2626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38800" y="2039760"/>
            <a:ext cx="1528560" cy="393840"/>
          </a:xfrm>
          <a:prstGeom prst="rect">
            <a:avLst/>
          </a:prstGeom>
          <a:gradFill rotWithShape="0">
            <a:gsLst>
              <a:gs pos="0">
                <a:srgbClr val="5353ff"/>
              </a:gs>
              <a:gs pos="100000">
                <a:srgbClr val="2626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673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5353ff"/>
              </a:gs>
              <a:gs pos="100000">
                <a:srgbClr val="2626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1240" y="2039760"/>
            <a:ext cx="1541520" cy="393840"/>
          </a:xfrm>
          <a:prstGeom prst="rect">
            <a:avLst/>
          </a:prstGeom>
          <a:gradFill rotWithShape="0">
            <a:gsLst>
              <a:gs pos="0">
                <a:srgbClr val="5353ff"/>
              </a:gs>
              <a:gs pos="100000">
                <a:srgbClr val="2626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66400" y="216000"/>
            <a:ext cx="83566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add tit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"/>
          <p:cNvGraphicFramePr/>
          <p:nvPr/>
        </p:nvGraphicFramePr>
        <p:xfrm>
          <a:off x="1316160" y="1351080"/>
          <a:ext cx="6753240" cy="50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6160" y="1351080"/>
                    <a:ext cx="675324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66760" y="216000"/>
            <a:ext cx="8356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1184400" y="1486080"/>
          <a:ext cx="67752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4400" y="1486080"/>
                    <a:ext cx="6775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266760" y="216000"/>
            <a:ext cx="8356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4:40Z</dcterms:modified>
  <cp:revision>28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