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271E-7455-42F2-989D-A12D6AE8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60" y="18334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93F-1B34-41BB-A0C2-7257DA19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3312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FCF-EF4C-46C8-AD41-7D5D4CEA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516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9472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6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516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9472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439-E56C-4B2F-B579-E50BFE2D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D92D-E952-42A0-8C88-E9A0AE0D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1CC8-38E8-4D49-BE96-51F3170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5D84-776F-4B9D-96BF-717913E1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7605-6C94-4A06-809E-83261ECD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C95C-9BE5-4B17-A414-821D6BB2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76320"/>
            <a:ext cx="899136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1A32-00CE-46BA-BF8A-968C2BE5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6050-FE9A-4F74-9B16-5C2A6A50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966-36B6-4108-8A3A-0E8AEC38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83312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479D-72EF-474E-B05B-0B5CC7F8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C031-053A-4720-97E3-2FB79E0C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60" y="18334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570D-331B-4FBB-8630-93D02E50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83312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2AF6-9E3F-47F4-930F-1CE3DFD6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3516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39472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6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23516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39472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4C12-610C-43B3-8535-214630F9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7227-8580-434D-A875-5A402ED0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E17-B9F8-4996-BC74-90B67739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111-041A-43CC-B78F-87291D25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6320"/>
            <a:ext cx="899136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67B-42DF-4AFC-93B2-EAB9A06F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045-98FA-47FF-B2E9-09A0CEA1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3312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460-1047-4B56-87E0-2AE4C1D9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9F1-795F-4133-AB7D-CB788ADA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43A4-4495-4005-BD99-5668154EE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2FCB-2F83-4CC4-9B30-9D42BC496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Eras Bold ITC"/>
              </a:rPr>
              <a:t>Click to edit the outline text format</a:t>
            </a: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Eras Bold IT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Eras Bold IT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image" Target="../media/image7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oguls" descr=""/>
          <p:cNvPicPr/>
          <p:nvPr/>
        </p:nvPicPr>
        <p:blipFill>
          <a:blip r:embed="rId2"/>
          <a:stretch/>
        </p:blipFill>
        <p:spPr>
          <a:xfrm>
            <a:off x="2743200" y="0"/>
            <a:ext cx="7620120" cy="7620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eamwork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Eras Bold ITC"/>
              </a:rPr>
              <a:t>Your Subtitle Goes Here</a:t>
            </a: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35880" y="1584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团结合作企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expo_business_island_computers_show_hg_wht" descr=""/>
          <p:cNvPicPr/>
          <p:nvPr/>
        </p:nvPicPr>
        <p:blipFill>
          <a:blip r:embed="rId2"/>
          <a:stretch/>
        </p:blipFill>
        <p:spPr>
          <a:xfrm>
            <a:off x="6286680" y="4967280"/>
            <a:ext cx="1711080" cy="1890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moguls" descr=""/>
          <p:cNvPicPr/>
          <p:nvPr/>
        </p:nvPicPr>
        <p:blipFill>
          <a:blip r:embed="rId2"/>
          <a:stretch/>
        </p:blipFill>
        <p:spPr>
          <a:xfrm>
            <a:off x="2971800" y="0"/>
            <a:ext cx="7620120" cy="7620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business_lady_cellphone_talking_hg_wht" descr=""/>
          <p:cNvPicPr/>
          <p:nvPr/>
        </p:nvPicPr>
        <p:blipFill>
          <a:blip r:embed="rId2"/>
          <a:stretch/>
        </p:blipFill>
        <p:spPr>
          <a:xfrm>
            <a:off x="6477120" y="4419720"/>
            <a:ext cx="1393560" cy="2438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Your subtopics go here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96" name=""/>
          <p:cNvSpPr/>
          <p:nvPr/>
        </p:nvSpPr>
        <p:spPr>
          <a:xfrm>
            <a:off x="1285920" y="3024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B0E-59A4-4656-B726-E5FA623AEB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1" name="teamwork_prt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2" name="teamwork_qx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03" name="teamwork_sld" descr=""/>
          <p:cNvPicPr/>
          <p:nvPr/>
        </p:nvPicPr>
        <p:blipFill>
          <a:blip r:embed="rId3"/>
          <a:stretch/>
        </p:blipFill>
        <p:spPr>
          <a:xfrm>
            <a:off x="6095880" y="2209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4" name="teamwork_trs" descr=""/>
          <p:cNvPicPr/>
          <p:nvPr/>
        </p:nvPicPr>
        <p:blipFill>
          <a:blip r:embed="rId4"/>
          <a:stretch/>
        </p:blipFill>
        <p:spPr>
          <a:xfrm>
            <a:off x="3048120" y="44956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moguls" descr=""/>
          <p:cNvPicPr/>
          <p:nvPr/>
        </p:nvPicPr>
        <p:blipFill>
          <a:blip r:embed="rId5"/>
          <a:stretch/>
        </p:blipFill>
        <p:spPr>
          <a:xfrm>
            <a:off x="6781680" y="152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business_lady_cellphone_talking_hg_wht" descr=""/>
          <p:cNvPicPr/>
          <p:nvPr/>
        </p:nvPicPr>
        <p:blipFill>
          <a:blip r:embed="rId6"/>
          <a:stretch/>
        </p:blipFill>
        <p:spPr>
          <a:xfrm>
            <a:off x="380880" y="2133720"/>
            <a:ext cx="139392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expo_business_island_computers_show_hg_wht" descr=""/>
          <p:cNvPicPr/>
          <p:nvPr/>
        </p:nvPicPr>
        <p:blipFill>
          <a:blip r:embed="rId7"/>
          <a:stretch/>
        </p:blipFill>
        <p:spPr>
          <a:xfrm>
            <a:off x="380880" y="4724280"/>
            <a:ext cx="1711440" cy="189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3720" y="1752480"/>
            <a:ext cx="2743200" cy="990720"/>
          </a:xfrm>
          <a:prstGeom prst="wedgeRectCallout">
            <a:avLst>
              <a:gd name="adj1" fmla="val -75694"/>
              <a:gd name="adj2" fmla="val 32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75248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re are some fantastic office animations on the Platinum Site. Search Bloodhound with any business related keywords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0:50:2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14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