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B3B-C256-47AF-95F5-3DA553E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5E7-B59C-4D86-9F75-11F2B196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C64-7456-475C-869C-08296E02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670-A3BB-469A-BF1F-3449A70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5D9-64A2-4D25-BD6A-7D06E4E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8B3-E01B-4898-89A5-A70EF2D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AB4-2650-43D6-903A-45350A0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46E-5359-4268-842D-703C89F5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AD4-A266-403F-847E-0AC7111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FF5-4EF5-458D-B760-1A4DA99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1B5-C954-4F91-AFF4-8CB3DAA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CAF-2ADC-4202-9DD1-DFBE69E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B9C2-1E60-49FE-92E4-9BE0A8A9B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2276280"/>
            <a:ext cx="676908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汉仪方叠体简"/>
                <a:ea typeface="汉仪方叠体简"/>
              </a:rPr>
              <a:t>童年的色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484360" y="5445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15760" y="90972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童年的色彩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下划线"/>
          <p:cNvPicPr/>
          <p:nvPr/>
        </p:nvPicPr>
        <p:blipFill>
          <a:blip r:embed="rId2"/>
          <a:stretch/>
        </p:blipFill>
        <p:spPr>
          <a:xfrm>
            <a:off x="2052720" y="4079880"/>
            <a:ext cx="640872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下划线"/>
          <p:cNvPicPr/>
          <p:nvPr/>
        </p:nvPicPr>
        <p:blipFill>
          <a:blip r:embed="rId3"/>
          <a:stretch/>
        </p:blipFill>
        <p:spPr>
          <a:xfrm>
            <a:off x="2052720" y="5349960"/>
            <a:ext cx="6840360" cy="63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下划线"/>
          <p:cNvPicPr/>
          <p:nvPr/>
        </p:nvPicPr>
        <p:blipFill>
          <a:blip r:embed="rId4"/>
          <a:stretch/>
        </p:blipFill>
        <p:spPr>
          <a:xfrm>
            <a:off x="2052720" y="2692440"/>
            <a:ext cx="5545080" cy="63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下划线"/>
          <p:cNvPicPr/>
          <p:nvPr/>
        </p:nvPicPr>
        <p:blipFill>
          <a:blip r:embed="rId5"/>
          <a:stretch/>
        </p:blipFill>
        <p:spPr>
          <a:xfrm>
            <a:off x="2052720" y="1417680"/>
            <a:ext cx="4006800" cy="63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84564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装饰"/>
          <p:cNvPicPr/>
          <p:nvPr/>
        </p:nvPicPr>
        <p:blipFill>
          <a:blip r:embed="rId6"/>
          <a:stretch/>
        </p:blipFill>
        <p:spPr>
          <a:xfrm>
            <a:off x="19080" y="3429000"/>
            <a:ext cx="1905120" cy="26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711520" y="23115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711520" y="3699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786040" y="4968720"/>
            <a:ext cx="52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" y="274320"/>
            <a:ext cx="48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46080"/>
            <a:ext cx="6492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62028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6913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3357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66D-151C-42AD-B980-B15A1029B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5320" y="2852280"/>
            <a:ext cx="555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汉仪方叠体简"/>
                <a:ea typeface="汉仪方叠体简"/>
              </a:rPr>
              <a:t>谢谢使用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0:30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5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