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000" y="5805360"/>
            <a:ext cx="33526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000" y="6124320"/>
            <a:ext cx="33526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000" y="5805360"/>
            <a:ext cx="16358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185920" y="5805360"/>
            <a:ext cx="16358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000" y="6124320"/>
            <a:ext cx="16358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2185920" y="6124320"/>
            <a:ext cx="16358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000" y="5805360"/>
            <a:ext cx="1079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lnSpc>
                <a:spcPct val="13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601640" y="5805360"/>
            <a:ext cx="1079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lnSpc>
                <a:spcPct val="13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735280" y="5805360"/>
            <a:ext cx="1079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lnSpc>
                <a:spcPct val="13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" y="6124320"/>
            <a:ext cx="1079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lnSpc>
                <a:spcPct val="13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1601640" y="6124320"/>
            <a:ext cx="1079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lnSpc>
                <a:spcPct val="13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2735280" y="6124320"/>
            <a:ext cx="1079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lnSpc>
                <a:spcPct val="13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000" y="5805360"/>
            <a:ext cx="3352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000" y="5805360"/>
            <a:ext cx="33526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000" y="5805360"/>
            <a:ext cx="16358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185920" y="5805360"/>
            <a:ext cx="16358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85640"/>
            <a:ext cx="829152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000" y="5805360"/>
            <a:ext cx="16358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185920" y="5805360"/>
            <a:ext cx="16358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8000" y="6124320"/>
            <a:ext cx="16358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000" y="5805360"/>
            <a:ext cx="3352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000" y="5805360"/>
            <a:ext cx="16358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185920" y="5805360"/>
            <a:ext cx="16358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185920" y="6124320"/>
            <a:ext cx="16358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000" y="5805360"/>
            <a:ext cx="16358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185920" y="5805360"/>
            <a:ext cx="16358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000" y="6124320"/>
            <a:ext cx="33526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5805360"/>
            <a:ext cx="33526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" y="6124320"/>
            <a:ext cx="33526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000" y="5805360"/>
            <a:ext cx="16358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185920" y="5805360"/>
            <a:ext cx="16358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" y="6124320"/>
            <a:ext cx="16358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2185920" y="6124320"/>
            <a:ext cx="16358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000" y="5805360"/>
            <a:ext cx="1079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lnSpc>
                <a:spcPct val="13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601640" y="5805360"/>
            <a:ext cx="1079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lnSpc>
                <a:spcPct val="13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735280" y="5805360"/>
            <a:ext cx="1079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lnSpc>
                <a:spcPct val="13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000" y="6124320"/>
            <a:ext cx="1079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lnSpc>
                <a:spcPct val="13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1601640" y="6124320"/>
            <a:ext cx="1079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lnSpc>
                <a:spcPct val="13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2735280" y="6124320"/>
            <a:ext cx="1079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lnSpc>
                <a:spcPct val="13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000" y="5805360"/>
            <a:ext cx="33526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000" y="5805360"/>
            <a:ext cx="16358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2185920" y="5805360"/>
            <a:ext cx="16358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285640"/>
            <a:ext cx="829152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000" y="5805360"/>
            <a:ext cx="16358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2185920" y="5805360"/>
            <a:ext cx="16358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000" y="6124320"/>
            <a:ext cx="16358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000" y="5805360"/>
            <a:ext cx="16358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2185920" y="5805360"/>
            <a:ext cx="16358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185920" y="6124320"/>
            <a:ext cx="16358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000" y="5805360"/>
            <a:ext cx="16358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185920" y="5805360"/>
            <a:ext cx="16358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000" y="6124320"/>
            <a:ext cx="33526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560" y="939600"/>
            <a:ext cx="8569080" cy="56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135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0000" indent="-357120">
              <a:lnSpc>
                <a:spcPct val="135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436760" indent="-357120">
              <a:lnSpc>
                <a:spcPct val="135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973160" indent="-357120">
              <a:lnSpc>
                <a:spcPct val="135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513160" indent="-277920">
              <a:lnSpc>
                <a:spcPct val="135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2513160" indent="-277920">
              <a:lnSpc>
                <a:spcPct val="135000"/>
              </a:lnSpc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2513160" indent="-277920">
              <a:lnSpc>
                <a:spcPct val="135000"/>
              </a:lnSpc>
              <a:spcBef>
                <a:spcPts val="4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7812000" y="6296040"/>
            <a:ext cx="1179720" cy="48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3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165240" algn="ctr">
              <a:lnSpc>
                <a:spcPct val="135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244440" algn="ctr">
              <a:lnSpc>
                <a:spcPct val="135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406440" algn="ctr">
              <a:lnSpc>
                <a:spcPct val="135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40644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40644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23640" y="5424480"/>
            <a:ext cx="577044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11080" y="173664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腾讯风格工作报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39640" y="1089000"/>
            <a:ext cx="6337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第一部分：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第二部分：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9640" y="1089000"/>
            <a:ext cx="6337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第一部分：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第二部分：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213372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57000"/>
            <a:ext cx="8291520" cy="26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鸣谢：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08:05:45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4:21Z</dcterms:modified>
  <cp:revision>48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