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57D0-3D06-4ABB-88FC-4FFEFA06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7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0200" y="4097160"/>
            <a:ext cx="67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24A6-3755-49B7-B061-C573F4AB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5280" y="18284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0200" y="409716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5280" y="409716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34C3-725A-48BD-A614-E849D464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3040" y="182844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6240" y="182844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0200" y="409716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3040" y="409716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6240" y="409716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A3B-8385-42D9-8E87-9A1411E5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5D37-96B9-443F-AAF7-8CC879F1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18284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0703-BA4A-4D52-B04E-2A3060F5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15CC-E73F-4B61-A49B-974D5D72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3309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75280" y="1828440"/>
            <a:ext cx="3309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2694-0217-479A-94D8-3441B5A9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54DE-FE12-4AB7-A2AD-94CB9F64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0200" y="91440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F538-3341-48BE-A72F-D5204F6C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75280" y="1828440"/>
            <a:ext cx="3309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0200" y="409716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F6BF-0C97-4020-BA84-BA7F989C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0200" y="18284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5D94-C36D-4F5E-B320-3626EEB1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3309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75280" y="18284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5280" y="409716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0D12-A15D-4474-9E0E-DA4C0A4E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5280" y="18284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4097160"/>
            <a:ext cx="67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461E-98B0-4BA4-B483-E810FB89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7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0200" y="4097160"/>
            <a:ext cx="67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798E-87A9-484A-B83F-270D6C9B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5280" y="18284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0200" y="409716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75280" y="409716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E0D1-5277-457D-90F3-6CA287123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3040" y="182844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6240" y="182844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0200" y="409716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3040" y="409716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6240" y="409716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13C7-A718-413A-8AAC-5FCAF423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BB5E-CD6F-4D01-914C-131BB611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3309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75280" y="1828440"/>
            <a:ext cx="3309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394B-8F37-478D-9051-24C2ECE0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8E66-AA69-4FB5-92E9-03BEF4F6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0200" y="91440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0AB5-4FF0-49E3-9685-D7B195E9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75280" y="1828440"/>
            <a:ext cx="3309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0200" y="409716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2C9E-5AEB-4A62-9381-BF684817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3309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8284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75280" y="409716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C6BE-634D-4CA5-B65A-4AC22D2F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8284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0200" y="4097160"/>
            <a:ext cx="67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1163-330D-45D9-B8E3-3CDA6338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8284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5F67-9847-499C-9F31-8B38D7C12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3504960"/>
            <a:ext cx="5715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c785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8ac785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76AA-B658-4099-BDAC-B6B9EEF9D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440" y="3504960"/>
            <a:ext cx="5715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c785"/>
                </a:solidFill>
                <a:latin typeface="Times New Roman"/>
              </a:rPr>
              <a:t>FUN FIFTYTWO</a:t>
            </a:r>
            <a:endParaRPr b="0" lang="en-US" sz="4000" spc="-1" strike="noStrike">
              <a:solidFill>
                <a:srgbClr val="8ac785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971440" y="50288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Subtitle Goes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52360" y="22860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体育运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35812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971440" y="5181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ITIONAL 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873D-7EB8-4048-8894-6AC075E843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2286000" cy="573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6477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00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22860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0384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86200" y="16765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57200" y="16765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57200" y="41148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3886200" y="41148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6:30:35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54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