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media/image10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07F3A-4FB0-4416-88C4-C9BDBD30A9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29200" y="294228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5311A-118F-4B08-B2C2-4A210E94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13772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C32CA-78C5-4477-AAAE-82F07192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4206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8120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0292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64206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8120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4B897-A152-4053-B8F3-3DD1628A83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C084C-A2E6-4FFF-9318-67EE6ABF8E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029200" y="274320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6F0B5-CF12-48A1-A2D8-61B4419B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455EE-A935-4018-8C96-ABF0492C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A6AC6-5CCF-4BA3-91A6-A878462C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B5029-DBF2-48DA-9D07-F4A706D0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5257440" y="1905120"/>
            <a:ext cx="38862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DDC48-BE3A-4ED5-828C-8B5C6F76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9E610-09A3-4D44-9AE0-638CEA10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029200" y="274320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759E8-6A78-4F88-845C-B5762116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13772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4E903-A571-4DA5-84BA-4E8CECBA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44CC8-D7D7-4BB0-9A0E-C02285C8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29200" y="294228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7B689-9F9F-410D-9503-F5646F24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13772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0389B-DCEC-4CF3-B736-CB92D2FE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4206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8120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0292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64206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78120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79431-2FF3-4BAD-8A8F-F34C4CFC22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7192C-7A60-40F5-8501-70F56B47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B59DB-95CC-4D16-A074-10359453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B18DA-6BDF-4664-B73C-00FBD827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257440" y="1905120"/>
            <a:ext cx="38862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B9DE9-65DE-49E9-B295-7F29D55C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3AF84-3929-4A19-8520-6940CE6E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13772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232E8-4CE7-4574-B3DD-AE925231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69ADE-4F53-47D7-8AD0-AC28B830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23960"/>
            <a:ext cx="9144000" cy="385560"/>
          </a:xfrm>
          <a:prstGeom prst="rect">
            <a:avLst/>
          </a:prstGeom>
          <a:solidFill>
            <a:srgbClr val="32b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23960"/>
          </a:xfrm>
          <a:prstGeom prst="rect">
            <a:avLst/>
          </a:prstGeom>
          <a:solidFill>
            <a:srgbClr val="366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2600" y="343080"/>
            <a:ext cx="6032520" cy="679320"/>
          </a:xfrm>
          <a:custGeom>
            <a:avLst/>
            <a:gdLst/>
            <a:ahLst/>
            <a:rect l="l" t="t" r="r" b="b"/>
            <a:pathLst>
              <a:path w="3800" h="428">
                <a:moveTo>
                  <a:pt x="0" y="0"/>
                </a:moveTo>
                <a:lnTo>
                  <a:pt x="3800" y="0"/>
                </a:lnTo>
                <a:lnTo>
                  <a:pt x="3456" y="42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365960" y="6448320"/>
            <a:ext cx="1371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7181f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91c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2b6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6623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88620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6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4F5D-D097-4D01-903E-AE1A3AB35F67}" type="slidenum">
              <a:rPr b="0" lang="zh-CN" sz="10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2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66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66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-1440" y="-6480"/>
            <a:ext cx="1074600" cy="1117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14240" y="-792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-1440" y="357120"/>
            <a:ext cx="107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3240" y="72864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358920" y="-22320"/>
            <a:ext cx="0" cy="115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32b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14400"/>
            <a:ext cx="4960800" cy="515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4311720"/>
            <a:ext cx="4770360" cy="1754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dt" idx="3"/>
          </p:nvPr>
        </p:nvSpPr>
        <p:spPr>
          <a:xfrm>
            <a:off x="7010280" y="655272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66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Num" idx="4"/>
          </p:nvPr>
        </p:nvSpPr>
        <p:spPr>
          <a:xfrm>
            <a:off x="228600" y="655272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6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A058-56C4-4EF6-B369-2E984972279A}" type="slidenum">
              <a:rPr b="0" lang="zh-CN" sz="12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08400" y="914400"/>
            <a:ext cx="1654200" cy="16765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17760" y="2590920"/>
            <a:ext cx="1640160" cy="17031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54200" y="4300560"/>
            <a:ext cx="1654200" cy="17668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09840" y="905040"/>
            <a:ext cx="0" cy="5190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300560"/>
            <a:ext cx="1654200" cy="1766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590920"/>
            <a:ext cx="4952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320" y="4302000"/>
            <a:ext cx="494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66800" y="838080"/>
            <a:ext cx="0" cy="5257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978440" y="2190240"/>
            <a:ext cx="4178160" cy="1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978440" y="5568480"/>
            <a:ext cx="4178160" cy="1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890640"/>
          </a:xfrm>
          <a:prstGeom prst="rect">
            <a:avLst/>
          </a:prstGeom>
          <a:solidFill>
            <a:srgbClr val="366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304920"/>
            <a:ext cx="1067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91440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9bb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6623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hyperlink" Target="http://www.eeppt.com" TargetMode="External"/><Relationship Id="rId1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8840" y="2362320"/>
            <a:ext cx="40892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ThemeGallery </a:t>
            </a:r>
            <a:r>
              <a:rPr b="1" lang="en-US" sz="4000" spc="-1" strike="noStrike">
                <a:solidFill>
                  <a:srgbClr val="4c9bba"/>
                </a:solidFill>
                <a:latin typeface="Arial"/>
                <a:ea typeface="宋体"/>
              </a:rPr>
              <a:t>PowerTemplate</a:t>
            </a:r>
            <a:endParaRPr b="1" lang="en-US" sz="40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562720" y="32115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Add your company sloga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351480" y="4356000"/>
            <a:ext cx="1595520" cy="978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5640" y="117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体育运动系列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免费下载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235080" y="2987640"/>
            <a:ext cx="4119480" cy="24512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4843440" y="2963880"/>
            <a:ext cx="4181400" cy="24861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187200" y="1676520"/>
            <a:ext cx="4572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  <a:ea typeface="宋体"/>
              </a:rPr>
              <a:t>1. Describe contents for a Char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527720" y="1676520"/>
            <a:ext cx="457200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  <a:ea typeface="宋体"/>
              </a:rPr>
              <a:t>2. Describe contents for a Char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53560" y="563580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Chart Title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266840" y="4581360"/>
            <a:ext cx="415800" cy="451080"/>
            <a:chOff x="1266840" y="4581360"/>
            <a:chExt cx="415800" cy="451080"/>
          </a:xfrm>
        </p:grpSpPr>
        <p:sp>
          <p:nvSpPr>
            <p:cNvPr id="364" name=""/>
            <p:cNvSpPr/>
            <p:nvPr/>
          </p:nvSpPr>
          <p:spPr>
            <a:xfrm>
              <a:off x="1432080" y="4581360"/>
              <a:ext cx="68040" cy="65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29840" y="475992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510920" y="468972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58280" y="49842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378800" y="485172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1414440" y="473976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1482480" y="463536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32240" y="464256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62040" y="482868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561320" y="4758120"/>
              <a:ext cx="1764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582920" y="466416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66840" y="46861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96360" y="472896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1498320" y="486792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63400" y="48697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607760" y="487728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15680" y="49039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897520" y="4567320"/>
            <a:ext cx="415800" cy="450720"/>
            <a:chOff x="5897520" y="4567320"/>
            <a:chExt cx="415800" cy="450720"/>
          </a:xfrm>
        </p:grpSpPr>
        <p:sp>
          <p:nvSpPr>
            <p:cNvPr id="382" name=""/>
            <p:cNvSpPr/>
            <p:nvPr/>
          </p:nvSpPr>
          <p:spPr>
            <a:xfrm>
              <a:off x="6062760" y="4567320"/>
              <a:ext cx="68040" cy="648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60520" y="474588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41600" y="467568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88960" y="49698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09480" y="483768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6045120" y="472572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6113160" y="462132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62920" y="4628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92720" y="481464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92000" y="4744080"/>
              <a:ext cx="17640" cy="8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6213600" y="464976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897520" y="46720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27040" y="471492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6129000" y="485352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94080" y="48556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38440" y="486288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246360" y="4889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2043000" y="4442400"/>
            <a:ext cx="235800" cy="574560"/>
            <a:chOff x="2043000" y="4442400"/>
            <a:chExt cx="235800" cy="574560"/>
          </a:xfrm>
        </p:grpSpPr>
        <p:sp>
          <p:nvSpPr>
            <p:cNvPr id="400" name=""/>
            <p:cNvSpPr/>
            <p:nvPr/>
          </p:nvSpPr>
          <p:spPr>
            <a:xfrm rot="21490800">
              <a:off x="2048760" y="4729320"/>
              <a:ext cx="225360" cy="28368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21490800">
              <a:off x="2043360" y="4876920"/>
              <a:ext cx="231120" cy="295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21490800">
              <a:off x="2097360" y="4579200"/>
              <a:ext cx="107280" cy="31500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2094840" y="46504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2096280" y="46900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2097360" y="472572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2098440" y="47638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2099520" y="47980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102040" y="48128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2102040" y="482112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102400" y="48326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100600" y="47714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2100960" y="478008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2101320" y="47912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099520" y="473364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2099520" y="47419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2099880" y="47534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2098440" y="469944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2098440" y="470808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2098800" y="47192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2097000" y="46598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2097360" y="46681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2097720" y="46796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2640" y="4442400"/>
              <a:ext cx="5760" cy="137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2125080" y="4586400"/>
              <a:ext cx="2988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6678360" y="4484880"/>
            <a:ext cx="219600" cy="539640"/>
            <a:chOff x="6678360" y="4484880"/>
            <a:chExt cx="219600" cy="539640"/>
          </a:xfrm>
        </p:grpSpPr>
        <p:sp>
          <p:nvSpPr>
            <p:cNvPr id="426" name=""/>
            <p:cNvSpPr/>
            <p:nvPr/>
          </p:nvSpPr>
          <p:spPr>
            <a:xfrm rot="21490800">
              <a:off x="6683400" y="4754520"/>
              <a:ext cx="210240" cy="26640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21490800">
              <a:off x="6678720" y="4893120"/>
              <a:ext cx="215280" cy="277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21490800">
              <a:off x="6728760" y="4613760"/>
              <a:ext cx="100080" cy="29556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726600" y="468072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727680" y="471780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6728760" y="475128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6729840" y="478728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6730920" y="481932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733080" y="48330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733440" y="484092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733800" y="485136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6732000" y="479412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6732000" y="4802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6732360" y="481284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6730560" y="47581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6730920" y="4766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731280" y="477684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729840" y="472644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729840" y="473436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6730200" y="47448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728400" y="46890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6728760" y="46969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729120" y="47077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61160" y="4484880"/>
              <a:ext cx="5760" cy="129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6753960" y="4620240"/>
              <a:ext cx="2772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3153960" y="4548240"/>
            <a:ext cx="611280" cy="485280"/>
            <a:chOff x="3153960" y="4548240"/>
            <a:chExt cx="611280" cy="485280"/>
          </a:xfrm>
        </p:grpSpPr>
        <p:sp>
          <p:nvSpPr>
            <p:cNvPr id="452" name=""/>
            <p:cNvSpPr/>
            <p:nvPr/>
          </p:nvSpPr>
          <p:spPr>
            <a:xfrm flipH="1">
              <a:off x="3153600" y="4646880"/>
              <a:ext cx="307800" cy="38664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3265920" y="4548240"/>
              <a:ext cx="82080" cy="1015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71120" y="4654080"/>
              <a:ext cx="294120" cy="37080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580560" y="4560840"/>
              <a:ext cx="77760" cy="95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7794720" y="4545000"/>
            <a:ext cx="621720" cy="477360"/>
            <a:chOff x="7794720" y="4545000"/>
            <a:chExt cx="621720" cy="477360"/>
          </a:xfrm>
        </p:grpSpPr>
        <p:sp>
          <p:nvSpPr>
            <p:cNvPr id="457" name=""/>
            <p:cNvSpPr/>
            <p:nvPr/>
          </p:nvSpPr>
          <p:spPr>
            <a:xfrm flipH="1">
              <a:off x="7794720" y="4642200"/>
              <a:ext cx="313200" cy="38016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908480" y="4545000"/>
              <a:ext cx="83520" cy="100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116920" y="4649040"/>
              <a:ext cx="299520" cy="36468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228520" y="4557240"/>
              <a:ext cx="78840" cy="943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2581560" y="4448160"/>
            <a:ext cx="437760" cy="577080"/>
            <a:chOff x="2581560" y="4448160"/>
            <a:chExt cx="437760" cy="577080"/>
          </a:xfrm>
        </p:grpSpPr>
        <p:grpSp>
          <p:nvGrpSpPr>
            <p:cNvPr id="462" name=""/>
            <p:cNvGrpSpPr/>
            <p:nvPr/>
          </p:nvGrpSpPr>
          <p:grpSpPr>
            <a:xfrm>
              <a:off x="2738880" y="4448160"/>
              <a:ext cx="130680" cy="471240"/>
              <a:chOff x="2738880" y="4448160"/>
              <a:chExt cx="130680" cy="471240"/>
            </a:xfrm>
          </p:grpSpPr>
          <p:sp>
            <p:nvSpPr>
              <p:cNvPr id="463" name=""/>
              <p:cNvSpPr/>
              <p:nvPr/>
            </p:nvSpPr>
            <p:spPr>
              <a:xfrm flipH="1">
                <a:off x="277992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83140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73852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77488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274176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888640" y="4538160"/>
              <a:ext cx="130680" cy="471240"/>
              <a:chOff x="2888640" y="4538160"/>
              <a:chExt cx="130680" cy="471240"/>
            </a:xfrm>
          </p:grpSpPr>
          <p:sp>
            <p:nvSpPr>
              <p:cNvPr id="469" name=""/>
              <p:cNvSpPr/>
              <p:nvPr/>
            </p:nvSpPr>
            <p:spPr>
              <a:xfrm flipH="1">
                <a:off x="292968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298116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288828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292464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289152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2581560" y="4554000"/>
              <a:ext cx="130680" cy="471240"/>
              <a:chOff x="2581560" y="4554000"/>
              <a:chExt cx="130680" cy="471240"/>
            </a:xfrm>
          </p:grpSpPr>
          <p:sp>
            <p:nvSpPr>
              <p:cNvPr id="475" name=""/>
              <p:cNvSpPr/>
              <p:nvPr/>
            </p:nvSpPr>
            <p:spPr>
              <a:xfrm flipH="1">
                <a:off x="262260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267408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258120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261756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258444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80" name=""/>
          <p:cNvGrpSpPr/>
          <p:nvPr/>
        </p:nvGrpSpPr>
        <p:grpSpPr>
          <a:xfrm>
            <a:off x="7183800" y="4448160"/>
            <a:ext cx="437760" cy="577080"/>
            <a:chOff x="7183800" y="4448160"/>
            <a:chExt cx="437760" cy="577080"/>
          </a:xfrm>
        </p:grpSpPr>
        <p:grpSp>
          <p:nvGrpSpPr>
            <p:cNvPr id="481" name=""/>
            <p:cNvGrpSpPr/>
            <p:nvPr/>
          </p:nvGrpSpPr>
          <p:grpSpPr>
            <a:xfrm>
              <a:off x="7341120" y="4448160"/>
              <a:ext cx="130680" cy="471240"/>
              <a:chOff x="7341120" y="4448160"/>
              <a:chExt cx="130680" cy="471240"/>
            </a:xfrm>
          </p:grpSpPr>
          <p:sp>
            <p:nvSpPr>
              <p:cNvPr id="482" name=""/>
              <p:cNvSpPr/>
              <p:nvPr/>
            </p:nvSpPr>
            <p:spPr>
              <a:xfrm flipH="1">
                <a:off x="738216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743364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734076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737712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734400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7490880" y="4538160"/>
              <a:ext cx="130680" cy="471240"/>
              <a:chOff x="7490880" y="4538160"/>
              <a:chExt cx="130680" cy="471240"/>
            </a:xfrm>
          </p:grpSpPr>
          <p:sp>
            <p:nvSpPr>
              <p:cNvPr id="488" name=""/>
              <p:cNvSpPr/>
              <p:nvPr/>
            </p:nvSpPr>
            <p:spPr>
              <a:xfrm flipH="1">
                <a:off x="753192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758340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749052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752688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749376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7183800" y="4554000"/>
              <a:ext cx="130680" cy="471240"/>
              <a:chOff x="7183800" y="4554000"/>
              <a:chExt cx="130680" cy="471240"/>
            </a:xfrm>
          </p:grpSpPr>
          <p:sp>
            <p:nvSpPr>
              <p:cNvPr id="494" name=""/>
              <p:cNvSpPr/>
              <p:nvPr/>
            </p:nvSpPr>
            <p:spPr>
              <a:xfrm flipH="1">
                <a:off x="722484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>
                <a:off x="727632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718344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721980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718668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18900000">
            <a:off x="3224160" y="2619000"/>
            <a:ext cx="2455920" cy="2454120"/>
          </a:xfrm>
          <a:custGeom>
            <a:avLst/>
            <a:gdLst>
              <a:gd name="textAreaLeft" fmla="*/ 613800 w 2455920"/>
              <a:gd name="textAreaRight" fmla="*/ 1842120 w 2455920"/>
              <a:gd name="textAreaTop" fmla="*/ 613440 h 2454120"/>
              <a:gd name="textAreaBottom" fmla="*/ 1840680 h 24541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17480" y="21160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91c4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429240" y="470052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91c4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33520" y="47354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421320" y="2055960"/>
            <a:ext cx="1598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2459160" y="1920960"/>
            <a:ext cx="1222200" cy="122544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2459160" y="1917720"/>
            <a:ext cx="1214280" cy="1233360"/>
          </a:xfrm>
          <a:prstGeom prst="ellipse">
            <a:avLst/>
          </a:prstGeom>
          <a:solidFill>
            <a:srgbClr val="32b66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2460600" y="4546440"/>
            <a:ext cx="1220760" cy="12258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2460600" y="4543560"/>
            <a:ext cx="1216080" cy="1233360"/>
          </a:xfrm>
          <a:prstGeom prst="ellipse">
            <a:avLst/>
          </a:prstGeom>
          <a:solidFill>
            <a:srgbClr val="4c9b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3"/>
          <a:stretch/>
        </p:blipFill>
        <p:spPr>
          <a:xfrm>
            <a:off x="5205240" y="4535640"/>
            <a:ext cx="1222560" cy="122544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5205240" y="4522680"/>
            <a:ext cx="1216080" cy="1233720"/>
          </a:xfrm>
          <a:prstGeom prst="ellipse">
            <a:avLst/>
          </a:prstGeom>
          <a:solidFill>
            <a:srgbClr val="32b66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4"/>
          <a:stretch/>
        </p:blipFill>
        <p:spPr>
          <a:xfrm>
            <a:off x="5205240" y="1906560"/>
            <a:ext cx="1221120" cy="122724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5205240" y="1905120"/>
            <a:ext cx="1216080" cy="1233360"/>
          </a:xfrm>
          <a:prstGeom prst="ellipse">
            <a:avLst/>
          </a:prstGeom>
          <a:solidFill>
            <a:srgbClr val="4c9b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695680" y="25812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2882880" y="2170080"/>
            <a:ext cx="360360" cy="363240"/>
            <a:chOff x="2882880" y="2170080"/>
            <a:chExt cx="360360" cy="363240"/>
          </a:xfrm>
        </p:grpSpPr>
        <p:sp>
          <p:nvSpPr>
            <p:cNvPr id="515" name=""/>
            <p:cNvSpPr/>
            <p:nvPr/>
          </p:nvSpPr>
          <p:spPr>
            <a:xfrm>
              <a:off x="2882880" y="2170080"/>
              <a:ext cx="360360" cy="361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64320" y="2170080"/>
              <a:ext cx="0" cy="35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882880" y="234936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088440" y="2172240"/>
              <a:ext cx="74520" cy="3564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66400" y="2174760"/>
              <a:ext cx="81000" cy="35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5400000">
              <a:off x="3033360" y="231876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 rot="16200000">
              <a:off x="3036960" y="211212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5605560" y="4781520"/>
            <a:ext cx="487080" cy="390240"/>
            <a:chOff x="5605560" y="4781520"/>
            <a:chExt cx="487080" cy="390240"/>
          </a:xfrm>
        </p:grpSpPr>
        <p:sp>
          <p:nvSpPr>
            <p:cNvPr id="523" name=""/>
            <p:cNvSpPr/>
            <p:nvPr/>
          </p:nvSpPr>
          <p:spPr>
            <a:xfrm>
              <a:off x="5958720" y="4781520"/>
              <a:ext cx="133920" cy="13536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709240" y="4857840"/>
              <a:ext cx="315360" cy="263880"/>
            </a:xfrm>
            <a:custGeom>
              <a:avLst/>
              <a:gdLst/>
              <a:ahLst/>
              <a:rect l="l" t="t" r="r" b="b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709240" y="4781520"/>
              <a:ext cx="263160" cy="274680"/>
            </a:xfrm>
            <a:custGeom>
              <a:avLst/>
              <a:gdLst/>
              <a:ahLst/>
              <a:rect l="l" t="t" r="r" b="b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761080" y="4903200"/>
              <a:ext cx="324360" cy="21888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629680" y="4976280"/>
              <a:ext cx="185760" cy="18900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605560" y="5133960"/>
              <a:ext cx="45000" cy="378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5639040" y="5052240"/>
              <a:ext cx="7596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5649480" y="5118480"/>
              <a:ext cx="115200" cy="3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507200">
              <a:off x="6007680" y="4826520"/>
              <a:ext cx="49320" cy="3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2878200" y="4782960"/>
            <a:ext cx="409680" cy="355320"/>
            <a:chOff x="2878200" y="4782960"/>
            <a:chExt cx="409680" cy="355320"/>
          </a:xfrm>
        </p:grpSpPr>
        <p:sp>
          <p:nvSpPr>
            <p:cNvPr id="533" name=""/>
            <p:cNvSpPr/>
            <p:nvPr/>
          </p:nvSpPr>
          <p:spPr>
            <a:xfrm>
              <a:off x="2962080" y="4782960"/>
              <a:ext cx="244080" cy="246240"/>
            </a:xfrm>
            <a:custGeom>
              <a:avLst/>
              <a:gdLst>
                <a:gd name="textAreaLeft" fmla="*/ 4320 w 244080"/>
                <a:gd name="textAreaRight" fmla="*/ 239760 w 244080"/>
                <a:gd name="textAreaTop" fmla="*/ 4320 h 246240"/>
                <a:gd name="textAreaBottom" fmla="*/ 241920 h 246240"/>
              </a:gdLst>
              <a:ahLst/>
              <a:rect l="textAreaLeft" t="textAreaTop" r="textAreaRight" b="textAreaBottom"/>
              <a:pathLst>
                <a:path w="21600" h="21791">
                  <a:moveTo>
                    <a:pt x="1350" y="0"/>
                  </a:moveTo>
                  <a:arcTo wR="1350" hR="1350" stAng="16200000" swAng="-5400000"/>
                  <a:lnTo>
                    <a:pt x="0" y="20441"/>
                  </a:lnTo>
                  <a:arcTo wR="1350" hR="1350" stAng="10800000" swAng="-5400000"/>
                  <a:lnTo>
                    <a:pt x="20250" y="21791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78200" y="5029200"/>
              <a:ext cx="409680" cy="109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82960" y="4806360"/>
              <a:ext cx="201960" cy="193680"/>
            </a:xfrm>
            <a:prstGeom prst="roundRect">
              <a:avLst>
                <a:gd name="adj" fmla="val 797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3166560" y="5081760"/>
              <a:ext cx="61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3057840" y="4856400"/>
              <a:ext cx="1022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083760" y="4882680"/>
              <a:ext cx="6300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3101400" y="4964760"/>
              <a:ext cx="446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5595840" y="2170080"/>
            <a:ext cx="519120" cy="330120"/>
            <a:chOff x="5595840" y="2170080"/>
            <a:chExt cx="519120" cy="330120"/>
          </a:xfrm>
        </p:grpSpPr>
        <p:grpSp>
          <p:nvGrpSpPr>
            <p:cNvPr id="541" name=""/>
            <p:cNvGrpSpPr/>
            <p:nvPr/>
          </p:nvGrpSpPr>
          <p:grpSpPr>
            <a:xfrm>
              <a:off x="5595840" y="2170080"/>
              <a:ext cx="519120" cy="330120"/>
              <a:chOff x="5595840" y="2170080"/>
              <a:chExt cx="519120" cy="330120"/>
            </a:xfrm>
          </p:grpSpPr>
          <p:sp>
            <p:nvSpPr>
              <p:cNvPr id="542" name=""/>
              <p:cNvSpPr/>
              <p:nvPr/>
            </p:nvSpPr>
            <p:spPr>
              <a:xfrm>
                <a:off x="5595840" y="2170080"/>
                <a:ext cx="519120" cy="330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000066">
                  <a:alpha val="60000"/>
                </a:srgbClr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879160" y="2309760"/>
                <a:ext cx="227160" cy="18072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617800" y="2282040"/>
                <a:ext cx="267120" cy="145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>
              <a:off x="5960520" y="2415600"/>
              <a:ext cx="50760" cy="464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66">
                <a:alpha val="60000"/>
              </a:srgbClr>
            </a:solidFill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5442120" y="258120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697120" y="523728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442120" y="523728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830760" y="34560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827440" y="2092320"/>
            <a:ext cx="3457440" cy="345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6623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22680" y="1665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b66e"/>
              </a:gs>
              <a:gs pos="100000">
                <a:srgbClr val="268a53"/>
              </a:gs>
            </a:gsLst>
            <a:lin ang="5400000"/>
          </a:gradFill>
          <a:ln w="57240">
            <a:solidFill>
              <a:srgbClr val="32b66e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35720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b66e"/>
              </a:gs>
              <a:gs pos="100000">
                <a:srgbClr val="268a53"/>
              </a:gs>
            </a:gsLst>
            <a:lin ang="5400000"/>
          </a:gradFill>
          <a:ln w="57240">
            <a:solidFill>
              <a:srgbClr val="32b66e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86728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b66e"/>
              </a:gs>
              <a:gs pos="100000">
                <a:srgbClr val="268a53"/>
              </a:gs>
            </a:gsLst>
            <a:lin ang="5400000"/>
          </a:gradFill>
          <a:ln w="57240">
            <a:solidFill>
              <a:srgbClr val="32b66e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940040" y="4743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b66e"/>
              </a:gs>
              <a:gs pos="100000">
                <a:srgbClr val="268a53"/>
              </a:gs>
            </a:gsLst>
            <a:lin ang="5400000"/>
          </a:gradFill>
          <a:ln w="57240">
            <a:solidFill>
              <a:srgbClr val="32b66e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234040" y="475632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b66e"/>
              </a:gs>
              <a:gs pos="100000">
                <a:srgbClr val="268a53"/>
              </a:gs>
            </a:gsLst>
            <a:lin ang="5400000"/>
          </a:gradFill>
          <a:ln w="57240">
            <a:solidFill>
              <a:srgbClr val="32b66e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649840" y="1724040"/>
            <a:ext cx="218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262560" y="3716280"/>
            <a:ext cx="14972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170320" y="5451480"/>
            <a:ext cx="2281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482840" y="3720960"/>
            <a:ext cx="154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825560" y="5451480"/>
            <a:ext cx="219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840120" y="18064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56204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10056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416560" y="4902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193840" y="48387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997440" y="3543480"/>
            <a:ext cx="1182600" cy="434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itle</a:t>
            </a:r>
            <a:endParaRPr b="1" lang="en-US" sz="20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549680" y="1598760"/>
            <a:ext cx="0" cy="2560320"/>
          </a:xfrm>
          <a:prstGeom prst="line">
            <a:avLst/>
          </a:prstGeom>
          <a:ln w="12600">
            <a:solidFill>
              <a:srgbClr val="3491c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338640" y="2198520"/>
            <a:ext cx="2428920" cy="1398600"/>
          </a:xfrm>
          <a:prstGeom prst="line">
            <a:avLst/>
          </a:prstGeom>
          <a:ln w="12600">
            <a:solidFill>
              <a:srgbClr val="3491c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3538440" y="1863720"/>
            <a:ext cx="2009880" cy="2008080"/>
            <a:chOff x="3538440" y="1863720"/>
            <a:chExt cx="2009880" cy="2008080"/>
          </a:xfrm>
        </p:grpSpPr>
        <p:sp>
          <p:nvSpPr>
            <p:cNvPr id="572" name=""/>
            <p:cNvSpPr/>
            <p:nvPr/>
          </p:nvSpPr>
          <p:spPr>
            <a:xfrm>
              <a:off x="3538440" y="1863720"/>
              <a:ext cx="2009880" cy="2008080"/>
            </a:xfrm>
            <a:prstGeom prst="ellipse">
              <a:avLst/>
            </a:prstGeom>
            <a:noFill/>
            <a:ln w="9360">
              <a:solidFill>
                <a:srgbClr val="3491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669840" y="2001240"/>
              <a:ext cx="1745640" cy="1744200"/>
            </a:xfrm>
            <a:prstGeom prst="ellipse">
              <a:avLst/>
            </a:prstGeom>
            <a:noFill/>
            <a:ln w="9360">
              <a:solidFill>
                <a:srgbClr val="3491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14920" y="2152440"/>
              <a:ext cx="1468080" cy="1467000"/>
            </a:xfrm>
            <a:prstGeom prst="ellipse">
              <a:avLst/>
            </a:prstGeom>
            <a:noFill/>
            <a:ln w="9360">
              <a:solidFill>
                <a:srgbClr val="3491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941280" y="2304000"/>
              <a:ext cx="1190520" cy="1189080"/>
            </a:xfrm>
            <a:prstGeom prst="ellipse">
              <a:avLst/>
            </a:prstGeom>
            <a:noFill/>
            <a:ln w="9360">
              <a:solidFill>
                <a:srgbClr val="3491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086000" y="2448720"/>
              <a:ext cx="912960" cy="911880"/>
            </a:xfrm>
            <a:prstGeom prst="ellipse">
              <a:avLst/>
            </a:prstGeom>
            <a:noFill/>
            <a:ln w="9360">
              <a:solidFill>
                <a:srgbClr val="3491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18840" y="2574720"/>
              <a:ext cx="647640" cy="647280"/>
            </a:xfrm>
            <a:prstGeom prst="ellipse">
              <a:avLst/>
            </a:prstGeom>
            <a:noFill/>
            <a:ln w="9360">
              <a:solidFill>
                <a:srgbClr val="3491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38720" y="2701080"/>
              <a:ext cx="407880" cy="407520"/>
            </a:xfrm>
            <a:prstGeom prst="ellipse">
              <a:avLst/>
            </a:prstGeom>
            <a:noFill/>
            <a:ln w="9360">
              <a:solidFill>
                <a:srgbClr val="3491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79" name=""/>
          <p:cNvSpPr/>
          <p:nvPr/>
        </p:nvSpPr>
        <p:spPr>
          <a:xfrm flipV="1">
            <a:off x="3330720" y="2224080"/>
            <a:ext cx="2431800" cy="1355760"/>
          </a:xfrm>
          <a:prstGeom prst="line">
            <a:avLst/>
          </a:prstGeom>
          <a:ln w="12600">
            <a:solidFill>
              <a:srgbClr val="3491c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97200" y="2236680"/>
            <a:ext cx="1622520" cy="1165320"/>
          </a:xfrm>
          <a:custGeom>
            <a:avLst/>
            <a:gdLst/>
            <a:ahLst/>
            <a:rect l="l" t="t" r="r" b="b"/>
            <a:pathLst>
              <a:path w="1542" h="1110">
                <a:moveTo>
                  <a:pt x="804" y="0"/>
                </a:moveTo>
                <a:lnTo>
                  <a:pt x="54" y="198"/>
                </a:lnTo>
                <a:lnTo>
                  <a:pt x="0" y="1110"/>
                </a:lnTo>
                <a:lnTo>
                  <a:pt x="804" y="1098"/>
                </a:lnTo>
                <a:lnTo>
                  <a:pt x="960" y="714"/>
                </a:lnTo>
                <a:lnTo>
                  <a:pt x="1542" y="204"/>
                </a:lnTo>
                <a:lnTo>
                  <a:pt x="804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rcRect l="37892" t="32815" r="31252" b="24483"/>
          <a:stretch/>
        </p:blipFill>
        <p:spPr>
          <a:xfrm flipH="1" rot="35400">
            <a:off x="4686120" y="2953800"/>
            <a:ext cx="69840" cy="7164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2"/>
          <a:srcRect l="37892" t="32815" r="31252" b="24483"/>
          <a:stretch/>
        </p:blipFill>
        <p:spPr>
          <a:xfrm flipH="1" rot="40800">
            <a:off x="4468320" y="2162160"/>
            <a:ext cx="150840" cy="15552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3"/>
          <a:srcRect l="37892" t="32815" r="31252" b="24483"/>
          <a:stretch/>
        </p:blipFill>
        <p:spPr>
          <a:xfrm flipH="1" rot="43200">
            <a:off x="3666600" y="2339640"/>
            <a:ext cx="201600" cy="20484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4"/>
          <a:srcRect l="37892" t="32815" r="31252" b="24483"/>
          <a:stretch/>
        </p:blipFill>
        <p:spPr>
          <a:xfrm flipH="1" rot="40800">
            <a:off x="3536280" y="3259080"/>
            <a:ext cx="271440" cy="28116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5"/>
          <a:srcRect l="37892" t="32815" r="31252" b="24483"/>
          <a:stretch/>
        </p:blipFill>
        <p:spPr>
          <a:xfrm flipH="1" rot="38400">
            <a:off x="4479120" y="3314520"/>
            <a:ext cx="128520" cy="13320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6"/>
          <a:srcRect l="37892" t="32815" r="31252" b="24483"/>
          <a:stretch/>
        </p:blipFill>
        <p:spPr>
          <a:xfrm flipH="1" rot="43800">
            <a:off x="5221440" y="2369880"/>
            <a:ext cx="198360" cy="20628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3951000" y="131436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951000" y="42894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383080" y="36162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439720" y="36162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439720" y="193212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92520" y="193212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066680" y="4135320"/>
            <a:ext cx="251964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7"/>
          <a:srcRect l="37892" t="32815" r="31252" b="24483"/>
          <a:stretch/>
        </p:blipFill>
        <p:spPr>
          <a:xfrm flipH="1" rot="40800">
            <a:off x="1269720" y="3974760"/>
            <a:ext cx="365040" cy="3747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1073160" y="4359240"/>
            <a:ext cx="760320" cy="378000"/>
          </a:xfrm>
          <a:prstGeom prst="rect">
            <a:avLst/>
          </a:prstGeom>
          <a:solidFill>
            <a:srgbClr val="366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833480" y="4137120"/>
            <a:ext cx="1751040" cy="231840"/>
          </a:xfrm>
          <a:prstGeom prst="rect">
            <a:avLst/>
          </a:prstGeom>
          <a:solidFill>
            <a:srgbClr val="a4d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076400" y="435276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95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58200" y="411948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909800" y="434016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066680" y="4905360"/>
            <a:ext cx="251964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073160" y="5129280"/>
            <a:ext cx="760320" cy="377640"/>
          </a:xfrm>
          <a:prstGeom prst="rect">
            <a:avLst/>
          </a:prstGeom>
          <a:solidFill>
            <a:srgbClr val="366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833480" y="4906800"/>
            <a:ext cx="1751040" cy="231840"/>
          </a:xfrm>
          <a:prstGeom prst="rect">
            <a:avLst/>
          </a:prstGeom>
          <a:solidFill>
            <a:srgbClr val="a4d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76400" y="512280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80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158200" y="4890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9800" y="511164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066680" y="5661000"/>
            <a:ext cx="251964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073160" y="5884920"/>
            <a:ext cx="760320" cy="376200"/>
          </a:xfrm>
          <a:prstGeom prst="rect">
            <a:avLst/>
          </a:prstGeom>
          <a:solidFill>
            <a:srgbClr val="366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833480" y="5662440"/>
            <a:ext cx="1751040" cy="231840"/>
          </a:xfrm>
          <a:prstGeom prst="rect">
            <a:avLst/>
          </a:prstGeom>
          <a:solidFill>
            <a:srgbClr val="a4d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76400" y="587844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158200" y="56451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909800" y="586584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430960" y="4118040"/>
            <a:ext cx="251748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435640" y="4341960"/>
            <a:ext cx="762120" cy="377640"/>
          </a:xfrm>
          <a:prstGeom prst="rect">
            <a:avLst/>
          </a:prstGeom>
          <a:solidFill>
            <a:srgbClr val="366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197760" y="4119480"/>
            <a:ext cx="1750680" cy="231840"/>
          </a:xfrm>
          <a:prstGeom prst="rect">
            <a:avLst/>
          </a:prstGeom>
          <a:solidFill>
            <a:srgbClr val="a4d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440320" y="433548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45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522480" y="410364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273720" y="432432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430960" y="4878360"/>
            <a:ext cx="251748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435640" y="5100480"/>
            <a:ext cx="762120" cy="378000"/>
          </a:xfrm>
          <a:prstGeom prst="rect">
            <a:avLst/>
          </a:prstGeom>
          <a:solidFill>
            <a:srgbClr val="366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197760" y="4879800"/>
            <a:ext cx="1750680" cy="231840"/>
          </a:xfrm>
          <a:prstGeom prst="rect">
            <a:avLst/>
          </a:prstGeom>
          <a:solidFill>
            <a:srgbClr val="a4d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440320" y="509436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37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522480" y="4863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273720" y="508176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430960" y="5640480"/>
            <a:ext cx="251748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435640" y="5864400"/>
            <a:ext cx="762120" cy="377640"/>
          </a:xfrm>
          <a:prstGeom prst="rect">
            <a:avLst/>
          </a:prstGeom>
          <a:solidFill>
            <a:srgbClr val="366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197760" y="5641920"/>
            <a:ext cx="1750680" cy="231840"/>
          </a:xfrm>
          <a:prstGeom prst="rect">
            <a:avLst/>
          </a:prstGeom>
          <a:solidFill>
            <a:srgbClr val="a4d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440320" y="585792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522480" y="562464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273720" y="584676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8"/>
          <a:srcRect l="37892" t="32815" r="31252" b="24483"/>
          <a:stretch/>
        </p:blipFill>
        <p:spPr>
          <a:xfrm flipH="1" rot="42600">
            <a:off x="1277640" y="4812840"/>
            <a:ext cx="288720" cy="29232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9"/>
          <a:srcRect l="37892" t="32815" r="31252" b="24483"/>
          <a:stretch/>
        </p:blipFill>
        <p:spPr>
          <a:xfrm flipH="1" rot="42000">
            <a:off x="1304640" y="5625720"/>
            <a:ext cx="234720" cy="23976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10"/>
          <a:srcRect l="37892" t="32815" r="31252" b="24483"/>
          <a:stretch/>
        </p:blipFill>
        <p:spPr>
          <a:xfrm flipH="1" rot="40800">
            <a:off x="5709960" y="4129200"/>
            <a:ext cx="150840" cy="15552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11"/>
          <a:srcRect l="37892" t="32815" r="31252" b="24483"/>
          <a:stretch/>
        </p:blipFill>
        <p:spPr>
          <a:xfrm flipH="1" rot="38400">
            <a:off x="5720760" y="4917600"/>
            <a:ext cx="128520" cy="13356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12"/>
          <a:srcRect l="37892" t="32815" r="31252" b="24483"/>
          <a:stretch/>
        </p:blipFill>
        <p:spPr>
          <a:xfrm flipH="1" rot="36600">
            <a:off x="5752440" y="5705640"/>
            <a:ext cx="68040" cy="712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395280" y="1270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c9bba"/>
                </a:solidFill>
                <a:uFillTx/>
                <a:latin typeface="Arial"/>
                <a:hlinkClick r:id="rId13"/>
              </a:rPr>
              <a:t>ppt模版免费下载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143000" y="1981080"/>
            <a:ext cx="3833640" cy="383400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217849">
                  <a:alpha val="12156"/>
                </a:srgbClr>
              </a:gs>
              <a:gs pos="50000">
                <a:srgbClr val="32b66e"/>
              </a:gs>
              <a:gs pos="100000">
                <a:srgbClr val="217849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223e27"/>
              </a:gs>
              <a:gs pos="100000">
                <a:srgbClr val="36623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1f9f5"/>
              </a:gs>
              <a:gs pos="100000">
                <a:srgbClr val="32b66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fdf9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1f9f5"/>
              </a:gs>
              <a:gs pos="100000">
                <a:srgbClr val="32b66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fdf9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1f9f5"/>
              </a:gs>
              <a:gs pos="100000">
                <a:srgbClr val="32b66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 flipH="1">
            <a:off x="2401200" y="1771560"/>
            <a:ext cx="4428360" cy="454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8" y="0"/>
                </a:moveTo>
                <a:arcTo wR="10800" hR="10800" stAng="-5384563" swAng="5384563"/>
                <a:lnTo>
                  <a:pt x="10800" y="10800"/>
                </a:lnTo>
                <a:close/>
              </a:path>
              <a:path fill="none" w="21600" h="21600">
                <a:moveTo>
                  <a:pt x="10848" y="0"/>
                </a:moveTo>
                <a:arcTo wR="10800" hR="10800" stAng="-5384563" swAng="5384563"/>
              </a:path>
            </a:pathLst>
          </a:custGeom>
          <a:solidFill>
            <a:srgbClr val="36623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2412720" y="1870560"/>
            <a:ext cx="4374000" cy="436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32b66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340360" y="1771560"/>
            <a:ext cx="45378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7" y="0"/>
                </a:moveTo>
                <a:arcTo wR="10800" hR="10800" stAng="-5413589" swAng="5413589"/>
                <a:lnTo>
                  <a:pt x="10800" y="10800"/>
                </a:lnTo>
                <a:close/>
              </a:path>
              <a:path fill="none" w="21600" h="21600">
                <a:moveTo>
                  <a:pt x="10757" y="0"/>
                </a:moveTo>
                <a:arcTo wR="10800" hR="10800" stAng="-5413589" swAng="5413589"/>
              </a:path>
            </a:pathLst>
          </a:custGeom>
          <a:solidFill>
            <a:srgbClr val="a4d0a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2340000" y="1853280"/>
            <a:ext cx="4536720" cy="43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3491c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527920" y="1930320"/>
            <a:ext cx="4164480" cy="424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729072"/>
              </a:gs>
              <a:gs pos="100000">
                <a:srgbClr val="a4d0a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3151080" y="2505960"/>
            <a:ext cx="2926800" cy="299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32b66e"/>
              </a:gs>
              <a:gs pos="100000">
                <a:srgbClr val="227e4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3434400" y="2823840"/>
            <a:ext cx="2351520" cy="24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17425a"/>
              </a:gs>
              <a:gs pos="100000">
                <a:srgbClr val="3491c4">
                  <a:alpha val="9019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2961720" y="2354400"/>
            <a:ext cx="3307320" cy="339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8" y="0"/>
                </a:moveTo>
                <a:arcTo wR="10800" hR="10800" stAng="-5384563" swAng="5384563"/>
                <a:lnTo>
                  <a:pt x="10800" y="10800"/>
                </a:lnTo>
                <a:close/>
              </a:path>
              <a:path fill="none" w="21600" h="21600">
                <a:moveTo>
                  <a:pt x="10848" y="0"/>
                </a:moveTo>
                <a:arcTo wR="10800" hR="10800" stAng="-5384563" swAng="5384563"/>
              </a:path>
            </a:pathLst>
          </a:custGeom>
          <a:gradFill rotWithShape="0">
            <a:gsLst>
              <a:gs pos="0">
                <a:srgbClr val="203b26"/>
              </a:gs>
              <a:gs pos="100000">
                <a:srgbClr val="36623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075040" y="4043520"/>
            <a:ext cx="5070240" cy="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08360" y="1571760"/>
            <a:ext cx="0" cy="481464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152800" y="1469880"/>
            <a:ext cx="339480" cy="768600"/>
            <a:chOff x="2152800" y="1469880"/>
            <a:chExt cx="339480" cy="768600"/>
          </a:xfrm>
        </p:grpSpPr>
        <p:pic>
          <p:nvPicPr>
            <p:cNvPr id="656" name="" descr=""/>
            <p:cNvPicPr/>
            <p:nvPr/>
          </p:nvPicPr>
          <p:blipFill>
            <a:blip r:embed="rId1"/>
            <a:stretch/>
          </p:blipFill>
          <p:spPr>
            <a:xfrm>
              <a:off x="2152800" y="1469880"/>
              <a:ext cx="33948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2258640" y="147024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95280" y="1638720"/>
              <a:ext cx="270360" cy="56592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877080" y="1469880"/>
            <a:ext cx="339840" cy="768600"/>
            <a:chOff x="6877080" y="1469880"/>
            <a:chExt cx="339840" cy="768600"/>
          </a:xfrm>
        </p:grpSpPr>
        <p:pic>
          <p:nvPicPr>
            <p:cNvPr id="660" name="" descr=""/>
            <p:cNvPicPr/>
            <p:nvPr/>
          </p:nvPicPr>
          <p:blipFill>
            <a:blip r:embed="rId2"/>
            <a:stretch/>
          </p:blipFill>
          <p:spPr>
            <a:xfrm>
              <a:off x="6877080" y="1469880"/>
              <a:ext cx="3398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6983280" y="147024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33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19560" y="1638720"/>
              <a:ext cx="270360" cy="56592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33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6915240" y="5272200"/>
            <a:ext cx="339480" cy="768240"/>
            <a:chOff x="6915240" y="5272200"/>
            <a:chExt cx="339480" cy="768240"/>
          </a:xfrm>
        </p:grpSpPr>
        <p:pic>
          <p:nvPicPr>
            <p:cNvPr id="664" name="" descr=""/>
            <p:cNvPicPr/>
            <p:nvPr/>
          </p:nvPicPr>
          <p:blipFill>
            <a:blip r:embed="rId3"/>
            <a:stretch/>
          </p:blipFill>
          <p:spPr>
            <a:xfrm>
              <a:off x="6915240" y="5272200"/>
              <a:ext cx="339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"/>
            <p:cNvSpPr/>
            <p:nvPr/>
          </p:nvSpPr>
          <p:spPr>
            <a:xfrm>
              <a:off x="7021080" y="527256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66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57720" y="5441040"/>
              <a:ext cx="270360" cy="56556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66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2036880" y="5272200"/>
            <a:ext cx="339480" cy="768240"/>
            <a:chOff x="2036880" y="5272200"/>
            <a:chExt cx="339480" cy="768240"/>
          </a:xfrm>
        </p:grpSpPr>
        <p:pic>
          <p:nvPicPr>
            <p:cNvPr id="668" name="" descr=""/>
            <p:cNvPicPr/>
            <p:nvPr/>
          </p:nvPicPr>
          <p:blipFill>
            <a:blip r:embed="rId4"/>
            <a:stretch/>
          </p:blipFill>
          <p:spPr>
            <a:xfrm>
              <a:off x="2036880" y="5272200"/>
              <a:ext cx="339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2142720" y="527256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079360" y="5441040"/>
              <a:ext cx="270360" cy="56556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7268040" y="561492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D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Group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44480" y="11955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184520" y="39132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540800" y="39132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4345560" y="646272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70440" y="516744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roduct_24%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245720" y="181296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B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Group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43440" y="304488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roduct_76%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997560" y="17748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A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Group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973240" y="287640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roduct_50%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997560" y="55944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C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Group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577960" y="458136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roduct_38%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976480" y="3174840"/>
            <a:ext cx="465120" cy="532080"/>
          </a:xfrm>
          <a:custGeom>
            <a:avLst/>
            <a:gdLst>
              <a:gd name="textAreaLeft" fmla="*/ 0 w 465120"/>
              <a:gd name="textAreaRight" fmla="*/ 465480 w 46512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2b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491080" y="3174840"/>
            <a:ext cx="463680" cy="532080"/>
          </a:xfrm>
          <a:custGeom>
            <a:avLst/>
            <a:gdLst>
              <a:gd name="textAreaLeft" fmla="*/ 0 w 463680"/>
              <a:gd name="textAreaRight" fmla="*/ 464040 w 46368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c9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4c9bba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4c9bba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1516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285364"/>
              </a:gs>
              <a:gs pos="50000">
                <a:srgbClr val="4c9bba"/>
              </a:gs>
              <a:gs pos="100000">
                <a:srgbClr val="28536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180120" y="258444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4c9bba">
                  <a:alpha val="0"/>
                </a:srgbClr>
              </a:gs>
              <a:gs pos="100000">
                <a:srgbClr val="3062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243480" y="2660760"/>
            <a:ext cx="15559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a4d0a4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a4d0a4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120680" y="2568600"/>
            <a:ext cx="1725840" cy="1733400"/>
          </a:xfrm>
          <a:prstGeom prst="ellipse">
            <a:avLst/>
          </a:prstGeom>
          <a:gradFill rotWithShape="0">
            <a:gsLst>
              <a:gs pos="0">
                <a:srgbClr val="587058"/>
              </a:gs>
              <a:gs pos="50000">
                <a:srgbClr val="a4d0a4"/>
              </a:gs>
              <a:gs pos="100000">
                <a:srgbClr val="58705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122480" y="257184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a4d0a4">
                  <a:alpha val="0"/>
                </a:srgbClr>
              </a:gs>
              <a:gs pos="100000">
                <a:srgbClr val="67836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206360" y="2655720"/>
            <a:ext cx="155448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231920" y="2678040"/>
            <a:ext cx="1503360" cy="1511280"/>
            <a:chOff x="1231920" y="2678040"/>
            <a:chExt cx="1503360" cy="1511280"/>
          </a:xfrm>
        </p:grpSpPr>
        <p:sp>
          <p:nvSpPr>
            <p:cNvPr id="698" name=""/>
            <p:cNvSpPr/>
            <p:nvPr/>
          </p:nvSpPr>
          <p:spPr>
            <a:xfrm>
              <a:off x="123192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5100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26648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34820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2b66e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175332"/>
              </a:gs>
              <a:gs pos="100000">
                <a:srgbClr val="32b66e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6370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1a623b"/>
              </a:gs>
              <a:gs pos="50000">
                <a:srgbClr val="32b66e"/>
              </a:gs>
              <a:gs pos="100000">
                <a:srgbClr val="1a623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638520" y="257796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32b66e">
                  <a:alpha val="0"/>
                </a:srgbClr>
              </a:gs>
              <a:gs pos="100000">
                <a:srgbClr val="1f734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722760" y="2660760"/>
            <a:ext cx="15541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3747960" y="2678040"/>
            <a:ext cx="1503360" cy="1511280"/>
            <a:chOff x="3747960" y="2678040"/>
            <a:chExt cx="1503360" cy="1511280"/>
          </a:xfrm>
        </p:grpSpPr>
        <p:sp>
          <p:nvSpPr>
            <p:cNvPr id="708" name=""/>
            <p:cNvSpPr/>
            <p:nvPr/>
          </p:nvSpPr>
          <p:spPr>
            <a:xfrm>
              <a:off x="374796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76704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8252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86424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6272280" y="2678040"/>
            <a:ext cx="1504800" cy="1511280"/>
            <a:chOff x="6272280" y="2678040"/>
            <a:chExt cx="1504800" cy="1511280"/>
          </a:xfrm>
        </p:grpSpPr>
        <p:sp>
          <p:nvSpPr>
            <p:cNvPr id="713" name=""/>
            <p:cNvSpPr/>
            <p:nvPr/>
          </p:nvSpPr>
          <p:spPr>
            <a:xfrm>
              <a:off x="6272280" y="2678040"/>
              <a:ext cx="150480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91360" y="2686320"/>
              <a:ext cx="146844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306840" y="2700720"/>
              <a:ext cx="139644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388920" y="2739600"/>
              <a:ext cx="124128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1035000" y="4933800"/>
            <a:ext cx="18925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54960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08004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5998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12236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6434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868320" y="2903400"/>
            <a:ext cx="7505640" cy="2676600"/>
          </a:xfrm>
          <a:custGeom>
            <a:avLst/>
            <a:gdLst/>
            <a:ahLst/>
            <a:rect l="l" t="t" r="r" b="b"/>
            <a:pathLst>
              <a:path w="4728" h="1686">
                <a:moveTo>
                  <a:pt x="1422" y="3"/>
                </a:moveTo>
                <a:cubicBezTo>
                  <a:pt x="1450" y="0"/>
                  <a:pt x="252" y="159"/>
                  <a:pt x="192" y="705"/>
                </a:cubicBezTo>
                <a:cubicBezTo>
                  <a:pt x="222" y="1041"/>
                  <a:pt x="828" y="1203"/>
                  <a:pt x="1096" y="1292"/>
                </a:cubicBezTo>
                <a:cubicBezTo>
                  <a:pt x="1364" y="1381"/>
                  <a:pt x="1955" y="1428"/>
                  <a:pt x="2388" y="1428"/>
                </a:cubicBezTo>
                <a:cubicBezTo>
                  <a:pt x="2821" y="1428"/>
                  <a:pt x="3307" y="1379"/>
                  <a:pt x="3672" y="1275"/>
                </a:cubicBezTo>
                <a:cubicBezTo>
                  <a:pt x="4037" y="1171"/>
                  <a:pt x="4506" y="987"/>
                  <a:pt x="4524" y="705"/>
                </a:cubicBezTo>
                <a:cubicBezTo>
                  <a:pt x="4518" y="207"/>
                  <a:pt x="3269" y="50"/>
                  <a:pt x="3294" y="27"/>
                </a:cubicBezTo>
                <a:cubicBezTo>
                  <a:pt x="3324" y="29"/>
                  <a:pt x="4674" y="201"/>
                  <a:pt x="4704" y="717"/>
                </a:cubicBezTo>
                <a:cubicBezTo>
                  <a:pt x="4728" y="1077"/>
                  <a:pt x="4236" y="1365"/>
                  <a:pt x="3798" y="1488"/>
                </a:cubicBezTo>
                <a:cubicBezTo>
                  <a:pt x="3360" y="1611"/>
                  <a:pt x="2883" y="1680"/>
                  <a:pt x="2412" y="1683"/>
                </a:cubicBezTo>
                <a:cubicBezTo>
                  <a:pt x="1941" y="1686"/>
                  <a:pt x="1374" y="1644"/>
                  <a:pt x="972" y="1506"/>
                </a:cubicBezTo>
                <a:cubicBezTo>
                  <a:pt x="570" y="1368"/>
                  <a:pt x="0" y="1173"/>
                  <a:pt x="24" y="723"/>
                </a:cubicBezTo>
                <a:cubicBezTo>
                  <a:pt x="42" y="117"/>
                  <a:pt x="1394" y="6"/>
                  <a:pt x="1422" y="3"/>
                </a:cubicBezTo>
                <a:close/>
              </a:path>
            </a:pathLst>
          </a:custGeom>
          <a:gradFill rotWithShape="0">
            <a:gsLst>
              <a:gs pos="0">
                <a:srgbClr val="336699"/>
              </a:gs>
              <a:gs pos="100000">
                <a:srgbClr val="d6e0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2865600" y="2700360"/>
            <a:ext cx="3606480" cy="759960"/>
            <a:chOff x="2865600" y="2700360"/>
            <a:chExt cx="3606480" cy="759960"/>
          </a:xfrm>
        </p:grpSpPr>
        <p:sp>
          <p:nvSpPr>
            <p:cNvPr id="726" name=""/>
            <p:cNvSpPr/>
            <p:nvPr/>
          </p:nvSpPr>
          <p:spPr>
            <a:xfrm>
              <a:off x="2865600" y="2715480"/>
              <a:ext cx="3603600" cy="744840"/>
            </a:xfrm>
            <a:prstGeom prst="ellipse">
              <a:avLst/>
            </a:prstGeom>
            <a:gradFill rotWithShape="0">
              <a:gsLst>
                <a:gs pos="0">
                  <a:srgbClr val="003854"/>
                </a:gs>
                <a:gs pos="50000">
                  <a:srgbClr val="006699"/>
                </a:gs>
                <a:gs pos="100000">
                  <a:srgbClr val="003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865600" y="2703960"/>
              <a:ext cx="3606480" cy="70416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a8ca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868120" y="2700360"/>
              <a:ext cx="3583080" cy="694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ff">
                    <a:alpha val="5098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3327480" y="2782800"/>
            <a:ext cx="56664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666880" y="2362320"/>
            <a:ext cx="173988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284a2f"/>
              </a:gs>
              <a:gs pos="100000">
                <a:srgbClr val="3662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449600" y="2006640"/>
            <a:ext cx="567000" cy="114444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741840" y="1712880"/>
            <a:ext cx="2043000" cy="57636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8cb28c"/>
              </a:gs>
              <a:gs pos="100000">
                <a:srgbClr val="a4d0a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438880" y="2782800"/>
            <a:ext cx="56664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62520" y="2367000"/>
            <a:ext cx="168912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2a9c5e"/>
              </a:gs>
              <a:gs pos="100000">
                <a:srgbClr val="32b66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865600" y="25671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984920" y="25671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087800" y="18907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rot="1218000">
            <a:off x="1399680" y="47563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20616600">
            <a:off x="6283440" y="486252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459160" y="367344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3608280" y="4479840"/>
            <a:ext cx="1863720" cy="184464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3611520" y="4473720"/>
            <a:ext cx="1863720" cy="1850760"/>
          </a:xfrm>
          <a:prstGeom prst="ellipse">
            <a:avLst/>
          </a:prstGeom>
          <a:gradFill rotWithShape="0">
            <a:gsLst>
              <a:gs pos="0">
                <a:srgbClr val="ffff00">
                  <a:alpha val="85098"/>
                </a:srgbClr>
              </a:gs>
              <a:gs pos="100000">
                <a:srgbClr val="ffff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957480" y="5130720"/>
            <a:ext cx="117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5532480" y="3643200"/>
            <a:ext cx="1643040" cy="162576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 rot="851400">
            <a:off x="4339800" y="3736440"/>
            <a:ext cx="1041480" cy="777960"/>
          </a:xfrm>
          <a:custGeom>
            <a:avLst/>
            <a:gdLst/>
            <a:ahLst/>
            <a:rect l="l" t="t" r="r" b="b"/>
            <a:pathLst>
              <a:path w="1168" h="1041">
                <a:moveTo>
                  <a:pt x="959" y="451"/>
                </a:moveTo>
                <a:lnTo>
                  <a:pt x="959" y="595"/>
                </a:lnTo>
                <a:cubicBezTo>
                  <a:pt x="731" y="553"/>
                  <a:pt x="274" y="438"/>
                  <a:pt x="221" y="0"/>
                </a:cubicBezTo>
                <a:cubicBezTo>
                  <a:pt x="89" y="75"/>
                  <a:pt x="0" y="906"/>
                  <a:pt x="71" y="1041"/>
                </a:cubicBezTo>
                <a:cubicBezTo>
                  <a:pt x="377" y="619"/>
                  <a:pt x="814" y="742"/>
                  <a:pt x="959" y="713"/>
                </a:cubicBezTo>
                <a:lnTo>
                  <a:pt x="959" y="870"/>
                </a:lnTo>
                <a:lnTo>
                  <a:pt x="1168" y="667"/>
                </a:lnTo>
                <a:lnTo>
                  <a:pt x="959" y="451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9898c1"/>
              </a:gs>
            </a:gsLst>
            <a:lin ang="9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2"/>
          <a:stretch/>
        </p:blipFill>
        <p:spPr>
          <a:xfrm>
            <a:off x="1503360" y="1843200"/>
            <a:ext cx="3181320" cy="3152520"/>
          </a:xfrm>
          <a:prstGeom prst="rect">
            <a:avLst/>
          </a:prstGeom>
          <a:ln w="0">
            <a:noFill/>
          </a:ln>
        </p:spPr>
      </p:pic>
      <p:grpSp>
        <p:nvGrpSpPr>
          <p:cNvPr id="747" name=""/>
          <p:cNvGrpSpPr/>
          <p:nvPr/>
        </p:nvGrpSpPr>
        <p:grpSpPr>
          <a:xfrm>
            <a:off x="2095200" y="2615400"/>
            <a:ext cx="2745720" cy="2502720"/>
            <a:chOff x="2095200" y="2615400"/>
            <a:chExt cx="2745720" cy="2502720"/>
          </a:xfrm>
        </p:grpSpPr>
        <p:grpSp>
          <p:nvGrpSpPr>
            <p:cNvPr id="748" name=""/>
            <p:cNvGrpSpPr/>
            <p:nvPr/>
          </p:nvGrpSpPr>
          <p:grpSpPr>
            <a:xfrm>
              <a:off x="2728440" y="2615400"/>
              <a:ext cx="2112480" cy="2478240"/>
              <a:chOff x="2728440" y="2615400"/>
              <a:chExt cx="2112480" cy="2478240"/>
            </a:xfrm>
          </p:grpSpPr>
          <p:sp>
            <p:nvSpPr>
              <p:cNvPr id="749" name=""/>
              <p:cNvSpPr/>
              <p:nvPr/>
            </p:nvSpPr>
            <p:spPr>
              <a:xfrm flipH="1" flipV="1" rot="1528800">
                <a:off x="3905280" y="2622960"/>
                <a:ext cx="502560" cy="2058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 flipV="1" rot="2344200">
                <a:off x="3745440" y="2926080"/>
                <a:ext cx="502560" cy="2057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 flipV="1" rot="2640000">
                <a:off x="3612960" y="3073680"/>
                <a:ext cx="502560" cy="205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 flipV="1" rot="3172200">
                <a:off x="3448440" y="3243240"/>
                <a:ext cx="502560" cy="205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2095200" y="3297240"/>
              <a:ext cx="2653920" cy="1820880"/>
              <a:chOff x="2095200" y="3297240"/>
              <a:chExt cx="2653920" cy="1820880"/>
            </a:xfrm>
          </p:grpSpPr>
          <p:sp>
            <p:nvSpPr>
              <p:cNvPr id="754" name=""/>
              <p:cNvSpPr/>
              <p:nvPr/>
            </p:nvSpPr>
            <p:spPr>
              <a:xfrm flipH="1" flipV="1" rot="2881800">
                <a:off x="3561840" y="3143880"/>
                <a:ext cx="505080" cy="2059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 flipV="1" rot="3697200">
                <a:off x="3297960" y="3362040"/>
                <a:ext cx="505080" cy="2058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 flipV="1" rot="3993000">
                <a:off x="3119040" y="3447360"/>
                <a:ext cx="505080" cy="2058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 flipV="1" rot="4525200">
                <a:off x="2901600" y="3541320"/>
                <a:ext cx="505080" cy="2058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758" name=""/>
          <p:cNvSpPr/>
          <p:nvPr/>
        </p:nvSpPr>
        <p:spPr>
          <a:xfrm flipH="1" flipV="1" rot="5400000">
            <a:off x="1519920" y="1841400"/>
            <a:ext cx="3168360" cy="316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15" y="1"/>
                </a:moveTo>
                <a:arcTo wR="10800" hR="10800" stAng="-5363540" swAng="5395462"/>
                <a:lnTo>
                  <a:pt x="10800" y="10800"/>
                </a:lnTo>
                <a:close/>
              </a:path>
              <a:path fill="none" w="21600" h="21600">
                <a:moveTo>
                  <a:pt x="10915" y="1"/>
                </a:moveTo>
                <a:arcTo wR="10800" hR="10800" stAng="-5363540" swAng="5395462"/>
              </a:path>
            </a:pathLst>
          </a:custGeom>
          <a:solidFill>
            <a:srgbClr val="32b66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557360" y="1844640"/>
            <a:ext cx="3117600" cy="318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4c9b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 rot="16200000">
            <a:off x="1558800" y="1855080"/>
            <a:ext cx="3095640" cy="316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70" y="2"/>
                </a:moveTo>
                <a:arcTo wR="10800" hR="10800" stAng="-5473296" swAng="5505218"/>
                <a:lnTo>
                  <a:pt x="10800" y="10800"/>
                </a:lnTo>
                <a:close/>
              </a:path>
              <a:path fill="none" w="21600" h="21600">
                <a:moveTo>
                  <a:pt x="10570" y="2"/>
                </a:moveTo>
                <a:arcTo wR="10800" hR="10800" stAng="-5473296" swAng="5505218"/>
              </a:path>
            </a:pathLst>
          </a:custGeom>
          <a:solidFill>
            <a:srgbClr val="a4d0a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1557360" y="1872360"/>
            <a:ext cx="3117600" cy="310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ccff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435400" y="2752560"/>
            <a:ext cx="1349280" cy="134964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533920" y="3630600"/>
            <a:ext cx="1638360" cy="1646280"/>
          </a:xfrm>
          <a:prstGeom prst="ellipse">
            <a:avLst/>
          </a:prstGeom>
          <a:solidFill>
            <a:srgbClr val="ccff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351480" y="3633840"/>
            <a:ext cx="0" cy="1630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533920" y="4459320"/>
            <a:ext cx="1631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2930040" y="3368880"/>
            <a:ext cx="1807920" cy="1705320"/>
            <a:chOff x="2930040" y="3368880"/>
            <a:chExt cx="1807920" cy="1705320"/>
          </a:xfrm>
        </p:grpSpPr>
        <p:sp>
          <p:nvSpPr>
            <p:cNvPr id="767" name=""/>
            <p:cNvSpPr/>
            <p:nvPr/>
          </p:nvSpPr>
          <p:spPr>
            <a:xfrm flipH="1" flipV="1" rot="2089200">
              <a:off x="3960360" y="3326760"/>
              <a:ext cx="353880" cy="159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 flipV="1" rot="2905200">
              <a:off x="3799800" y="3538800"/>
              <a:ext cx="353880" cy="159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 flipV="1" rot="3200400">
              <a:off x="3683880" y="3637080"/>
              <a:ext cx="353880" cy="1593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 flipV="1" rot="3732600">
              <a:off x="3540600" y="3749400"/>
              <a:ext cx="353880" cy="159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1848240" y="24652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Subtit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429360" y="24652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Subtit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848240" y="39466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Subtit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451680" y="39466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Subtit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503440" y="2981160"/>
            <a:ext cx="119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Arial"/>
                <a:ea typeface="宋体"/>
              </a:rPr>
              <a:t>A title about cont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518440" y="412740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宋体"/>
              </a:rPr>
              <a:t>Subtitle01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340680" y="412740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宋体"/>
              </a:rPr>
              <a:t>Subtitle02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518440" y="459108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宋体"/>
              </a:rPr>
              <a:t>Subtitle03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330960" y="458136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宋体"/>
              </a:rPr>
              <a:t>Subtitle04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855800" y="5283360"/>
            <a:ext cx="24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宋体"/>
              </a:rPr>
              <a:t>2005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Company Conten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995720" y="2198520"/>
            <a:ext cx="2862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1" lang="en-US" sz="1200" spc="-1" strike="noStrike">
                <a:solidFill>
                  <a:srgbClr val="ff66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1" lang="en-US" sz="1200" spc="-1" strike="noStrike">
                <a:solidFill>
                  <a:srgbClr val="ff66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2019240" y="2438280"/>
            <a:ext cx="5257080" cy="2895480"/>
            <a:chOff x="2019240" y="2438280"/>
            <a:chExt cx="5257080" cy="2895480"/>
          </a:xfrm>
        </p:grpSpPr>
        <p:sp>
          <p:nvSpPr>
            <p:cNvPr id="785" name=""/>
            <p:cNvSpPr/>
            <p:nvPr/>
          </p:nvSpPr>
          <p:spPr>
            <a:xfrm>
              <a:off x="2811600" y="392832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647160" y="2438280"/>
              <a:ext cx="3619800" cy="178668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019240" y="28346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1943280" y="2362320"/>
            <a:ext cx="5333400" cy="2818800"/>
            <a:chOff x="1943280" y="2362320"/>
            <a:chExt cx="5333400" cy="2818800"/>
          </a:xfrm>
        </p:grpSpPr>
        <p:sp>
          <p:nvSpPr>
            <p:cNvPr id="789" name=""/>
            <p:cNvSpPr/>
            <p:nvPr/>
          </p:nvSpPr>
          <p:spPr>
            <a:xfrm>
              <a:off x="2747160" y="3812760"/>
              <a:ext cx="4529520" cy="136836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32b66e"/>
                </a:gs>
                <a:gs pos="100000">
                  <a:srgbClr val="17533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94600" y="236232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36623f"/>
                </a:gs>
                <a:gs pos="100000">
                  <a:srgbClr val="182d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943280" y="2748240"/>
              <a:ext cx="200628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4c9bba"/>
                </a:gs>
                <a:gs pos="100000">
                  <a:srgbClr val="7cb5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5715000" y="161928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762440" y="5334120"/>
            <a:ext cx="3048120" cy="853920"/>
          </a:xfrm>
          <a:noFill/>
          <a:ln w="9360">
            <a:solidFill>
              <a:srgbClr val="32b66e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71680" y="1676520"/>
            <a:ext cx="2192040" cy="965160"/>
          </a:xfrm>
          <a:noFill/>
          <a:ln w="9360">
            <a:solidFill>
              <a:srgbClr val="3491c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12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6623f"/>
                </a:gs>
                <a:gs pos="50000">
                  <a:srgbClr val="d3dcd5"/>
                </a:gs>
                <a:gs pos="100000">
                  <a:srgbClr val="36623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36623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17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2b66e"/>
                </a:gs>
                <a:gs pos="50000">
                  <a:srgbClr val="d2eedf"/>
                </a:gs>
                <a:gs pos="100000">
                  <a:srgbClr val="32b66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32b66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22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c9bba"/>
                </a:gs>
                <a:gs pos="50000">
                  <a:srgbClr val="d8e8ef"/>
                </a:gs>
                <a:gs pos="100000">
                  <a:srgbClr val="4c9bba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4c9bb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27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4d0a4"/>
                </a:gs>
                <a:gs pos="50000">
                  <a:srgbClr val="eaf4ea"/>
                </a:gs>
                <a:gs pos="100000">
                  <a:srgbClr val="a4d0a4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a4d0a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A77C1-CB77-497E-88D8-8B211FCFA5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4876560" y="2666520"/>
            <a:ext cx="3352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  <a:ea typeface="宋体"/>
              </a:rPr>
              <a:t>[ Add your company slogan ]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5181480" y="3048120"/>
            <a:ext cx="3810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6623f"/>
                    </a:gs>
                    <a:gs pos="100000">
                      <a:srgbClr val="4c9bba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6623f"/>
                  </a:gs>
                  <a:gs pos="100000">
                    <a:srgbClr val="4c9bba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43120" y="1447920"/>
            <a:ext cx="7534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491c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32b6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br>
              <a:rPr sz="2600"/>
            </a:b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495288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Image : CD_Medicine Today_PHOTODISC(MULTIBITS),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509112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2b66e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0800000">
            <a:off x="6076440" y="416880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2b66e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2640" y="16002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2640" y="40384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833560"/>
            <a:ext cx="201924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4c9b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0800000">
            <a:off x="6039000" y="188136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4c9b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90520" y="227160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ab9"/>
              </a:gs>
              <a:gs pos="50000">
                <a:srgbClr val="a4d0a4"/>
              </a:gs>
              <a:gs pos="100000">
                <a:srgbClr val="b9dab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66840" y="455760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876d"/>
              </a:gs>
              <a:gs pos="50000">
                <a:srgbClr val="36623f"/>
              </a:gs>
              <a:gs pos="100000">
                <a:srgbClr val="66876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c9bba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255744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1f1f1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38080" y="2286000"/>
            <a:ext cx="1838160" cy="3309840"/>
            <a:chOff x="838080" y="2286000"/>
            <a:chExt cx="1838160" cy="3309840"/>
          </a:xfrm>
        </p:grpSpPr>
        <p:sp>
          <p:nvSpPr>
            <p:cNvPr id="147" name=""/>
            <p:cNvSpPr/>
            <p:nvPr/>
          </p:nvSpPr>
          <p:spPr>
            <a:xfrm>
              <a:off x="83808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2b66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14400" y="23241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2b66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630600" y="2286000"/>
            <a:ext cx="1838160" cy="3309840"/>
            <a:chOff x="3630600" y="2286000"/>
            <a:chExt cx="1838160" cy="3309840"/>
          </a:xfrm>
        </p:grpSpPr>
        <p:sp>
          <p:nvSpPr>
            <p:cNvPr id="150" name=""/>
            <p:cNvSpPr/>
            <p:nvPr/>
          </p:nvSpPr>
          <p:spPr>
            <a:xfrm>
              <a:off x="36306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6623f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03680" y="23241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662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467400" y="2286000"/>
            <a:ext cx="1838160" cy="3309840"/>
            <a:chOff x="6467400" y="2286000"/>
            <a:chExt cx="1838160" cy="3309840"/>
          </a:xfrm>
        </p:grpSpPr>
        <p:sp>
          <p:nvSpPr>
            <p:cNvPr id="153" name=""/>
            <p:cNvSpPr/>
            <p:nvPr/>
          </p:nvSpPr>
          <p:spPr>
            <a:xfrm>
              <a:off x="64674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2b66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43720" y="233352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2b66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9144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971800" y="3809880"/>
            <a:ext cx="504000" cy="496440"/>
            <a:chOff x="2971800" y="3809880"/>
            <a:chExt cx="504000" cy="496440"/>
          </a:xfrm>
        </p:grpSpPr>
        <p:grpSp>
          <p:nvGrpSpPr>
            <p:cNvPr id="159" name=""/>
            <p:cNvGrpSpPr/>
            <p:nvPr/>
          </p:nvGrpSpPr>
          <p:grpSpPr>
            <a:xfrm>
              <a:off x="3173400" y="3809880"/>
              <a:ext cx="302400" cy="496440"/>
              <a:chOff x="3173400" y="3809880"/>
              <a:chExt cx="302400" cy="496440"/>
            </a:xfrm>
          </p:grpSpPr>
          <p:sp>
            <p:nvSpPr>
              <p:cNvPr id="160" name=""/>
              <p:cNvSpPr/>
              <p:nvPr/>
            </p:nvSpPr>
            <p:spPr>
              <a:xfrm>
                <a:off x="31734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2742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3750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2742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1734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971800" y="3809880"/>
              <a:ext cx="302400" cy="496440"/>
              <a:chOff x="2971800" y="3809880"/>
              <a:chExt cx="302400" cy="496440"/>
            </a:xfrm>
          </p:grpSpPr>
          <p:sp>
            <p:nvSpPr>
              <p:cNvPr id="166" name=""/>
              <p:cNvSpPr/>
              <p:nvPr/>
            </p:nvSpPr>
            <p:spPr>
              <a:xfrm>
                <a:off x="29718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0726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1734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0726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9718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5715000" y="3809880"/>
            <a:ext cx="504000" cy="496440"/>
            <a:chOff x="5715000" y="3809880"/>
            <a:chExt cx="504000" cy="496440"/>
          </a:xfrm>
        </p:grpSpPr>
        <p:grpSp>
          <p:nvGrpSpPr>
            <p:cNvPr id="172" name=""/>
            <p:cNvGrpSpPr/>
            <p:nvPr/>
          </p:nvGrpSpPr>
          <p:grpSpPr>
            <a:xfrm>
              <a:off x="5916600" y="3809880"/>
              <a:ext cx="302400" cy="496440"/>
              <a:chOff x="5916600" y="3809880"/>
              <a:chExt cx="302400" cy="496440"/>
            </a:xfrm>
          </p:grpSpPr>
          <p:sp>
            <p:nvSpPr>
              <p:cNvPr id="173" name=""/>
              <p:cNvSpPr/>
              <p:nvPr/>
            </p:nvSpPr>
            <p:spPr>
              <a:xfrm>
                <a:off x="59166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0174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1182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0174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9166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5715000" y="3809880"/>
              <a:ext cx="302400" cy="496440"/>
              <a:chOff x="5715000" y="3809880"/>
              <a:chExt cx="302400" cy="496440"/>
            </a:xfrm>
          </p:grpSpPr>
          <p:sp>
            <p:nvSpPr>
              <p:cNvPr id="179" name=""/>
              <p:cNvSpPr/>
              <p:nvPr/>
            </p:nvSpPr>
            <p:spPr>
              <a:xfrm>
                <a:off x="57150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158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9166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158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150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>
            <a:off x="990720" y="160020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528948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26200" y="5245200"/>
            <a:ext cx="2143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21520" y="419904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1960" y="4218120"/>
            <a:ext cx="2143080" cy="987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7840" y="447372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 rot="5400000">
            <a:off x="3170880" y="4503240"/>
            <a:ext cx="419040" cy="41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0926193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0926193"/>
              </a:path>
            </a:pathLst>
          </a:custGeom>
          <a:solidFill>
            <a:srgbClr val="a4d0a4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920" y="55753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9670200">
            <a:off x="2829240" y="5254920"/>
            <a:ext cx="76356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4c9bba"/>
          </a:solidFill>
          <a:ln w="9360">
            <a:solidFill>
              <a:srgbClr val="dddddd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04040" y="5545080"/>
            <a:ext cx="96012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00800" y="446400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5844600" y="5474160"/>
            <a:ext cx="5058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82320" y="4503600"/>
            <a:ext cx="690840" cy="69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36623f"/>
          </a:solidFill>
          <a:ln w="9360">
            <a:solidFill>
              <a:srgbClr val="36623f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48000" y="4510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13320" y="55846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28920" y="5621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02160" y="4508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24200" y="130824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824200" y="130320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824560" y="1303200"/>
            <a:ext cx="329616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177992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177992"/>
              </a:path>
            </a:pathLst>
          </a:custGeom>
          <a:solidFill>
            <a:srgbClr val="36623f">
              <a:alpha val="50000"/>
            </a:srgbClr>
          </a:solidFill>
          <a:ln w="9360">
            <a:solidFill>
              <a:srgbClr val="366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2832120" y="1304280"/>
            <a:ext cx="3302280" cy="329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2" y="2384"/>
                </a:moveTo>
                <a:arcTo wR="10800" hR="10800" stAng="-7728407" swAng="5716793"/>
                <a:lnTo>
                  <a:pt x="10800" y="10800"/>
                </a:lnTo>
                <a:close/>
              </a:path>
              <a:path fill="none" w="21600" h="21600">
                <a:moveTo>
                  <a:pt x="4032" y="2384"/>
                </a:moveTo>
                <a:arcTo wR="10800" hR="10800" stAng="-7728407" swAng="5716793"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 rot="5400000">
            <a:off x="2840400" y="1309320"/>
            <a:ext cx="3283920" cy="329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a4d0a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784960" y="2986560"/>
            <a:ext cx="1886400" cy="1779480"/>
            <a:chOff x="2784960" y="2986560"/>
            <a:chExt cx="1886400" cy="1779480"/>
          </a:xfrm>
        </p:grpSpPr>
        <p:sp>
          <p:nvSpPr>
            <p:cNvPr id="208" name=""/>
            <p:cNvSpPr/>
            <p:nvPr/>
          </p:nvSpPr>
          <p:spPr>
            <a:xfrm flipV="1" rot="19510800">
              <a:off x="3226320" y="294300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 rot="18694800">
              <a:off x="3393720" y="3164040"/>
              <a:ext cx="369720" cy="166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 rot="18399600">
              <a:off x="3515040" y="3266640"/>
              <a:ext cx="369720" cy="166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 rot="17867400">
              <a:off x="3664440" y="338256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 rot="9670200">
            <a:off x="2830320" y="1299960"/>
            <a:ext cx="329940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4c9b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13200" y="2403360"/>
            <a:ext cx="1123920" cy="1123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62360" y="27036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43400" y="28987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10080" y="175104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10080" y="38829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0360" y="426420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4d0a4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73680" y="528156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93640" y="53625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9bba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86640" y="422100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623f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243320" y="1310760"/>
            <a:ext cx="1823760" cy="1508040"/>
            <a:chOff x="4243320" y="1310760"/>
            <a:chExt cx="1823760" cy="1508040"/>
          </a:xfrm>
        </p:grpSpPr>
        <p:grpSp>
          <p:nvGrpSpPr>
            <p:cNvPr id="223" name=""/>
            <p:cNvGrpSpPr/>
            <p:nvPr/>
          </p:nvGrpSpPr>
          <p:grpSpPr>
            <a:xfrm>
              <a:off x="4641840" y="1310760"/>
              <a:ext cx="1425240" cy="1508040"/>
              <a:chOff x="4641840" y="1310760"/>
              <a:chExt cx="1425240" cy="1508040"/>
            </a:xfrm>
          </p:grpSpPr>
          <p:sp>
            <p:nvSpPr>
              <p:cNvPr id="224" name=""/>
              <p:cNvSpPr/>
              <p:nvPr/>
            </p:nvSpPr>
            <p:spPr>
              <a:xfrm flipV="1" rot="8983800">
                <a:off x="5455800" y="1504440"/>
                <a:ext cx="2959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 rot="8167800">
                <a:off x="5337000" y="1317960"/>
                <a:ext cx="29628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 rot="7872600">
                <a:off x="5246280" y="122976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 rot="7340400">
                <a:off x="5134320" y="1126080"/>
                <a:ext cx="29592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243320" y="1317960"/>
              <a:ext cx="1743120" cy="1049400"/>
              <a:chOff x="4243320" y="1317960"/>
              <a:chExt cx="1743120" cy="1049400"/>
            </a:xfrm>
          </p:grpSpPr>
          <p:sp>
            <p:nvSpPr>
              <p:cNvPr id="229" name=""/>
              <p:cNvSpPr/>
              <p:nvPr/>
            </p:nvSpPr>
            <p:spPr>
              <a:xfrm flipV="1" rot="7630800">
                <a:off x="5217480" y="118152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 rot="6814800">
                <a:off x="5036040" y="105408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 rot="6519600">
                <a:off x="4917960" y="1007280"/>
                <a:ext cx="29736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 rot="5987400">
                <a:off x="4775040" y="95544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56120" y="1619280"/>
            <a:ext cx="3360960" cy="90180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a4d0a4"/>
              </a:gs>
              <a:gs pos="100000">
                <a:srgbClr val="729072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68280" y="1512720"/>
            <a:ext cx="4186440" cy="113220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2200"/>
              <a:gd name="textAreaBottom" fmla="*/ 1132560 h 11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9ebd9"/>
              </a:gs>
              <a:gs pos="100000">
                <a:srgbClr val="a4d0a4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49360" y="1500120"/>
            <a:ext cx="1323720" cy="1320840"/>
            <a:chOff x="549360" y="1500120"/>
            <a:chExt cx="1323720" cy="1320840"/>
          </a:xfrm>
        </p:grpSpPr>
        <p:grpSp>
          <p:nvGrpSpPr>
            <p:cNvPr id="237" name=""/>
            <p:cNvGrpSpPr/>
            <p:nvPr/>
          </p:nvGrpSpPr>
          <p:grpSpPr>
            <a:xfrm>
              <a:off x="549360" y="1500120"/>
              <a:ext cx="1323720" cy="1320840"/>
              <a:chOff x="549360" y="1500120"/>
              <a:chExt cx="1323720" cy="1320840"/>
            </a:xfrm>
          </p:grpSpPr>
          <p:sp>
            <p:nvSpPr>
              <p:cNvPr id="238" name=""/>
              <p:cNvSpPr/>
              <p:nvPr/>
            </p:nvSpPr>
            <p:spPr>
              <a:xfrm>
                <a:off x="549360" y="150012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4280" y="152640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04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36120" y="157860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71040" y="160560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86160" y="162252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705960" y="164520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4b5f4b"/>
                </a:gs>
                <a:gs pos="100000">
                  <a:srgbClr val="a4d0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779400" y="1708200"/>
            <a:ext cx="879480" cy="885240"/>
            <a:chOff x="779400" y="1708200"/>
            <a:chExt cx="879480" cy="885240"/>
          </a:xfrm>
        </p:grpSpPr>
        <p:sp>
          <p:nvSpPr>
            <p:cNvPr id="245" name=""/>
            <p:cNvSpPr/>
            <p:nvPr/>
          </p:nvSpPr>
          <p:spPr>
            <a:xfrm>
              <a:off x="779400" y="1708200"/>
              <a:ext cx="879480" cy="879480"/>
            </a:xfrm>
            <a:prstGeom prst="ellipse">
              <a:avLst/>
            </a:prstGeom>
            <a:noFill/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22200" y="1708200"/>
              <a:ext cx="0" cy="87336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9400" y="214488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81240" y="1713960"/>
              <a:ext cx="182520" cy="8676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83160" y="1720080"/>
              <a:ext cx="197640" cy="8733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1146960" y="207036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 rot="16200000">
              <a:off x="1154520" y="156672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693720" y="19638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51200" y="18176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83360" y="170820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,000,000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956120" y="3306600"/>
            <a:ext cx="3360960" cy="90180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36623f"/>
              </a:gs>
              <a:gs pos="100000">
                <a:srgbClr val="25442b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68280" y="3200400"/>
            <a:ext cx="4186440" cy="113184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dbfb1"/>
              </a:gs>
              <a:gs pos="100000">
                <a:srgbClr val="36623f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49360" y="3187800"/>
            <a:ext cx="1323720" cy="1320840"/>
            <a:chOff x="549360" y="3187800"/>
            <a:chExt cx="1323720" cy="1320840"/>
          </a:xfrm>
        </p:grpSpPr>
        <p:grpSp>
          <p:nvGrpSpPr>
            <p:cNvPr id="258" name=""/>
            <p:cNvGrpSpPr/>
            <p:nvPr/>
          </p:nvGrpSpPr>
          <p:grpSpPr>
            <a:xfrm>
              <a:off x="549360" y="3187800"/>
              <a:ext cx="1323720" cy="1320840"/>
              <a:chOff x="549360" y="3187800"/>
              <a:chExt cx="1323720" cy="1320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49360" y="318780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84280" y="321408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04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36120" y="326628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71040" y="329328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86160" y="331020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705960" y="333288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182d1d"/>
                </a:gs>
                <a:gs pos="100000">
                  <a:srgbClr val="3662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763560" y="3395520"/>
            <a:ext cx="879480" cy="885600"/>
            <a:chOff x="763560" y="3395520"/>
            <a:chExt cx="879480" cy="885600"/>
          </a:xfrm>
        </p:grpSpPr>
        <p:sp>
          <p:nvSpPr>
            <p:cNvPr id="266" name=""/>
            <p:cNvSpPr/>
            <p:nvPr/>
          </p:nvSpPr>
          <p:spPr>
            <a:xfrm>
              <a:off x="763560" y="3395520"/>
              <a:ext cx="879480" cy="879840"/>
            </a:xfrm>
            <a:prstGeom prst="ellipse">
              <a:avLst/>
            </a:prstGeom>
            <a:noFill/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06360" y="3395520"/>
              <a:ext cx="0" cy="87372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3560" y="383220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65400" y="3401280"/>
              <a:ext cx="182520" cy="8679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67320" y="3407400"/>
              <a:ext cx="197640" cy="873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5400000">
              <a:off x="1131120" y="375804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6200000">
              <a:off x="1138680" y="325440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693720" y="36511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51200" y="350532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283360" y="339552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900,000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56120" y="4984920"/>
            <a:ext cx="3360960" cy="90144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440"/>
              <a:gd name="textAreaBottom" fmla="*/ 901800 h 90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32b66e"/>
              </a:gs>
              <a:gs pos="100000">
                <a:srgbClr val="227e4c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68280" y="4878360"/>
            <a:ext cx="4186440" cy="113184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ce0c4"/>
              </a:gs>
              <a:gs pos="100000">
                <a:srgbClr val="32b66e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9360" y="4865760"/>
            <a:ext cx="1323720" cy="1320840"/>
            <a:chOff x="549360" y="4865760"/>
            <a:chExt cx="1323720" cy="1320840"/>
          </a:xfrm>
        </p:grpSpPr>
        <p:grpSp>
          <p:nvGrpSpPr>
            <p:cNvPr id="279" name=""/>
            <p:cNvGrpSpPr/>
            <p:nvPr/>
          </p:nvGrpSpPr>
          <p:grpSpPr>
            <a:xfrm>
              <a:off x="549360" y="4865760"/>
              <a:ext cx="1323720" cy="1320840"/>
              <a:chOff x="549360" y="4865760"/>
              <a:chExt cx="1323720" cy="1320840"/>
            </a:xfrm>
          </p:grpSpPr>
          <p:sp>
            <p:nvSpPr>
              <p:cNvPr id="280" name=""/>
              <p:cNvSpPr/>
              <p:nvPr/>
            </p:nvSpPr>
            <p:spPr>
              <a:xfrm>
                <a:off x="549360" y="486576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4280" y="489204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04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36120" y="494424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1040" y="497124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6160" y="498816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705960" y="501084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175332"/>
                </a:gs>
                <a:gs pos="100000">
                  <a:srgbClr val="32b66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63560" y="5073480"/>
            <a:ext cx="879480" cy="885600"/>
            <a:chOff x="763560" y="5073480"/>
            <a:chExt cx="879480" cy="885600"/>
          </a:xfrm>
        </p:grpSpPr>
        <p:sp>
          <p:nvSpPr>
            <p:cNvPr id="287" name=""/>
            <p:cNvSpPr/>
            <p:nvPr/>
          </p:nvSpPr>
          <p:spPr>
            <a:xfrm>
              <a:off x="763560" y="5073480"/>
              <a:ext cx="879480" cy="879840"/>
            </a:xfrm>
            <a:prstGeom prst="ellipse">
              <a:avLst/>
            </a:prstGeom>
            <a:noFill/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06360" y="5073480"/>
              <a:ext cx="0" cy="87372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3560" y="551016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65400" y="5079240"/>
              <a:ext cx="182520" cy="8679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67320" y="5085360"/>
              <a:ext cx="197640" cy="873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5400000">
              <a:off x="1131120" y="543600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 rot="16200000">
              <a:off x="1138680" y="493236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693720" y="53290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51200" y="518328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83360" y="507348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,100,000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660760" y="1961280"/>
            <a:ext cx="3689640" cy="3697200"/>
            <a:chOff x="2660760" y="1961280"/>
            <a:chExt cx="3689640" cy="3697200"/>
          </a:xfrm>
        </p:grpSpPr>
        <p:sp>
          <p:nvSpPr>
            <p:cNvPr id="299" name=""/>
            <p:cNvSpPr/>
            <p:nvPr/>
          </p:nvSpPr>
          <p:spPr>
            <a:xfrm>
              <a:off x="2827440" y="2133720"/>
              <a:ext cx="3332160" cy="3322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ff">
                    <a:alpha val="0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300" name="" descr=""/>
            <p:cNvPicPr/>
            <p:nvPr/>
          </p:nvPicPr>
          <p:blipFill>
            <a:blip r:embed="rId1"/>
            <a:stretch/>
          </p:blipFill>
          <p:spPr>
            <a:xfrm>
              <a:off x="2819520" y="2133720"/>
              <a:ext cx="3346560" cy="33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2841120" y="2137680"/>
              <a:ext cx="3328560" cy="334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435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43579"/>
                </a:path>
              </a:pathLst>
            </a:custGeom>
            <a:solidFill>
              <a:srgbClr val="a4d0a4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5400000">
              <a:off x="2832480" y="2135160"/>
              <a:ext cx="3342240" cy="3336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5" y="2"/>
                  </a:moveTo>
                  <a:arcTo wR="10800" hR="10800" stAng="-5465392" swAng="547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5" y="2"/>
                  </a:moveTo>
                  <a:arcTo wR="10800" hR="10800" stAng="-5465392" swAng="5476597"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 rot="5400000">
              <a:off x="2828880" y="2148480"/>
              <a:ext cx="3335400" cy="332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013" y="2"/>
                  </a:moveTo>
                  <a:arcTo wR="10800" hR="10800" stAng="-5332190" swAng="5362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1013" y="2"/>
                  </a:moveTo>
                  <a:arcTo wR="10800" hR="10800" stAng="-5332190" swAng="5362650"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0419000">
              <a:off x="2835720" y="2135520"/>
              <a:ext cx="3339720" cy="334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987" y="65"/>
                  </a:moveTo>
                  <a:arcTo wR="10800" hR="10800" stAng="-5021536" swAng="54764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1987" y="65"/>
                  </a:moveTo>
                  <a:arcTo wR="10800" hR="10800" stAng="-5021536" swAng="5476435"/>
                </a:path>
              </a:pathLst>
            </a:custGeom>
            <a:solidFill>
              <a:srgbClr val="a4d0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 rot="18976800">
              <a:off x="3211200" y="2751480"/>
              <a:ext cx="168012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 rot="2686800">
              <a:off x="4171320" y="2773800"/>
              <a:ext cx="167580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 rot="2760000">
              <a:off x="3085200" y="4132440"/>
              <a:ext cx="1551240" cy="620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 rot="19083600">
              <a:off x="4380480" y="4107240"/>
              <a:ext cx="1544760" cy="622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3600720" y="2896200"/>
              <a:ext cx="1791000" cy="1841040"/>
              <a:chOff x="3600720" y="2896200"/>
              <a:chExt cx="1791000" cy="1841040"/>
            </a:xfrm>
          </p:grpSpPr>
          <p:pic>
            <p:nvPicPr>
              <p:cNvPr id="31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00720" y="2896200"/>
                <a:ext cx="1791000" cy="17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3600720" y="2896200"/>
                <a:ext cx="1779480" cy="1754640"/>
              </a:xfrm>
              <a:prstGeom prst="ellipse">
                <a:avLst/>
              </a:prstGeom>
              <a:gradFill rotWithShape="0">
                <a:gsLst>
                  <a:gs pos="0">
                    <a:srgbClr val="404040">
                      <a:alpha val="90196"/>
                    </a:srgbClr>
                  </a:gs>
                  <a:gs pos="50000">
                    <a:srgbClr val="f8f8f8">
                      <a:alpha val="45098"/>
                    </a:srgbClr>
                  </a:gs>
                  <a:gs pos="100000">
                    <a:srgbClr val="40404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85400" y="2931480"/>
                <a:ext cx="1397520" cy="608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3727080" y="4110120"/>
                <a:ext cx="1571760" cy="627120"/>
                <a:chOff x="3727080" y="4110120"/>
                <a:chExt cx="1571760" cy="62712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4001400" y="4110120"/>
                  <a:ext cx="1297440" cy="590040"/>
                  <a:chOff x="4001400" y="4110120"/>
                  <a:chExt cx="1297440" cy="5900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 flipV="1" rot="3964800">
                    <a:off x="4707720" y="3933360"/>
                    <a:ext cx="22716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flipV="1" rot="4780200">
                    <a:off x="4562280" y="3992040"/>
                    <a:ext cx="227160" cy="9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flipH="1" flipV="1" rot="5076000">
                    <a:off x="4472640" y="4003920"/>
                    <a:ext cx="22716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H="1" flipV="1" rot="5608200">
                    <a:off x="4364280" y="4013640"/>
                    <a:ext cx="22716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3727080" y="4118760"/>
                  <a:ext cx="1296000" cy="618480"/>
                  <a:chOff x="3727080" y="4118760"/>
                  <a:chExt cx="1296000" cy="61848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 flipH="1" flipV="1" rot="5317800">
                    <a:off x="4434480" y="4014360"/>
                    <a:ext cx="228240" cy="9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flipH="1" flipV="1" rot="6133800">
                    <a:off x="4277160" y="4011840"/>
                    <a:ext cx="22824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flipV="1" rot="6429000">
                    <a:off x="4189680" y="3988440"/>
                    <a:ext cx="22824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H="1" flipV="1" rot="6961200">
                    <a:off x="4086720" y="3956400"/>
                    <a:ext cx="228240" cy="9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24" name=""/>
            <p:cNvSpPr/>
            <p:nvPr/>
          </p:nvSpPr>
          <p:spPr>
            <a:xfrm>
              <a:off x="4146480" y="355248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248520" y="1752480"/>
            <a:ext cx="2361960" cy="838440"/>
          </a:xfrm>
          <a:noFill/>
          <a:ln w="9360">
            <a:solidFill>
              <a:srgbClr val="3491c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4d0a4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72200" y="5257800"/>
            <a:ext cx="2362320" cy="838080"/>
          </a:xfrm>
          <a:noFill/>
          <a:ln w="9360">
            <a:solidFill>
              <a:srgbClr val="3491c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623f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490680" y="1760400"/>
            <a:ext cx="2286000" cy="838440"/>
          </a:xfrm>
          <a:noFill/>
          <a:ln w="9360">
            <a:solidFill>
              <a:srgbClr val="3491c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623f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" y="5292720"/>
            <a:ext cx="2362320" cy="803160"/>
          </a:xfrm>
          <a:noFill/>
          <a:ln w="9360">
            <a:solidFill>
              <a:srgbClr val="3491c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4d0a4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92480" y="2022480"/>
            <a:ext cx="2943360" cy="121932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441"/>
                </a:moveTo>
                <a:cubicBezTo>
                  <a:pt x="181" y="610"/>
                  <a:pt x="402" y="750"/>
                  <a:pt x="396" y="762"/>
                </a:cubicBezTo>
                <a:cubicBezTo>
                  <a:pt x="492" y="672"/>
                  <a:pt x="672" y="528"/>
                  <a:pt x="912" y="528"/>
                </a:cubicBezTo>
                <a:cubicBezTo>
                  <a:pt x="1152" y="528"/>
                  <a:pt x="1320" y="642"/>
                  <a:pt x="1446" y="768"/>
                </a:cubicBezTo>
                <a:lnTo>
                  <a:pt x="1854" y="429"/>
                </a:lnTo>
                <a:cubicBezTo>
                  <a:pt x="1732" y="261"/>
                  <a:pt x="1428" y="0"/>
                  <a:pt x="918" y="0"/>
                </a:cubicBezTo>
                <a:cubicBezTo>
                  <a:pt x="408" y="0"/>
                  <a:pt x="138" y="255"/>
                  <a:pt x="0" y="441"/>
                </a:cubicBezTo>
                <a:close/>
              </a:path>
            </a:pathLst>
          </a:custGeom>
          <a:solidFill>
            <a:srgbClr val="3491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60640" y="271476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806560" y="263844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75160" y="3098880"/>
            <a:ext cx="2151000" cy="2151000"/>
          </a:xfrm>
          <a:prstGeom prst="ellipse">
            <a:avLst/>
          </a:prstGeom>
          <a:gradFill rotWithShape="0">
            <a:gsLst>
              <a:gs pos="0">
                <a:srgbClr val="b9e5cd"/>
              </a:gs>
              <a:gs pos="100000">
                <a:srgbClr val="32b66e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491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4480" y="3951360"/>
            <a:ext cx="39852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87496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727360" y="3951360"/>
            <a:ext cx="2001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815800" y="3951360"/>
            <a:ext cx="39996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6204960" y="3951360"/>
            <a:ext cx="1998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6334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7652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6469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192480" y="5105520"/>
            <a:ext cx="2943360" cy="121896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327"/>
                </a:moveTo>
                <a:cubicBezTo>
                  <a:pt x="181" y="158"/>
                  <a:pt x="402" y="18"/>
                  <a:pt x="396" y="6"/>
                </a:cubicBezTo>
                <a:cubicBezTo>
                  <a:pt x="492" y="96"/>
                  <a:pt x="672" y="240"/>
                  <a:pt x="912" y="240"/>
                </a:cubicBezTo>
                <a:cubicBezTo>
                  <a:pt x="1152" y="240"/>
                  <a:pt x="1320" y="126"/>
                  <a:pt x="1446" y="0"/>
                </a:cubicBezTo>
                <a:lnTo>
                  <a:pt x="1854" y="339"/>
                </a:lnTo>
                <a:cubicBezTo>
                  <a:pt x="1732" y="507"/>
                  <a:pt x="1428" y="768"/>
                  <a:pt x="918" y="768"/>
                </a:cubicBezTo>
                <a:cubicBezTo>
                  <a:pt x="408" y="768"/>
                  <a:pt x="138" y="513"/>
                  <a:pt x="0" y="327"/>
                </a:cubicBezTo>
                <a:close/>
              </a:path>
            </a:pathLst>
          </a:custGeom>
          <a:solidFill>
            <a:srgbClr val="a4d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727440" y="3751200"/>
            <a:ext cx="1843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05160" y="24004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343320" y="56656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3520" y="396252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tex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83400" y="3971880"/>
            <a:ext cx="20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tex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135576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Contents Title (2006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000240" y="1438200"/>
            <a:ext cx="276480" cy="276480"/>
            <a:chOff x="3000240" y="1438200"/>
            <a:chExt cx="276480" cy="276480"/>
          </a:xfrm>
        </p:grpSpPr>
        <p:grpSp>
          <p:nvGrpSpPr>
            <p:cNvPr id="350" name=""/>
            <p:cNvGrpSpPr/>
            <p:nvPr/>
          </p:nvGrpSpPr>
          <p:grpSpPr>
            <a:xfrm>
              <a:off x="3000240" y="1438200"/>
              <a:ext cx="276480" cy="276480"/>
              <a:chOff x="3000240" y="1438200"/>
              <a:chExt cx="276480" cy="276480"/>
            </a:xfrm>
          </p:grpSpPr>
          <p:sp>
            <p:nvSpPr>
              <p:cNvPr id="351" name=""/>
              <p:cNvSpPr/>
              <p:nvPr/>
            </p:nvSpPr>
            <p:spPr>
              <a:xfrm>
                <a:off x="3000240" y="1438200"/>
                <a:ext cx="276480" cy="2764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07440" y="1443600"/>
                <a:ext cx="263880" cy="265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018240" y="1454400"/>
                <a:ext cx="241920" cy="24372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025440" y="1460160"/>
                <a:ext cx="227520" cy="22896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28680" y="1463760"/>
                <a:ext cx="219960" cy="221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3033000" y="1468440"/>
              <a:ext cx="214200" cy="214920"/>
            </a:xfrm>
            <a:prstGeom prst="ellipse">
              <a:avLst/>
            </a:prstGeom>
            <a:gradFill rotWithShape="0">
              <a:gsLst>
                <a:gs pos="0">
                  <a:srgbClr val="172f5e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1:45:1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58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