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8196-7FF6-4309-B295-45E3B85BF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4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78487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DEA9-C38A-403F-976C-66EB353D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4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79120" y="159984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79120" y="390852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E737-EE15-4C44-B9E1-B9F7D975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4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527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1120" y="1599840"/>
            <a:ext cx="2527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65040" y="1599840"/>
            <a:ext cx="2527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527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1120" y="3908520"/>
            <a:ext cx="2527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65040" y="3908520"/>
            <a:ext cx="2527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C7AF-491D-4E94-A6E9-B29CE6DC7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4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905B-8D24-4A5E-B0D4-9FA80C65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4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C9B2-5869-48D9-90DD-15E5457F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4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30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79120" y="1599840"/>
            <a:ext cx="3830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BDCB-BEA4-49D9-8755-DFC125A3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4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EB82-C3F4-4C4B-A53E-F9E1C8DF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30492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9A23-1ADD-427D-9216-ECE7DA3C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4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79120" y="1599840"/>
            <a:ext cx="3830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08E1-F337-4542-8C78-A4081FAD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4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30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9120" y="159984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79120" y="390852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91E9-BAC0-408F-BC88-76995493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4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79120" y="159984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78487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1A0F-1505-4A55-8C59-74671429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i="1" lang="en-US" sz="4400" spc="-1" strike="noStrike">
                <a:solidFill>
                  <a:srgbClr val="25413e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5413e"/>
              </a:buClr>
              <a:buSzPct val="25000"/>
              <a:buFont typeface="Arial"/>
              <a:buChar char="•"/>
            </a:pPr>
            <a:r>
              <a:rPr b="1" lang="en-US" sz="2000" spc="-1" strike="noStrike">
                <a:solidFill>
                  <a:srgbClr val="25413e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5413e"/>
              </a:buClr>
              <a:buSzPct val="25000"/>
              <a:buFont typeface="Arial"/>
              <a:buChar char="–"/>
            </a:pPr>
            <a:r>
              <a:rPr b="1" lang="en-US" sz="2000" spc="-1" strike="noStrike">
                <a:solidFill>
                  <a:srgbClr val="25413e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5413e"/>
              </a:buClr>
              <a:buSzPct val="25000"/>
              <a:buFont typeface="Arial"/>
              <a:buChar char="•"/>
            </a:pPr>
            <a:r>
              <a:rPr b="1" lang="en-US" sz="2000" spc="-1" strike="noStrike">
                <a:solidFill>
                  <a:srgbClr val="25413e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5413e"/>
              </a:buClr>
              <a:buSzPct val="25000"/>
              <a:buFont typeface="Arial"/>
              <a:buChar char="–"/>
            </a:pPr>
            <a:r>
              <a:rPr b="1" lang="en-US" sz="2000" spc="-1" strike="noStrike">
                <a:solidFill>
                  <a:srgbClr val="25413e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25413e"/>
              </a:buClr>
              <a:buSzPct val="25000"/>
              <a:buFont typeface="Arial"/>
              <a:buChar char="»"/>
            </a:pPr>
            <a:r>
              <a:rPr b="1" lang="en-US" sz="2000" spc="-1" strike="noStrike">
                <a:solidFill>
                  <a:srgbClr val="25413e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1" lang="en-US" sz="2000" spc="-1" strike="noStrike">
                <a:solidFill>
                  <a:srgbClr val="25413e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1" lang="en-US" sz="2000" spc="-1" strike="noStrike">
                <a:solidFill>
                  <a:srgbClr val="25413e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A461-0631-46AD-8103-C0833F7B7F8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2860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i="1" lang="en-US" sz="4800" spc="-1" strike="noStrike">
                <a:solidFill>
                  <a:srgbClr val="25413e"/>
                </a:solidFill>
                <a:latin typeface="Arial"/>
                <a:ea typeface="宋体"/>
              </a:rPr>
              <a:t>COURAGEOUS 720º</a:t>
            </a:r>
            <a:endParaRPr b="1" i="1" lang="en-US" sz="48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YOUR SUBTITLE GOES HERE</a:t>
            </a:r>
            <a:endParaRPr b="1" lang="en-US" sz="18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12680" y="1054080"/>
            <a:ext cx="689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体育运动应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i="1" lang="en-US" sz="4400" spc="-1" strike="noStrike">
                <a:solidFill>
                  <a:srgbClr val="25413e"/>
                </a:solidFill>
                <a:latin typeface="Arial"/>
                <a:ea typeface="宋体"/>
              </a:rPr>
              <a:t>YOUR TOPIC GOES HERE</a:t>
            </a:r>
            <a:endParaRPr b="1" i="1" lang="en-US" sz="44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5413e"/>
              </a:buClr>
              <a:buSzPct val="25000"/>
              <a:buFont typeface="Arial"/>
              <a:buChar char="•"/>
            </a:pPr>
            <a:r>
              <a:rPr b="1" lang="en-US" sz="2000" spc="-1" strike="noStrike">
                <a:solidFill>
                  <a:srgbClr val="25413e"/>
                </a:solidFill>
                <a:latin typeface="Arial"/>
                <a:ea typeface="宋体"/>
              </a:rPr>
              <a:t>Your Subtopics Go Here</a:t>
            </a: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i="1" lang="en-US" sz="4400" spc="-1" strike="noStrike">
                <a:solidFill>
                  <a:srgbClr val="25413e"/>
                </a:solidFill>
                <a:latin typeface="Arial"/>
                <a:ea typeface="宋体"/>
              </a:rPr>
              <a:t>YOUR TOPIC GOES HERE</a:t>
            </a:r>
            <a:endParaRPr b="1" i="1" lang="en-US" sz="44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2565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2860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i="1" lang="en-US" sz="4800" spc="-1" strike="noStrike">
                <a:solidFill>
                  <a:srgbClr val="25413e"/>
                </a:solidFill>
                <a:latin typeface="Arial"/>
                <a:ea typeface="宋体"/>
              </a:rPr>
              <a:t>TRANSITIONAL PAGE</a:t>
            </a:r>
            <a:endParaRPr b="1" i="1" lang="en-US" sz="4800" spc="-1" strike="noStrike">
              <a:solidFill>
                <a:srgbClr val="2541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i="1" lang="zh-CN" sz="4400" spc="-1" strike="noStrike">
                <a:solidFill>
                  <a:srgbClr val="25413e"/>
                </a:solidFill>
                <a:latin typeface="Arial"/>
              </a:rPr>
              <a:t>使用规范说明</a:t>
            </a:r>
            <a:endParaRPr b="1" i="1" lang="en-US" sz="44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4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4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25413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2BB0-C1C6-47E9-95CE-042FC2D09B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400" spc="-1" strike="noStrike">
              <a:solidFill>
                <a:srgbClr val="25413e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5413e"/>
              </a:buClr>
              <a:buSzPct val="25000"/>
              <a:buFont typeface="Arial"/>
              <a:buChar char="•"/>
            </a:pPr>
            <a:endParaRPr b="1" lang="en-US" sz="2000" spc="-1" strike="noStrike">
              <a:solidFill>
                <a:srgbClr val="2541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3T08:11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5:55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