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75A-94D5-4DD5-9581-3A5BC9A5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429-1518-4023-9EB0-B2FC77C0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A2B6-F4C1-4B9C-8ABD-72BD68F3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5AC-9C81-4312-B43A-083EC142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68AA-F1E1-4979-8C38-6CED0EE8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3522-B6AB-45C8-B9BF-E3F5145E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FFDA-9761-4873-8A87-F4B770D4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1CE1-C83F-476F-999A-60586346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FAC0-0AB3-4096-840D-4681567E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0CFF-5573-4D44-ACAA-4E5CC026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B101-6EB0-4418-AD06-97B4970D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6E9-FD79-4EBF-AC91-65C8BEFE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64DF-4F49-4B60-A7FF-0A335F8A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DADA-C27C-473D-A9B8-E3B731AC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62D0-2993-4F2B-82AC-D6E51C7F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E75B-6313-44C1-97C9-83E73C21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7411-D118-4527-9D6D-4326D867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F638-EA8D-45EA-A27B-45FD4D4C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A5C-090F-456E-B607-A51770BD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0F4-2375-440D-8304-3E420359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489-BAB6-4489-B96D-992C46BF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23C-72CB-47B6-8809-E8047D19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076-56AA-448B-98ED-2E07D18C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403-5892-4A0E-9A2C-8BBD8011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807B86-31E7-4546-89AD-09C7A0E9CBE4}" type="slidenum"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FA503A1-70C5-4A4E-9A32-32DAAAE904DB}" type="slidenum">
              <a:rPr b="0" lang="en-US" sz="14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5400" spc="-1" strike="noStrike" u="sng">
                <a:solidFill>
                  <a:srgbClr val="66ccff"/>
                </a:solidFill>
                <a:uFillTx/>
                <a:latin typeface="Arial"/>
                <a:ea typeface="宋体"/>
              </a:rPr>
              <a:t>张某某求职简历</a:t>
            </a:r>
            <a:endParaRPr b="1" lang="en-US" sz="5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148000" y="4220640"/>
            <a:ext cx="2552760" cy="17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所学专业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毕业学校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求职目标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4800" y="81900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我的简历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幻灯片免费下载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21700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66ccff"/>
                </a:solidFill>
                <a:latin typeface="Arial"/>
                <a:ea typeface="宋体"/>
              </a:rPr>
              <a:t>基本信息</a:t>
            </a:r>
            <a:endParaRPr b="1" lang="en-US" sz="2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86000" y="1989000"/>
            <a:ext cx="345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姓名：                                   身高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籍贯：                                    学历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所学专业：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毕业学校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毕业时间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求职目标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联系方式：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42920" y="549360"/>
            <a:ext cx="2170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Arial"/>
                <a:ea typeface="宋体"/>
              </a:rPr>
              <a:t>自我评价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03280" y="3429000"/>
            <a:ext cx="6408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42920" y="549360"/>
            <a:ext cx="2170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Arial"/>
              </a:rPr>
              <a:t>教育背景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549360"/>
            <a:ext cx="2170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Arial"/>
              </a:rPr>
              <a:t>工作经历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2920" y="549360"/>
            <a:ext cx="38163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Arial"/>
              </a:rPr>
              <a:t>专业技能及相关证书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6640" y="1584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5b5249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4400" spc="-1" strike="noStrike">
                <a:solidFill>
                  <a:srgbClr val="66ccff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0767-4391-4BD8-ABCD-E9FA998FD7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32000" y="2565360"/>
            <a:ext cx="217008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CN" sz="4800" spc="-1" strike="noStrike">
                <a:solidFill>
                  <a:srgbClr val="66ccff"/>
                </a:solidFill>
                <a:latin typeface="Arial"/>
              </a:rPr>
              <a:t>致谢</a:t>
            </a:r>
            <a:endParaRPr b="0" lang="en-US" sz="4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16Z</dcterms:modified>
  <cp:revision>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