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8FC-BF58-46AE-AF2E-3D127B86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D49-191F-4066-9366-0A8BC362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5B9-77C3-428B-A774-36F0AD07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58A-1592-46A7-952C-734C9CE3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720-7A8A-4597-88BD-A9FFDC8E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F04C-2C95-4951-B780-597A38E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4746-E30F-4B70-9F1B-B863393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8A78-3177-44F0-BD15-8379287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62F9-3596-4615-8599-4AE74780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E1AA-C1C9-4DA4-877C-A287CC7E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CE89-79EF-439C-8DEE-7F9F7754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322-2366-454A-8CFE-1FDE9C33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EDA3-DA08-4C2F-9EC7-B455FEC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7FD-C2E1-4BD2-9F6A-8747CB2D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F26D-8699-4239-96BA-B017680F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F0CA-26F4-4BE5-ABBD-66194F38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583-6EB5-4944-A889-10C61A7F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DF8-25E5-41CB-9ECB-8C65679C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3C8-DFF3-4EC4-88D0-D16BA84B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920-ED75-42D6-B131-69C03C52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C03-CEC5-4CBF-A10B-F2EE8D9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F7C-1FAC-4399-AA79-04CD5CE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3E4-9F2B-407B-832C-35770FA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7D0-138C-4B60-B786-5A47AE6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8D4-3F7E-47E5-8E84-9082E5C8FA2F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0C16-5165-44C8-975F-4C687718F11B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我的求职简历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模板下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  </a:t>
            </a:r>
            <a:r>
              <a:rPr b="0" lang="zh-CN" sz="2800" spc="-1" strike="noStrike">
                <a:solidFill>
                  <a:srgbClr val="006666"/>
                </a:solidFill>
                <a:latin typeface="DFKai-SB"/>
                <a:ea typeface="宋体"/>
              </a:rPr>
              <a:t>某某学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    </a:t>
            </a:r>
            <a:r>
              <a:rPr b="0" lang="zh-CN" sz="2800" spc="-1" strike="noStrike">
                <a:solidFill>
                  <a:srgbClr val="006666"/>
                </a:solidFill>
                <a:latin typeface="DFKai-SB"/>
                <a:ea typeface="宋体"/>
              </a:rPr>
              <a:t>某某某</a:t>
            </a:r>
            <a:r>
              <a:rPr b="0" lang="zh-TW" sz="2800" spc="-1" strike="noStrike">
                <a:solidFill>
                  <a:srgbClr val="006666"/>
                </a:solidFill>
                <a:latin typeface="DFKai-SB"/>
                <a:ea typeface="DFKai-SB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</a:rPr>
              <a:t>个人简历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某某某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某某某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大学中文系毕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性别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籍贯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联系方式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6666"/>
                </a:solidFill>
                <a:latin typeface="Arial"/>
              </a:rPr>
              <a:t>获奖纪录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个人参赛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语文竞赛中学教师组作文第五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教学优良教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征文比赛入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新诗奖第二名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1.7.2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网页设计组第二名（网页内容编写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新诗奖第三名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3.8.2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新诗奖佳作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4.8.1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37372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6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CFD-C4B1-46CB-9A6F-DEA91BE3995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75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宋体"/>
              </a:rPr>
              <a:t>工作经历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************************************************************************************************************************************************************************************************************************************************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************************************************************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  <a:ea typeface="宋体"/>
              </a:rPr>
              <a:t>************************************************************************************************************************************************************************************************************************************************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3:18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5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