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92A9-531C-42D9-A5F8-E750756D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8D47-A817-42AB-A2E2-E764A31F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555D-80BD-40BC-8303-F4FC5AF9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3F79-40A1-4852-B322-4A9CF43F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7899-A7FF-44E7-80B9-B84B3E23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A8BB-F1AF-47ED-A23B-3406A176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CCA-72EC-4D88-91CD-2E3B3B8F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59B5-0D78-4E2E-AD7F-486C4B17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D2B4-E60C-46E4-9614-E8C7260A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55C4-E3B1-49D8-9CE9-3F1B981F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2023-5C1E-41CA-A397-685527C9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747B-78E1-4FE9-A049-E0D34623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DE4D-DF88-43A0-A8B6-66F763F4E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p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6520" y="549360"/>
            <a:ext cx="63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外国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win8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瓷片元素商务休闲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内容占位符 3" descr="p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1"/>
          <p:cNvSpPr/>
          <p:nvPr/>
        </p:nvSpPr>
        <p:spPr>
          <a:xfrm>
            <a:off x="254880" y="3500280"/>
            <a:ext cx="420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691560" y="3500280"/>
            <a:ext cx="99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5"/>
          <p:cNvSpPr/>
          <p:nvPr/>
        </p:nvSpPr>
        <p:spPr>
          <a:xfrm>
            <a:off x="2990880" y="4941720"/>
            <a:ext cx="420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3642840" y="5013360"/>
            <a:ext cx="107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l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he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7" descr="背景带色块.jpg"/>
          <p:cNvPicPr/>
          <p:nvPr/>
        </p:nvPicPr>
        <p:blipFill>
          <a:blip r:embed="rId2"/>
          <a:srcRect l="3473" t="65556" r="70557" b="15187"/>
          <a:stretch/>
        </p:blipFill>
        <p:spPr>
          <a:xfrm>
            <a:off x="317520" y="4495680"/>
            <a:ext cx="2374920" cy="132084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8"/>
          <p:cNvSpPr/>
          <p:nvPr/>
        </p:nvSpPr>
        <p:spPr>
          <a:xfrm>
            <a:off x="684360" y="53737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and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2" descr="香奈儿LOGO-01.png"/>
          <p:cNvPicPr/>
          <p:nvPr/>
        </p:nvPicPr>
        <p:blipFill>
          <a:blip r:embed="rId3"/>
          <a:stretch/>
        </p:blipFill>
        <p:spPr>
          <a:xfrm>
            <a:off x="985680" y="4724280"/>
            <a:ext cx="922320" cy="9241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3" descr="背景带色块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内容占位符 3" descr="P11.jpg"/>
          <p:cNvPicPr/>
          <p:nvPr/>
        </p:nvPicPr>
        <p:blipFill>
          <a:blip r:embed="rId2"/>
          <a:srcRect l="87502" t="0" r="0" b="0"/>
          <a:stretch/>
        </p:blipFill>
        <p:spPr>
          <a:xfrm>
            <a:off x="800100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5"/>
          <p:cNvSpPr/>
          <p:nvPr/>
        </p:nvSpPr>
        <p:spPr>
          <a:xfrm>
            <a:off x="2990880" y="4941720"/>
            <a:ext cx="420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3642840" y="5013360"/>
            <a:ext cx="107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l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he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7"/>
          <p:cNvSpPr/>
          <p:nvPr/>
        </p:nvSpPr>
        <p:spPr>
          <a:xfrm>
            <a:off x="254880" y="3500280"/>
            <a:ext cx="420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f7f7f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8"/>
          <p:cNvSpPr/>
          <p:nvPr/>
        </p:nvSpPr>
        <p:spPr>
          <a:xfrm>
            <a:off x="691560" y="3500280"/>
            <a:ext cx="99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Desig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Con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内容占位符 3" descr="P11.jpg"/>
          <p:cNvPicPr/>
          <p:nvPr/>
        </p:nvPicPr>
        <p:blipFill>
          <a:blip r:embed="rId3"/>
          <a:srcRect l="0" t="0" r="0" b="80005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10"/>
          <p:cNvSpPr/>
          <p:nvPr/>
        </p:nvSpPr>
        <p:spPr>
          <a:xfrm>
            <a:off x="684360" y="53737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and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11" descr="香奈儿LOGO-01.png"/>
          <p:cNvPicPr/>
          <p:nvPr/>
        </p:nvPicPr>
        <p:blipFill>
          <a:blip r:embed="rId4"/>
          <a:stretch/>
        </p:blipFill>
        <p:spPr>
          <a:xfrm>
            <a:off x="985680" y="4724280"/>
            <a:ext cx="92232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内容占位符 4" descr="p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4"/>
          <p:cNvGrpSpPr/>
          <p:nvPr/>
        </p:nvGrpSpPr>
        <p:grpSpPr>
          <a:xfrm>
            <a:off x="317520" y="4495680"/>
            <a:ext cx="2598840" cy="1320840"/>
            <a:chOff x="317520" y="4495680"/>
            <a:chExt cx="2598840" cy="1320840"/>
          </a:xfrm>
        </p:grpSpPr>
        <p:pic>
          <p:nvPicPr>
            <p:cNvPr id="69" name="图片 3" descr="背景带色块.jpg"/>
            <p:cNvPicPr/>
            <p:nvPr/>
          </p:nvPicPr>
          <p:blipFill>
            <a:blip r:embed="rId2"/>
            <a:srcRect l="3473" t="65556" r="70557" b="15187"/>
            <a:stretch/>
          </p:blipFill>
          <p:spPr>
            <a:xfrm>
              <a:off x="317520" y="4495680"/>
              <a:ext cx="237564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文本框 4"/>
            <p:cNvSpPr/>
            <p:nvPr/>
          </p:nvSpPr>
          <p:spPr>
            <a:xfrm>
              <a:off x="683640" y="5373360"/>
              <a:ext cx="22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rand Lo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图片 5" descr="香奈儿LOGO-01.png"/>
            <p:cNvPicPr/>
            <p:nvPr/>
          </p:nvPicPr>
          <p:blipFill>
            <a:blip r:embed="rId3"/>
            <a:stretch/>
          </p:blipFill>
          <p:spPr>
            <a:xfrm>
              <a:off x="985320" y="4725000"/>
              <a:ext cx="922680" cy="922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534F-D828-4A04-92C5-333B1B21AA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内容占位符 3" descr="p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59Z</dcterms:modified>
  <cp:revision>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