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EE5-BD2C-45D8-863E-24F50FC3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27280" y="23558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498-FFFD-4258-BC14-5AEC99A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7484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1FF-5B60-44CE-B774-7DBE2A8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7000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1308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2728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77000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1308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AD3-ACED-405D-8EEE-963E5707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E32-0549-44A6-9951-A0E16E94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022-B8D5-4FB3-A848-FB099334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AAAB-CCA1-40E5-BDF6-4784421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AE2-B8C6-4267-A573-A99D574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5E9-3D0A-4CFA-A32F-BBB4700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76720" y="1125000"/>
            <a:ext cx="568800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72B-5464-4CD1-8B0C-FD57149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A8B-CA3E-4462-A778-012F93F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DC-A076-4EC2-989D-6C74C531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7484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832-7DF5-4701-9565-2366D2C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665-6EFC-41CC-8D14-BADFCC8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27280" y="23558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310-F246-4ACB-98F6-EC2D6F20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87484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B96-C180-442D-8318-5D896209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7000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13080" y="22046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2728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77000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13080" y="2355840"/>
            <a:ext cx="204048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B0F-6E05-4D5A-B935-B00F78D0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1B5-CB7D-4502-AF5A-71A7A84F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2EC-3B6C-46BC-B279-15960EF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684-6238-4113-A980-425AC518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76720" y="1125000"/>
            <a:ext cx="568800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7C6-D228-4FCE-AECA-2B48558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E0C-43F1-46BE-BA72-DA8E5BD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74840" y="23558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FB9-A732-4565-A312-00E5251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74840" y="2204640"/>
            <a:ext cx="309240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27280" y="2355840"/>
            <a:ext cx="6337440" cy="1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309-D23F-4237-92B2-94647F3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50767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076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26520" y="645336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943240" y="645336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3276720" y="645336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333333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B0C-1C7B-43FF-A286-2E2B5B2EA5A0}" type="slidenum">
              <a:rPr b="0" lang="ko-KR" sz="1000" spc="-1" strike="noStrike">
                <a:solidFill>
                  <a:srgbClr val="333333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37160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02aa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5d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7cd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2124000" y="260280"/>
            <a:ext cx="7027920" cy="720720"/>
          </a:xfrm>
          <a:custGeom>
            <a:avLst/>
            <a:gdLst/>
            <a:ahLst/>
            <a:rect l="l" t="t" r="r" b="b"/>
            <a:pathLst>
              <a:path w="4134" h="657">
                <a:moveTo>
                  <a:pt x="0" y="657"/>
                </a:moveTo>
                <a:lnTo>
                  <a:pt x="4134" y="657"/>
                </a:lnTo>
                <a:lnTo>
                  <a:pt x="4134" y="0"/>
                </a:lnTo>
                <a:lnTo>
                  <a:pt x="401" y="1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202aae"/>
              </a:gs>
              <a:gs pos="100000">
                <a:srgbClr val="0e13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81000"/>
            <a:ext cx="2124000" cy="28908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cc5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3480" y="958680"/>
            <a:ext cx="176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Company nam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07180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1028880"/>
            <a:ext cx="1967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Company nam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83000" y="1025640"/>
            <a:ext cx="6562440" cy="1042920"/>
          </a:xfrm>
          <a:custGeom>
            <a:avLst/>
            <a:gdLst/>
            <a:ahLst/>
            <a:rect l="l" t="t" r="r" b="b"/>
            <a:pathLst>
              <a:path w="4134" h="657">
                <a:moveTo>
                  <a:pt x="0" y="657"/>
                </a:moveTo>
                <a:lnTo>
                  <a:pt x="4134" y="657"/>
                </a:lnTo>
                <a:lnTo>
                  <a:pt x="4134" y="0"/>
                </a:lnTo>
                <a:lnTo>
                  <a:pt x="401" y="1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202aae"/>
              </a:gs>
              <a:gs pos="100000">
                <a:srgbClr val="0e13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480" y="2066760"/>
            <a:ext cx="2594160" cy="459000"/>
          </a:xfrm>
          <a:custGeom>
            <a:avLst/>
            <a:gdLst/>
            <a:ahLst/>
            <a:rect l="l" t="t" r="r" b="b"/>
            <a:pathLst>
              <a:path w="1634" h="289">
                <a:moveTo>
                  <a:pt x="0" y="0"/>
                </a:moveTo>
                <a:lnTo>
                  <a:pt x="1634" y="0"/>
                </a:lnTo>
                <a:lnTo>
                  <a:pt x="1456" y="289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cc5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3333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33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3333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33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3333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43F-A22C-4DFC-BAAE-9C271DD76730}" type="slidenum">
              <a:rPr b="0" lang="ko-KR" sz="1400" spc="-1" strike="noStrike">
                <a:solidFill>
                  <a:srgbClr val="333333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125360"/>
            <a:ext cx="172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7cd1"/>
                </a:solidFill>
                <a:latin typeface="Verdana"/>
                <a:ea typeface="Gulim"/>
              </a:rPr>
              <a:t>Compan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5d36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1f7cd1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112500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唯美蓝色企业</a:t>
            </a:r>
            <a:r>
              <a:rPr b="0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下载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f7cd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2aae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D27-35FA-4666-8619-7F553492A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419640" y="1268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f7cd1"/>
                    </a:gs>
                    <a:gs pos="100000">
                      <a:srgbClr val="6544ce"/>
                    </a:gs>
                  </a:gsLst>
                  <a:lin ang="10800000"/>
                </a:gradFill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f7cd1"/>
                  </a:gs>
                  <a:gs pos="100000">
                    <a:srgbClr val="6544ce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627280" y="2204640"/>
            <a:ext cx="6337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e3960"/>
              </a:gs>
              <a:gs pos="50000">
                <a:srgbClr val="1f7cd1"/>
              </a:gs>
              <a:gs pos="100000">
                <a:srgbClr val="0e396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e1350"/>
              </a:gs>
              <a:gs pos="50000">
                <a:srgbClr val="202aae"/>
              </a:gs>
              <a:gs pos="100000">
                <a:srgbClr val="0e135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a18"/>
              </a:gs>
              <a:gs pos="50000">
                <a:srgbClr val="cc5d36"/>
              </a:gs>
              <a:gs pos="100000">
                <a:srgbClr val="5e2a1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1f5e"/>
              </a:gs>
              <a:gs pos="50000">
                <a:srgbClr val="6544ce"/>
              </a:gs>
              <a:gs pos="100000">
                <a:srgbClr val="2e1f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1946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02aa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aae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2aa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f7cd1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202aae"/>
                </a:solidFill>
                <a:latin typeface="Verdana"/>
                <a:ea typeface="Gulim"/>
              </a:rPr>
              <a:t>[View]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202aae"/>
                </a:solidFill>
                <a:latin typeface="Verdana"/>
                <a:ea typeface="Gulim"/>
              </a:rPr>
              <a:t>[Mas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]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  <a:ea typeface="Gulim"/>
              </a:rPr>
              <a:t>, and then click </a:t>
            </a:r>
            <a:r>
              <a:rPr b="0" lang="en-US" sz="2400" spc="-1" strike="noStrike">
                <a:solidFill>
                  <a:srgbClr val="202aae"/>
                </a:solidFill>
                <a:latin typeface="Verdana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44480" y="2428920"/>
          <a:ext cx="7709040" cy="2971800"/>
        </p:xfrm>
        <a:graphic>
          <a:graphicData uri="http://schemas.openxmlformats.org/drawingml/2006/table">
            <a:tbl>
              <a:tblPr/>
              <a:tblGrid>
                <a:gridCol w="1539720"/>
                <a:gridCol w="1544760"/>
                <a:gridCol w="1540080"/>
                <a:gridCol w="1544400"/>
                <a:gridCol w="1540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e1f5e"/>
                        </a:gs>
                        <a:gs pos="100000">
                          <a:srgbClr val="6544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e1f5e"/>
                        </a:gs>
                        <a:gs pos="100000">
                          <a:srgbClr val="6544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e1f5e"/>
                        </a:gs>
                        <a:gs pos="100000">
                          <a:srgbClr val="6544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e1f5e"/>
                        </a:gs>
                        <a:gs pos="100000">
                          <a:srgbClr val="6544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e1f5e"/>
                        </a:gs>
                        <a:gs pos="100000">
                          <a:srgbClr val="6544ce"/>
                        </a:gs>
                      </a:gsLst>
                      <a:lin ang="5400000"/>
                    </a:gra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02aae"/>
                        </a:gs>
                        <a:gs pos="100000">
                          <a:srgbClr val="0e135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f7cd1"/>
                        </a:gs>
                        <a:gs pos="100000">
                          <a:srgbClr val="0e396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02aae"/>
                        </a:gs>
                        <a:gs pos="100000">
                          <a:srgbClr val="0e135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f7cd1"/>
                        </a:gs>
                        <a:gs pos="100000">
                          <a:srgbClr val="0e396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20239200">
            <a:off x="1218960" y="2363400"/>
            <a:ext cx="651960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40400">
            <a:off x="1358640" y="257292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9716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5256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6544ce"/>
              </a:gs>
              <a:gs pos="100000">
                <a:srgbClr val="2217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02320" y="19828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1f7cd1"/>
              </a:gs>
              <a:gs pos="100000">
                <a:srgbClr val="0a2a4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020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2616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cc5d36"/>
              </a:gs>
              <a:gs pos="100000">
                <a:srgbClr val="4821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0684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1f5e"/>
              </a:gs>
              <a:gs pos="100000">
                <a:srgbClr val="6544c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1559"/>
              </a:gs>
              <a:gs pos="100000">
                <a:srgbClr val="202aa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e3960"/>
              </a:gs>
              <a:gs pos="100000">
                <a:srgbClr val="1f7cd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f7cd1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02aa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544c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27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6544c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29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02aa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35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6544c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41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202aa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19280" y="1490760"/>
            <a:ext cx="5832360" cy="4910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1f7cd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300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4798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01600">
            <a:off x="1636560" y="236664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50000">
                <a:srgbClr val="ccccc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01600">
            <a:off x="1699920" y="2212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f7cd1"/>
              </a:gs>
              <a:gs pos="100000">
                <a:srgbClr val="134e84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01600">
            <a:off x="1557000" y="22226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601600">
            <a:off x="1609560" y="21902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202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20602200">
            <a:off x="1586520" y="22215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601600">
            <a:off x="1630440" y="22104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20602200">
            <a:off x="1613880" y="22096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601600">
            <a:off x="4681440" y="35258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601600">
            <a:off x="4574880" y="32731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04160" y="1524240"/>
            <a:ext cx="6918480" cy="4356720"/>
            <a:chOff x="704160" y="1524240"/>
            <a:chExt cx="6918480" cy="4356720"/>
          </a:xfrm>
        </p:grpSpPr>
        <p:sp>
          <p:nvSpPr>
            <p:cNvPr id="165" name=""/>
            <p:cNvSpPr/>
            <p:nvPr/>
          </p:nvSpPr>
          <p:spPr>
            <a:xfrm rot="20712600">
              <a:off x="956880" y="229572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712600">
              <a:off x="4360680" y="34938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712600">
              <a:off x="5736600" y="36619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20601600">
            <a:off x="6248160" y="356508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539200">
            <a:off x="1498320" y="211320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4933440" y="3476160"/>
            <a:ext cx="1359000" cy="159408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601600">
            <a:off x="3154320" y="29188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f7cd1"/>
              </a:gs>
              <a:gs pos="50000">
                <a:srgbClr val="c7def2"/>
              </a:gs>
              <a:gs pos="100000">
                <a:srgbClr val="1f7c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3254400" y="317196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30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7476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631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62268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423216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44607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0:19:3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8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