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7A8-3BD7-4034-A2A9-A5D01863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527-199C-45BF-985D-CA07156B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7DB-EDD2-4957-BC04-431EA705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3E9-A3AA-4307-8792-023DE0AD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789-20E4-45D9-B445-0B52E125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A90-A548-4D4C-9313-46C88680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4C8-815C-4C85-8308-4425A49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374-3EA4-4529-9198-B606B8B7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71E-FFDF-4110-8A6B-D71EBC8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71D-4D80-467F-89B0-1282F3E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0B6-83EF-4FF6-8E5D-BE10143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0E7-75D9-476D-99CA-D3474A5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ED7E-07ED-4A3C-893C-EE36BE67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tmind_s137_red_표지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노트"/>
          <p:cNvPicPr/>
          <p:nvPr/>
        </p:nvPicPr>
        <p:blipFill>
          <a:blip r:embed="rId2"/>
          <a:srcRect l="0" t="1165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제목"/>
          <p:cNvPicPr/>
          <p:nvPr/>
        </p:nvPicPr>
        <p:blipFill>
          <a:blip r:embed="rId3"/>
          <a:stretch/>
        </p:blipFill>
        <p:spPr>
          <a:xfrm>
            <a:off x="3933720" y="0"/>
            <a:ext cx="5200920" cy="503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35640" y="1589760"/>
            <a:ext cx="3478320" cy="1735920"/>
            <a:chOff x="4535640" y="1589760"/>
            <a:chExt cx="3478320" cy="1735920"/>
          </a:xfrm>
        </p:grpSpPr>
        <p:sp>
          <p:nvSpPr>
            <p:cNvPr id="45" name="Text Box 6"/>
            <p:cNvSpPr/>
            <p:nvPr/>
          </p:nvSpPr>
          <p:spPr>
            <a:xfrm rot="21061800">
              <a:off x="4773960" y="1835280"/>
              <a:ext cx="32058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900" spc="-1" strike="noStrike">
                  <a:solidFill>
                    <a:srgbClr val="8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zh-TW" sz="3900" spc="-1" strike="noStrike">
                  <a:solidFill>
                    <a:srgbClr val="800000"/>
                  </a:solidFill>
                  <a:latin typeface="Arial Unicode MS"/>
                  <a:ea typeface="Arial Unicode MS"/>
                </a:rPr>
                <a:t>Home Stor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21061800">
              <a:off x="4665240" y="1658520"/>
              <a:ext cx="73080" cy="1671480"/>
            </a:xfrm>
            <a:prstGeom prst="rect">
              <a:avLst/>
            </a:prstGeom>
            <a:solidFill>
              <a:srgbClr val="7a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8" descr="사진01"/>
          <p:cNvPicPr/>
          <p:nvPr/>
        </p:nvPicPr>
        <p:blipFill>
          <a:blip r:embed="rId4"/>
          <a:stretch/>
        </p:blipFill>
        <p:spPr>
          <a:xfrm>
            <a:off x="154080" y="376200"/>
            <a:ext cx="4190760" cy="542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사진02"/>
          <p:cNvPicPr/>
          <p:nvPr/>
        </p:nvPicPr>
        <p:blipFill>
          <a:blip r:embed="rId5"/>
          <a:stretch/>
        </p:blipFill>
        <p:spPr>
          <a:xfrm>
            <a:off x="6300720" y="2820960"/>
            <a:ext cx="2571840" cy="204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ptmind_s137_red_표지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0" y="4005360"/>
            <a:ext cx="9144000" cy="287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76600" y="189000"/>
            <a:ext cx="48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温馨家庭卡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8e1"/>
            </a:gs>
            <a:gs pos="50000">
              <a:srgbClr val="ffffff"/>
            </a:gs>
            <a:gs pos="100000">
              <a:srgbClr val="ffe8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ptmind_s137_red_표지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tmind_s137_red_표지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8e1"/>
            </a:gs>
            <a:gs pos="50000">
              <a:srgbClr val="ffffff"/>
            </a:gs>
            <a:gs pos="100000">
              <a:srgbClr val="ffe8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ptmind_s137_red_표지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947000" y="0"/>
            <a:ext cx="1197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ptmind_s137_red_표지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1197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511-D595-4F6D-A5E3-B8F865C8D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ptmind_s137_red_표지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사진01"/>
          <p:cNvPicPr/>
          <p:nvPr/>
        </p:nvPicPr>
        <p:blipFill>
          <a:blip r:embed="rId2"/>
          <a:stretch/>
        </p:blipFill>
        <p:spPr>
          <a:xfrm rot="2234400">
            <a:off x="6587640" y="3760920"/>
            <a:ext cx="2390760" cy="309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사진02"/>
          <p:cNvPicPr/>
          <p:nvPr/>
        </p:nvPicPr>
        <p:blipFill>
          <a:blip r:embed="rId3"/>
          <a:stretch/>
        </p:blipFill>
        <p:spPr>
          <a:xfrm>
            <a:off x="4140360" y="4809960"/>
            <a:ext cx="2571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1:17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5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