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79B6-7EB7-4368-8309-DDA79311A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0FD1-E7E8-4B36-B602-850652DB0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3B6D-D1EA-4838-83FA-EBC3F42BB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6587-6BC3-4DD4-AF40-6A30E2741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846C-AEF8-4A80-8208-8C9C4A79C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9D2A-5B5C-4146-9CA1-BD59813F9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C808-675E-4EB5-9810-93F21FCDC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E3DC-A497-4CD0-BCD7-1ECEBA9AE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00A4-7F91-4FA2-B5D3-3DEB31C63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248D-A5F7-4250-B718-1023BDD7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7C0F-137B-4FBA-AFC3-1BEE9109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3377-31EA-4171-948D-1983CC99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5BE46-A30D-4566-99C8-DE635947A9B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15E59-123F-4123-B536-EE0D443E8AA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xx-in-health-state-of-women-in-healthcare-2013-by-xxinhealth-1-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2"/>
          <p:cNvSpPr/>
          <p:nvPr/>
        </p:nvSpPr>
        <p:spPr>
          <a:xfrm>
            <a:off x="452520" y="857160"/>
            <a:ext cx="823896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3"/>
          <p:cNvSpPr/>
          <p:nvPr/>
        </p:nvSpPr>
        <p:spPr>
          <a:xfrm>
            <a:off x="452520" y="857160"/>
            <a:ext cx="823896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92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0600" y="2936880"/>
            <a:ext cx="50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现代欧美风紫色商务决策幻灯片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1" descr="xx-in-health-state-of-women-in-healthcare-2013-by-xxinhealth-10-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矩形 2"/>
          <p:cNvSpPr/>
          <p:nvPr/>
        </p:nvSpPr>
        <p:spPr>
          <a:xfrm>
            <a:off x="452520" y="857160"/>
            <a:ext cx="823896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图片 1" descr="xx-in-health-state-of-women-in-healthcare-2013-by-xxinhealth-11-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矩形 2"/>
          <p:cNvSpPr/>
          <p:nvPr/>
        </p:nvSpPr>
        <p:spPr>
          <a:xfrm>
            <a:off x="452520" y="857160"/>
            <a:ext cx="823896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1" descr="xx-in-health-state-of-women-in-healthcare-2013-by-xxinhealth-12-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矩形 2"/>
          <p:cNvSpPr/>
          <p:nvPr/>
        </p:nvSpPr>
        <p:spPr>
          <a:xfrm>
            <a:off x="452520" y="857160"/>
            <a:ext cx="823896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1" descr="xx-in-health-state-of-women-in-healthcare-2013-by-xxinhealth-13-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矩形 2"/>
          <p:cNvSpPr/>
          <p:nvPr/>
        </p:nvSpPr>
        <p:spPr>
          <a:xfrm>
            <a:off x="452520" y="857160"/>
            <a:ext cx="823896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1" descr="xx-in-health-state-of-women-in-healthcare-2013-by-xxinhealth-14-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矩形 2"/>
          <p:cNvSpPr/>
          <p:nvPr/>
        </p:nvSpPr>
        <p:spPr>
          <a:xfrm>
            <a:off x="452520" y="857160"/>
            <a:ext cx="823896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0760" y="19224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1" descr="xx-in-health-state-of-women-in-healthcare-2013-by-xxinhealth-15-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矩形 2"/>
          <p:cNvSpPr/>
          <p:nvPr/>
        </p:nvSpPr>
        <p:spPr>
          <a:xfrm>
            <a:off x="452520" y="857160"/>
            <a:ext cx="823896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1" descr="xx-in-health-state-of-women-in-healthcare-2013-by-xxinhealth-16-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矩形 2"/>
          <p:cNvSpPr/>
          <p:nvPr/>
        </p:nvSpPr>
        <p:spPr>
          <a:xfrm>
            <a:off x="452520" y="857160"/>
            <a:ext cx="823896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1" descr="xx-in-health-state-of-women-in-healthcare-2013-by-xxinhealth-17-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矩形 2"/>
          <p:cNvSpPr/>
          <p:nvPr/>
        </p:nvSpPr>
        <p:spPr>
          <a:xfrm>
            <a:off x="452520" y="857160"/>
            <a:ext cx="823896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1" descr="xx-in-health-state-of-women-in-healthcare-2013-by-xxinhealth-18-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矩形 2"/>
          <p:cNvSpPr/>
          <p:nvPr/>
        </p:nvSpPr>
        <p:spPr>
          <a:xfrm>
            <a:off x="452520" y="857160"/>
            <a:ext cx="823896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1" descr="xx-in-health-state-of-women-in-healthcare-2013-by-xxinhealth-19-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矩形 2"/>
          <p:cNvSpPr/>
          <p:nvPr/>
        </p:nvSpPr>
        <p:spPr>
          <a:xfrm>
            <a:off x="452520" y="857160"/>
            <a:ext cx="823896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1" descr="xx-in-health-state-of-women-in-healthcare-2013-by-xxinhealth-2-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矩形 2"/>
          <p:cNvSpPr/>
          <p:nvPr/>
        </p:nvSpPr>
        <p:spPr>
          <a:xfrm>
            <a:off x="452520" y="857160"/>
            <a:ext cx="823896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1" descr="xx-in-health-state-of-women-in-healthcare-2013-by-xxinhealth-20-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矩形 2"/>
          <p:cNvSpPr/>
          <p:nvPr/>
        </p:nvSpPr>
        <p:spPr>
          <a:xfrm>
            <a:off x="452520" y="857160"/>
            <a:ext cx="823896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图片 1" descr="xx-in-health-state-of-women-in-healthcare-2013-by-xxinhealth-21-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矩形 2"/>
          <p:cNvSpPr/>
          <p:nvPr/>
        </p:nvSpPr>
        <p:spPr>
          <a:xfrm>
            <a:off x="452520" y="857160"/>
            <a:ext cx="823896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图片 1" descr="xx-in-health-state-of-women-in-healthcare-2013-by-xxinhealth-22-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矩形 2"/>
          <p:cNvSpPr/>
          <p:nvPr/>
        </p:nvSpPr>
        <p:spPr>
          <a:xfrm>
            <a:off x="452520" y="857160"/>
            <a:ext cx="823896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1" descr="xx-in-health-state-of-women-in-healthcare-2013-by-xxinhealth-23-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矩形 2"/>
          <p:cNvSpPr/>
          <p:nvPr/>
        </p:nvSpPr>
        <p:spPr>
          <a:xfrm>
            <a:off x="452520" y="857160"/>
            <a:ext cx="823896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1" descr="xx-in-health-state-of-women-in-healthcare-2013-by-xxinhealth-24-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矩形 2"/>
          <p:cNvSpPr/>
          <p:nvPr/>
        </p:nvSpPr>
        <p:spPr>
          <a:xfrm>
            <a:off x="452520" y="857160"/>
            <a:ext cx="823896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图片 1" descr="xx-in-health-state-of-women-in-healthcare-2013-by-xxinhealth-25-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矩形 2"/>
          <p:cNvSpPr/>
          <p:nvPr/>
        </p:nvSpPr>
        <p:spPr>
          <a:xfrm>
            <a:off x="452520" y="857160"/>
            <a:ext cx="823896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图片 1" descr="xx-in-health-state-of-women-in-healthcare-2013-by-xxinhealth-26-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矩形 2"/>
          <p:cNvSpPr/>
          <p:nvPr/>
        </p:nvSpPr>
        <p:spPr>
          <a:xfrm>
            <a:off x="452520" y="857160"/>
            <a:ext cx="823896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1" descr="xx-in-health-state-of-women-in-healthcare-2013-by-xxinhealth-27-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矩形 2"/>
          <p:cNvSpPr/>
          <p:nvPr/>
        </p:nvSpPr>
        <p:spPr>
          <a:xfrm>
            <a:off x="452520" y="857160"/>
            <a:ext cx="823896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1" descr="xx-in-health-state-of-women-in-healthcare-2013-by-xxinhealth-28-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矩形 2"/>
          <p:cNvSpPr/>
          <p:nvPr/>
        </p:nvSpPr>
        <p:spPr>
          <a:xfrm>
            <a:off x="452520" y="857160"/>
            <a:ext cx="823896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1" descr="xx-in-health-state-of-women-in-healthcare-2013-by-xxinhealth-29-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矩形 2"/>
          <p:cNvSpPr/>
          <p:nvPr/>
        </p:nvSpPr>
        <p:spPr>
          <a:xfrm>
            <a:off x="452520" y="857160"/>
            <a:ext cx="823896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1" descr="xx-in-health-state-of-women-in-healthcare-2013-by-xxinhealth-3-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矩形 2"/>
          <p:cNvSpPr/>
          <p:nvPr/>
        </p:nvSpPr>
        <p:spPr>
          <a:xfrm>
            <a:off x="452520" y="857160"/>
            <a:ext cx="823896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F335-7A00-4E94-985E-6DC0957C6DC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图片 1" descr="xx-in-health-state-of-women-in-healthcare-2013-by-xxinhealth-30-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矩形 2"/>
          <p:cNvSpPr/>
          <p:nvPr/>
        </p:nvSpPr>
        <p:spPr>
          <a:xfrm>
            <a:off x="452520" y="857160"/>
            <a:ext cx="823896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1" descr="xx-in-health-state-of-women-in-healthcare-2013-by-xxinhealth-4-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矩形 2"/>
          <p:cNvSpPr/>
          <p:nvPr/>
        </p:nvSpPr>
        <p:spPr>
          <a:xfrm>
            <a:off x="452520" y="857160"/>
            <a:ext cx="823896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1" descr="xx-in-health-state-of-women-in-healthcare-2013-by-xxinhealth-5-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矩形 2"/>
          <p:cNvSpPr/>
          <p:nvPr/>
        </p:nvSpPr>
        <p:spPr>
          <a:xfrm>
            <a:off x="452520" y="857160"/>
            <a:ext cx="823896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" descr="xx-in-health-state-of-women-in-healthcare-2013-by-xxinhealth-6-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矩形 2"/>
          <p:cNvSpPr/>
          <p:nvPr/>
        </p:nvSpPr>
        <p:spPr>
          <a:xfrm>
            <a:off x="452520" y="857160"/>
            <a:ext cx="823896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1" descr="xx-in-health-state-of-women-in-healthcare-2013-by-xxinhealth-7-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矩形 2"/>
          <p:cNvSpPr/>
          <p:nvPr/>
        </p:nvSpPr>
        <p:spPr>
          <a:xfrm>
            <a:off x="452520" y="857160"/>
            <a:ext cx="823896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1" descr="xx-in-health-state-of-women-in-healthcare-2013-by-xxinhealth-8-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矩形 2"/>
          <p:cNvSpPr/>
          <p:nvPr/>
        </p:nvSpPr>
        <p:spPr>
          <a:xfrm>
            <a:off x="452520" y="857160"/>
            <a:ext cx="823896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1" descr="xx-in-health-state-of-women-in-healthcare-2013-by-xxinhealth-9-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矩形 2"/>
          <p:cNvSpPr/>
          <p:nvPr/>
        </p:nvSpPr>
        <p:spPr>
          <a:xfrm>
            <a:off x="452520" y="857160"/>
            <a:ext cx="823896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5T03:19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2:24Z</dcterms:modified>
  <cp:revision>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