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389B-C8D2-4E52-970E-A92A48CD7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55de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5029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03600"/>
            <a:ext cx="5029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AE46-087A-4656-818F-459184A9E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55de2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454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34440" y="1294920"/>
            <a:ext cx="2454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03600"/>
            <a:ext cx="2454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034440" y="3603600"/>
            <a:ext cx="2454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0445-0540-4CF5-9849-DCED34EE8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55de2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16192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157840" y="1294920"/>
            <a:ext cx="16192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58480" y="1294920"/>
            <a:ext cx="16192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03600"/>
            <a:ext cx="16192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157840" y="3603600"/>
            <a:ext cx="16192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858480" y="3603600"/>
            <a:ext cx="16192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8A00-4C54-4C45-969D-A418ABF47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34D92-A774-4172-B9B2-F00AB8762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55de2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50292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CD620-BF6D-4882-B3DF-024C2FD7F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55de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5029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88768-5AEF-474B-AF90-AEB61F60F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55de2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454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034440" y="1294920"/>
            <a:ext cx="2454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8DDCC-9E81-4076-92A0-21AB015C8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55de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A7FFF-D0FE-4504-9B07-80F277041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086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78FB2-6CA8-452F-A62B-A392BF5CD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55de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454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034440" y="1294920"/>
            <a:ext cx="2454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03600"/>
            <a:ext cx="2454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92831-1511-40ED-A7E6-D6166FC2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55de2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50292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C623-B672-4839-86AC-C94FE4659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55de2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454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034440" y="1294920"/>
            <a:ext cx="2454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34440" y="3603600"/>
            <a:ext cx="2454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4C2F9-6715-4448-9239-EB219B6B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55de2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454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034440" y="1294920"/>
            <a:ext cx="2454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03600"/>
            <a:ext cx="5029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5AF8D-91B8-494E-A6E0-6DBF1011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55de2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5029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03600"/>
            <a:ext cx="5029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537A3-ED21-44BF-AB0A-33DBEA311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55de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454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34440" y="1294920"/>
            <a:ext cx="2454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03600"/>
            <a:ext cx="2454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034440" y="3603600"/>
            <a:ext cx="2454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B7CCD-75B7-48DC-830D-A5FEDE0D1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55de2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16192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57840" y="1294920"/>
            <a:ext cx="16192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858480" y="1294920"/>
            <a:ext cx="16192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03600"/>
            <a:ext cx="16192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57840" y="3603600"/>
            <a:ext cx="16192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858480" y="3603600"/>
            <a:ext cx="16192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6ED4E-4BA5-4B70-8A71-5F4509147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55de2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5029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5DC9-BCC2-43B2-9C51-5898D92B0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55de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454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034440" y="1294920"/>
            <a:ext cx="2454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4314-78FB-48B9-AAD8-8DEB9EE76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55de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29E6-F40B-4CB1-9E2F-5BC50FF93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086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8008-C68E-442A-91C1-D6896D10A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55de2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454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034440" y="1294920"/>
            <a:ext cx="2454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03600"/>
            <a:ext cx="2454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6D4C-9D2B-4978-8EB0-D873A16E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55de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454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034440" y="1294920"/>
            <a:ext cx="2454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34440" y="3603600"/>
            <a:ext cx="2454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76A0-75E8-419C-8C1A-992E3D89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55de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454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034440" y="1294920"/>
            <a:ext cx="2454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03600"/>
            <a:ext cx="5029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0612-BFBB-417D-AFBD-D3C1BA06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55de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55de2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5029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eaeae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A1CBE-71A8-49DE-B582-0BFC18FFB2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5410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55de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55de2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EE27B-A764-4398-AF2F-9C63490ABD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eaeae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eaeaea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6400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55de2"/>
                </a:solidFill>
                <a:latin typeface="Times New Roman"/>
                <a:ea typeface="宋体"/>
              </a:rPr>
              <a:t>运动类跑步</a:t>
            </a:r>
            <a:r>
              <a:rPr b="0" lang="zh-CN" sz="4000" spc="-1" strike="noStrike">
                <a:solidFill>
                  <a:srgbClr val="855de2"/>
                </a:solidFill>
                <a:latin typeface="Times New Roman"/>
                <a:ea typeface="宋体"/>
              </a:rPr>
              <a:t>PPT</a:t>
            </a:r>
            <a:r>
              <a:rPr b="0" lang="zh-CN" sz="4000" spc="-1" strike="noStrike">
                <a:solidFill>
                  <a:srgbClr val="855de2"/>
                </a:solidFill>
                <a:latin typeface="Times New Roman"/>
                <a:ea typeface="宋体"/>
              </a:rPr>
              <a:t>模板下载</a:t>
            </a:r>
            <a:endParaRPr b="0" lang="en-US" sz="4000" spc="-1" strike="noStrike">
              <a:solidFill>
                <a:srgbClr val="855de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3505320"/>
            <a:ext cx="4648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Subtitle Goe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55de2"/>
                </a:solidFill>
                <a:latin typeface="Times New Roman"/>
              </a:rPr>
              <a:t>YOUR TOPIC GOES HERE</a:t>
            </a:r>
            <a:endParaRPr b="0" lang="en-US" sz="4400" spc="-1" strike="noStrike">
              <a:solidFill>
                <a:srgbClr val="855de2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5029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Your Subtopics Go He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55de2"/>
                </a:solidFill>
                <a:latin typeface="Times New Roman"/>
              </a:rPr>
              <a:t>YOUR TOPIC GOES HERE</a:t>
            </a:r>
            <a:endParaRPr b="0" lang="en-US" sz="4400" spc="-1" strike="noStrike">
              <a:solidFill>
                <a:srgbClr val="855de2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5029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Subtopics Go He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2666520"/>
            <a:ext cx="74678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TRANSITIONAL PAGE</a:t>
            </a:r>
            <a:endParaRPr b="0" lang="en-US" sz="4400" spc="-1" strike="noStrike">
              <a:solidFill>
                <a:srgbClr val="855de2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55640" y="1773360"/>
            <a:ext cx="4435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55de2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855de2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B9EA-26AD-4A51-BE0C-A27859F66A5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aeaea"/>
                </a:solidFill>
                <a:latin typeface="Eurostile"/>
              </a:rPr>
              <a:t>Elements</a:t>
            </a:r>
            <a:endParaRPr b="0" lang="en-US" sz="4400" spc="-1" strike="noStrike">
              <a:solidFill>
                <a:srgbClr val="855de2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248520" y="4514760"/>
            <a:ext cx="2514600" cy="18860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276720" y="2152800"/>
            <a:ext cx="2514600" cy="1885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276720" y="4514760"/>
            <a:ext cx="2514600" cy="18860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6248520" y="2152800"/>
            <a:ext cx="2514600" cy="1885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762120" y="2133720"/>
            <a:ext cx="1749240" cy="43434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5029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6T22:19:04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5:40Z</dcterms:modified>
  <cp:revision>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