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645-22BB-4015-BCEF-2EC5A04A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3733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60" y="6106320"/>
            <a:ext cx="3733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105-4253-42A8-A18D-93D566E5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93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961-77A0-4BEB-BF07-A90B1145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38480" y="586728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01000" y="586728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60" y="610632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38480" y="610632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01000" y="610632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760-0CBA-47CB-8D16-0CE5497A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6759-CB5E-4AA1-923D-DBD0B58E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60" y="58672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8036-DE22-4CB3-A44F-E85675D5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5228-57E0-4EE0-8F38-21CD8A17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4FA6-50ED-4E12-BD77-1819A573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D26A-07C9-4DEC-935F-2396A15E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" y="2130120"/>
            <a:ext cx="3657600" cy="162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92AD-893B-4993-B761-AD278084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6BC1-8AAE-4715-8B19-E2E3A017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60" y="58672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2F0-7D08-4442-8FCB-6FD54B51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93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D561-E24C-4037-B61A-F1D47590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60" y="6106320"/>
            <a:ext cx="3733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29E9-7B84-44F5-8B1E-B0DEC7CF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3733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60" y="6106320"/>
            <a:ext cx="3733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F22D-A4FD-4E68-A597-1206F2F6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9893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C2A1-A14C-4A1C-A558-60FA375C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38480" y="586728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01000" y="586728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60" y="610632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338480" y="610632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601000" y="6106320"/>
            <a:ext cx="12020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9C5F-ED05-437E-91E0-C2672F1D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B87-D171-4E55-BA9C-12120B30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45C-8F7A-4BA2-A9AC-6DB83037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042-9DBE-41D1-BCA1-D04E22B4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2130120"/>
            <a:ext cx="3657600" cy="162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2CC-D165-4DF8-B660-CDB0D04E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965-11C2-4ED7-ADCD-5C8AA971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9360" y="610632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7D3-BC3C-47A0-A9C0-886361EF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9360" y="5867280"/>
            <a:ext cx="18219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60" y="6106320"/>
            <a:ext cx="37335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960-8EFF-4856-9ED1-421B8A38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33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0C2D-CB92-4E19-B468-4629114DD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6CC4-269D-41C4-99E7-87A0857F5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2130120"/>
            <a:ext cx="36576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Arial Black"/>
              </a:rPr>
              <a:t>PROBABLE</a:t>
            </a:r>
            <a:br>
              <a:rPr sz="4000"/>
            </a:br>
            <a:r>
              <a:rPr b="0" lang="en-US" sz="4000" spc="-1" strike="noStrike">
                <a:solidFill>
                  <a:srgbClr val="ccff66"/>
                </a:solidFill>
                <a:latin typeface="Arial Black"/>
              </a:rPr>
              <a:t>OUTCOME</a:t>
            </a: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5960" y="58672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Your Subtitle Goes Her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12960" y="29718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运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 Black"/>
              </a:rPr>
              <a:t>YOUR TOPIC GOES HERE</a:t>
            </a:r>
            <a:endParaRPr b="0" lang="en-US" sz="4000" spc="-1" strike="noStrike">
              <a:solidFill>
                <a:srgbClr val="33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R TOPIC GOES HERE</a:t>
            </a:r>
            <a:endParaRPr b="0" lang="en-US" sz="4000" spc="-1" strike="noStrike">
              <a:solidFill>
                <a:srgbClr val="33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733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Arial Black"/>
              </a:rPr>
              <a:t>使用规范说明</a:t>
            </a:r>
            <a:endParaRPr b="0" lang="en-US" sz="4000" spc="-1" strike="noStrike">
              <a:solidFill>
                <a:srgbClr val="33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728-6962-4332-B937-7B1BE45897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259092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66"/>
                </a:solidFill>
                <a:latin typeface="Arial Black"/>
              </a:rPr>
              <a:t>TRANSITIONAL PAGE</a:t>
            </a:r>
            <a:endParaRPr b="0" lang="en-US" sz="4000" spc="-1" strike="noStrike">
              <a:solidFill>
                <a:srgbClr val="ccff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22:03:1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9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