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39C-EA56-4EA8-AC95-5262955D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1212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DE0-0669-41D6-B6C4-028C854A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4C1-CC82-49DC-A81C-CD29389E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1D0-0824-4A21-A6B5-B688A813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F83B-E7FA-4BDD-9FB0-ED181811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7225-AAB6-4EA1-8DBC-79204379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E913-1A4E-445F-B5D6-1CD7D880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DE08-E1CD-488A-9D28-EDE10EE1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834F-1406-4724-9C55-65BEA8EE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CFF2-4DFA-48E7-A07D-5534335F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EA9A-3D4F-48D4-8528-91D7D5B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AEAF-725C-4CAE-92AA-3A249F78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2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EF0C7-13A8-4773-8542-E3E618AF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1212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9FA1-D2B9-4B77-A80E-F9020F07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391212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8379-0ABC-4BD7-A046-BE4235C4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2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BDEB-F386-4BCF-89C3-ED08DE0A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60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25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60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25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6DD4-9D84-4E72-BF23-2B7C18D1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D3C-7509-4869-A110-598ABA14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CF4-2EA2-45CD-AFDD-6C1D471A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E0C-421A-46D6-BC94-BE4C94E2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6FA-2C74-4C15-BCF2-2F79276C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543-3009-494C-A617-53329C1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BD5-C958-417A-A077-49B9EFA3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1212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CCB-8768-4685-B35E-995F346A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3" descr=""/>
          <p:cNvPicPr/>
          <p:nvPr/>
        </p:nvPicPr>
        <p:blipFill>
          <a:blip r:embed="rId2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1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624852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82E2-28B4-4652-89D1-604606FB5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65C9-CD58-4B91-99DA-FBFF540DCC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329E-4871-4BAE-B2BF-922C48350F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运动人影背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</a:rPr>
              <a:t>免费打包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19:00:0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37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