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756-D34E-456D-A6F2-474D0E8C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B13-A359-4A7C-BDCC-FAB2BAA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0E9-EF33-40B9-AF31-EFA128BE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DA8-F713-43C0-8393-260DC080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192F-6E4F-41D3-9027-1F8B6128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6D7-DEFD-42B0-B6E6-0229244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CC5-593E-4EA2-A541-33FB5FE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7D6-4736-4DAC-A312-98F05BC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13D8-A5F5-4E59-86ED-98F50AF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D1E-7042-41D0-AB84-124B7BC2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706-EE3D-4133-96FB-BDC9953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398-7257-4613-9A96-5E3A670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BD7-D65A-4DF0-8A5E-8FC5821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894-4972-42DD-B1DB-A78BF10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9BC8-9C78-4752-8498-6AB9489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0E8-0FAF-4803-B080-8D373BD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4EC-8C69-44E3-B992-CEA83E52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95C-5C50-4B7E-8F81-0E99B46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BB4-06E8-4131-88BC-0CA5C62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BD2-A93E-47DA-8B35-8234C05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1886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E31-0597-4316-838D-6F54A57B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8F2-5221-4385-BBB1-83ED213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8C8-810E-44CA-AC2C-2D88CB8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47E-8B73-4E6B-8D1B-74CFB99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3AB9-688F-4C8D-AD89-9293143A6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A78-7164-44FF-A306-04DD2DD706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标题 1"/>
          <p:cNvSpPr/>
          <p:nvPr/>
        </p:nvSpPr>
        <p:spPr>
          <a:xfrm>
            <a:off x="252360" y="5157720"/>
            <a:ext cx="7000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真广标"/>
                <a:ea typeface="汉真广标"/>
              </a:rPr>
              <a:t>勇敢的守门员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080" y="125280"/>
            <a:ext cx="5460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28D-8F19-4F2A-9DEA-DA448750E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4951440" y="5278320"/>
            <a:ext cx="23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4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3Z</dcterms:modified>
  <cp:revision>3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