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E7E43-4F3D-435B-90CD-B8357E9078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9000" y="609480"/>
            <a:ext cx="5410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9426b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105160" y="3123720"/>
            <a:ext cx="3809880" cy="1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05160" y="3342960"/>
            <a:ext cx="3809880" cy="1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91D2F-53F2-4CE2-A058-C46CF22A15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429000" y="609480"/>
            <a:ext cx="5410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9426b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105160" y="3123720"/>
            <a:ext cx="1859040" cy="1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7057440" y="3123720"/>
            <a:ext cx="1859040" cy="1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105160" y="3342960"/>
            <a:ext cx="1859040" cy="1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057440" y="3342960"/>
            <a:ext cx="1859040" cy="1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DA351-A76A-4222-B5DA-0EFCDD427B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9000" y="609480"/>
            <a:ext cx="5410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9426b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105160" y="3123720"/>
            <a:ext cx="1226520" cy="1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393240" y="3123720"/>
            <a:ext cx="1226520" cy="1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681680" y="3123720"/>
            <a:ext cx="1226520" cy="1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105160" y="3342960"/>
            <a:ext cx="1226520" cy="1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6393240" y="3342960"/>
            <a:ext cx="1226520" cy="1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7681680" y="3342960"/>
            <a:ext cx="1226520" cy="1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ACE94-49BB-4EF2-A6A4-9B2386018B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6DCFFB-4A48-4ACD-9266-8A9DC5870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9000" y="609480"/>
            <a:ext cx="5410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9426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5105160" y="3123720"/>
            <a:ext cx="3809880" cy="4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4890F1-B485-4BA7-B0D3-F27640F13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9000" y="609480"/>
            <a:ext cx="5410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9426b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105160" y="3123720"/>
            <a:ext cx="38098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5F7C43-3B9D-4503-8621-36129877F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9000" y="609480"/>
            <a:ext cx="5410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9426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105160" y="3123720"/>
            <a:ext cx="185904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057440" y="3123720"/>
            <a:ext cx="185904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426BBF-2CB8-4A54-B4E7-45B2144AB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9000" y="609480"/>
            <a:ext cx="5410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9426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8FBD18-EF9F-42EF-AC28-EE175DB8E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3429000" y="609480"/>
            <a:ext cx="5410080" cy="88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277CCC-AD44-4B6E-92DC-22C6AE29C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29000" y="609480"/>
            <a:ext cx="5410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9426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105160" y="3123720"/>
            <a:ext cx="1859040" cy="1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7057440" y="3123720"/>
            <a:ext cx="185904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05160" y="3342960"/>
            <a:ext cx="1859040" cy="1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451F1B-0A06-42CE-954E-24DE1BC7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29000" y="609480"/>
            <a:ext cx="5410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9426b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5105160" y="3123720"/>
            <a:ext cx="3809880" cy="4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8462B-2276-4661-B600-FE69A27662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29000" y="609480"/>
            <a:ext cx="5410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9426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105160" y="3123720"/>
            <a:ext cx="185904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7057440" y="3123720"/>
            <a:ext cx="1859040" cy="1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057440" y="3342960"/>
            <a:ext cx="1859040" cy="1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22760E-1A84-4326-B590-E5DC0F81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429000" y="609480"/>
            <a:ext cx="5410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9426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105160" y="3123720"/>
            <a:ext cx="1859040" cy="1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7057440" y="3123720"/>
            <a:ext cx="1859040" cy="1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105160" y="3342960"/>
            <a:ext cx="3809880" cy="1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C4BAD5-DDCA-4C10-A041-426A0DDC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29000" y="609480"/>
            <a:ext cx="5410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9426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105160" y="3123720"/>
            <a:ext cx="3809880" cy="1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05160" y="3342960"/>
            <a:ext cx="3809880" cy="1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9DCC28-21F2-4F44-8212-84CEAF1EF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429000" y="609480"/>
            <a:ext cx="5410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9426b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105160" y="3123720"/>
            <a:ext cx="1859040" cy="1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7057440" y="3123720"/>
            <a:ext cx="1859040" cy="1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05160" y="3342960"/>
            <a:ext cx="1859040" cy="1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7057440" y="3342960"/>
            <a:ext cx="1859040" cy="1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8B09FE-7D34-4689-80C8-B959D22BE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29000" y="609480"/>
            <a:ext cx="5410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9426b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105160" y="3123720"/>
            <a:ext cx="1226520" cy="1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393240" y="3123720"/>
            <a:ext cx="1226520" cy="1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7681680" y="3123720"/>
            <a:ext cx="1226520" cy="1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5105160" y="3342960"/>
            <a:ext cx="1226520" cy="1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6393240" y="3342960"/>
            <a:ext cx="1226520" cy="1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7681680" y="3342960"/>
            <a:ext cx="1226520" cy="1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9CA111-030C-4904-905D-227E6071F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9000" y="609480"/>
            <a:ext cx="5410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9426b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105160" y="3123720"/>
            <a:ext cx="38098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03F5C-B837-47C7-87D2-BE1BA54F19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29000" y="609480"/>
            <a:ext cx="5410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9426b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05160" y="3123720"/>
            <a:ext cx="185904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7057440" y="3123720"/>
            <a:ext cx="185904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5E6B7-5D7D-4EFC-8353-49543FA39A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9000" y="609480"/>
            <a:ext cx="5410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9426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A87BC-5EC3-4A0A-8D40-A125560735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3429000" y="609480"/>
            <a:ext cx="5410080" cy="88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298AD-4E4D-4C0E-AF0B-F7E853A5A1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9000" y="609480"/>
            <a:ext cx="5410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9426b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105160" y="3123720"/>
            <a:ext cx="1859040" cy="1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057440" y="3123720"/>
            <a:ext cx="185904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05160" y="3342960"/>
            <a:ext cx="1859040" cy="1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4C97F-D49F-4555-9EBE-6E08BF8307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29000" y="609480"/>
            <a:ext cx="5410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9426b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05160" y="3123720"/>
            <a:ext cx="185904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057440" y="3123720"/>
            <a:ext cx="1859040" cy="1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057440" y="3342960"/>
            <a:ext cx="1859040" cy="1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F59D2-85F0-4CCC-A2CB-3F84DFAB32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9000" y="609480"/>
            <a:ext cx="5410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9426b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105160" y="3123720"/>
            <a:ext cx="1859040" cy="1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057440" y="3123720"/>
            <a:ext cx="1859040" cy="1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105160" y="3342960"/>
            <a:ext cx="3809880" cy="1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47B87-35BB-4F02-B1B7-C7C7989370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798480"/>
            <a:ext cx="9144000" cy="312840"/>
          </a:xfrm>
          <a:prstGeom prst="rect">
            <a:avLst/>
          </a:prstGeom>
          <a:solidFill>
            <a:srgbClr val="1942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2bb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7332840" y="115920"/>
            <a:ext cx="1702800" cy="1527120"/>
            <a:chOff x="7332840" y="115920"/>
            <a:chExt cx="1702800" cy="1527120"/>
          </a:xfrm>
        </p:grpSpPr>
        <p:sp>
          <p:nvSpPr>
            <p:cNvPr id="3" name=""/>
            <p:cNvSpPr/>
            <p:nvPr/>
          </p:nvSpPr>
          <p:spPr>
            <a:xfrm>
              <a:off x="7873920" y="1282680"/>
              <a:ext cx="1161720" cy="3603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19426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332840" y="115920"/>
              <a:ext cx="1468080" cy="1424160"/>
              <a:chOff x="7332840" y="115920"/>
              <a:chExt cx="1468080" cy="1424160"/>
            </a:xfrm>
          </p:grpSpPr>
          <p:sp>
            <p:nvSpPr>
              <p:cNvPr id="5" name=""/>
              <p:cNvSpPr/>
              <p:nvPr/>
            </p:nvSpPr>
            <p:spPr>
              <a:xfrm>
                <a:off x="7332840" y="115920"/>
                <a:ext cx="1468080" cy="1424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99192" dir="2381944" blurRad="0" rotWithShape="0">
                  <a:srgbClr val="19426b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7377480" y="149760"/>
                <a:ext cx="1383840" cy="1334880"/>
                <a:chOff x="7377480" y="149760"/>
                <a:chExt cx="1383840" cy="133488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8086680" y="356760"/>
                  <a:ext cx="674640" cy="917640"/>
                </a:xfrm>
                <a:custGeom>
                  <a:avLst/>
                  <a:gdLst/>
                  <a:ahLst/>
                  <a:rect l="l" t="t" r="r" b="b"/>
                  <a:pathLst>
                    <a:path w="1348" h="1963">
                      <a:moveTo>
                        <a:pt x="951" y="1963"/>
                      </a:moveTo>
                      <a:cubicBezTo>
                        <a:pt x="1244" y="1689"/>
                        <a:pt x="1348" y="1323"/>
                        <a:pt x="1338" y="977"/>
                      </a:cubicBezTo>
                      <a:cubicBezTo>
                        <a:pt x="1329" y="629"/>
                        <a:pt x="1132" y="226"/>
                        <a:pt x="905" y="0"/>
                      </a:cubicBezTo>
                      <a:lnTo>
                        <a:pt x="0" y="987"/>
                      </a:lnTo>
                      <a:lnTo>
                        <a:pt x="951" y="1963"/>
                      </a:lnTo>
                      <a:close/>
                    </a:path>
                  </a:pathLst>
                </a:custGeom>
                <a:blipFill rotWithShape="0">
                  <a:blip r:embed="rId2"/>
                  <a:srcRect/>
                  <a:stretch/>
                </a:blipFill>
                <a:ln w="0">
                  <a:noFill/>
                </a:ln>
                <a:effectLst>
                  <a:outerShdw dist="17819" dir="2700000" blurRad="0" rotWithShape="0">
                    <a:srgbClr val="b2b2b2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9426b"/>
                    </a:solidFill>
                    <a:latin typeface="Arial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7615080" y="149760"/>
                  <a:ext cx="906120" cy="642600"/>
                </a:xfrm>
                <a:custGeom>
                  <a:avLst/>
                  <a:gdLst/>
                  <a:ahLst/>
                  <a:rect l="l" t="t" r="r" b="b"/>
                  <a:pathLst>
                    <a:path w="1810" h="1375">
                      <a:moveTo>
                        <a:pt x="905" y="1375"/>
                      </a:moveTo>
                      <a:lnTo>
                        <a:pt x="1810" y="395"/>
                      </a:lnTo>
                      <a:cubicBezTo>
                        <a:pt x="1612" y="176"/>
                        <a:pt x="1300" y="0"/>
                        <a:pt x="876" y="24"/>
                      </a:cubicBezTo>
                      <a:cubicBezTo>
                        <a:pt x="452" y="48"/>
                        <a:pt x="252" y="149"/>
                        <a:pt x="0" y="396"/>
                      </a:cubicBezTo>
                      <a:lnTo>
                        <a:pt x="905" y="1375"/>
                      </a:lnTo>
                      <a:close/>
                    </a:path>
                  </a:pathLst>
                </a:custGeom>
                <a:blipFill rotWithShape="0">
                  <a:blip r:embed="rId3"/>
                  <a:srcRect/>
                  <a:stretch/>
                </a:blipFill>
                <a:ln w="0">
                  <a:noFill/>
                </a:ln>
                <a:effectLst>
                  <a:outerShdw dist="17819" dir="2700000" blurRad="0" rotWithShape="0">
                    <a:srgbClr val="b2b2b2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9426b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7377480" y="365040"/>
                  <a:ext cx="663120" cy="892800"/>
                </a:xfrm>
                <a:custGeom>
                  <a:avLst/>
                  <a:gdLst/>
                  <a:ahLst/>
                  <a:rect l="l" t="t" r="r" b="b"/>
                  <a:pathLst>
                    <a:path w="1325" h="1910">
                      <a:moveTo>
                        <a:pt x="1325" y="960"/>
                      </a:moveTo>
                      <a:lnTo>
                        <a:pt x="414" y="0"/>
                      </a:lnTo>
                      <a:cubicBezTo>
                        <a:pt x="238" y="162"/>
                        <a:pt x="0" y="570"/>
                        <a:pt x="27" y="1014"/>
                      </a:cubicBezTo>
                      <a:cubicBezTo>
                        <a:pt x="53" y="1458"/>
                        <a:pt x="233" y="1748"/>
                        <a:pt x="402" y="1910"/>
                      </a:cubicBezTo>
                      <a:lnTo>
                        <a:pt x="1325" y="960"/>
                      </a:lnTo>
                      <a:close/>
                    </a:path>
                  </a:pathLst>
                </a:custGeom>
                <a:blipFill rotWithShape="0">
                  <a:blip r:embed="rId4"/>
                  <a:srcRect/>
                  <a:stretch/>
                </a:blipFill>
                <a:ln w="0">
                  <a:noFill/>
                </a:ln>
                <a:effectLst>
                  <a:outerShdw dist="17819" dir="2700000" blurRad="0" rotWithShape="0">
                    <a:srgbClr val="b2b2b2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9426b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7601040" y="831240"/>
                  <a:ext cx="934200" cy="653400"/>
                </a:xfrm>
                <a:custGeom>
                  <a:avLst/>
                  <a:gdLst/>
                  <a:ahLst/>
                  <a:rect l="l" t="t" r="r" b="b"/>
                  <a:pathLst>
                    <a:path w="1866" h="1398">
                      <a:moveTo>
                        <a:pt x="927" y="0"/>
                      </a:moveTo>
                      <a:lnTo>
                        <a:pt x="0" y="975"/>
                      </a:lnTo>
                      <a:cubicBezTo>
                        <a:pt x="203" y="1204"/>
                        <a:pt x="607" y="1398"/>
                        <a:pt x="996" y="1387"/>
                      </a:cubicBezTo>
                      <a:cubicBezTo>
                        <a:pt x="1385" y="1375"/>
                        <a:pt x="1707" y="1159"/>
                        <a:pt x="1866" y="996"/>
                      </a:cubicBezTo>
                      <a:lnTo>
                        <a:pt x="927" y="0"/>
                      </a:lnTo>
                      <a:close/>
                    </a:path>
                  </a:pathLst>
                </a:custGeom>
                <a:blipFill rotWithShape="0">
                  <a:blip r:embed="rId5"/>
                  <a:srcRect/>
                  <a:stretch/>
                </a:blipFill>
                <a:ln w="0">
                  <a:noFill/>
                </a:ln>
                <a:effectLst>
                  <a:outerShdw dist="17819" dir="2700000" blurRad="0" rotWithShape="0">
                    <a:srgbClr val="b2b2b2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9426b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" name="PlaceHolder 1"/>
          <p:cNvSpPr>
            <a:spLocks noGrp="1"/>
          </p:cNvSpPr>
          <p:nvPr>
            <p:ph type="body"/>
          </p:nvPr>
        </p:nvSpPr>
        <p:spPr>
          <a:xfrm>
            <a:off x="53352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d86f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9426b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9426b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9426b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9426b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9426b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ldNum" idx="1"/>
          </p:nvPr>
        </p:nvSpPr>
        <p:spPr>
          <a:xfrm>
            <a:off x="3428640" y="650844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9426b"/>
                </a:solidFill>
                <a:latin typeface="Verdan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01C95-CE0A-4215-895D-C571C77310B6}" type="slidenum">
              <a:rPr b="0" lang="en-US" sz="1000" spc="-1" strike="noStrike">
                <a:solidFill>
                  <a:srgbClr val="19426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title"/>
          </p:nvPr>
        </p:nvSpPr>
        <p:spPr>
          <a:xfrm>
            <a:off x="533160" y="19836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5562360" y="6476760"/>
            <a:ext cx="3276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19426b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9426b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3141720"/>
            <a:ext cx="9144000" cy="431640"/>
          </a:xfrm>
          <a:prstGeom prst="rect">
            <a:avLst/>
          </a:prstGeom>
          <a:solidFill>
            <a:srgbClr val="19426b"/>
          </a:solidFill>
          <a:ln w="9360">
            <a:solidFill>
              <a:srgbClr val="1942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527280"/>
            <a:ext cx="9144000" cy="3357720"/>
          </a:xfrm>
          <a:prstGeom prst="rect">
            <a:avLst/>
          </a:prstGeom>
          <a:solidFill>
            <a:srgbClr val="2bb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58920" y="4305240"/>
            <a:ext cx="4248000" cy="1800360"/>
          </a:xfrm>
          <a:prstGeom prst="ellipse">
            <a:avLst/>
          </a:prstGeom>
          <a:gradFill rotWithShape="0">
            <a:gsLst>
              <a:gs pos="0">
                <a:srgbClr val="2bb5a5"/>
              </a:gs>
              <a:gs pos="100000">
                <a:srgbClr val="13534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6120" y="1052640"/>
            <a:ext cx="4656240" cy="483696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72675" dir="3239411" blurRad="0" rotWithShape="0">
              <a:srgbClr val="1942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25840" y="1916280"/>
            <a:ext cx="2139840" cy="3116160"/>
          </a:xfrm>
          <a:custGeom>
            <a:avLst/>
            <a:gdLst/>
            <a:ahLst/>
            <a:rect l="l" t="t" r="r" b="b"/>
            <a:pathLst>
              <a:path w="1348" h="1963">
                <a:moveTo>
                  <a:pt x="951" y="1963"/>
                </a:moveTo>
                <a:cubicBezTo>
                  <a:pt x="1244" y="1689"/>
                  <a:pt x="1348" y="1323"/>
                  <a:pt x="1338" y="977"/>
                </a:cubicBezTo>
                <a:cubicBezTo>
                  <a:pt x="1329" y="629"/>
                  <a:pt x="1132" y="226"/>
                  <a:pt x="905" y="0"/>
                </a:cubicBezTo>
                <a:lnTo>
                  <a:pt x="0" y="987"/>
                </a:lnTo>
                <a:lnTo>
                  <a:pt x="951" y="1963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30400" y="1212840"/>
            <a:ext cx="2873160" cy="2182680"/>
          </a:xfrm>
          <a:custGeom>
            <a:avLst/>
            <a:gdLst/>
            <a:ahLst/>
            <a:rect l="l" t="t" r="r" b="b"/>
            <a:pathLst>
              <a:path w="1810" h="1375">
                <a:moveTo>
                  <a:pt x="905" y="1375"/>
                </a:moveTo>
                <a:lnTo>
                  <a:pt x="1810" y="395"/>
                </a:lnTo>
                <a:cubicBezTo>
                  <a:pt x="1612" y="176"/>
                  <a:pt x="1300" y="0"/>
                  <a:pt x="876" y="24"/>
                </a:cubicBezTo>
                <a:cubicBezTo>
                  <a:pt x="452" y="48"/>
                  <a:pt x="252" y="149"/>
                  <a:pt x="0" y="396"/>
                </a:cubicBezTo>
                <a:lnTo>
                  <a:pt x="905" y="1375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6200" y="1944720"/>
            <a:ext cx="2103480" cy="3031920"/>
          </a:xfrm>
          <a:custGeom>
            <a:avLst/>
            <a:gdLst/>
            <a:ahLst/>
            <a:rect l="l" t="t" r="r" b="b"/>
            <a:pathLst>
              <a:path w="1325" h="1910">
                <a:moveTo>
                  <a:pt x="1325" y="960"/>
                </a:moveTo>
                <a:lnTo>
                  <a:pt x="414" y="0"/>
                </a:lnTo>
                <a:cubicBezTo>
                  <a:pt x="238" y="162"/>
                  <a:pt x="0" y="570"/>
                  <a:pt x="27" y="1014"/>
                </a:cubicBezTo>
                <a:cubicBezTo>
                  <a:pt x="53" y="1458"/>
                  <a:pt x="233" y="1748"/>
                  <a:pt x="402" y="1910"/>
                </a:cubicBezTo>
                <a:lnTo>
                  <a:pt x="1325" y="96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5760" y="3527280"/>
            <a:ext cx="2962440" cy="2219400"/>
          </a:xfrm>
          <a:custGeom>
            <a:avLst/>
            <a:gdLst/>
            <a:ahLst/>
            <a:rect l="l" t="t" r="r" b="b"/>
            <a:pathLst>
              <a:path w="1866" h="1398">
                <a:moveTo>
                  <a:pt x="927" y="0"/>
                </a:moveTo>
                <a:lnTo>
                  <a:pt x="0" y="975"/>
                </a:lnTo>
                <a:cubicBezTo>
                  <a:pt x="203" y="1204"/>
                  <a:pt x="607" y="1398"/>
                  <a:pt x="996" y="1387"/>
                </a:cubicBezTo>
                <a:cubicBezTo>
                  <a:pt x="1385" y="1375"/>
                  <a:pt x="1707" y="1159"/>
                  <a:pt x="1866" y="996"/>
                </a:cubicBezTo>
                <a:lnTo>
                  <a:pt x="927" y="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06480" y="2751120"/>
            <a:ext cx="1656000" cy="1655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29000" y="609480"/>
            <a:ext cx="5410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9426b"/>
                </a:solidFill>
                <a:latin typeface="Verdana"/>
              </a:rPr>
              <a:t>Click to edit the title text format</a:t>
            </a:r>
            <a:endParaRPr b="1" lang="en-US" sz="4800" spc="-1" strike="noStrike">
              <a:solidFill>
                <a:srgbClr val="19426b"/>
              </a:solidFill>
              <a:latin typeface="Verdana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33480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9426b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3"/>
          </p:nvPr>
        </p:nvSpPr>
        <p:spPr>
          <a:xfrm>
            <a:off x="456840" y="6563880"/>
            <a:ext cx="2133720" cy="1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4"/>
          </p:nvPr>
        </p:nvSpPr>
        <p:spPr>
          <a:xfrm>
            <a:off x="3124080" y="6550200"/>
            <a:ext cx="289584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5"/>
          </p:nvPr>
        </p:nvSpPr>
        <p:spPr>
          <a:xfrm>
            <a:off x="6552720" y="6535800"/>
            <a:ext cx="213372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43538-BE39-447D-BC06-58CCFBA6B4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426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19426b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19426b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942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19426b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9426b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426b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9426b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9426b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426b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9426b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9426b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426b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9426b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9426b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426b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9426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190760" y="875880"/>
            <a:ext cx="45687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19426b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6500880" y="5950080"/>
            <a:ext cx="431640" cy="431640"/>
          </a:xfrm>
          <a:prstGeom prst="ellipse">
            <a:avLst/>
          </a:prstGeom>
          <a:gradFill rotWithShape="0">
            <a:gsLst>
              <a:gs pos="0">
                <a:srgbClr val="2bb5a5"/>
              </a:gs>
              <a:gs pos="100000">
                <a:srgbClr val="18675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48120" y="595800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ompany Name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19426b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19426b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5105160" y="3123720"/>
            <a:ext cx="3809880" cy="4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3028680" y="38088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426b"/>
                </a:solidFill>
                <a:latin typeface="Arial"/>
              </a:rPr>
              <a:t>医疗工具</a:t>
            </a:r>
            <a:r>
              <a:rPr b="0" lang="zh-CN" sz="4000" spc="-1" strike="noStrike">
                <a:solidFill>
                  <a:srgbClr val="19426b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19426b"/>
                </a:solidFill>
                <a:latin typeface="Arial"/>
                <a:ea typeface="宋体"/>
              </a:rPr>
              <a:t>模板在线下载</a:t>
            </a:r>
            <a:endParaRPr b="0" lang="en-US" sz="4000" spc="-1" strike="noStrike">
              <a:solidFill>
                <a:srgbClr val="1942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160" y="19836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219320" y="1828800"/>
            <a:ext cx="6781680" cy="4114800"/>
            <a:chOff x="1219320" y="1828800"/>
            <a:chExt cx="6781680" cy="4114800"/>
          </a:xfrm>
        </p:grpSpPr>
        <p:sp>
          <p:nvSpPr>
            <p:cNvPr id="281" name=""/>
            <p:cNvSpPr/>
            <p:nvPr/>
          </p:nvSpPr>
          <p:spPr>
            <a:xfrm>
              <a:off x="3722760" y="3657600"/>
              <a:ext cx="1839960" cy="228600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6000"/>
                <a:gd name="textAreaBottom" fmla="*/ 2212200 h 2286000"/>
              </a:gdLst>
              <a:ahLst/>
              <a:rect l="textAreaLeft" t="textAreaTop" r="textAreaRight" b="textAreaBottom"/>
              <a:pathLst>
                <a:path w="21600" h="26835">
                  <a:moveTo>
                    <a:pt x="2969" y="0"/>
                  </a:moveTo>
                  <a:arcTo wR="2969" hR="2969" stAng="16200000" swAng="-5400000"/>
                  <a:lnTo>
                    <a:pt x="0" y="23866"/>
                  </a:lnTo>
                  <a:arcTo wR="2969" hR="2969" stAng="10800000" swAng="-5400000"/>
                  <a:lnTo>
                    <a:pt x="18631" y="26835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1942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9426b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219320" y="3657600"/>
              <a:ext cx="1828800" cy="228600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6000"/>
                <a:gd name="textAreaBottom" fmla="*/ 221256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2969" y="0"/>
                  </a:moveTo>
                  <a:arcTo wR="2969" hR="2969" stAng="16200000" swAng="-5400000"/>
                  <a:lnTo>
                    <a:pt x="0" y="24030"/>
                  </a:lnTo>
                  <a:arcTo wR="2969" hR="2969" stAng="10800000" swAng="-5400000"/>
                  <a:lnTo>
                    <a:pt x="18631" y="2699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1942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9426b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48520" y="3657600"/>
              <a:ext cx="1752480" cy="2286000"/>
            </a:xfrm>
            <a:custGeom>
              <a:avLst/>
              <a:gdLst>
                <a:gd name="textAreaLeft" fmla="*/ 70560 w 1752480"/>
                <a:gd name="textAreaRight" fmla="*/ 1681920 w 1752480"/>
                <a:gd name="textAreaTop" fmla="*/ 70560 h 2286000"/>
                <a:gd name="textAreaBottom" fmla="*/ 221544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2969" y="0"/>
                  </a:moveTo>
                  <a:arcTo wR="2969" hR="2969" stAng="16200000" swAng="-5400000"/>
                  <a:lnTo>
                    <a:pt x="0" y="25205"/>
                  </a:lnTo>
                  <a:arcTo wR="2969" hR="2969" stAng="10800000" swAng="-5400000"/>
                  <a:lnTo>
                    <a:pt x="18631" y="2817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1942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9426b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151440" y="2452680"/>
              <a:ext cx="399960" cy="4492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d8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613480" y="245268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8b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bbc0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bbc00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332760" y="19447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4a6500"/>
                </a:gs>
                <a:gs pos="50000">
                  <a:srgbClr val="8bbc00"/>
                </a:gs>
                <a:gs pos="100000">
                  <a:srgbClr val="4a65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357960" y="19526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8bbc00">
                    <a:alpha val="0"/>
                  </a:srgbClr>
                </a:gs>
                <a:gs pos="100000">
                  <a:srgbClr val="5776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411960" y="2016000"/>
              <a:ext cx="13352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d50ca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6d50ca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406520" y="19382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3a2b6c"/>
                </a:gs>
                <a:gs pos="50000">
                  <a:srgbClr val="6d50ca"/>
                </a:gs>
                <a:gs pos="100000">
                  <a:srgbClr val="3a2b6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408320" y="194148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6d50ca">
                    <a:alpha val="0"/>
                  </a:srgbClr>
                </a:gs>
                <a:gs pos="100000">
                  <a:srgbClr val="44327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481400" y="2013120"/>
              <a:ext cx="133344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1501920" y="2031840"/>
              <a:ext cx="1290600" cy="1278000"/>
              <a:chOff x="1501920" y="2031840"/>
              <a:chExt cx="1290600" cy="1278000"/>
            </a:xfrm>
          </p:grpSpPr>
          <p:sp>
            <p:nvSpPr>
              <p:cNvPr id="297" name=""/>
              <p:cNvSpPr/>
              <p:nvPr/>
            </p:nvSpPr>
            <p:spPr>
              <a:xfrm>
                <a:off x="150192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51848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53180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60164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d86f1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1c3d6f"/>
                </a:gs>
                <a:gs pos="100000">
                  <a:srgbClr val="3d86f1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870360" y="194472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204881"/>
                </a:gs>
                <a:gs pos="50000">
                  <a:srgbClr val="3d86f1"/>
                </a:gs>
                <a:gs pos="100000">
                  <a:srgbClr val="20488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872160" y="194616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3d86f1">
                    <a:alpha val="0"/>
                  </a:srgbClr>
                </a:gs>
                <a:gs pos="100000">
                  <a:srgbClr val="26549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943440" y="201600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3965760" y="2031840"/>
              <a:ext cx="1290600" cy="1278000"/>
              <a:chOff x="3965760" y="2031840"/>
              <a:chExt cx="1290600" cy="1278000"/>
            </a:xfrm>
          </p:grpSpPr>
          <p:sp>
            <p:nvSpPr>
              <p:cNvPr id="307" name=""/>
              <p:cNvSpPr/>
              <p:nvPr/>
            </p:nvSpPr>
            <p:spPr>
              <a:xfrm>
                <a:off x="396576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98232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99564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06548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6435720" y="2031840"/>
              <a:ext cx="1292400" cy="1278000"/>
              <a:chOff x="6435720" y="2031840"/>
              <a:chExt cx="1292400" cy="1278000"/>
            </a:xfrm>
          </p:grpSpPr>
          <p:sp>
            <p:nvSpPr>
              <p:cNvPr id="312" name=""/>
              <p:cNvSpPr/>
              <p:nvPr/>
            </p:nvSpPr>
            <p:spPr>
              <a:xfrm>
                <a:off x="6435720" y="2031840"/>
                <a:ext cx="12924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452280" y="2038680"/>
                <a:ext cx="12610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465600" y="2051280"/>
                <a:ext cx="11995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535800" y="2083680"/>
                <a:ext cx="106632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  <p:sp>
          <p:nvSpPr>
            <p:cNvPr id="316" name=""/>
            <p:cNvSpPr/>
            <p:nvPr/>
          </p:nvSpPr>
          <p:spPr>
            <a:xfrm>
              <a:off x="17650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23360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7006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"/>
          <p:cNvGrpSpPr/>
          <p:nvPr/>
        </p:nvGrpSpPr>
        <p:grpSpPr>
          <a:xfrm>
            <a:off x="1371600" y="1143000"/>
            <a:ext cx="5715000" cy="5330520"/>
            <a:chOff x="1371600" y="1143000"/>
            <a:chExt cx="5715000" cy="5330520"/>
          </a:xfrm>
        </p:grpSpPr>
        <p:sp>
          <p:nvSpPr>
            <p:cNvPr id="320" name=""/>
            <p:cNvSpPr/>
            <p:nvPr/>
          </p:nvSpPr>
          <p:spPr>
            <a:xfrm rot="13770000">
              <a:off x="4704120" y="3727440"/>
              <a:ext cx="1015560" cy="19620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6d6d6"/>
                </a:gs>
                <a:gs pos="100000">
                  <a:srgbClr val="b2b2b2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20856000">
              <a:off x="2679480" y="3248280"/>
              <a:ext cx="1035360" cy="18252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8d8d8"/>
                </a:gs>
                <a:gs pos="100000">
                  <a:srgbClr val="b2b2b2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rot="18394200">
              <a:off x="4839120" y="2089440"/>
              <a:ext cx="631440" cy="13608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6e6e6"/>
                </a:gs>
                <a:gs pos="100000">
                  <a:srgbClr val="b2b2b2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3643560" y="2125080"/>
              <a:ext cx="1652400" cy="1684080"/>
              <a:chOff x="3643560" y="2125080"/>
              <a:chExt cx="1652400" cy="168408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3643560" y="2125080"/>
                <a:ext cx="1652400" cy="1684080"/>
                <a:chOff x="3643560" y="2125080"/>
                <a:chExt cx="1652400" cy="168408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3643560" y="2125080"/>
                  <a:ext cx="1652400" cy="168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d50ca"/>
                    </a:gs>
                    <a:gs pos="100000">
                      <a:srgbClr val="1a133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9426b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3832200" y="2152800"/>
                  <a:ext cx="1274760" cy="635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d50c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9426b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7" name=""/>
              <p:cNvSpPr/>
              <p:nvPr/>
            </p:nvSpPr>
            <p:spPr>
              <a:xfrm>
                <a:off x="3750120" y="285732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5089320" y="1143000"/>
              <a:ext cx="925200" cy="912240"/>
              <a:chOff x="5089320" y="1143000"/>
              <a:chExt cx="925200" cy="912240"/>
            </a:xfrm>
          </p:grpSpPr>
          <p:grpSp>
            <p:nvGrpSpPr>
              <p:cNvPr id="329" name=""/>
              <p:cNvGrpSpPr/>
              <p:nvPr/>
            </p:nvGrpSpPr>
            <p:grpSpPr>
              <a:xfrm>
                <a:off x="5089320" y="1143000"/>
                <a:ext cx="894960" cy="912240"/>
                <a:chOff x="5089320" y="1143000"/>
                <a:chExt cx="894960" cy="91224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5089320" y="1143000"/>
                  <a:ext cx="894960" cy="91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d86f1"/>
                    </a:gs>
                    <a:gs pos="100000">
                      <a:srgbClr val="0e203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9426b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5191560" y="1158120"/>
                  <a:ext cx="690480" cy="344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d86f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9426b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2" name=""/>
              <p:cNvSpPr/>
              <p:nvPr/>
            </p:nvSpPr>
            <p:spPr>
              <a:xfrm>
                <a:off x="5105160" y="1493640"/>
                <a:ext cx="909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1371600" y="2476440"/>
              <a:ext cx="1789920" cy="1894680"/>
              <a:chOff x="1371600" y="2476440"/>
              <a:chExt cx="1789920" cy="1894680"/>
            </a:xfrm>
          </p:grpSpPr>
          <p:grpSp>
            <p:nvGrpSpPr>
              <p:cNvPr id="334" name=""/>
              <p:cNvGrpSpPr/>
              <p:nvPr/>
            </p:nvGrpSpPr>
            <p:grpSpPr>
              <a:xfrm>
                <a:off x="1371600" y="2476440"/>
                <a:ext cx="1789920" cy="1894680"/>
                <a:chOff x="1371600" y="2476440"/>
                <a:chExt cx="1789920" cy="189468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1371600" y="2476440"/>
                  <a:ext cx="1789920" cy="189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bb5a5"/>
                    </a:gs>
                    <a:gs pos="100000">
                      <a:srgbClr val="1b726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9426b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1576080" y="2507760"/>
                  <a:ext cx="1380600" cy="7149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2bb5a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9426b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7" name=""/>
              <p:cNvSpPr/>
              <p:nvPr/>
            </p:nvSpPr>
            <p:spPr>
              <a:xfrm>
                <a:off x="1487520" y="331848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5020920" y="3879720"/>
              <a:ext cx="2065680" cy="2105280"/>
              <a:chOff x="5020920" y="3879720"/>
              <a:chExt cx="2065680" cy="2105280"/>
            </a:xfrm>
          </p:grpSpPr>
          <p:grpSp>
            <p:nvGrpSpPr>
              <p:cNvPr id="339" name=""/>
              <p:cNvGrpSpPr/>
              <p:nvPr/>
            </p:nvGrpSpPr>
            <p:grpSpPr>
              <a:xfrm>
                <a:off x="5020920" y="3879720"/>
                <a:ext cx="2065680" cy="2105280"/>
                <a:chOff x="5020920" y="3879720"/>
                <a:chExt cx="2065680" cy="210528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5020920" y="3879720"/>
                  <a:ext cx="2065680" cy="2105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bbc00"/>
                    </a:gs>
                    <a:gs pos="100000">
                      <a:srgbClr val="476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9426b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5257080" y="3914640"/>
                  <a:ext cx="1593360" cy="794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8bb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9426b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336280" y="479196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1577880" y="4441320"/>
              <a:ext cx="1454400" cy="4881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781440" y="3812760"/>
              <a:ext cx="1455840" cy="4881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365080" y="5985360"/>
              <a:ext cx="1454400" cy="4881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227200" y="2125080"/>
              <a:ext cx="667080" cy="2440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3160" y="19836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arketing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3160" y="19836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752760" y="1828800"/>
            <a:ext cx="7282440" cy="3770280"/>
            <a:chOff x="752760" y="1828800"/>
            <a:chExt cx="7282440" cy="3770280"/>
          </a:xfrm>
        </p:grpSpPr>
        <p:sp>
          <p:nvSpPr>
            <p:cNvPr id="350" name=""/>
            <p:cNvSpPr/>
            <p:nvPr/>
          </p:nvSpPr>
          <p:spPr>
            <a:xfrm rot="17973000">
              <a:off x="4561560" y="253404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3d8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3465600">
              <a:off x="4611960" y="4644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3d8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14368800">
              <a:off x="3393000" y="2556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3d8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rot="7534800">
              <a:off x="3354840" y="461088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3d8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94080" y="361152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3d8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10800000">
              <a:off x="278388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3d8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556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9426b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9426b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4706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9426b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556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9426b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9426b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9426b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97dad2"/>
                </a:gs>
                <a:gs pos="100000">
                  <a:srgbClr val="2bb5a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97dad2"/>
                </a:gs>
                <a:gs pos="100000">
                  <a:srgbClr val="2bb5a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97dad2"/>
                </a:gs>
                <a:gs pos="100000">
                  <a:srgbClr val="2bb5a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97dad2"/>
                </a:gs>
                <a:gs pos="100000">
                  <a:srgbClr val="2bb5a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97dad2"/>
                </a:gs>
                <a:gs pos="100000">
                  <a:srgbClr val="2bb5a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97dad2"/>
                </a:gs>
                <a:gs pos="100000">
                  <a:srgbClr val="2bb5a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bbc0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539880" y="2889360"/>
              <a:ext cx="1703520" cy="16873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bbc00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5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4a6500"/>
                </a:gs>
                <a:gs pos="50000">
                  <a:srgbClr val="8bbc00"/>
                </a:gs>
                <a:gs pos="100000">
                  <a:srgbClr val="4a65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668400" y="297180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8bbc00">
                    <a:alpha val="0"/>
                  </a:srgbClr>
                </a:gs>
                <a:gs pos="100000">
                  <a:srgbClr val="5776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grpSp>
          <p:nvGrpSpPr>
            <p:cNvPr id="374" name="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375" name="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3160" y="19836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1143000" y="1832040"/>
            <a:ext cx="2170080" cy="4034880"/>
            <a:chOff x="1143000" y="1832040"/>
            <a:chExt cx="2170080" cy="4034880"/>
          </a:xfrm>
        </p:grpSpPr>
        <p:sp>
          <p:nvSpPr>
            <p:cNvPr id="382" name=""/>
            <p:cNvSpPr/>
            <p:nvPr/>
          </p:nvSpPr>
          <p:spPr>
            <a:xfrm>
              <a:off x="11430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17648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1937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1937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14948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19376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1887480" y="1832040"/>
              <a:ext cx="642960" cy="642600"/>
              <a:chOff x="1887480" y="1832040"/>
              <a:chExt cx="642960" cy="642600"/>
            </a:xfrm>
          </p:grpSpPr>
          <p:sp>
            <p:nvSpPr>
              <p:cNvPr id="389" name=""/>
              <p:cNvSpPr/>
              <p:nvPr/>
            </p:nvSpPr>
            <p:spPr>
              <a:xfrm>
                <a:off x="18874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8939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9018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90836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9422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  <p:sp>
          <p:nvSpPr>
            <p:cNvPr id="394" name=""/>
            <p:cNvSpPr/>
            <p:nvPr/>
          </p:nvSpPr>
          <p:spPr>
            <a:xfrm>
              <a:off x="20275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932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3505320" y="1832040"/>
            <a:ext cx="2166840" cy="4034880"/>
            <a:chOff x="3505320" y="1832040"/>
            <a:chExt cx="2166840" cy="4034880"/>
          </a:xfrm>
        </p:grpSpPr>
        <p:sp>
          <p:nvSpPr>
            <p:cNvPr id="397" name=""/>
            <p:cNvSpPr/>
            <p:nvPr/>
          </p:nvSpPr>
          <p:spPr>
            <a:xfrm>
              <a:off x="3505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38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56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56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24980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256280" y="183636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264200" y="1839600"/>
              <a:ext cx="60804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270320" y="1846080"/>
              <a:ext cx="57816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305600" y="1861920"/>
              <a:ext cx="51264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389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81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50856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55284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5861160" y="1832040"/>
            <a:ext cx="2170080" cy="4034880"/>
            <a:chOff x="5861160" y="1832040"/>
            <a:chExt cx="2170080" cy="4034880"/>
          </a:xfrm>
        </p:grpSpPr>
        <p:sp>
          <p:nvSpPr>
            <p:cNvPr id="411" name=""/>
            <p:cNvSpPr/>
            <p:nvPr/>
          </p:nvSpPr>
          <p:spPr>
            <a:xfrm>
              <a:off x="586764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90076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91840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91840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grpSp>
          <p:nvGrpSpPr>
            <p:cNvPr id="415" name=""/>
            <p:cNvGrpSpPr/>
            <p:nvPr/>
          </p:nvGrpSpPr>
          <p:grpSpPr>
            <a:xfrm>
              <a:off x="6612120" y="1832040"/>
              <a:ext cx="642960" cy="642600"/>
              <a:chOff x="6612120" y="1832040"/>
              <a:chExt cx="642960" cy="642600"/>
            </a:xfrm>
          </p:grpSpPr>
          <p:sp>
            <p:nvSpPr>
              <p:cNvPr id="416" name=""/>
              <p:cNvSpPr/>
              <p:nvPr/>
            </p:nvSpPr>
            <p:spPr>
              <a:xfrm>
                <a:off x="66121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6186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6265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63300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6668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  <p:sp>
          <p:nvSpPr>
            <p:cNvPr id="421" name=""/>
            <p:cNvSpPr/>
            <p:nvPr/>
          </p:nvSpPr>
          <p:spPr>
            <a:xfrm>
              <a:off x="675216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94360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86116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90544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  <p:sp>
        <p:nvSpPr>
          <p:cNvPr id="425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bbc00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19426b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1942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3160" y="19836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0" y="1828800"/>
            <a:ext cx="9144000" cy="4188960"/>
            <a:chOff x="0" y="1828800"/>
            <a:chExt cx="9144000" cy="4188960"/>
          </a:xfrm>
        </p:grpSpPr>
        <p:grpSp>
          <p:nvGrpSpPr>
            <p:cNvPr id="428" name=""/>
            <p:cNvGrpSpPr/>
            <p:nvPr/>
          </p:nvGrpSpPr>
          <p:grpSpPr>
            <a:xfrm>
              <a:off x="0" y="3238560"/>
              <a:ext cx="9144000" cy="122040"/>
              <a:chOff x="0" y="3238560"/>
              <a:chExt cx="9144000" cy="122040"/>
            </a:xfrm>
          </p:grpSpPr>
          <p:sp>
            <p:nvSpPr>
              <p:cNvPr id="429" name=""/>
              <p:cNvSpPr/>
              <p:nvPr/>
            </p:nvSpPr>
            <p:spPr>
              <a:xfrm>
                <a:off x="0" y="3238560"/>
                <a:ext cx="9144000" cy="47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0" y="3285360"/>
                <a:ext cx="9144000" cy="75240"/>
              </a:xfrm>
              <a:prstGeom prst="rect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762120" y="2685960"/>
              <a:ext cx="1931760" cy="3265200"/>
              <a:chOff x="762120" y="2685960"/>
              <a:chExt cx="1931760" cy="3265200"/>
            </a:xfrm>
          </p:grpSpPr>
          <p:grpSp>
            <p:nvGrpSpPr>
              <p:cNvPr id="432" name=""/>
              <p:cNvGrpSpPr/>
              <p:nvPr/>
            </p:nvGrpSpPr>
            <p:grpSpPr>
              <a:xfrm>
                <a:off x="1167840" y="3526560"/>
                <a:ext cx="1526040" cy="2424600"/>
                <a:chOff x="1167840" y="3526560"/>
                <a:chExt cx="1526040" cy="2424600"/>
              </a:xfrm>
            </p:grpSpPr>
            <p:grpSp>
              <p:nvGrpSpPr>
                <p:cNvPr id="433" name=""/>
                <p:cNvGrpSpPr/>
                <p:nvPr/>
              </p:nvGrpSpPr>
              <p:grpSpPr>
                <a:xfrm>
                  <a:off x="1167840" y="3684240"/>
                  <a:ext cx="1420200" cy="2266920"/>
                  <a:chOff x="1167840" y="3684240"/>
                  <a:chExt cx="1420200" cy="2266920"/>
                </a:xfrm>
              </p:grpSpPr>
              <p:sp>
                <p:nvSpPr>
                  <p:cNvPr id="434" name=""/>
                  <p:cNvSpPr/>
                  <p:nvPr/>
                </p:nvSpPr>
                <p:spPr>
                  <a:xfrm rot="3876600">
                    <a:off x="74016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9426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 rot="3876600">
                    <a:off x="210744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9426b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6" name=""/>
                <p:cNvGrpSpPr/>
                <p:nvPr/>
              </p:nvGrpSpPr>
              <p:grpSpPr>
                <a:xfrm>
                  <a:off x="1604160" y="3526560"/>
                  <a:ext cx="1089720" cy="1739520"/>
                  <a:chOff x="1604160" y="3526560"/>
                  <a:chExt cx="1089720" cy="1739520"/>
                </a:xfrm>
              </p:grpSpPr>
              <p:sp>
                <p:nvSpPr>
                  <p:cNvPr id="437" name=""/>
                  <p:cNvSpPr/>
                  <p:nvPr/>
                </p:nvSpPr>
                <p:spPr>
                  <a:xfrm flipV="1" rot="3876600">
                    <a:off x="1275480" y="42073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9426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 flipV="1" rot="3876600">
                    <a:off x="2309400" y="48895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9426b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9" name=""/>
              <p:cNvGrpSpPr/>
              <p:nvPr/>
            </p:nvGrpSpPr>
            <p:grpSpPr>
              <a:xfrm>
                <a:off x="762120" y="2685960"/>
                <a:ext cx="1270440" cy="1309320"/>
                <a:chOff x="762120" y="2685960"/>
                <a:chExt cx="1270440" cy="130932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9426b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9426b"/>
                    </a:solidFill>
                    <a:latin typeface="Arial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846000" y="277092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9426b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846000" y="277380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9426b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900720" y="2828880"/>
                  <a:ext cx="99288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9426b"/>
                    </a:solidFill>
                    <a:latin typeface="Arial"/>
                  </a:endParaRPr>
                </a:p>
              </p:txBody>
            </p:sp>
            <p:grpSp>
              <p:nvGrpSpPr>
                <p:cNvPr id="445" name=""/>
                <p:cNvGrpSpPr/>
                <p:nvPr/>
              </p:nvGrpSpPr>
              <p:grpSpPr>
                <a:xfrm>
                  <a:off x="915840" y="2844360"/>
                  <a:ext cx="962280" cy="992880"/>
                  <a:chOff x="915840" y="2844360"/>
                  <a:chExt cx="962280" cy="992880"/>
                </a:xfrm>
              </p:grpSpPr>
              <p:sp>
                <p:nvSpPr>
                  <p:cNvPr id="446" name=""/>
                  <p:cNvSpPr/>
                  <p:nvPr/>
                </p:nvSpPr>
                <p:spPr>
                  <a:xfrm>
                    <a:off x="915840" y="2844360"/>
                    <a:ext cx="96228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9426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928080" y="2849760"/>
                    <a:ext cx="93924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9426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937800" y="2859120"/>
                    <a:ext cx="89316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9426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990360" y="2884680"/>
                    <a:ext cx="79380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9426b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0" name=""/>
              <p:cNvSpPr/>
              <p:nvPr/>
            </p:nvSpPr>
            <p:spPr>
              <a:xfrm rot="3925800">
                <a:off x="112896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rot="3925800">
                <a:off x="159048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9426b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509920" y="2685960"/>
              <a:ext cx="1930680" cy="3265200"/>
              <a:chOff x="2509920" y="2685960"/>
              <a:chExt cx="1930680" cy="3265200"/>
            </a:xfrm>
          </p:grpSpPr>
          <p:grpSp>
            <p:nvGrpSpPr>
              <p:cNvPr id="453" name=""/>
              <p:cNvGrpSpPr/>
              <p:nvPr/>
            </p:nvGrpSpPr>
            <p:grpSpPr>
              <a:xfrm>
                <a:off x="2914200" y="3526560"/>
                <a:ext cx="1526400" cy="2424600"/>
                <a:chOff x="2914200" y="3526560"/>
                <a:chExt cx="1526400" cy="2424600"/>
              </a:xfrm>
            </p:grpSpPr>
            <p:grpSp>
              <p:nvGrpSpPr>
                <p:cNvPr id="454" name=""/>
                <p:cNvGrpSpPr/>
                <p:nvPr/>
              </p:nvGrpSpPr>
              <p:grpSpPr>
                <a:xfrm>
                  <a:off x="2914200" y="3684240"/>
                  <a:ext cx="1420200" cy="2266920"/>
                  <a:chOff x="2914200" y="3684240"/>
                  <a:chExt cx="1420200" cy="2266920"/>
                </a:xfrm>
              </p:grpSpPr>
              <p:sp>
                <p:nvSpPr>
                  <p:cNvPr id="455" name=""/>
                  <p:cNvSpPr/>
                  <p:nvPr/>
                </p:nvSpPr>
                <p:spPr>
                  <a:xfrm rot="3876600">
                    <a:off x="248652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9426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 rot="3876600">
                    <a:off x="3853800" y="545004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9426b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7" name=""/>
                <p:cNvGrpSpPr/>
                <p:nvPr/>
              </p:nvGrpSpPr>
              <p:grpSpPr>
                <a:xfrm>
                  <a:off x="3350520" y="3526560"/>
                  <a:ext cx="1090080" cy="1739520"/>
                  <a:chOff x="3350520" y="3526560"/>
                  <a:chExt cx="1090080" cy="1739520"/>
                </a:xfrm>
              </p:grpSpPr>
              <p:sp>
                <p:nvSpPr>
                  <p:cNvPr id="458" name=""/>
                  <p:cNvSpPr/>
                  <p:nvPr/>
                </p:nvSpPr>
                <p:spPr>
                  <a:xfrm flipV="1" rot="3876600">
                    <a:off x="3022200" y="42073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9426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 flipV="1" rot="3876600">
                    <a:off x="4056120" y="4888440"/>
                    <a:ext cx="27432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9426b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0" name=""/>
              <p:cNvGrpSpPr/>
              <p:nvPr/>
            </p:nvGrpSpPr>
            <p:grpSpPr>
              <a:xfrm>
                <a:off x="2509920" y="2685960"/>
                <a:ext cx="1270080" cy="1309320"/>
                <a:chOff x="2509920" y="2685960"/>
                <a:chExt cx="1270080" cy="130932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9426b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9426b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2593800" y="2770920"/>
                  <a:ext cx="11016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9426b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2593800" y="2773800"/>
                  <a:ext cx="11016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9426b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2648520" y="2828880"/>
                  <a:ext cx="99252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9426b"/>
                    </a:solidFill>
                    <a:latin typeface="Arial"/>
                  </a:endParaRPr>
                </a:p>
              </p:txBody>
            </p:sp>
            <p:grpSp>
              <p:nvGrpSpPr>
                <p:cNvPr id="466" name=""/>
                <p:cNvGrpSpPr/>
                <p:nvPr/>
              </p:nvGrpSpPr>
              <p:grpSpPr>
                <a:xfrm>
                  <a:off x="2663640" y="2844360"/>
                  <a:ext cx="961920" cy="992880"/>
                  <a:chOff x="2663640" y="2844360"/>
                  <a:chExt cx="961920" cy="992880"/>
                </a:xfrm>
              </p:grpSpPr>
              <p:sp>
                <p:nvSpPr>
                  <p:cNvPr id="467" name=""/>
                  <p:cNvSpPr/>
                  <p:nvPr/>
                </p:nvSpPr>
                <p:spPr>
                  <a:xfrm>
                    <a:off x="2663640" y="2844360"/>
                    <a:ext cx="96192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9426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2675880" y="2849760"/>
                    <a:ext cx="93888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9426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>
                    <a:off x="2685600" y="2859120"/>
                    <a:ext cx="89280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9426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2738160" y="2884680"/>
                    <a:ext cx="7934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9426b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1" name=""/>
              <p:cNvSpPr/>
              <p:nvPr/>
            </p:nvSpPr>
            <p:spPr>
              <a:xfrm rot="3925800">
                <a:off x="286992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rot="3925800">
                <a:off x="333216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9426b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4313160" y="2685960"/>
              <a:ext cx="1931760" cy="3265200"/>
              <a:chOff x="4313160" y="2685960"/>
              <a:chExt cx="1931760" cy="3265200"/>
            </a:xfrm>
          </p:grpSpPr>
          <p:grpSp>
            <p:nvGrpSpPr>
              <p:cNvPr id="474" name=""/>
              <p:cNvGrpSpPr/>
              <p:nvPr/>
            </p:nvGrpSpPr>
            <p:grpSpPr>
              <a:xfrm>
                <a:off x="4718880" y="3526560"/>
                <a:ext cx="1526040" cy="2424600"/>
                <a:chOff x="4718880" y="3526560"/>
                <a:chExt cx="1526040" cy="2424600"/>
              </a:xfrm>
            </p:grpSpPr>
            <p:grpSp>
              <p:nvGrpSpPr>
                <p:cNvPr id="475" name=""/>
                <p:cNvGrpSpPr/>
                <p:nvPr/>
              </p:nvGrpSpPr>
              <p:grpSpPr>
                <a:xfrm>
                  <a:off x="4718880" y="3684240"/>
                  <a:ext cx="1420200" cy="2266920"/>
                  <a:chOff x="4718880" y="3684240"/>
                  <a:chExt cx="1420200" cy="2266920"/>
                </a:xfrm>
              </p:grpSpPr>
              <p:sp>
                <p:nvSpPr>
                  <p:cNvPr id="476" name=""/>
                  <p:cNvSpPr/>
                  <p:nvPr/>
                </p:nvSpPr>
                <p:spPr>
                  <a:xfrm rot="3876600">
                    <a:off x="429120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9426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 rot="3876600">
                    <a:off x="565848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9426b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8" name=""/>
                <p:cNvGrpSpPr/>
                <p:nvPr/>
              </p:nvGrpSpPr>
              <p:grpSpPr>
                <a:xfrm>
                  <a:off x="5155200" y="3526560"/>
                  <a:ext cx="1089720" cy="1739520"/>
                  <a:chOff x="5155200" y="3526560"/>
                  <a:chExt cx="1089720" cy="1739520"/>
                </a:xfrm>
              </p:grpSpPr>
              <p:sp>
                <p:nvSpPr>
                  <p:cNvPr id="479" name=""/>
                  <p:cNvSpPr/>
                  <p:nvPr/>
                </p:nvSpPr>
                <p:spPr>
                  <a:xfrm flipV="1" rot="3876600">
                    <a:off x="4826520" y="42073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9426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 flipV="1" rot="3876600">
                    <a:off x="5860440" y="48895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9426b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1" name=""/>
              <p:cNvGrpSpPr/>
              <p:nvPr/>
            </p:nvGrpSpPr>
            <p:grpSpPr>
              <a:xfrm>
                <a:off x="4313160" y="2685960"/>
                <a:ext cx="1272240" cy="1309320"/>
                <a:chOff x="4313160" y="2685960"/>
                <a:chExt cx="1272240" cy="1309320"/>
              </a:xfrm>
            </p:grpSpPr>
            <p:sp>
              <p:nvSpPr>
                <p:cNvPr id="482" name="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9426b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9426b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4397400" y="277092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9426b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4397400" y="277380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9426b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4452120" y="2828880"/>
                  <a:ext cx="99396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9426b"/>
                    </a:solidFill>
                    <a:latin typeface="Arial"/>
                  </a:endParaRPr>
                </a:p>
              </p:txBody>
            </p:sp>
            <p:grpSp>
              <p:nvGrpSpPr>
                <p:cNvPr id="487" name=""/>
                <p:cNvGrpSpPr/>
                <p:nvPr/>
              </p:nvGrpSpPr>
              <p:grpSpPr>
                <a:xfrm>
                  <a:off x="4467240" y="2844360"/>
                  <a:ext cx="963720" cy="992880"/>
                  <a:chOff x="4467240" y="2844360"/>
                  <a:chExt cx="963720" cy="992880"/>
                </a:xfrm>
              </p:grpSpPr>
              <p:sp>
                <p:nvSpPr>
                  <p:cNvPr id="488" name=""/>
                  <p:cNvSpPr/>
                  <p:nvPr/>
                </p:nvSpPr>
                <p:spPr>
                  <a:xfrm>
                    <a:off x="4467240" y="2844360"/>
                    <a:ext cx="96372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9426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4479480" y="2849760"/>
                    <a:ext cx="94068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9426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4489560" y="2859120"/>
                    <a:ext cx="89424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9426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4541760" y="2884680"/>
                    <a:ext cx="7952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9426b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92" name=""/>
              <p:cNvSpPr/>
              <p:nvPr/>
            </p:nvSpPr>
            <p:spPr>
              <a:xfrm rot="3925800">
                <a:off x="468324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rot="3925800">
                <a:off x="514512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9426b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  <p:grpSp>
          <p:nvGrpSpPr>
            <p:cNvPr id="494" name=""/>
            <p:cNvGrpSpPr/>
            <p:nvPr/>
          </p:nvGrpSpPr>
          <p:grpSpPr>
            <a:xfrm>
              <a:off x="6089760" y="2541600"/>
              <a:ext cx="2122200" cy="3476160"/>
              <a:chOff x="6089760" y="2541600"/>
              <a:chExt cx="2122200" cy="3476160"/>
            </a:xfrm>
          </p:grpSpPr>
          <p:grpSp>
            <p:nvGrpSpPr>
              <p:cNvPr id="495" name=""/>
              <p:cNvGrpSpPr/>
              <p:nvPr/>
            </p:nvGrpSpPr>
            <p:grpSpPr>
              <a:xfrm>
                <a:off x="6685920" y="3593160"/>
                <a:ext cx="1526040" cy="2424600"/>
                <a:chOff x="6685920" y="3593160"/>
                <a:chExt cx="1526040" cy="2424600"/>
              </a:xfrm>
            </p:grpSpPr>
            <p:grpSp>
              <p:nvGrpSpPr>
                <p:cNvPr id="496" name=""/>
                <p:cNvGrpSpPr/>
                <p:nvPr/>
              </p:nvGrpSpPr>
              <p:grpSpPr>
                <a:xfrm>
                  <a:off x="6685920" y="3750840"/>
                  <a:ext cx="1420200" cy="2266920"/>
                  <a:chOff x="6685920" y="3750840"/>
                  <a:chExt cx="1420200" cy="2266920"/>
                </a:xfrm>
              </p:grpSpPr>
              <p:sp>
                <p:nvSpPr>
                  <p:cNvPr id="497" name=""/>
                  <p:cNvSpPr/>
                  <p:nvPr/>
                </p:nvSpPr>
                <p:spPr>
                  <a:xfrm rot="3876600">
                    <a:off x="6258240" y="46378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9426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 rot="3876600">
                    <a:off x="7625520" y="55170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9426b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9" name=""/>
                <p:cNvGrpSpPr/>
                <p:nvPr/>
              </p:nvGrpSpPr>
              <p:grpSpPr>
                <a:xfrm>
                  <a:off x="7122240" y="3593160"/>
                  <a:ext cx="1089720" cy="1739520"/>
                  <a:chOff x="7122240" y="3593160"/>
                  <a:chExt cx="1089720" cy="1739520"/>
                </a:xfrm>
              </p:grpSpPr>
              <p:sp>
                <p:nvSpPr>
                  <p:cNvPr id="500" name=""/>
                  <p:cNvSpPr/>
                  <p:nvPr/>
                </p:nvSpPr>
                <p:spPr>
                  <a:xfrm flipV="1" rot="3876600">
                    <a:off x="6793560" y="42739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9426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 flipV="1" rot="3876600">
                    <a:off x="7827480" y="49561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9426b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02" name="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191280" y="2644920"/>
                <a:ext cx="1326240" cy="136296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193080" y="2647800"/>
                <a:ext cx="1325880" cy="136332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256440" y="2712960"/>
                <a:ext cx="1194120" cy="1226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grpSp>
            <p:nvGrpSpPr>
              <p:cNvPr id="507" name=""/>
              <p:cNvGrpSpPr/>
              <p:nvPr/>
            </p:nvGrpSpPr>
            <p:grpSpPr>
              <a:xfrm>
                <a:off x="6275520" y="2732040"/>
                <a:ext cx="1157400" cy="1190160"/>
                <a:chOff x="6275520" y="2732040"/>
                <a:chExt cx="1157400" cy="1190160"/>
              </a:xfrm>
            </p:grpSpPr>
            <p:sp>
              <p:nvSpPr>
                <p:cNvPr id="508" name=""/>
                <p:cNvSpPr/>
                <p:nvPr/>
              </p:nvSpPr>
              <p:spPr>
                <a:xfrm>
                  <a:off x="6275520" y="2732040"/>
                  <a:ext cx="1157400" cy="119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9426b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6290280" y="2738520"/>
                  <a:ext cx="1129320" cy="116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9426b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6302160" y="2750040"/>
                  <a:ext cx="1074240" cy="1084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9426b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6365160" y="2780280"/>
                  <a:ext cx="954720" cy="88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9426b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2" name=""/>
              <p:cNvSpPr/>
              <p:nvPr/>
            </p:nvSpPr>
            <p:spPr>
              <a:xfrm rot="3925800">
                <a:off x="6635880" y="46461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rot="3925800">
                <a:off x="7096320" y="43668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9426b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  <p:grpSp>
          <p:nvGrpSpPr>
            <p:cNvPr id="514" name=""/>
            <p:cNvGrpSpPr/>
            <p:nvPr/>
          </p:nvGrpSpPr>
          <p:grpSpPr>
            <a:xfrm>
              <a:off x="1101600" y="1828800"/>
              <a:ext cx="6056640" cy="407880"/>
              <a:chOff x="1101600" y="1828800"/>
              <a:chExt cx="6056640" cy="407880"/>
            </a:xfrm>
          </p:grpSpPr>
          <p:sp>
            <p:nvSpPr>
              <p:cNvPr id="515" name=""/>
              <p:cNvSpPr/>
              <p:nvPr/>
            </p:nvSpPr>
            <p:spPr>
              <a:xfrm>
                <a:off x="110160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6699"/>
                    </a:solidFill>
                    <a:latin typeface="Verdana"/>
                  </a:rPr>
                  <a:t>2001</a:t>
                </a:r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855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6699"/>
                    </a:solidFill>
                    <a:latin typeface="Verdana"/>
                  </a:rPr>
                  <a:t>2002</a:t>
                </a:r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601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6699"/>
                    </a:solidFill>
                    <a:latin typeface="Verdana"/>
                  </a:rPr>
                  <a:t>2003</a:t>
                </a:r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392160" y="182880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6699"/>
                    </a:solidFill>
                    <a:latin typeface="Verdana"/>
                  </a:rPr>
                  <a:t>2004</a:t>
                </a:r>
                <a:endParaRPr b="0" lang="en-US" sz="20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cxnSp>
            <p:nvCxnSpPr>
              <p:cNvPr id="519" name=""/>
              <p:cNvCxnSpPr>
                <a:stCxn id="515" idx="3"/>
                <a:endCxn id="516" idx="1"/>
              </p:cNvCxnSpPr>
              <p:nvPr/>
            </p:nvCxnSpPr>
            <p:spPr>
              <a:xfrm>
                <a:off x="1837800" y="2052360"/>
                <a:ext cx="986760" cy="1080"/>
              </a:xfrm>
              <a:prstGeom prst="straightConnector1">
                <a:avLst/>
              </a:prstGeom>
              <a:ln w="9360">
                <a:solidFill>
                  <a:srgbClr val="006699"/>
                </a:solidFill>
                <a:miter/>
                <a:tailEnd len="med" type="triangle" w="med"/>
              </a:ln>
            </p:spPr>
          </p:cxnSp>
          <p:cxnSp>
            <p:nvCxnSpPr>
              <p:cNvPr id="520" name=""/>
              <p:cNvCxnSpPr>
                <a:stCxn id="516" idx="3"/>
                <a:endCxn id="517" idx="1"/>
              </p:cNvCxnSpPr>
              <p:nvPr/>
            </p:nvCxnSpPr>
            <p:spPr>
              <a:xfrm>
                <a:off x="3592440" y="205236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6699"/>
                </a:solidFill>
                <a:miter/>
                <a:tailEnd len="med" type="triangle" w="med"/>
              </a:ln>
            </p:spPr>
          </p:cxnSp>
          <p:cxnSp>
            <p:nvCxnSpPr>
              <p:cNvPr id="521" name=""/>
              <p:cNvCxnSpPr/>
              <p:nvPr/>
            </p:nvCxnSpPr>
            <p:spPr>
              <a:xfrm>
                <a:off x="5338800" y="205704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6699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3160" y="19836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1676520" y="1523880"/>
            <a:ext cx="5867280" cy="1301760"/>
            <a:chOff x="1676520" y="1523880"/>
            <a:chExt cx="5867280" cy="1301760"/>
          </a:xfrm>
        </p:grpSpPr>
        <p:sp>
          <p:nvSpPr>
            <p:cNvPr id="524" name=""/>
            <p:cNvSpPr/>
            <p:nvPr/>
          </p:nvSpPr>
          <p:spPr>
            <a:xfrm>
              <a:off x="1676520" y="152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grpSp>
          <p:nvGrpSpPr>
            <p:cNvPr id="525" name=""/>
            <p:cNvGrpSpPr/>
            <p:nvPr/>
          </p:nvGrpSpPr>
          <p:grpSpPr>
            <a:xfrm>
              <a:off x="1804680" y="1643400"/>
              <a:ext cx="1130760" cy="1064520"/>
              <a:chOff x="1804680" y="1643400"/>
              <a:chExt cx="1130760" cy="1064520"/>
            </a:xfrm>
          </p:grpSpPr>
          <p:sp>
            <p:nvSpPr>
              <p:cNvPr id="526" name=""/>
              <p:cNvSpPr/>
              <p:nvPr/>
            </p:nvSpPr>
            <p:spPr>
              <a:xfrm>
                <a:off x="1804680" y="164340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3d86f1"/>
                  </a:gs>
                  <a:gs pos="100000">
                    <a:srgbClr val="2a5da7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875240" y="171180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4bcf6"/>
                  </a:gs>
                  <a:gs pos="50000">
                    <a:srgbClr val="3d86f1">
                      <a:alpha val="0"/>
                    </a:srgbClr>
                  </a:gs>
                  <a:gs pos="100000">
                    <a:srgbClr val="94bcf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1930680" y="1932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  <p:sp>
          <p:nvSpPr>
            <p:cNvPr id="529" name=""/>
            <p:cNvSpPr/>
            <p:nvPr/>
          </p:nvSpPr>
          <p:spPr>
            <a:xfrm>
              <a:off x="3090240" y="17251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1676520" y="3054240"/>
            <a:ext cx="5867280" cy="1301760"/>
            <a:chOff x="1676520" y="3054240"/>
            <a:chExt cx="5867280" cy="1301760"/>
          </a:xfrm>
        </p:grpSpPr>
        <p:sp>
          <p:nvSpPr>
            <p:cNvPr id="531" name=""/>
            <p:cNvSpPr/>
            <p:nvPr/>
          </p:nvSpPr>
          <p:spPr>
            <a:xfrm>
              <a:off x="1676520" y="305424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0f0f0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grpSp>
          <p:nvGrpSpPr>
            <p:cNvPr id="532" name=""/>
            <p:cNvGrpSpPr/>
            <p:nvPr/>
          </p:nvGrpSpPr>
          <p:grpSpPr>
            <a:xfrm>
              <a:off x="1804680" y="3173760"/>
              <a:ext cx="1130760" cy="1064520"/>
              <a:chOff x="1804680" y="3173760"/>
              <a:chExt cx="1130760" cy="1064520"/>
            </a:xfrm>
          </p:grpSpPr>
          <p:sp>
            <p:nvSpPr>
              <p:cNvPr id="533" name=""/>
              <p:cNvSpPr/>
              <p:nvPr/>
            </p:nvSpPr>
            <p:spPr>
              <a:xfrm>
                <a:off x="1804680" y="317376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aacd45"/>
                  </a:gs>
                  <a:gs pos="100000">
                    <a:srgbClr val="8bbc00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875240" y="324216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bbc00">
                      <a:alpha val="0"/>
                    </a:srgbClr>
                  </a:gs>
                  <a:gs pos="100000">
                    <a:srgbClr val="cde19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930680" y="34646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  <p:sp>
          <p:nvSpPr>
            <p:cNvPr id="536" name=""/>
            <p:cNvSpPr/>
            <p:nvPr/>
          </p:nvSpPr>
          <p:spPr>
            <a:xfrm>
              <a:off x="3090240" y="32324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19426b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1676520" y="4594320"/>
            <a:ext cx="5867280" cy="1301760"/>
            <a:chOff x="1676520" y="4594320"/>
            <a:chExt cx="5867280" cy="1301760"/>
          </a:xfrm>
        </p:grpSpPr>
        <p:sp>
          <p:nvSpPr>
            <p:cNvPr id="538" name=""/>
            <p:cNvSpPr/>
            <p:nvPr/>
          </p:nvSpPr>
          <p:spPr>
            <a:xfrm>
              <a:off x="1676520" y="459432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deded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grpSp>
          <p:nvGrpSpPr>
            <p:cNvPr id="539" name=""/>
            <p:cNvGrpSpPr/>
            <p:nvPr/>
          </p:nvGrpSpPr>
          <p:grpSpPr>
            <a:xfrm>
              <a:off x="1804680" y="4713840"/>
              <a:ext cx="1130760" cy="1064520"/>
              <a:chOff x="1804680" y="4713840"/>
              <a:chExt cx="1130760" cy="1064520"/>
            </a:xfrm>
          </p:grpSpPr>
          <p:sp>
            <p:nvSpPr>
              <p:cNvPr id="540" name=""/>
              <p:cNvSpPr/>
              <p:nvPr/>
            </p:nvSpPr>
            <p:spPr>
              <a:xfrm>
                <a:off x="1804680" y="471384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a18fdc"/>
                  </a:gs>
                  <a:gs pos="100000">
                    <a:srgbClr val="6d50ca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1875240" y="478224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d50ca">
                      <a:alpha val="0"/>
                    </a:srgbClr>
                  </a:gs>
                  <a:gs pos="100000">
                    <a:srgbClr val="b7a9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930680" y="50047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  <p:sp>
          <p:nvSpPr>
            <p:cNvPr id="543" name=""/>
            <p:cNvSpPr/>
            <p:nvPr/>
          </p:nvSpPr>
          <p:spPr>
            <a:xfrm>
              <a:off x="3090240" y="47725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3160" y="19836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5" name="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1942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1942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1942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1942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1127520" y="1863360"/>
            <a:ext cx="6215400" cy="1324800"/>
            <a:chOff x="1127520" y="1863360"/>
            <a:chExt cx="6215400" cy="1324800"/>
          </a:xfrm>
        </p:grpSpPr>
        <p:sp>
          <p:nvSpPr>
            <p:cNvPr id="550" name="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8bbc00"/>
                </a:gs>
                <a:gs pos="100000">
                  <a:srgbClr val="405600"/>
                </a:gs>
              </a:gsLst>
              <a:lin ang="1980000"/>
            </a:gradFill>
            <a:ln w="9360">
              <a:solidFill>
                <a:srgbClr val="1942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grpSp>
          <p:nvGrpSpPr>
            <p:cNvPr id="551" name=""/>
            <p:cNvGrpSpPr/>
            <p:nvPr/>
          </p:nvGrpSpPr>
          <p:grpSpPr>
            <a:xfrm>
              <a:off x="2258280" y="2244600"/>
              <a:ext cx="901080" cy="124200"/>
              <a:chOff x="2258280" y="2244600"/>
              <a:chExt cx="901080" cy="124200"/>
            </a:xfrm>
          </p:grpSpPr>
          <p:sp>
            <p:nvSpPr>
              <p:cNvPr id="552" name="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34468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02292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096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3d86f1"/>
            </a:solidFill>
            <a:ln w="9360">
              <a:solidFill>
                <a:srgbClr val="1942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grpSp>
          <p:nvGrpSpPr>
            <p:cNvPr id="557" name=""/>
            <p:cNvGrpSpPr/>
            <p:nvPr/>
          </p:nvGrpSpPr>
          <p:grpSpPr>
            <a:xfrm>
              <a:off x="3922920" y="2244600"/>
              <a:ext cx="901080" cy="124200"/>
              <a:chOff x="3922920" y="2244600"/>
              <a:chExt cx="901080" cy="124200"/>
            </a:xfrm>
          </p:grpSpPr>
          <p:sp>
            <p:nvSpPr>
              <p:cNvPr id="558" name="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00932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68756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76064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  <p:sp>
          <p:nvSpPr>
            <p:cNvPr id="562" name=""/>
            <p:cNvSpPr/>
            <p:nvPr/>
          </p:nvSpPr>
          <p:spPr>
            <a:xfrm rot="3418800">
              <a:off x="4595760" y="2008800"/>
              <a:ext cx="874080" cy="971280"/>
            </a:xfrm>
            <a:prstGeom prst="rect">
              <a:avLst/>
            </a:prstGeom>
            <a:gradFill rotWithShape="0">
              <a:gsLst>
                <a:gs pos="0">
                  <a:srgbClr val="8bbc00"/>
                </a:gs>
                <a:gs pos="100000">
                  <a:srgbClr val="405600"/>
                </a:gs>
              </a:gsLst>
              <a:lin ang="1980000"/>
            </a:gradFill>
            <a:ln w="9360">
              <a:solidFill>
                <a:srgbClr val="1942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5587560" y="2244600"/>
              <a:ext cx="1178640" cy="124200"/>
              <a:chOff x="5587560" y="2244600"/>
              <a:chExt cx="1178640" cy="124200"/>
            </a:xfrm>
          </p:grpSpPr>
          <p:sp>
            <p:nvSpPr>
              <p:cNvPr id="564" name=""/>
              <p:cNvSpPr/>
              <p:nvPr/>
            </p:nvSpPr>
            <p:spPr>
              <a:xfrm>
                <a:off x="558756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70060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68304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  <p:sp>
          <p:nvSpPr>
            <p:cNvPr id="568" name=""/>
            <p:cNvSpPr/>
            <p:nvPr/>
          </p:nvSpPr>
          <p:spPr>
            <a:xfrm rot="3418800">
              <a:off x="6260400" y="2008800"/>
              <a:ext cx="874080" cy="971280"/>
            </a:xfrm>
            <a:prstGeom prst="rect">
              <a:avLst/>
            </a:prstGeom>
            <a:solidFill>
              <a:srgbClr val="3d86f1"/>
            </a:solidFill>
            <a:ln w="9360">
              <a:solidFill>
                <a:srgbClr val="1942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426b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426b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426b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426b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3160" y="19836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914400" y="2270160"/>
          <a:ext cx="7467480" cy="319860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360"/>
                <a:gridCol w="1149480"/>
                <a:gridCol w="1157400"/>
                <a:gridCol w="1149120"/>
              </a:tblGrid>
              <a:tr h="47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9426b"/>
                      </a:solidFill>
                    </a:lnR>
                    <a:lnT>
                      <a:noFill/>
                    </a:lnT>
                    <a:lnB w="5760">
                      <a:solidFill>
                        <a:srgbClr val="19426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3d86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3d86f1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3d86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3d86f1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3d86f1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9426b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9426b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9426b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9426b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9426b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9426b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9426b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9426b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9426b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9426b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</a:tr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9426b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9426b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9426b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9426b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9426b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</a:tr>
              <a:tr h="45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9426b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9426b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9426b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9426b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9426b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</a:tr>
              <a:tr h="45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9426b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9426b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9426b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9426b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9426b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</a:tr>
              <a:tr h="45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9426b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9426b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9426b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9426b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9426b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33160" y="19836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604080" y="504360"/>
            <a:ext cx="7379640" cy="5581800"/>
            <a:chOff x="604080" y="504360"/>
            <a:chExt cx="7379640" cy="5581800"/>
          </a:xfrm>
        </p:grpSpPr>
        <p:sp>
          <p:nvSpPr>
            <p:cNvPr id="581" name=""/>
            <p:cNvSpPr/>
            <p:nvPr/>
          </p:nvSpPr>
          <p:spPr>
            <a:xfrm>
              <a:off x="2141640" y="429120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fbfbfb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rot="20601600">
              <a:off x="1452240" y="2179440"/>
              <a:ext cx="5686560" cy="301608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b2b2b2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rot="20601600">
              <a:off x="1471320" y="2016360"/>
              <a:ext cx="5564160" cy="2922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20601600">
              <a:off x="1388880" y="2001600"/>
              <a:ext cx="5698440" cy="29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b0d154"/>
                </a:gs>
                <a:gs pos="100000">
                  <a:srgbClr val="8bbc00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 rot="20602200">
              <a:off x="1437840" y="2001240"/>
              <a:ext cx="564408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245191"/>
                </a:gs>
                <a:gs pos="100000">
                  <a:srgbClr val="3d86f1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20601600">
              <a:off x="1395720" y="2013840"/>
              <a:ext cx="568152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587" y="1342"/>
                  </a:moveTo>
                  <a:arcTo wR="10800" hR="10800" stAng="-7131749" swAng="4032112"/>
                  <a:lnTo>
                    <a:pt x="10800" y="10800"/>
                  </a:lnTo>
                  <a:close/>
                </a:path>
                <a:path fill="none" w="21600" h="21600">
                  <a:moveTo>
                    <a:pt x="5587" y="1342"/>
                  </a:moveTo>
                  <a:arcTo wR="10800" hR="10800" stAng="-7131749" swAng="4032112"/>
                </a:path>
              </a:pathLst>
            </a:custGeom>
            <a:gradFill rotWithShape="0">
              <a:gsLst>
                <a:gs pos="0">
                  <a:srgbClr val="306069"/>
                </a:gs>
                <a:gs pos="100000">
                  <a:srgbClr val="5cb8ca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 rot="20602200">
              <a:off x="1405800" y="1994400"/>
              <a:ext cx="5698440" cy="297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674" y="719"/>
                  </a:moveTo>
                  <a:arcTo wR="10800" hR="10800" stAng="-4138599" swAng="58879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674" y="719"/>
                  </a:moveTo>
                  <a:arcTo wR="10800" hR="10800" stAng="-4138599" swAng="5887996"/>
                </a:path>
              </a:pathLst>
            </a:custGeom>
            <a:gradFill rotWithShape="0">
              <a:gsLst>
                <a:gs pos="0">
                  <a:srgbClr val="176259"/>
                </a:gs>
                <a:gs pos="100000">
                  <a:srgbClr val="2bb5a5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20601600">
              <a:off x="2933640" y="27302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bebeb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24560" y="3409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829680" y="2190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658480" y="2495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grpSp>
          <p:nvGrpSpPr>
            <p:cNvPr id="592" name=""/>
            <p:cNvGrpSpPr/>
            <p:nvPr/>
          </p:nvGrpSpPr>
          <p:grpSpPr>
            <a:xfrm>
              <a:off x="604080" y="504360"/>
              <a:ext cx="7379640" cy="5581800"/>
              <a:chOff x="604080" y="504360"/>
              <a:chExt cx="7379640" cy="5581800"/>
            </a:xfrm>
          </p:grpSpPr>
          <p:sp>
            <p:nvSpPr>
              <p:cNvPr id="593" name=""/>
              <p:cNvSpPr/>
              <p:nvPr/>
            </p:nvSpPr>
            <p:spPr>
              <a:xfrm>
                <a:off x="5448240" y="3448440"/>
                <a:ext cx="1773000" cy="1776240"/>
              </a:xfrm>
              <a:custGeom>
                <a:avLst/>
                <a:gdLst/>
                <a:ahLst/>
                <a:rect l="l" t="t" r="r" b="b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6d50ca"/>
                  </a:gs>
                  <a:gs pos="100000">
                    <a:srgbClr val="41307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20539200">
                <a:off x="1022400" y="1408320"/>
                <a:ext cx="6542640" cy="377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808" y="16758"/>
                    </a:moveTo>
                    <a:arcTo wR="10800" hR="10800" stAng="2008784" swAng="28002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808" y="16758"/>
                    </a:moveTo>
                    <a:arcTo wR="10800" hR="10800" stAng="2008784" swAng="2800242"/>
                  </a:path>
                </a:pathLst>
              </a:custGeom>
              <a:gradFill rotWithShape="0">
                <a:gsLst>
                  <a:gs pos="0">
                    <a:srgbClr val="32245d"/>
                  </a:gs>
                  <a:gs pos="100000">
                    <a:srgbClr val="6d50ca"/>
                  </a:gs>
                </a:gsLst>
                <a:lin ang="118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4582800" y="3924720"/>
                <a:ext cx="924120" cy="1311120"/>
              </a:xfrm>
              <a:custGeom>
                <a:avLst/>
                <a:gdLst/>
                <a:ahLst/>
                <a:rect l="l" t="t" r="r" b="b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2245d"/>
                  </a:gs>
                  <a:gs pos="100000">
                    <a:srgbClr val="6d50c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353200" y="371520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</a:rPr>
                  <a:t>Text4</a:t>
                </a:r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  <p:sp>
          <p:nvSpPr>
            <p:cNvPr id="597" name=""/>
            <p:cNvSpPr/>
            <p:nvPr/>
          </p:nvSpPr>
          <p:spPr>
            <a:xfrm>
              <a:off x="3143880" y="44006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427640" y="3990960"/>
              <a:ext cx="838080" cy="110808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19426b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20601600">
              <a:off x="3036960" y="2981520"/>
              <a:ext cx="2587680" cy="1112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3160" y="19836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914400" y="1600200"/>
            <a:ext cx="7391160" cy="4724280"/>
            <a:chOff x="914400" y="1600200"/>
            <a:chExt cx="7391160" cy="4724280"/>
          </a:xfrm>
        </p:grpSpPr>
        <p:sp>
          <p:nvSpPr>
            <p:cNvPr id="602" name=""/>
            <p:cNvSpPr/>
            <p:nvPr/>
          </p:nvSpPr>
          <p:spPr>
            <a:xfrm>
              <a:off x="1905120" y="2362320"/>
              <a:ext cx="5530680" cy="274320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362320" y="1600200"/>
              <a:ext cx="4419360" cy="57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f447b"/>
                </a:gs>
                <a:gs pos="50000">
                  <a:srgbClr val="3d86f1"/>
                </a:gs>
                <a:gs pos="100000">
                  <a:srgbClr val="1f447b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20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656160" y="297180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19426b"/>
                </a:solidFill>
                <a:latin typeface="Arial"/>
              </a:endParaRPr>
            </a:p>
          </p:txBody>
        </p:sp>
        <p:grpSp>
          <p:nvGrpSpPr>
            <p:cNvPr id="605" name=""/>
            <p:cNvGrpSpPr/>
            <p:nvPr/>
          </p:nvGrpSpPr>
          <p:grpSpPr>
            <a:xfrm>
              <a:off x="914400" y="4235400"/>
              <a:ext cx="1486080" cy="1989000"/>
              <a:chOff x="914400" y="4235400"/>
              <a:chExt cx="1486080" cy="1989000"/>
            </a:xfrm>
          </p:grpSpPr>
          <p:grpSp>
            <p:nvGrpSpPr>
              <p:cNvPr id="606" name=""/>
              <p:cNvGrpSpPr/>
              <p:nvPr/>
            </p:nvGrpSpPr>
            <p:grpSpPr>
              <a:xfrm>
                <a:off x="914400" y="4235400"/>
                <a:ext cx="1486080" cy="1514520"/>
                <a:chOff x="914400" y="4235400"/>
                <a:chExt cx="1486080" cy="1514520"/>
              </a:xfrm>
            </p:grpSpPr>
            <p:grpSp>
              <p:nvGrpSpPr>
                <p:cNvPr id="607" name=""/>
                <p:cNvGrpSpPr/>
                <p:nvPr/>
              </p:nvGrpSpPr>
              <p:grpSpPr>
                <a:xfrm>
                  <a:off x="914400" y="4235400"/>
                  <a:ext cx="1486080" cy="1514520"/>
                  <a:chOff x="914400" y="4235400"/>
                  <a:chExt cx="1486080" cy="1514520"/>
                </a:xfrm>
              </p:grpSpPr>
              <p:sp>
                <p:nvSpPr>
                  <p:cNvPr id="608" name=""/>
                  <p:cNvSpPr/>
                  <p:nvPr/>
                </p:nvSpPr>
                <p:spPr>
                  <a:xfrm>
                    <a:off x="914400" y="4235400"/>
                    <a:ext cx="1486080" cy="1514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2bb5a5"/>
                      </a:gs>
                      <a:gs pos="100000">
                        <a:srgbClr val="1b726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9426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>
                    <a:off x="1084320" y="4260240"/>
                    <a:ext cx="1146240" cy="57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2bb5a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9426b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10" name=""/>
                <p:cNvSpPr/>
                <p:nvPr/>
              </p:nvSpPr>
              <p:spPr>
                <a:xfrm>
                  <a:off x="1072440" y="5006520"/>
                  <a:ext cx="1157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concept</a:t>
                  </a:r>
                  <a:endParaRPr b="0" lang="en-US" sz="2000" spc="-1" strike="noStrike">
                    <a:solidFill>
                      <a:srgbClr val="19426b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"/>
              <p:cNvSpPr/>
              <p:nvPr/>
            </p:nvSpPr>
            <p:spPr>
              <a:xfrm>
                <a:off x="1066680" y="5835600"/>
                <a:ext cx="1206720" cy="38880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  <p:grpSp>
          <p:nvGrpSpPr>
            <p:cNvPr id="612" name=""/>
            <p:cNvGrpSpPr/>
            <p:nvPr/>
          </p:nvGrpSpPr>
          <p:grpSpPr>
            <a:xfrm>
              <a:off x="6781680" y="4191120"/>
              <a:ext cx="1523880" cy="2066760"/>
              <a:chOff x="6781680" y="4191120"/>
              <a:chExt cx="1523880" cy="2066760"/>
            </a:xfrm>
          </p:grpSpPr>
          <p:grpSp>
            <p:nvGrpSpPr>
              <p:cNvPr id="613" name=""/>
              <p:cNvGrpSpPr/>
              <p:nvPr/>
            </p:nvGrpSpPr>
            <p:grpSpPr>
              <a:xfrm>
                <a:off x="6781680" y="4191120"/>
                <a:ext cx="1523880" cy="1531800"/>
                <a:chOff x="6781680" y="4191120"/>
                <a:chExt cx="1523880" cy="1531800"/>
              </a:xfrm>
            </p:grpSpPr>
            <p:grpSp>
              <p:nvGrpSpPr>
                <p:cNvPr id="614" name=""/>
                <p:cNvGrpSpPr/>
                <p:nvPr/>
              </p:nvGrpSpPr>
              <p:grpSpPr>
                <a:xfrm>
                  <a:off x="6781680" y="4191120"/>
                  <a:ext cx="1523880" cy="1531800"/>
                  <a:chOff x="6781680" y="4191120"/>
                  <a:chExt cx="1523880" cy="1531800"/>
                </a:xfrm>
              </p:grpSpPr>
              <p:sp>
                <p:nvSpPr>
                  <p:cNvPr id="615" name=""/>
                  <p:cNvSpPr/>
                  <p:nvPr/>
                </p:nvSpPr>
                <p:spPr>
                  <a:xfrm>
                    <a:off x="6781680" y="4191120"/>
                    <a:ext cx="1523880" cy="1531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d50ca"/>
                      </a:gs>
                      <a:gs pos="100000">
                        <a:srgbClr val="1a133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9426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>
                    <a:off x="6955920" y="4216320"/>
                    <a:ext cx="1175400" cy="57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d50c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9426b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17" name=""/>
                <p:cNvSpPr/>
                <p:nvPr/>
              </p:nvSpPr>
              <p:spPr>
                <a:xfrm>
                  <a:off x="6924600" y="4905000"/>
                  <a:ext cx="1200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Concept</a:t>
                  </a:r>
                  <a:endParaRPr b="0" lang="en-US" sz="2000" spc="-1" strike="noStrike">
                    <a:solidFill>
                      <a:srgbClr val="19426b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8" name=""/>
              <p:cNvSpPr/>
              <p:nvPr/>
            </p:nvSpPr>
            <p:spPr>
              <a:xfrm>
                <a:off x="6824520" y="5770800"/>
                <a:ext cx="1455840" cy="4870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  <p:grpSp>
          <p:nvGrpSpPr>
            <p:cNvPr id="619" name=""/>
            <p:cNvGrpSpPr/>
            <p:nvPr/>
          </p:nvGrpSpPr>
          <p:grpSpPr>
            <a:xfrm>
              <a:off x="2819520" y="4235400"/>
              <a:ext cx="1523880" cy="2089080"/>
              <a:chOff x="2819520" y="4235400"/>
              <a:chExt cx="1523880" cy="2089080"/>
            </a:xfrm>
          </p:grpSpPr>
          <p:grpSp>
            <p:nvGrpSpPr>
              <p:cNvPr id="620" name=""/>
              <p:cNvGrpSpPr/>
              <p:nvPr/>
            </p:nvGrpSpPr>
            <p:grpSpPr>
              <a:xfrm>
                <a:off x="2819520" y="4235400"/>
                <a:ext cx="1523880" cy="1521000"/>
                <a:chOff x="2819520" y="4235400"/>
                <a:chExt cx="1523880" cy="152100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2819520" y="4235400"/>
                  <a:ext cx="1523880" cy="152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bbc00"/>
                    </a:gs>
                    <a:gs pos="100000">
                      <a:srgbClr val="476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9426b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2993760" y="426060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8bb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9426b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3" name=""/>
              <p:cNvSpPr/>
              <p:nvPr/>
            </p:nvSpPr>
            <p:spPr>
              <a:xfrm>
                <a:off x="2895840" y="496548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2819520" y="5835600"/>
                <a:ext cx="1454040" cy="4888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4876920" y="4191120"/>
              <a:ext cx="1523880" cy="2089080"/>
              <a:chOff x="4876920" y="4191120"/>
              <a:chExt cx="1523880" cy="2089080"/>
            </a:xfrm>
          </p:grpSpPr>
          <p:grpSp>
            <p:nvGrpSpPr>
              <p:cNvPr id="626" name=""/>
              <p:cNvGrpSpPr/>
              <p:nvPr/>
            </p:nvGrpSpPr>
            <p:grpSpPr>
              <a:xfrm>
                <a:off x="4876920" y="4191120"/>
                <a:ext cx="1523880" cy="1521000"/>
                <a:chOff x="4876920" y="4191120"/>
                <a:chExt cx="1523880" cy="1521000"/>
              </a:xfrm>
            </p:grpSpPr>
            <p:grpSp>
              <p:nvGrpSpPr>
                <p:cNvPr id="627" name=""/>
                <p:cNvGrpSpPr/>
                <p:nvPr/>
              </p:nvGrpSpPr>
              <p:grpSpPr>
                <a:xfrm>
                  <a:off x="4876920" y="4191120"/>
                  <a:ext cx="1523880" cy="1521000"/>
                  <a:chOff x="4876920" y="4191120"/>
                  <a:chExt cx="1523880" cy="1521000"/>
                </a:xfrm>
              </p:grpSpPr>
              <p:sp>
                <p:nvSpPr>
                  <p:cNvPr id="628" name=""/>
                  <p:cNvSpPr/>
                  <p:nvPr/>
                </p:nvSpPr>
                <p:spPr>
                  <a:xfrm>
                    <a:off x="4876920" y="4191120"/>
                    <a:ext cx="1523880" cy="1521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d86f1"/>
                      </a:gs>
                      <a:gs pos="100000">
                        <a:srgbClr val="1f447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9426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>
                    <a:off x="5051160" y="4216320"/>
                    <a:ext cx="1175400" cy="5738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3d86f1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9426b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0" name=""/>
                <p:cNvSpPr/>
                <p:nvPr/>
              </p:nvSpPr>
              <p:spPr>
                <a:xfrm>
                  <a:off x="4953240" y="4921200"/>
                  <a:ext cx="1371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Concept</a:t>
                  </a:r>
                  <a:endParaRPr b="0" lang="en-US" sz="2000" spc="-1" strike="noStrike">
                    <a:solidFill>
                      <a:srgbClr val="19426b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1" name=""/>
              <p:cNvSpPr/>
              <p:nvPr/>
            </p:nvSpPr>
            <p:spPr>
              <a:xfrm>
                <a:off x="4876920" y="5791320"/>
                <a:ext cx="1454040" cy="4888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</p:grpSp>
      <p:sp>
        <p:nvSpPr>
          <p:cNvPr id="632" name=""/>
          <p:cNvSpPr/>
          <p:nvPr/>
        </p:nvSpPr>
        <p:spPr>
          <a:xfrm>
            <a:off x="2362320" y="12193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bbc00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19426b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1942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160" y="19836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828800" y="2023920"/>
            <a:ext cx="5410080" cy="665280"/>
            <a:chOff x="1828800" y="2023920"/>
            <a:chExt cx="5410080" cy="665280"/>
          </a:xfrm>
        </p:grpSpPr>
        <p:grpSp>
          <p:nvGrpSpPr>
            <p:cNvPr id="110" name=""/>
            <p:cNvGrpSpPr/>
            <p:nvPr/>
          </p:nvGrpSpPr>
          <p:grpSpPr>
            <a:xfrm>
              <a:off x="1828800" y="2023920"/>
              <a:ext cx="762120" cy="665280"/>
              <a:chOff x="1828800" y="2023920"/>
              <a:chExt cx="762120" cy="665280"/>
            </a:xfrm>
          </p:grpSpPr>
          <p:sp>
            <p:nvSpPr>
              <p:cNvPr id="111" name=""/>
              <p:cNvSpPr/>
              <p:nvPr/>
            </p:nvSpPr>
            <p:spPr>
              <a:xfrm>
                <a:off x="1834920" y="2035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828800" y="2023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873080" y="206316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8bbc00"/>
                  </a:gs>
                  <a:gs pos="100000">
                    <a:srgbClr val="405600"/>
                  </a:gs>
                </a:gsLst>
                <a:lin ang="13500000"/>
              </a:gradFill>
              <a:ln w="9360">
                <a:solidFill>
                  <a:srgbClr val="1942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2438280" y="2633400"/>
              <a:ext cx="4800600" cy="0"/>
            </a:xfrm>
            <a:prstGeom prst="line">
              <a:avLst/>
            </a:prstGeom>
            <a:ln w="25560">
              <a:solidFill>
                <a:srgbClr val="006699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432240" y="210024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9426b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27520" y="2122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828800" y="2938320"/>
            <a:ext cx="5410080" cy="665280"/>
            <a:chOff x="1828800" y="2938320"/>
            <a:chExt cx="5410080" cy="665280"/>
          </a:xfrm>
        </p:grpSpPr>
        <p:grpSp>
          <p:nvGrpSpPr>
            <p:cNvPr id="118" name=""/>
            <p:cNvGrpSpPr/>
            <p:nvPr/>
          </p:nvGrpSpPr>
          <p:grpSpPr>
            <a:xfrm>
              <a:off x="1828800" y="2938320"/>
              <a:ext cx="762120" cy="665280"/>
              <a:chOff x="1828800" y="2938320"/>
              <a:chExt cx="762120" cy="665280"/>
            </a:xfrm>
          </p:grpSpPr>
          <p:sp>
            <p:nvSpPr>
              <p:cNvPr id="119" name=""/>
              <p:cNvSpPr/>
              <p:nvPr/>
            </p:nvSpPr>
            <p:spPr>
              <a:xfrm>
                <a:off x="1834920" y="29494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828800" y="29383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873080" y="297756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3d86f1"/>
                  </a:gs>
                  <a:gs pos="100000">
                    <a:srgbClr val="1c3d6f"/>
                  </a:gs>
                </a:gsLst>
                <a:lin ang="13500000"/>
              </a:gradFill>
              <a:ln w="9360">
                <a:solidFill>
                  <a:srgbClr val="1942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2438280" y="3547800"/>
              <a:ext cx="4800600" cy="0"/>
            </a:xfrm>
            <a:prstGeom prst="line">
              <a:avLst/>
            </a:prstGeom>
            <a:ln w="25560">
              <a:solidFill>
                <a:srgbClr val="006699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432240" y="301464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9426b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27520" y="3036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828800" y="3830760"/>
            <a:ext cx="5410080" cy="664920"/>
            <a:chOff x="1828800" y="3830760"/>
            <a:chExt cx="5410080" cy="664920"/>
          </a:xfrm>
        </p:grpSpPr>
        <p:grpSp>
          <p:nvGrpSpPr>
            <p:cNvPr id="126" name=""/>
            <p:cNvGrpSpPr/>
            <p:nvPr/>
          </p:nvGrpSpPr>
          <p:grpSpPr>
            <a:xfrm>
              <a:off x="1828800" y="3830760"/>
              <a:ext cx="762120" cy="664920"/>
              <a:chOff x="1828800" y="3830760"/>
              <a:chExt cx="762120" cy="664920"/>
            </a:xfrm>
          </p:grpSpPr>
          <p:sp>
            <p:nvSpPr>
              <p:cNvPr id="127" name=""/>
              <p:cNvSpPr/>
              <p:nvPr/>
            </p:nvSpPr>
            <p:spPr>
              <a:xfrm>
                <a:off x="1834920" y="384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828800" y="383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873080" y="387000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8bbc00"/>
                  </a:gs>
                  <a:gs pos="100000">
                    <a:srgbClr val="405600"/>
                  </a:gs>
                </a:gsLst>
                <a:lin ang="13500000"/>
              </a:gradFill>
              <a:ln w="9360">
                <a:solidFill>
                  <a:srgbClr val="1942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438280" y="4439880"/>
              <a:ext cx="4800600" cy="0"/>
            </a:xfrm>
            <a:prstGeom prst="line">
              <a:avLst/>
            </a:prstGeom>
            <a:ln w="25560">
              <a:solidFill>
                <a:srgbClr val="006699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32240" y="39067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9426b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027520" y="3928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828800" y="4745160"/>
            <a:ext cx="5410080" cy="664920"/>
            <a:chOff x="1828800" y="4745160"/>
            <a:chExt cx="5410080" cy="664920"/>
          </a:xfrm>
        </p:grpSpPr>
        <p:grpSp>
          <p:nvGrpSpPr>
            <p:cNvPr id="134" name=""/>
            <p:cNvGrpSpPr/>
            <p:nvPr/>
          </p:nvGrpSpPr>
          <p:grpSpPr>
            <a:xfrm>
              <a:off x="1828800" y="4745160"/>
              <a:ext cx="762120" cy="664920"/>
              <a:chOff x="1828800" y="4745160"/>
              <a:chExt cx="762120" cy="664920"/>
            </a:xfrm>
          </p:grpSpPr>
          <p:sp>
            <p:nvSpPr>
              <p:cNvPr id="135" name=""/>
              <p:cNvSpPr/>
              <p:nvPr/>
            </p:nvSpPr>
            <p:spPr>
              <a:xfrm>
                <a:off x="1834920" y="47563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828800" y="47451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873080" y="478440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3d86f1"/>
                  </a:gs>
                  <a:gs pos="100000">
                    <a:srgbClr val="1c3d6f"/>
                  </a:gs>
                </a:gsLst>
                <a:lin ang="13500000"/>
              </a:gradFill>
              <a:ln w="9360">
                <a:solidFill>
                  <a:srgbClr val="1942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2438280" y="5354280"/>
              <a:ext cx="4800600" cy="0"/>
            </a:xfrm>
            <a:prstGeom prst="line">
              <a:avLst/>
            </a:prstGeom>
            <a:ln w="25560">
              <a:solidFill>
                <a:srgbClr val="006699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432240" y="48211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9426b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027520" y="4843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8bbc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8bbc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4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8bbc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8bbc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8bbc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8bbc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8bbc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8bbc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8bbc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8bbc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8bbc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8bbc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8bbc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8bbc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8bbc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8bbc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8bbc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8bbc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8bbc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8bbc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8bbc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8bbc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8bbc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8bbc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8bbc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9426b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549C9-C342-421A-8FA8-B3F2206C8B7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 txBox="1"/>
          <p:nvPr/>
        </p:nvSpPr>
        <p:spPr>
          <a:xfrm>
            <a:off x="4876920" y="2438280"/>
            <a:ext cx="4038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d86f1"/>
                    </a:gs>
                    <a:gs pos="100000">
                      <a:srgbClr val="2bb5a5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19426b">
                      <a:alpha val="50000"/>
                    </a:srgbClr>
                  </a:outerShdw>
                </a:effectLst>
                <a:latin typeface="Arial"/>
              </a:rPr>
              <a:t>Thank You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d86f1"/>
                  </a:gs>
                  <a:gs pos="100000">
                    <a:srgbClr val="2bb5a5"/>
                  </a:gs>
                </a:gsLst>
                <a:lin ang="10800000"/>
              </a:gradFill>
              <a:effectLst>
                <a:outerShdw dist="53966" dir="2700000" blurRad="0" rotWithShape="0">
                  <a:srgbClr val="19426b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5105160" y="3123720"/>
            <a:ext cx="3809880" cy="4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160" y="19836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746000"/>
            <a:ext cx="7925040" cy="47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3d86f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On the </a:t>
            </a:r>
            <a:r>
              <a:rPr b="0" lang="en-US" sz="2400" spc="-1" strike="noStrike">
                <a:solidFill>
                  <a:srgbClr val="3d86f1"/>
                </a:solidFill>
                <a:latin typeface="Arial"/>
              </a:rPr>
              <a:t>[View]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menu, point to </a:t>
            </a:r>
            <a:r>
              <a:rPr b="0" lang="en-US" sz="2400" spc="-1" strike="noStrike">
                <a:solidFill>
                  <a:srgbClr val="3d86f1"/>
                </a:solidFill>
                <a:latin typeface="Arial"/>
              </a:rPr>
              <a:t>[Master],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and then click </a:t>
            </a:r>
            <a:r>
              <a:rPr b="0" lang="en-US" sz="2400" spc="-1" strike="noStrike">
                <a:solidFill>
                  <a:srgbClr val="3d86f1"/>
                </a:solidFill>
                <a:latin typeface="Arial"/>
              </a:rPr>
              <a:t>[Slide Master]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3d86f1"/>
                </a:solidFill>
                <a:latin typeface="Arial"/>
              </a:rPr>
              <a:t>[Notes Master].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Change images to the one you like, then it will apply to all the other slides. </a:t>
            </a:r>
            <a:br>
              <a:rPr sz="2400"/>
            </a:b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19426b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42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160" y="19836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143000" y="3171960"/>
            <a:ext cx="2286000" cy="2666880"/>
            <a:chOff x="1143000" y="3171960"/>
            <a:chExt cx="2286000" cy="2666880"/>
          </a:xfrm>
        </p:grpSpPr>
        <p:sp>
          <p:nvSpPr>
            <p:cNvPr id="146" name=""/>
            <p:cNvSpPr/>
            <p:nvPr/>
          </p:nvSpPr>
          <p:spPr>
            <a:xfrm>
              <a:off x="114300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942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2384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77cfc5"/>
              </a:gs>
              <a:gs pos="100000">
                <a:srgbClr val="2bb5a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048120" y="1447920"/>
            <a:ext cx="2998440" cy="1601280"/>
            <a:chOff x="3048120" y="1447920"/>
            <a:chExt cx="2998440" cy="1601280"/>
          </a:xfrm>
        </p:grpSpPr>
        <p:grpSp>
          <p:nvGrpSpPr>
            <p:cNvPr id="150" name=""/>
            <p:cNvGrpSpPr/>
            <p:nvPr/>
          </p:nvGrpSpPr>
          <p:grpSpPr>
            <a:xfrm>
              <a:off x="3048120" y="1447920"/>
              <a:ext cx="2998440" cy="1601280"/>
              <a:chOff x="3048120" y="1447920"/>
              <a:chExt cx="2998440" cy="1601280"/>
            </a:xfrm>
          </p:grpSpPr>
          <p:grpSp>
            <p:nvGrpSpPr>
              <p:cNvPr id="151" name=""/>
              <p:cNvGrpSpPr/>
              <p:nvPr/>
            </p:nvGrpSpPr>
            <p:grpSpPr>
              <a:xfrm>
                <a:off x="3048120" y="1590840"/>
                <a:ext cx="2998440" cy="1458360"/>
                <a:chOff x="3048120" y="1590840"/>
                <a:chExt cx="2998440" cy="145836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3080880" y="163728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35b00"/>
                    </a:gs>
                    <a:gs pos="100000">
                      <a:srgbClr val="8bbc0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9426b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3048120" y="159084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bbc00"/>
                    </a:gs>
                    <a:gs pos="100000">
                      <a:srgbClr val="cae08d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9426b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"/>
              <p:cNvSpPr/>
              <p:nvPr/>
            </p:nvSpPr>
            <p:spPr>
              <a:xfrm>
                <a:off x="3189240" y="144792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3d86f1"/>
                  </a:gs>
                  <a:gs pos="100000">
                    <a:srgbClr val="1c3d6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24160" y="145584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bad3f9"/>
                  </a:gs>
                  <a:gs pos="100000">
                    <a:srgbClr val="3d86f1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51160" y="146844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3d86f1">
                      <a:alpha val="48235"/>
                    </a:srgbClr>
                  </a:gs>
                  <a:gs pos="100000">
                    <a:srgbClr val="3069b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382920" y="149544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3d86f1">
                      <a:alpha val="38039"/>
                    </a:srgbClr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3882960" y="164808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19426b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5562720" y="3171960"/>
            <a:ext cx="2286000" cy="2666880"/>
            <a:chOff x="5562720" y="3171960"/>
            <a:chExt cx="2286000" cy="2666880"/>
          </a:xfrm>
        </p:grpSpPr>
        <p:sp>
          <p:nvSpPr>
            <p:cNvPr id="160" name=""/>
            <p:cNvSpPr/>
            <p:nvPr/>
          </p:nvSpPr>
          <p:spPr>
            <a:xfrm>
              <a:off x="556272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942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7150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9e8ad"/>
              </a:gs>
              <a:gs pos="100000">
                <a:srgbClr val="8bb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19836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762120" y="1722240"/>
            <a:ext cx="6956640" cy="4583520"/>
            <a:chOff x="762120" y="1722240"/>
            <a:chExt cx="6956640" cy="4583520"/>
          </a:xfrm>
        </p:grpSpPr>
        <p:sp>
          <p:nvSpPr>
            <p:cNvPr id="165" name="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e6e6e6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8bbc00"/>
                </a:gs>
                <a:gs pos="100000">
                  <a:srgbClr val="2f4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3d86f1"/>
                </a:gs>
                <a:gs pos="100000">
                  <a:srgbClr val="1329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2bb5a5"/>
                </a:gs>
                <a:gs pos="100000">
                  <a:srgbClr val="0f403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3f3f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6d50ca"/>
                </a:gs>
                <a:gs pos="100000">
                  <a:srgbClr val="251b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766160" y="374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69800" y="242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67944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087160" y="466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77600" y="5202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9426b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19426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cxnSp>
          <p:nvCxnSpPr>
            <p:cNvPr id="178" name="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19426b"/>
              </a:solidFill>
              <a:miter/>
            </a:ln>
          </p:spPr>
        </p:cxnSp>
        <p:sp>
          <p:nvSpPr>
            <p:cNvPr id="179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9426b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19836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82" name="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245d"/>
                </a:gs>
                <a:gs pos="50000">
                  <a:srgbClr val="6d50ca"/>
                </a:gs>
                <a:gs pos="100000">
                  <a:srgbClr val="32245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245d"/>
                </a:gs>
                <a:gs pos="50000">
                  <a:srgbClr val="6d50ca"/>
                </a:gs>
                <a:gs pos="100000">
                  <a:srgbClr val="32245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245d"/>
                </a:gs>
                <a:gs pos="50000">
                  <a:srgbClr val="6d50ca"/>
                </a:gs>
                <a:gs pos="100000">
                  <a:srgbClr val="32245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525252">
                    <a:alpha val="12156"/>
                  </a:srgbClr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942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9426b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9426b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9426b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9426b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942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9426b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9426b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9426b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9426b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c3d6f"/>
                </a:gs>
                <a:gs pos="50000">
                  <a:srgbClr val="3d86f1"/>
                </a:gs>
                <a:gs pos="100000">
                  <a:srgbClr val="1c3d6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cdcdcd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405600"/>
                </a:gs>
                <a:gs pos="50000">
                  <a:srgbClr val="8bbc00"/>
                </a:gs>
                <a:gs pos="100000">
                  <a:srgbClr val="405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cdcdcd">
                    <a:alpha val="12156"/>
                  </a:srgbClr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160" y="19836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202" name=""/>
            <p:cNvGrpSpPr/>
            <p:nvPr/>
          </p:nvGrpSpPr>
          <p:grpSpPr>
            <a:xfrm>
              <a:off x="3009240" y="2209680"/>
              <a:ext cx="2900160" cy="2706120"/>
              <a:chOff x="3009240" y="2209680"/>
              <a:chExt cx="2900160" cy="2706120"/>
            </a:xfrm>
          </p:grpSpPr>
          <p:sp>
            <p:nvSpPr>
              <p:cNvPr id="203" name=""/>
              <p:cNvSpPr/>
              <p:nvPr/>
            </p:nvSpPr>
            <p:spPr>
              <a:xfrm flipH="1" rot="16200000">
                <a:off x="2927880" y="325692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c2d6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 rot="5400000">
                <a:off x="5531400" y="320616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c2d6"/>
                  </a:gs>
                  <a:gs pos="100000">
                    <a:srgbClr val="006699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 rot="10800000">
                <a:off x="4238640" y="4609800"/>
                <a:ext cx="44424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c2d6"/>
                  </a:gs>
                  <a:gs pos="100000">
                    <a:srgbClr val="00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305880" y="2209680"/>
                <a:ext cx="23281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438720" y="2344680"/>
                <a:ext cx="206136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560040" y="2471040"/>
                <a:ext cx="1819080" cy="1878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8bbc00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560040" y="2471040"/>
                <a:ext cx="181908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679560" y="2594520"/>
                <a:ext cx="1580040" cy="1631880"/>
              </a:xfrm>
              <a:prstGeom prst="ellipse">
                <a:avLst/>
              </a:prstGeom>
              <a:gradFill rotWithShape="0">
                <a:gsLst>
                  <a:gs pos="0">
                    <a:srgbClr val="4a6500"/>
                  </a:gs>
                  <a:gs pos="50000">
                    <a:srgbClr val="8bbc00"/>
                  </a:gs>
                  <a:gs pos="100000">
                    <a:srgbClr val="4a65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679560" y="2594520"/>
                <a:ext cx="1580040" cy="163188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  <p:sp>
          <p:nvSpPr>
            <p:cNvPr id="212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245d"/>
                </a:gs>
                <a:gs pos="50000">
                  <a:srgbClr val="6d50ca"/>
                </a:gs>
                <a:gs pos="100000">
                  <a:srgbClr val="32245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43000" y="3208320"/>
              <a:ext cx="165888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245d"/>
                </a:gs>
                <a:gs pos="50000">
                  <a:srgbClr val="6d50ca"/>
                </a:gs>
                <a:gs pos="100000">
                  <a:srgbClr val="32245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143000" y="27090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245d"/>
                </a:gs>
                <a:gs pos="50000">
                  <a:srgbClr val="6d50ca"/>
                </a:gs>
                <a:gs pos="100000">
                  <a:srgbClr val="32245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c3d6f"/>
                </a:gs>
                <a:gs pos="50000">
                  <a:srgbClr val="3d86f1"/>
                </a:gs>
                <a:gs pos="100000">
                  <a:srgbClr val="1c3d6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20360" y="3208320"/>
              <a:ext cx="172836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c3d6f"/>
                </a:gs>
                <a:gs pos="50000">
                  <a:srgbClr val="3d86f1"/>
                </a:gs>
                <a:gs pos="100000">
                  <a:srgbClr val="1c3d6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120360" y="27090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c3d6f"/>
                </a:gs>
                <a:gs pos="50000">
                  <a:srgbClr val="3d86f1"/>
                </a:gs>
                <a:gs pos="100000">
                  <a:srgbClr val="1c3d6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1942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9426b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bbc00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19426b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1942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160" y="19836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872640" y="2276640"/>
            <a:ext cx="7544160" cy="3352680"/>
            <a:chOff x="872640" y="2276640"/>
            <a:chExt cx="7544160" cy="3352680"/>
          </a:xfrm>
        </p:grpSpPr>
        <p:sp>
          <p:nvSpPr>
            <p:cNvPr id="229" name=""/>
            <p:cNvSpPr/>
            <p:nvPr/>
          </p:nvSpPr>
          <p:spPr>
            <a:xfrm flipH="1">
              <a:off x="873000" y="5621400"/>
              <a:ext cx="1657440" cy="1800"/>
            </a:xfrm>
            <a:prstGeom prst="line">
              <a:avLst/>
            </a:prstGeom>
            <a:ln w="9360">
              <a:solidFill>
                <a:srgbClr val="1942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872640" y="4783320"/>
              <a:ext cx="2438280" cy="0"/>
            </a:xfrm>
            <a:prstGeom prst="line">
              <a:avLst/>
            </a:prstGeom>
            <a:ln w="9360">
              <a:solidFill>
                <a:srgbClr val="1942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872640" y="3953160"/>
              <a:ext cx="3352680" cy="0"/>
            </a:xfrm>
            <a:prstGeom prst="line">
              <a:avLst/>
            </a:prstGeom>
            <a:ln w="9360">
              <a:solidFill>
                <a:srgbClr val="1942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872640" y="3124440"/>
              <a:ext cx="4165560" cy="0"/>
            </a:xfrm>
            <a:prstGeom prst="line">
              <a:avLst/>
            </a:prstGeom>
            <a:ln w="9360">
              <a:solidFill>
                <a:srgbClr val="1942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872640" y="2283120"/>
              <a:ext cx="5033880" cy="0"/>
            </a:xfrm>
            <a:prstGeom prst="line">
              <a:avLst/>
            </a:prstGeom>
            <a:ln w="9360">
              <a:solidFill>
                <a:srgbClr val="1942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25280" y="2276640"/>
              <a:ext cx="0" cy="871560"/>
            </a:xfrm>
            <a:prstGeom prst="line">
              <a:avLst/>
            </a:prstGeom>
            <a:ln w="9360">
              <a:solidFill>
                <a:srgbClr val="19426b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025280" y="3148200"/>
              <a:ext cx="0" cy="817560"/>
            </a:xfrm>
            <a:prstGeom prst="line">
              <a:avLst/>
            </a:prstGeom>
            <a:ln w="9360">
              <a:solidFill>
                <a:srgbClr val="19426b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025280" y="3965760"/>
              <a:ext cx="0" cy="816120"/>
            </a:xfrm>
            <a:prstGeom prst="line">
              <a:avLst/>
            </a:prstGeom>
            <a:ln w="9360">
              <a:solidFill>
                <a:srgbClr val="19426b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025280" y="4783320"/>
              <a:ext cx="0" cy="816120"/>
            </a:xfrm>
            <a:prstGeom prst="line">
              <a:avLst/>
            </a:prstGeom>
            <a:ln w="9360">
              <a:solidFill>
                <a:srgbClr val="19426b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224720" y="2600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9426b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9426b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224720" y="4291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9426b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9426b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9426b"/>
                </a:solidFill>
                <a:latin typeface="Arial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2590560" y="2286000"/>
              <a:ext cx="5826240" cy="3343320"/>
              <a:chOff x="2590560" y="2286000"/>
              <a:chExt cx="5826240" cy="3343320"/>
            </a:xfrm>
          </p:grpSpPr>
          <p:sp>
            <p:nvSpPr>
              <p:cNvPr id="243" name=""/>
              <p:cNvSpPr/>
              <p:nvPr/>
            </p:nvSpPr>
            <p:spPr>
              <a:xfrm>
                <a:off x="7833960" y="2286000"/>
                <a:ext cx="57636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3534c"/>
                  </a:gs>
                  <a:gs pos="50000">
                    <a:srgbClr val="2bb5a5"/>
                  </a:gs>
                  <a:gs pos="100000">
                    <a:srgbClr val="13534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073480" y="2286000"/>
                <a:ext cx="3343320" cy="541440"/>
              </a:xfrm>
              <a:custGeom>
                <a:avLst/>
                <a:gdLst/>
                <a:ahLst/>
                <a:rect l="l" t="t" r="r" b="b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2bb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254720" y="311796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05600"/>
                  </a:gs>
                  <a:gs pos="50000">
                    <a:srgbClr val="8bbc00"/>
                  </a:gs>
                  <a:gs pos="100000">
                    <a:srgbClr val="40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243320" y="3117960"/>
                <a:ext cx="3593880" cy="539640"/>
              </a:xfrm>
              <a:custGeom>
                <a:avLst/>
                <a:gdLst/>
                <a:ahLst/>
                <a:rect l="l" t="t" r="r" b="b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8bb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673680" y="3949560"/>
                <a:ext cx="57312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2245d"/>
                  </a:gs>
                  <a:gs pos="50000">
                    <a:srgbClr val="6d50ca"/>
                  </a:gs>
                  <a:gs pos="100000">
                    <a:srgbClr val="32245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095880" y="4782960"/>
                <a:ext cx="57780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c3d6f"/>
                  </a:gs>
                  <a:gs pos="50000">
                    <a:srgbClr val="3d86f1"/>
                  </a:gs>
                  <a:gs pos="100000">
                    <a:srgbClr val="1c3d6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592000" y="4788000"/>
                <a:ext cx="4081680" cy="539640"/>
              </a:xfrm>
              <a:custGeom>
                <a:avLst/>
                <a:gdLst/>
                <a:ahLst/>
                <a:rect l="l" t="t" r="r" b="b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3d86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184200" y="2440080"/>
                <a:ext cx="1838520" cy="272232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008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079600" y="2827440"/>
                <a:ext cx="2767320" cy="304560"/>
              </a:xfrm>
              <a:prstGeom prst="rect">
                <a:avLst/>
              </a:prstGeom>
              <a:gradFill rotWithShape="0">
                <a:gsLst>
                  <a:gs pos="0">
                    <a:srgbClr val="1f8277"/>
                  </a:gs>
                  <a:gs pos="50000">
                    <a:srgbClr val="2bb5a5"/>
                  </a:gs>
                  <a:gs pos="100000">
                    <a:srgbClr val="1f827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648700"/>
                  </a:gs>
                  <a:gs pos="50000">
                    <a:srgbClr val="8bbc00"/>
                  </a:gs>
                  <a:gs pos="100000">
                    <a:srgbClr val="6487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419280" y="3949560"/>
                <a:ext cx="3833640" cy="544680"/>
              </a:xfrm>
              <a:custGeom>
                <a:avLst/>
                <a:gdLst/>
                <a:ahLst/>
                <a:rect l="l" t="t" r="r" b="b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6d50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422520" y="4492800"/>
                <a:ext cx="3263760" cy="298440"/>
              </a:xfrm>
              <a:prstGeom prst="rect">
                <a:avLst/>
              </a:prstGeom>
              <a:gradFill rotWithShape="0">
                <a:gsLst>
                  <a:gs pos="0">
                    <a:srgbClr val="4e3991"/>
                  </a:gs>
                  <a:gs pos="50000">
                    <a:srgbClr val="6d50ca"/>
                  </a:gs>
                  <a:gs pos="100000">
                    <a:srgbClr val="4e399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590560" y="5329080"/>
                <a:ext cx="3513240" cy="297000"/>
              </a:xfrm>
              <a:prstGeom prst="rect">
                <a:avLst/>
              </a:prstGeom>
              <a:gradFill rotWithShape="0">
                <a:gsLst>
                  <a:gs pos="0">
                    <a:srgbClr val="2c60ae"/>
                  </a:gs>
                  <a:gs pos="50000">
                    <a:srgbClr val="3d86f1"/>
                  </a:gs>
                  <a:gs pos="100000">
                    <a:srgbClr val="2c60a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160" y="19836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914400" y="1219320"/>
            <a:ext cx="7315200" cy="5018760"/>
            <a:chOff x="914400" y="1219320"/>
            <a:chExt cx="7315200" cy="5018760"/>
          </a:xfrm>
        </p:grpSpPr>
        <p:sp>
          <p:nvSpPr>
            <p:cNvPr id="258" name=""/>
            <p:cNvSpPr/>
            <p:nvPr/>
          </p:nvSpPr>
          <p:spPr>
            <a:xfrm>
              <a:off x="5073480" y="1219320"/>
              <a:ext cx="1467000" cy="1155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8bbc00"/>
                </a:gs>
                <a:gs pos="100000">
                  <a:srgbClr val="94c116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424320" y="265248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2bb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657600" y="251424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3534c"/>
                </a:gs>
                <a:gs pos="50000">
                  <a:srgbClr val="2bb5a5"/>
                </a:gs>
                <a:gs pos="100000">
                  <a:srgbClr val="13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5333400" y="2590560"/>
              <a:ext cx="7308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3742560" y="2581200"/>
              <a:ext cx="7164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934240" y="2151000"/>
              <a:ext cx="2295360" cy="315540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400"/>
                <a:gd name="textAreaBottom" fmla="*/ 3124080 h 3155400"/>
              </a:gdLst>
              <a:ahLst/>
              <a:rect l="textAreaLeft" t="textAreaTop" r="textAreaRight" b="textAreaBottom"/>
              <a:pathLst>
                <a:path w="21600" h="29692">
                  <a:moveTo>
                    <a:pt x="1013" y="0"/>
                  </a:moveTo>
                  <a:arcTo wR="1013" hR="1013" stAng="16200000" swAng="-5400000"/>
                  <a:lnTo>
                    <a:pt x="0" y="28679"/>
                  </a:lnTo>
                  <a:arcTo wR="1013" hR="1013" stAng="10800000" swAng="-5400000"/>
                  <a:lnTo>
                    <a:pt x="20587" y="29692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8b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149880" y="200808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05600"/>
                </a:gs>
                <a:gs pos="50000">
                  <a:srgbClr val="8bbc00"/>
                </a:gs>
                <a:gs pos="100000">
                  <a:srgbClr val="40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7835040" y="2079360"/>
              <a:ext cx="7164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253200" y="2079360"/>
              <a:ext cx="7128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492280" y="1720440"/>
              <a:ext cx="1467000" cy="11570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6d50ca"/>
                </a:gs>
                <a:gs pos="100000">
                  <a:srgbClr val="aa99df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913200" y="248580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427800" y="19904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19426b"/>
                </a:solidFill>
                <a:latin typeface="Arial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914400" y="2914560"/>
              <a:ext cx="2295360" cy="3323520"/>
              <a:chOff x="914400" y="2914560"/>
              <a:chExt cx="2295360" cy="3323520"/>
            </a:xfrm>
          </p:grpSpPr>
          <p:sp>
            <p:nvSpPr>
              <p:cNvPr id="271" name=""/>
              <p:cNvSpPr/>
              <p:nvPr/>
            </p:nvSpPr>
            <p:spPr>
              <a:xfrm>
                <a:off x="914400" y="3082320"/>
                <a:ext cx="2295360" cy="3155760"/>
              </a:xfrm>
              <a:custGeom>
                <a:avLst/>
                <a:gdLst>
                  <a:gd name="textAreaLeft" fmla="*/ 31320 w 2295360"/>
                  <a:gd name="textAreaRight" fmla="*/ 2264040 w 2295360"/>
                  <a:gd name="textAreaTop" fmla="*/ 31320 h 3155760"/>
                  <a:gd name="textAreaBottom" fmla="*/ 3124440 h 3155760"/>
                </a:gdLst>
                <a:ahLst/>
                <a:rect l="textAreaLeft" t="textAreaTop" r="textAreaRight" b="textAreaBottom"/>
                <a:pathLst>
                  <a:path w="21600" h="29695">
                    <a:moveTo>
                      <a:pt x="1013" y="0"/>
                    </a:moveTo>
                    <a:arcTo wR="1013" hR="1013" stAng="16200000" swAng="-5400000"/>
                    <a:lnTo>
                      <a:pt x="0" y="28682"/>
                    </a:lnTo>
                    <a:arcTo wR="1013" hR="1013" stAng="10800000" swAng="-5400000"/>
                    <a:lnTo>
                      <a:pt x="20587" y="29695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6d50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130400" y="2939760"/>
                <a:ext cx="1863720" cy="286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2a1e4e"/>
                  </a:gs>
                  <a:gs pos="50000">
                    <a:srgbClr val="6d50ca"/>
                  </a:gs>
                  <a:gs pos="100000">
                    <a:srgbClr val="2a1e4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>
                <a:off x="2813760" y="3011040"/>
                <a:ext cx="7164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1231200" y="3011040"/>
                <a:ext cx="7308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398600" y="2914560"/>
                <a:ext cx="131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dd Your Title</a:t>
                </a:r>
                <a:endParaRPr b="0" lang="en-US" sz="14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990720" y="3342960"/>
                <a:ext cx="213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>
              <a:off x="3505320" y="288576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019920" y="235260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7:05Z</dcterms:modified>
  <cp:revision>7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