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7F72-5656-48F9-A96E-55F69316D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92000" y="655956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FF44-21EE-42F3-8259-77486B5F6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1752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16C6-3168-49C9-8B96-2A361EB39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2924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49200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6044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2924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7A74-C758-4333-9BBA-2E9C8F5A9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025D3-88B6-4A87-9A49-A728E68D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9200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49E83-C99C-4D26-85CF-DEDE5DEA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13AA5-90FD-49C0-A334-CC5A773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C2794-7797-4B06-BF17-147B282E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A24A6-6DA6-4DC7-9B4A-0B4FFB12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866600" y="3657600"/>
            <a:ext cx="712476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F844B-EE38-4C69-AD24-2A099F70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4A697-C261-4574-B3A8-EF6F4B1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49200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D32B-2369-4271-A0CE-88351474F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752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8860D-50E2-4D0E-8922-A3E580D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38D27-5E8E-4746-AF8A-549EBBD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92000" y="655956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161FD-3ED4-4EC9-BC6E-3459D742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1752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A596E-90A2-40F7-A6A0-E0B6225C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044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924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49200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96044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2924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6DCDA-ED72-4DD4-876C-205BBEEC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9DD2-6BDF-40CD-AE7F-04326BF40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2816-A23B-4E85-A25F-EC142690A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57FD-405C-40E1-A136-2E2767CCB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866600" y="3657600"/>
            <a:ext cx="712476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1D82-E172-4E2D-BFF4-59E1C4842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F6AF-A392-4499-B9CA-B8B112B71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752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84BE-AFC7-4DE9-9F71-864258D20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5122-F898-4149-A4B7-DD528A4F1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44560"/>
            <a:ext cx="9144000" cy="152280"/>
          </a:xfrm>
          <a:prstGeom prst="rect">
            <a:avLst/>
          </a:prstGeom>
          <a:solidFill>
            <a:srgbClr val="8399a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1219320" y="12193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56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31d3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5F9C-5641-4ECD-A84C-9EAF7BBAB2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19120" y="1608120"/>
            <a:ext cx="546120" cy="988920"/>
          </a:xfrm>
          <a:custGeom>
            <a:avLst/>
            <a:gdLst/>
            <a:ahLst/>
            <a:rect l="l" t="t" r="r" b="b"/>
            <a:pathLst>
              <a:path w="344" h="623">
                <a:moveTo>
                  <a:pt x="114" y="0"/>
                </a:moveTo>
                <a:cubicBezTo>
                  <a:pt x="114" y="0"/>
                  <a:pt x="229" y="0"/>
                  <a:pt x="344" y="0"/>
                </a:cubicBezTo>
                <a:cubicBezTo>
                  <a:pt x="273" y="303"/>
                  <a:pt x="230" y="621"/>
                  <a:pt x="230" y="621"/>
                </a:cubicBezTo>
                <a:cubicBezTo>
                  <a:pt x="230" y="621"/>
                  <a:pt x="115" y="622"/>
                  <a:pt x="0" y="623"/>
                </a:cubicBezTo>
                <a:cubicBezTo>
                  <a:pt x="44" y="307"/>
                  <a:pt x="114" y="0"/>
                  <a:pt x="114" y="0"/>
                </a:cubicBez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6600" y="2606760"/>
            <a:ext cx="542880" cy="2504880"/>
          </a:xfrm>
          <a:custGeom>
            <a:avLst/>
            <a:gdLst/>
            <a:ahLst/>
            <a:rect l="l" t="t" r="r" b="b"/>
            <a:pathLst>
              <a:path w="342" h="1578">
                <a:moveTo>
                  <a:pt x="114" y="0"/>
                </a:moveTo>
                <a:cubicBezTo>
                  <a:pt x="228" y="0"/>
                  <a:pt x="342" y="0"/>
                  <a:pt x="342" y="0"/>
                </a:cubicBezTo>
                <a:cubicBezTo>
                  <a:pt x="226" y="790"/>
                  <a:pt x="290" y="1578"/>
                  <a:pt x="290" y="1578"/>
                </a:cubicBezTo>
                <a:lnTo>
                  <a:pt x="60" y="1572"/>
                </a:lnTo>
                <a:cubicBezTo>
                  <a:pt x="60" y="1572"/>
                  <a:pt x="0" y="772"/>
                  <a:pt x="114" y="0"/>
                </a:cubicBez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5118120"/>
            <a:ext cx="663480" cy="1743120"/>
          </a:xfrm>
          <a:custGeom>
            <a:avLst/>
            <a:gdLst/>
            <a:ahLst/>
            <a:rect l="l" t="t" r="r" b="b"/>
            <a:pathLst>
              <a:path w="418" h="1098">
                <a:moveTo>
                  <a:pt x="0" y="0"/>
                </a:moveTo>
                <a:lnTo>
                  <a:pt x="262" y="0"/>
                </a:lnTo>
                <a:cubicBezTo>
                  <a:pt x="262" y="0"/>
                  <a:pt x="292" y="568"/>
                  <a:pt x="418" y="1098"/>
                </a:cubicBezTo>
                <a:cubicBezTo>
                  <a:pt x="209" y="1098"/>
                  <a:pt x="0" y="1098"/>
                  <a:pt x="0" y="1098"/>
                </a:cubicBezTo>
                <a:lnTo>
                  <a:pt x="0" y="0"/>
                </a:lnTo>
                <a:close/>
              </a:path>
            </a:pathLst>
          </a:cu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28760" y="5118120"/>
            <a:ext cx="660240" cy="1739880"/>
          </a:xfrm>
          <a:custGeom>
            <a:avLst/>
            <a:gdLst/>
            <a:ahLst/>
            <a:rect l="l" t="t" r="r" b="b"/>
            <a:pathLst>
              <a:path w="416" h="1096">
                <a:moveTo>
                  <a:pt x="0" y="0"/>
                </a:moveTo>
                <a:cubicBezTo>
                  <a:pt x="116" y="0"/>
                  <a:pt x="232" y="0"/>
                  <a:pt x="232" y="0"/>
                </a:cubicBezTo>
                <a:cubicBezTo>
                  <a:pt x="276" y="562"/>
                  <a:pt x="416" y="1094"/>
                  <a:pt x="416" y="1094"/>
                </a:cubicBezTo>
                <a:lnTo>
                  <a:pt x="150" y="1096"/>
                </a:lnTo>
                <a:cubicBezTo>
                  <a:pt x="150" y="1096"/>
                  <a:pt x="32" y="542"/>
                  <a:pt x="0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4680" y="5105520"/>
            <a:ext cx="7891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0"/>
            <a:ext cx="1189080" cy="826920"/>
          </a:xfrm>
          <a:custGeom>
            <a:avLst/>
            <a:gdLst/>
            <a:ahLst/>
            <a:rect l="l" t="t" r="r" b="b"/>
            <a:pathLst>
              <a:path w="749" h="521">
                <a:moveTo>
                  <a:pt x="0" y="0"/>
                </a:moveTo>
                <a:cubicBezTo>
                  <a:pt x="0" y="0"/>
                  <a:pt x="374" y="0"/>
                  <a:pt x="749" y="0"/>
                </a:cubicBezTo>
                <a:cubicBezTo>
                  <a:pt x="650" y="252"/>
                  <a:pt x="570" y="521"/>
                  <a:pt x="570" y="521"/>
                </a:cubicBezTo>
                <a:lnTo>
                  <a:pt x="0" y="52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838080"/>
            <a:ext cx="901800" cy="757440"/>
          </a:xfrm>
          <a:custGeom>
            <a:avLst/>
            <a:gdLst/>
            <a:ahLst/>
            <a:rect l="l" t="t" r="r" b="b"/>
            <a:pathLst>
              <a:path w="568" h="474">
                <a:moveTo>
                  <a:pt x="0" y="0"/>
                </a:moveTo>
                <a:lnTo>
                  <a:pt x="568" y="2"/>
                </a:lnTo>
                <a:cubicBezTo>
                  <a:pt x="568" y="2"/>
                  <a:pt x="496" y="240"/>
                  <a:pt x="438" y="474"/>
                </a:cubicBezTo>
                <a:cubicBezTo>
                  <a:pt x="219" y="474"/>
                  <a:pt x="0" y="474"/>
                  <a:pt x="0" y="474"/>
                </a:cubicBezTo>
                <a:lnTo>
                  <a:pt x="0" y="0"/>
                </a:lnTo>
                <a:close/>
              </a:path>
            </a:pathLst>
          </a:cu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14240" y="838080"/>
            <a:ext cx="536760" cy="755640"/>
          </a:xfrm>
          <a:custGeom>
            <a:avLst/>
            <a:gdLst/>
            <a:ahLst/>
            <a:rect l="l" t="t" r="r" b="b"/>
            <a:pathLst>
              <a:path w="338" h="476">
                <a:moveTo>
                  <a:pt x="126" y="0"/>
                </a:moveTo>
                <a:lnTo>
                  <a:pt x="338" y="2"/>
                </a:lnTo>
                <a:lnTo>
                  <a:pt x="222" y="476"/>
                </a:lnTo>
                <a:lnTo>
                  <a:pt x="0" y="476"/>
                </a:lnTo>
                <a:lnTo>
                  <a:pt x="126" y="0"/>
                </a:lnTo>
                <a:close/>
              </a:path>
            </a:pathLst>
          </a:cu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3240" y="831960"/>
            <a:ext cx="1247760" cy="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609560"/>
            <a:ext cx="690480" cy="2752920"/>
          </a:xfrm>
          <a:custGeom>
            <a:avLst/>
            <a:gdLst/>
            <a:ahLst/>
            <a:rect l="l" t="t" r="r" b="b"/>
            <a:pathLst>
              <a:path w="435" h="1734">
                <a:moveTo>
                  <a:pt x="0" y="0"/>
                </a:moveTo>
                <a:cubicBezTo>
                  <a:pt x="411" y="3"/>
                  <a:pt x="214" y="3"/>
                  <a:pt x="435" y="3"/>
                </a:cubicBezTo>
                <a:cubicBezTo>
                  <a:pt x="222" y="837"/>
                  <a:pt x="243" y="1734"/>
                  <a:pt x="243" y="1734"/>
                </a:cubicBezTo>
                <a:lnTo>
                  <a:pt x="0" y="1734"/>
                </a:lnTo>
                <a:cubicBezTo>
                  <a:pt x="0" y="1734"/>
                  <a:pt x="0" y="0"/>
                  <a:pt x="0" y="0"/>
                </a:cubicBez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680" y="160020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0" y="4376880"/>
            <a:ext cx="409680" cy="723600"/>
          </a:xfrm>
          <a:custGeom>
            <a:avLst/>
            <a:gdLst/>
            <a:ahLst/>
            <a:rect l="l" t="t" r="r" b="b"/>
            <a:pathLst>
              <a:path w="258" h="456">
                <a:moveTo>
                  <a:pt x="0" y="0"/>
                </a:moveTo>
                <a:lnTo>
                  <a:pt x="243" y="0"/>
                </a:lnTo>
                <a:lnTo>
                  <a:pt x="258" y="453"/>
                </a:lnTo>
                <a:lnTo>
                  <a:pt x="0" y="456"/>
                </a:lnTo>
                <a:lnTo>
                  <a:pt x="0" y="0"/>
                </a:ln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 flipV="1">
            <a:off x="0" y="4368960"/>
            <a:ext cx="7621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-237960" y="0"/>
            <a:ext cx="1431720" cy="6877080"/>
          </a:xfrm>
          <a:custGeom>
            <a:avLst/>
            <a:gdLst/>
            <a:ahLst/>
            <a:rect l="l" t="t" r="r" b="b"/>
            <a:pathLst>
              <a:path w="902" h="4332">
                <a:moveTo>
                  <a:pt x="902" y="0"/>
                </a:moveTo>
                <a:cubicBezTo>
                  <a:pt x="0" y="2364"/>
                  <a:pt x="588" y="4332"/>
                  <a:pt x="570" y="432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71840"/>
            <a:ext cx="9144000" cy="152640"/>
          </a:xfrm>
          <a:prstGeom prst="rect">
            <a:avLst/>
          </a:prstGeom>
          <a:solidFill>
            <a:srgbClr val="8399a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52680"/>
            <a:ext cx="9144000" cy="99072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ftr" idx="3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ldNum" idx="4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733F-E127-4999-BEF5-1289614BC1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35760" y="632448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9360" y="-38160"/>
            <a:ext cx="2054160" cy="1023840"/>
          </a:xfrm>
          <a:custGeom>
            <a:avLst/>
            <a:gdLst/>
            <a:ahLst/>
            <a:rect l="l" t="t" r="r" b="b"/>
            <a:pathLst>
              <a:path w="1294" h="645">
                <a:moveTo>
                  <a:pt x="0" y="21"/>
                </a:moveTo>
                <a:cubicBezTo>
                  <a:pt x="0" y="21"/>
                  <a:pt x="1004" y="25"/>
                  <a:pt x="1294" y="20"/>
                </a:cubicBezTo>
                <a:cubicBezTo>
                  <a:pt x="1236" y="122"/>
                  <a:pt x="1181" y="333"/>
                  <a:pt x="1065" y="645"/>
                </a:cubicBezTo>
                <a:cubicBezTo>
                  <a:pt x="603" y="639"/>
                  <a:pt x="210" y="645"/>
                  <a:pt x="6" y="641"/>
                </a:cubicBezTo>
                <a:cubicBezTo>
                  <a:pt x="3" y="507"/>
                  <a:pt x="6" y="0"/>
                  <a:pt x="0" y="21"/>
                </a:cubicBezTo>
                <a:close/>
              </a:path>
            </a:pathLst>
          </a:custGeom>
          <a:solidFill>
            <a:srgbClr val="131d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60" y="3657600"/>
            <a:ext cx="1209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60" y="5076720"/>
            <a:ext cx="166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1236600" y="5079960"/>
            <a:ext cx="773280" cy="1781280"/>
          </a:xfrm>
          <a:custGeom>
            <a:avLst/>
            <a:gdLst/>
            <a:ahLst/>
            <a:rect l="l" t="t" r="r" b="b"/>
            <a:pathLst>
              <a:path w="487" h="1118">
                <a:moveTo>
                  <a:pt x="0" y="2"/>
                </a:moveTo>
                <a:cubicBezTo>
                  <a:pt x="155" y="1"/>
                  <a:pt x="310" y="0"/>
                  <a:pt x="310" y="0"/>
                </a:cubicBezTo>
                <a:cubicBezTo>
                  <a:pt x="310" y="0"/>
                  <a:pt x="370" y="714"/>
                  <a:pt x="487" y="1118"/>
                </a:cubicBezTo>
                <a:cubicBezTo>
                  <a:pt x="487" y="1118"/>
                  <a:pt x="320" y="1117"/>
                  <a:pt x="159" y="1116"/>
                </a:cubicBezTo>
                <a:cubicBezTo>
                  <a:pt x="159" y="1116"/>
                  <a:pt x="20" y="532"/>
                  <a:pt x="0" y="2"/>
                </a:cubicBez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dt" idx="5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29080"/>
            <a:ext cx="1828800" cy="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480" y="982800"/>
            <a:ext cx="21686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01720" y="-3240"/>
            <a:ext cx="758880" cy="984240"/>
          </a:xfrm>
          <a:custGeom>
            <a:avLst/>
            <a:gdLst/>
            <a:ahLst/>
            <a:rect l="l" t="t" r="r" b="b"/>
            <a:pathLst>
              <a:path w="478" h="620">
                <a:moveTo>
                  <a:pt x="218" y="0"/>
                </a:moveTo>
                <a:cubicBezTo>
                  <a:pt x="218" y="0"/>
                  <a:pt x="348" y="0"/>
                  <a:pt x="478" y="0"/>
                </a:cubicBezTo>
                <a:cubicBezTo>
                  <a:pt x="446" y="120"/>
                  <a:pt x="380" y="312"/>
                  <a:pt x="292" y="618"/>
                </a:cubicBezTo>
                <a:cubicBezTo>
                  <a:pt x="150" y="618"/>
                  <a:pt x="0" y="620"/>
                  <a:pt x="0" y="620"/>
                </a:cubicBezTo>
                <a:cubicBezTo>
                  <a:pt x="90" y="310"/>
                  <a:pt x="218" y="0"/>
                  <a:pt x="218" y="0"/>
                </a:cubicBezTo>
                <a:close/>
              </a:path>
            </a:pathLst>
          </a:custGeom>
          <a:solidFill>
            <a:srgbClr val="8399a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90720"/>
            <a:ext cx="1685880" cy="1641240"/>
          </a:xfrm>
          <a:custGeom>
            <a:avLst/>
            <a:gdLst/>
            <a:ahLst/>
            <a:rect l="l" t="t" r="r" b="b"/>
            <a:pathLst>
              <a:path w="1062" h="1034">
                <a:moveTo>
                  <a:pt x="2" y="0"/>
                </a:moveTo>
                <a:lnTo>
                  <a:pt x="1062" y="2"/>
                </a:lnTo>
                <a:cubicBezTo>
                  <a:pt x="1062" y="2"/>
                  <a:pt x="988" y="206"/>
                  <a:pt x="840" y="1034"/>
                </a:cubicBezTo>
                <a:cubicBezTo>
                  <a:pt x="420" y="1032"/>
                  <a:pt x="0" y="1030"/>
                  <a:pt x="0" y="1030"/>
                </a:cubicBezTo>
                <a:lnTo>
                  <a:pt x="2" y="0"/>
                </a:lnTo>
                <a:close/>
              </a:path>
            </a:pathLst>
          </a:cu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9920" y="990720"/>
            <a:ext cx="822240" cy="1641240"/>
          </a:xfrm>
          <a:custGeom>
            <a:avLst/>
            <a:gdLst/>
            <a:ahLst/>
            <a:rect l="l" t="t" r="r" b="b"/>
            <a:pathLst>
              <a:path w="518" h="1034">
                <a:moveTo>
                  <a:pt x="226" y="0"/>
                </a:moveTo>
                <a:cubicBezTo>
                  <a:pt x="372" y="1"/>
                  <a:pt x="518" y="2"/>
                  <a:pt x="518" y="2"/>
                </a:cubicBezTo>
                <a:cubicBezTo>
                  <a:pt x="518" y="2"/>
                  <a:pt x="386" y="520"/>
                  <a:pt x="308" y="1034"/>
                </a:cubicBezTo>
                <a:cubicBezTo>
                  <a:pt x="154" y="1033"/>
                  <a:pt x="0" y="1032"/>
                  <a:pt x="0" y="1032"/>
                </a:cubicBezTo>
                <a:cubicBezTo>
                  <a:pt x="0" y="1032"/>
                  <a:pt x="72" y="512"/>
                  <a:pt x="226" y="0"/>
                </a:cubicBezTo>
                <a:close/>
              </a:path>
            </a:pathLst>
          </a:custGeom>
          <a:solidFill>
            <a:srgbClr val="8399a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637000"/>
            <a:ext cx="1324080" cy="1020600"/>
          </a:xfrm>
          <a:custGeom>
            <a:avLst/>
            <a:gdLst/>
            <a:ahLst/>
            <a:rect l="l" t="t" r="r" b="b"/>
            <a:pathLst>
              <a:path w="834" h="645">
                <a:moveTo>
                  <a:pt x="0" y="0"/>
                </a:moveTo>
                <a:cubicBezTo>
                  <a:pt x="0" y="0"/>
                  <a:pt x="417" y="0"/>
                  <a:pt x="834" y="0"/>
                </a:cubicBezTo>
                <a:cubicBezTo>
                  <a:pt x="789" y="309"/>
                  <a:pt x="771" y="642"/>
                  <a:pt x="771" y="642"/>
                </a:cubicBezTo>
                <a:lnTo>
                  <a:pt x="0" y="64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55600" y="2638440"/>
            <a:ext cx="673200" cy="2428920"/>
          </a:xfrm>
          <a:custGeom>
            <a:avLst/>
            <a:gdLst/>
            <a:ahLst/>
            <a:rect l="l" t="t" r="r" b="b"/>
            <a:pathLst>
              <a:path w="424" h="1530">
                <a:moveTo>
                  <a:pt x="116" y="0"/>
                </a:moveTo>
                <a:cubicBezTo>
                  <a:pt x="270" y="0"/>
                  <a:pt x="424" y="0"/>
                  <a:pt x="424" y="0"/>
                </a:cubicBezTo>
                <a:cubicBezTo>
                  <a:pt x="302" y="726"/>
                  <a:pt x="360" y="1530"/>
                  <a:pt x="360" y="1530"/>
                </a:cubicBezTo>
                <a:cubicBezTo>
                  <a:pt x="360" y="1530"/>
                  <a:pt x="205" y="1530"/>
                  <a:pt x="50" y="1530"/>
                </a:cubicBezTo>
                <a:cubicBezTo>
                  <a:pt x="0" y="798"/>
                  <a:pt x="88" y="226"/>
                  <a:pt x="116" y="0"/>
                </a:cubicBezTo>
                <a:close/>
              </a:path>
            </a:pathLst>
          </a:custGeom>
          <a:gradFill rotWithShape="0">
            <a:gsLst>
              <a:gs pos="0">
                <a:srgbClr val="8399a1">
                  <a:alpha val="50196"/>
                </a:srgbClr>
              </a:gs>
              <a:gs pos="100000">
                <a:srgbClr val="3c46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733920"/>
            <a:ext cx="1311120" cy="2286000"/>
          </a:xfrm>
          <a:custGeom>
            <a:avLst/>
            <a:gdLst/>
            <a:ahLst/>
            <a:rect l="l" t="t" r="r" b="b"/>
            <a:pathLst>
              <a:path w="826" h="1440">
                <a:moveTo>
                  <a:pt x="0" y="0"/>
                </a:moveTo>
                <a:cubicBezTo>
                  <a:pt x="0" y="0"/>
                  <a:pt x="385" y="0"/>
                  <a:pt x="770" y="0"/>
                </a:cubicBezTo>
                <a:cubicBezTo>
                  <a:pt x="724" y="786"/>
                  <a:pt x="826" y="1440"/>
                  <a:pt x="826" y="1440"/>
                </a:cubicBezTo>
                <a:lnTo>
                  <a:pt x="0" y="1440"/>
                </a:lnTo>
                <a:lnTo>
                  <a:pt x="0" y="0"/>
                </a:lnTo>
                <a:close/>
              </a:path>
            </a:pathLst>
          </a:cu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962680"/>
            <a:ext cx="1482840" cy="895320"/>
          </a:xfrm>
          <a:custGeom>
            <a:avLst/>
            <a:gdLst/>
            <a:ahLst/>
            <a:rect l="l" t="t" r="r" b="b"/>
            <a:pathLst>
              <a:path w="934" h="564">
                <a:moveTo>
                  <a:pt x="0" y="0"/>
                </a:moveTo>
                <a:lnTo>
                  <a:pt x="828" y="0"/>
                </a:lnTo>
                <a:cubicBezTo>
                  <a:pt x="828" y="0"/>
                  <a:pt x="868" y="306"/>
                  <a:pt x="934" y="564"/>
                </a:cubicBezTo>
                <a:cubicBezTo>
                  <a:pt x="467" y="564"/>
                  <a:pt x="0" y="564"/>
                  <a:pt x="0" y="564"/>
                </a:cubicBezTo>
                <a:lnTo>
                  <a:pt x="0" y="0"/>
                </a:lnTo>
                <a:close/>
              </a:path>
            </a:pathLst>
          </a:cu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8305920" y="4952880"/>
            <a:ext cx="571320" cy="1536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6480" y="5954760"/>
            <a:ext cx="18352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2480" y="0"/>
            <a:ext cx="1460520" cy="6867360"/>
          </a:xfrm>
          <a:custGeom>
            <a:avLst/>
            <a:gdLst/>
            <a:ahLst/>
            <a:rect l="l" t="t" r="r" b="b"/>
            <a:pathLst>
              <a:path w="920" h="4326">
                <a:moveTo>
                  <a:pt x="920" y="0"/>
                </a:moveTo>
                <a:cubicBezTo>
                  <a:pt x="0" y="2243"/>
                  <a:pt x="571" y="4326"/>
                  <a:pt x="571" y="432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31d37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医疗工作报告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幻灯片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3341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5567b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5567b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5245200" y="3597120"/>
            <a:ext cx="1834920" cy="432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38360" y="4086360"/>
            <a:ext cx="1806840" cy="431640"/>
          </a:xfrm>
          <a:prstGeom prst="rect">
            <a:avLst/>
          </a:prstGeom>
          <a:gradFill rotWithShape="0">
            <a:gsLst>
              <a:gs pos="0">
                <a:srgbClr val="8399a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09560" y="4579920"/>
            <a:ext cx="182592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005840" y="396720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d4d4d4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818800" y="345744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bbc7cb"/>
              </a:gs>
              <a:gs pos="100000">
                <a:srgbClr val="839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25640" y="345924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631760" y="29415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4d4d4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29240" y="293688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625760" y="412128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538280" y="3160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38280" y="3160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b2b2b2">
                  <a:alpha val="45098"/>
                </a:srgbClr>
              </a:gs>
              <a:gs pos="50000">
                <a:srgbClr val="d4d4d4">
                  <a:alpha val="90196"/>
                </a:srgbClr>
              </a:gs>
              <a:gs pos="100000">
                <a:srgbClr val="b2b2b2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57440" y="31845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3468600" y="3618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3381480" y="2657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381480" y="2657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2282a">
                  <a:alpha val="90196"/>
                </a:srgbClr>
              </a:gs>
              <a:gs pos="50000">
                <a:srgbClr val="8399a1">
                  <a:alpha val="45098"/>
                </a:srgbClr>
              </a:gs>
              <a:gs pos="100000">
                <a:srgbClr val="22282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00280" y="2681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399a1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5389560" y="313056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5302080" y="217008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302080" y="21700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e2e2e">
                  <a:alpha val="90196"/>
                </a:srgbClr>
              </a:gs>
              <a:gs pos="50000">
                <a:srgbClr val="b2b2b2">
                  <a:alpha val="45098"/>
                </a:srgbClr>
              </a:gs>
              <a:gs pos="100000">
                <a:srgbClr val="2e2e2e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21240" y="219384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87680" y="35942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35567b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25840" y="3089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35567b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51480" y="2592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en-US" sz="1400" spc="-1" strike="noStrike">
                <a:solidFill>
                  <a:srgbClr val="35567b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81200" y="478152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567b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3520" y="430524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567b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08560" y="393048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598760" y="3893040"/>
            <a:ext cx="1075680" cy="428400"/>
            <a:chOff x="1598760" y="3893040"/>
            <a:chExt cx="1075680" cy="428400"/>
          </a:xfrm>
        </p:grpSpPr>
        <p:grpSp>
          <p:nvGrpSpPr>
            <p:cNvPr id="411" name=""/>
            <p:cNvGrpSpPr/>
            <p:nvPr/>
          </p:nvGrpSpPr>
          <p:grpSpPr>
            <a:xfrm>
              <a:off x="1787040" y="3893040"/>
              <a:ext cx="887400" cy="403560"/>
              <a:chOff x="1787040" y="3893040"/>
              <a:chExt cx="887400" cy="403560"/>
            </a:xfrm>
          </p:grpSpPr>
          <p:sp>
            <p:nvSpPr>
              <p:cNvPr id="412" name=""/>
              <p:cNvSpPr/>
              <p:nvPr/>
            </p:nvSpPr>
            <p:spPr>
              <a:xfrm flipH="1" flipV="1" rot="3964800">
                <a:off x="2270160" y="37717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 rot="4780200">
                <a:off x="2170440" y="3812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 rot="5076000">
                <a:off x="2109240" y="38199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 rot="5608200">
                <a:off x="2035800" y="38271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598760" y="3898440"/>
              <a:ext cx="886680" cy="423000"/>
              <a:chOff x="1598760" y="3898440"/>
              <a:chExt cx="886680" cy="423000"/>
            </a:xfrm>
          </p:grpSpPr>
          <p:sp>
            <p:nvSpPr>
              <p:cNvPr id="417" name=""/>
              <p:cNvSpPr/>
              <p:nvPr/>
            </p:nvSpPr>
            <p:spPr>
              <a:xfrm flipH="1" flipV="1" rot="5317800">
                <a:off x="2082960" y="3827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 rot="6133800">
                <a:off x="1974960" y="3825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 rot="6429000">
                <a:off x="1915200" y="3809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 rot="6961200">
                <a:off x="1845000" y="37868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3489120" y="3417840"/>
            <a:ext cx="1076040" cy="428400"/>
            <a:chOff x="3489120" y="3417840"/>
            <a:chExt cx="1076040" cy="428400"/>
          </a:xfrm>
        </p:grpSpPr>
        <p:grpSp>
          <p:nvGrpSpPr>
            <p:cNvPr id="422" name=""/>
            <p:cNvGrpSpPr/>
            <p:nvPr/>
          </p:nvGrpSpPr>
          <p:grpSpPr>
            <a:xfrm>
              <a:off x="3677760" y="3417840"/>
              <a:ext cx="887400" cy="403560"/>
              <a:chOff x="3677760" y="3417840"/>
              <a:chExt cx="887400" cy="403560"/>
            </a:xfrm>
          </p:grpSpPr>
          <p:sp>
            <p:nvSpPr>
              <p:cNvPr id="423" name=""/>
              <p:cNvSpPr/>
              <p:nvPr/>
            </p:nvSpPr>
            <p:spPr>
              <a:xfrm flipH="1" flipV="1" rot="3964800">
                <a:off x="4161240" y="32965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 rot="4780200">
                <a:off x="4060800" y="33368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 rot="5076000">
                <a:off x="4000320" y="33447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 rot="5608200">
                <a:off x="3926520" y="33523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489120" y="3423240"/>
              <a:ext cx="886680" cy="423000"/>
              <a:chOff x="3489120" y="3423240"/>
              <a:chExt cx="886680" cy="423000"/>
            </a:xfrm>
          </p:grpSpPr>
          <p:sp>
            <p:nvSpPr>
              <p:cNvPr id="428" name=""/>
              <p:cNvSpPr/>
              <p:nvPr/>
            </p:nvSpPr>
            <p:spPr>
              <a:xfrm flipH="1" flipV="1" rot="5317800">
                <a:off x="3973320" y="33519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 rot="6133800">
                <a:off x="3865680" y="3350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 rot="6429000">
                <a:off x="3805560" y="33339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flipV="1" rot="6961200">
                <a:off x="3735360" y="33116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5338800" y="2914560"/>
            <a:ext cx="1076040" cy="428400"/>
            <a:chOff x="5338800" y="2914560"/>
            <a:chExt cx="1076040" cy="428400"/>
          </a:xfrm>
        </p:grpSpPr>
        <p:grpSp>
          <p:nvGrpSpPr>
            <p:cNvPr id="433" name=""/>
            <p:cNvGrpSpPr/>
            <p:nvPr/>
          </p:nvGrpSpPr>
          <p:grpSpPr>
            <a:xfrm>
              <a:off x="5527440" y="2914560"/>
              <a:ext cx="887400" cy="403560"/>
              <a:chOff x="5527440" y="2914560"/>
              <a:chExt cx="887400" cy="403560"/>
            </a:xfrm>
          </p:grpSpPr>
          <p:sp>
            <p:nvSpPr>
              <p:cNvPr id="434" name=""/>
              <p:cNvSpPr/>
              <p:nvPr/>
            </p:nvSpPr>
            <p:spPr>
              <a:xfrm flipH="1" flipV="1" rot="3964800">
                <a:off x="6010920" y="27932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flipV="1" rot="4780200">
                <a:off x="5910480" y="28335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 rot="5076000">
                <a:off x="5850000" y="28414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 rot="5608200">
                <a:off x="5776200" y="28490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338800" y="2919960"/>
              <a:ext cx="886680" cy="423000"/>
              <a:chOff x="5338800" y="2919960"/>
              <a:chExt cx="886680" cy="423000"/>
            </a:xfrm>
          </p:grpSpPr>
          <p:sp>
            <p:nvSpPr>
              <p:cNvPr id="439" name=""/>
              <p:cNvSpPr/>
              <p:nvPr/>
            </p:nvSpPr>
            <p:spPr>
              <a:xfrm flipH="1" flipV="1" rot="5317800">
                <a:off x="5823000" y="28486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 rot="6133800">
                <a:off x="5715360" y="2847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 rot="6429000">
                <a:off x="5655240" y="28306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 rot="6961200">
                <a:off x="5585040" y="28083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"/>
          <p:cNvSpPr/>
          <p:nvPr/>
        </p:nvSpPr>
        <p:spPr>
          <a:xfrm>
            <a:off x="129528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0120" y="3103560"/>
            <a:ext cx="1835280" cy="431640"/>
          </a:xfrm>
          <a:prstGeom prst="rect">
            <a:avLst/>
          </a:prstGeom>
          <a:gradFill rotWithShape="0">
            <a:gsLst>
              <a:gs pos="0">
                <a:srgbClr val="8399a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467400" y="24480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bbc7cb"/>
              </a:gs>
              <a:gs pos="100000">
                <a:srgbClr val="839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64160" y="244332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7"/>
          <a:stretch/>
        </p:blipFill>
        <p:spPr>
          <a:xfrm>
            <a:off x="7224840" y="2637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8"/>
          <a:stretch/>
        </p:blipFill>
        <p:spPr>
          <a:xfrm>
            <a:off x="7137360" y="167652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137360" y="167652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2282a">
                  <a:alpha val="90196"/>
                </a:srgbClr>
              </a:gs>
              <a:gs pos="50000">
                <a:srgbClr val="8399a1">
                  <a:alpha val="45098"/>
                </a:srgbClr>
              </a:gs>
              <a:gs pos="100000">
                <a:srgbClr val="22282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256520" y="1700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399a1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86760" y="20988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en-US" sz="1400" spc="-1" strike="noStrike">
                <a:solidFill>
                  <a:srgbClr val="35567b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143840" y="34369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174080" y="2421360"/>
            <a:ext cx="1075680" cy="428400"/>
            <a:chOff x="7174080" y="2421360"/>
            <a:chExt cx="1075680" cy="428400"/>
          </a:xfrm>
        </p:grpSpPr>
        <p:grpSp>
          <p:nvGrpSpPr>
            <p:cNvPr id="454" name=""/>
            <p:cNvGrpSpPr/>
            <p:nvPr/>
          </p:nvGrpSpPr>
          <p:grpSpPr>
            <a:xfrm>
              <a:off x="7362360" y="2421360"/>
              <a:ext cx="887400" cy="403560"/>
              <a:chOff x="7362360" y="2421360"/>
              <a:chExt cx="887400" cy="403560"/>
            </a:xfrm>
          </p:grpSpPr>
          <p:sp>
            <p:nvSpPr>
              <p:cNvPr id="455" name=""/>
              <p:cNvSpPr/>
              <p:nvPr/>
            </p:nvSpPr>
            <p:spPr>
              <a:xfrm flipH="1" flipV="1" rot="3964800">
                <a:off x="7845480" y="2300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 rot="4780200">
                <a:off x="7745760" y="2340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 rot="5076000">
                <a:off x="7684560" y="2348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 rot="5608200">
                <a:off x="7611120" y="23554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174080" y="2426760"/>
              <a:ext cx="886680" cy="423000"/>
              <a:chOff x="7174080" y="2426760"/>
              <a:chExt cx="886680" cy="423000"/>
            </a:xfrm>
          </p:grpSpPr>
          <p:sp>
            <p:nvSpPr>
              <p:cNvPr id="460" name=""/>
              <p:cNvSpPr/>
              <p:nvPr/>
            </p:nvSpPr>
            <p:spPr>
              <a:xfrm flipH="1" flipV="1" rot="5317800">
                <a:off x="7658280" y="235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flipV="1" rot="6133800">
                <a:off x="7550280" y="23540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 rot="6429000">
                <a:off x="7490520" y="2337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 rot="6961200">
                <a:off x="7420320" y="2315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1006560" y="395136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8d8d8"/>
              </a:gs>
              <a:gs pos="100000">
                <a:srgbClr val="b2b2b2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59436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567b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35567b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131d37"/>
                </a:solidFill>
                <a:uFillTx/>
                <a:latin typeface="Arial"/>
                <a:hlinkClick r:id="rId9"/>
              </a:rPr>
              <a:t>http://www.eeppt.com/moban/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4038480"/>
            <a:ext cx="4362480" cy="1265400"/>
          </a:xfrm>
          <a:prstGeom prst="ellipse">
            <a:avLst/>
          </a:prstGeom>
          <a:gradFill rotWithShape="0">
            <a:gsLst>
              <a:gs pos="0">
                <a:srgbClr val="cfcfcf"/>
              </a:gs>
              <a:gs pos="100000">
                <a:srgbClr val="dddddd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2841480" y="2079720"/>
            <a:ext cx="153648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55880" y="343224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2977920" y="197820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858a97"/>
              </a:gs>
              <a:gs pos="100000">
                <a:srgbClr val="131d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2915640" y="2078640"/>
            <a:ext cx="137916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6d6d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2907720" y="2067120"/>
            <a:ext cx="1414080" cy="38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95530a"/>
              </a:gs>
              <a:gs pos="100000">
                <a:srgbClr val="ed841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19440" y="40863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19840" y="378000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38880" y="421956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24520" y="447840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781360" y="3970440"/>
            <a:ext cx="1014480" cy="830160"/>
          </a:xfrm>
          <a:prstGeom prst="line">
            <a:avLst/>
          </a:prstGeom>
          <a:ln w="1260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2872080" y="1697040"/>
            <a:ext cx="1844280" cy="470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434e52"/>
              </a:gs>
              <a:gs pos="100000">
                <a:srgbClr val="839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1320" y="34290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2882520" y="1532520"/>
            <a:ext cx="184500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8399a1"/>
              </a:gs>
              <a:gs pos="100000">
                <a:srgbClr val="ccd5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32004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482" name=""/>
          <p:cNvCxnSpPr>
            <a:endCxn id="481" idx="3"/>
          </p:cNvCxnSpPr>
          <p:nvPr/>
        </p:nvCxnSpPr>
        <p:spPr>
          <a:xfrm flipV="1" rot="10800000">
            <a:off x="4212360" y="2768400"/>
            <a:ext cx="2797920" cy="63072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endCxn id="474" idx="3"/>
          </p:cNvCxnSpPr>
          <p:nvPr/>
        </p:nvCxnSpPr>
        <p:spPr>
          <a:xfrm rot="10800000">
            <a:off x="5555520" y="393156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587760" y="42004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95280" y="152388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810480" y="2514600"/>
            <a:ext cx="2028600" cy="482400"/>
            <a:chOff x="6810480" y="2514600"/>
            <a:chExt cx="2028600" cy="482400"/>
          </a:xfrm>
        </p:grpSpPr>
        <p:sp>
          <p:nvSpPr>
            <p:cNvPr id="487" name=""/>
            <p:cNvSpPr/>
            <p:nvPr/>
          </p:nvSpPr>
          <p:spPr>
            <a:xfrm>
              <a:off x="6930000" y="279252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10480" y="251460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8399a1"/>
                </a:gs>
                <a:gs pos="100000">
                  <a:srgbClr val="6273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58000" y="4038480"/>
            <a:ext cx="2028960" cy="482400"/>
            <a:chOff x="6858000" y="4038480"/>
            <a:chExt cx="2028960" cy="482400"/>
          </a:xfrm>
        </p:grpSpPr>
        <p:sp>
          <p:nvSpPr>
            <p:cNvPr id="490" name=""/>
            <p:cNvSpPr/>
            <p:nvPr/>
          </p:nvSpPr>
          <p:spPr>
            <a:xfrm>
              <a:off x="6977520" y="43164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0" y="40384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31d37"/>
                </a:gs>
                <a:gs pos="100000">
                  <a:srgbClr val="0f17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400800" y="5334120"/>
            <a:ext cx="2028960" cy="482040"/>
            <a:chOff x="6400800" y="5334120"/>
            <a:chExt cx="2028960" cy="482040"/>
          </a:xfrm>
        </p:grpSpPr>
        <p:sp>
          <p:nvSpPr>
            <p:cNvPr id="493" name=""/>
            <p:cNvSpPr/>
            <p:nvPr/>
          </p:nvSpPr>
          <p:spPr>
            <a:xfrm>
              <a:off x="6520320" y="561168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00800" y="533412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191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447920" y="5486400"/>
            <a:ext cx="2028600" cy="482400"/>
            <a:chOff x="1447920" y="5486400"/>
            <a:chExt cx="2028600" cy="482400"/>
          </a:xfrm>
        </p:grpSpPr>
        <p:sp>
          <p:nvSpPr>
            <p:cNvPr id="496" name=""/>
            <p:cNvSpPr/>
            <p:nvPr/>
          </p:nvSpPr>
          <p:spPr>
            <a:xfrm>
              <a:off x="1567440" y="576432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7920" y="548640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ed8411"/>
                </a:gs>
                <a:gs pos="100000">
                  <a:srgbClr val="884b0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cxnSp>
        <p:nvCxnSpPr>
          <p:cNvPr id="498" name=""/>
          <p:cNvCxnSpPr/>
          <p:nvPr/>
        </p:nvCxnSpPr>
        <p:spPr>
          <a:xfrm rot="10800000">
            <a:off x="5104800" y="434268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"/>
          <p:cNvCxnSpPr/>
          <p:nvPr/>
        </p:nvCxnSpPr>
        <p:spPr>
          <a:xfrm flipV="1">
            <a:off x="3476160" y="4494960"/>
            <a:ext cx="258120" cy="12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3662280" y="1382760"/>
            <a:ext cx="2641680" cy="2644560"/>
          </a:xfrm>
          <a:prstGeom prst="ellipse">
            <a:avLst/>
          </a:prstGeom>
          <a:solidFill>
            <a:srgbClr val="ed84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02240" y="2774880"/>
            <a:ext cx="2643120" cy="264312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619360" y="2739960"/>
            <a:ext cx="2644920" cy="2643120"/>
          </a:xfrm>
          <a:prstGeom prst="ellipse">
            <a:avLst/>
          </a:pr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2971800" y="2286000"/>
            <a:ext cx="1386000" cy="974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713560" y="2438280"/>
            <a:ext cx="1677960" cy="7876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915080" y="4410000"/>
            <a:ext cx="2520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90760" y="3355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9051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d8411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ed8411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22096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8399a1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0520" y="539604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131d37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076640" y="17193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24200" y="38289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257800" y="38685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69116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 flipH="1" flipV="1" rot="5400000">
            <a:off x="4719240" y="2691360"/>
            <a:ext cx="2279520" cy="232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501"/>
                </a:moveTo>
                <a:arcTo wR="10800" hR="10800" stAng="-10704666" swAng="10737983"/>
                <a:lnTo>
                  <a:pt x="10800" y="10800"/>
                </a:lnTo>
                <a:close/>
              </a:path>
              <a:path fill="none" w="21600" h="21600">
                <a:moveTo>
                  <a:pt x="4" y="10501"/>
                </a:moveTo>
                <a:arcTo wR="10800" hR="10800" stAng="-10704666" swAng="10737983"/>
              </a:path>
            </a:pathLst>
          </a:custGeom>
          <a:solidFill>
            <a:srgbClr val="8399a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flipV="1" rot="16490400">
            <a:off x="4719600" y="2714400"/>
            <a:ext cx="2279880" cy="228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" y="11649"/>
                </a:moveTo>
                <a:arcTo wR="10800" hR="10800" stAng="10529578" swAng="10922138"/>
                <a:lnTo>
                  <a:pt x="10800" y="10800"/>
                </a:lnTo>
                <a:close/>
              </a:path>
              <a:path fill="none" w="21600" h="21600">
                <a:moveTo>
                  <a:pt x="33" y="11649"/>
                </a:moveTo>
                <a:arcTo wR="10800" hR="10800" stAng="10529578" swAng="10922138"/>
              </a:path>
            </a:pathLst>
          </a:custGeom>
          <a:solidFill>
            <a:srgbClr val="b2b2b2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412240" y="3581640"/>
            <a:ext cx="1622520" cy="1479600"/>
            <a:chOff x="5412240" y="3581640"/>
            <a:chExt cx="1622520" cy="1479600"/>
          </a:xfrm>
        </p:grpSpPr>
        <p:grpSp>
          <p:nvGrpSpPr>
            <p:cNvPr id="519" name=""/>
            <p:cNvGrpSpPr/>
            <p:nvPr/>
          </p:nvGrpSpPr>
          <p:grpSpPr>
            <a:xfrm>
              <a:off x="5786640" y="3581640"/>
              <a:ext cx="1248120" cy="1465920"/>
              <a:chOff x="5786640" y="3581640"/>
              <a:chExt cx="1248120" cy="1465920"/>
            </a:xfrm>
          </p:grpSpPr>
          <p:sp>
            <p:nvSpPr>
              <p:cNvPr id="520" name=""/>
              <p:cNvSpPr/>
              <p:nvPr/>
            </p:nvSpPr>
            <p:spPr>
              <a:xfrm flipH="1" flipV="1" rot="1528800">
                <a:off x="6481440" y="35859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 rot="2344200">
                <a:off x="6387480" y="376524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 rot="2640000">
                <a:off x="6309720" y="3853080"/>
                <a:ext cx="29700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 rot="3172200">
                <a:off x="6212160" y="395316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12240" y="3985560"/>
              <a:ext cx="1568880" cy="1075680"/>
              <a:chOff x="5412240" y="3985560"/>
              <a:chExt cx="1568880" cy="1075680"/>
            </a:xfrm>
          </p:grpSpPr>
          <p:sp>
            <p:nvSpPr>
              <p:cNvPr id="525" name=""/>
              <p:cNvSpPr/>
              <p:nvPr/>
            </p:nvSpPr>
            <p:spPr>
              <a:xfrm flipH="1" flipV="1" rot="2881800">
                <a:off x="6279120" y="3894120"/>
                <a:ext cx="29808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 rot="3697200">
                <a:off x="6123960" y="402264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 rot="3993000">
                <a:off x="6017760" y="40734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 rot="4525200">
                <a:off x="5889240" y="412884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492912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2920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37688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44816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27868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22100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5120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703368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91344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2428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5740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>
                  <a:alpha val="96078"/>
                </a:srgbClr>
              </a:gs>
              <a:gs pos="100000">
                <a:srgbClr val="c7d1d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77152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80860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91919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09120" y="2822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84080" y="1792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6696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0044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>
                  <a:alpha val="96078"/>
                </a:srgbClr>
              </a:gs>
              <a:gs pos="100000">
                <a:srgbClr val="c7d1d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51800" y="3938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6396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9708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>
                  <a:alpha val="96078"/>
                </a:srgbClr>
              </a:gs>
              <a:gs pos="100000">
                <a:srgbClr val="c7d1d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48800" y="5024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3384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6732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>
                  <a:alpha val="96078"/>
                </a:srgbClr>
              </a:gs>
              <a:gs pos="100000">
                <a:srgbClr val="c7d1d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18680" y="5654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718416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22088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969696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96720" y="2527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608240" y="34113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645320" y="34495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b2b2b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020800" y="3594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33824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737496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969696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50800" y="4614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9244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143000" y="1539720"/>
            <a:ext cx="4191120" cy="762120"/>
            <a:chOff x="1143000" y="1539720"/>
            <a:chExt cx="4191120" cy="762120"/>
          </a:xfrm>
        </p:grpSpPr>
        <p:sp>
          <p:nvSpPr>
            <p:cNvPr id="564" name=""/>
            <p:cNvSpPr/>
            <p:nvPr/>
          </p:nvSpPr>
          <p:spPr>
            <a:xfrm>
              <a:off x="1143000" y="1539720"/>
              <a:ext cx="4191120" cy="76212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35567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95280" y="1692000"/>
              <a:ext cx="403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241280" y="1091880"/>
            <a:ext cx="6390720" cy="4820760"/>
            <a:chOff x="1241280" y="1091880"/>
            <a:chExt cx="6390720" cy="4820760"/>
          </a:xfrm>
        </p:grpSpPr>
        <p:sp>
          <p:nvSpPr>
            <p:cNvPr id="567" name=""/>
            <p:cNvSpPr/>
            <p:nvPr/>
          </p:nvSpPr>
          <p:spPr>
            <a:xfrm>
              <a:off x="2569680" y="435924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940400" y="253692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989720" y="2397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917000" y="2386800"/>
              <a:ext cx="4938840" cy="252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131d37"/>
                </a:gs>
                <a:gs pos="100000">
                  <a:srgbClr val="686e7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0602200">
              <a:off x="1960920" y="2383200"/>
              <a:ext cx="4891680" cy="254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8399a1"/>
                </a:gs>
                <a:gs pos="100000">
                  <a:srgbClr val="5b6a6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922400" y="2395440"/>
              <a:ext cx="4924440" cy="244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f4bb7c"/>
                </a:gs>
                <a:gs pos="100000">
                  <a:srgbClr val="ed841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931760" y="2391480"/>
              <a:ext cx="4942440" cy="252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182738"/>
                </a:gs>
                <a:gs pos="100000">
                  <a:srgbClr val="35567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52200" y="3632040"/>
              <a:ext cx="1520280" cy="15328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bdbd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539200">
              <a:off x="1600920" y="1875960"/>
              <a:ext cx="5670720" cy="325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95040" y="3925080"/>
              <a:ext cx="891720" cy="1270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bdb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3256200" y="301320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28840" y="3597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79800" y="2549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64520" y="2810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01000" y="3862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84720" y="4452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24840" y="4111560"/>
              <a:ext cx="748440" cy="93060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3344040" y="3230640"/>
              <a:ext cx="2241360" cy="9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6553080" y="1920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87" name=""/>
          <p:cNvCxnSpPr/>
          <p:nvPr/>
        </p:nvCxnSpPr>
        <p:spPr>
          <a:xfrm flipV="1" rot="10800000">
            <a:off x="6304680" y="207288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88" name=""/>
          <p:cNvSpPr/>
          <p:nvPr/>
        </p:nvSpPr>
        <p:spPr>
          <a:xfrm>
            <a:off x="838080" y="2835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89" name=""/>
          <p:cNvCxnSpPr/>
          <p:nvPr/>
        </p:nvCxnSpPr>
        <p:spPr>
          <a:xfrm>
            <a:off x="2361960" y="298764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90" name=""/>
          <p:cNvSpPr/>
          <p:nvPr/>
        </p:nvSpPr>
        <p:spPr>
          <a:xfrm>
            <a:off x="2514600" y="18446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91" name=""/>
          <p:cNvCxnSpPr/>
          <p:nvPr/>
        </p:nvCxnSpPr>
        <p:spPr>
          <a:xfrm>
            <a:off x="4038120" y="1996560"/>
            <a:ext cx="22932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92" name=""/>
          <p:cNvSpPr/>
          <p:nvPr/>
        </p:nvSpPr>
        <p:spPr>
          <a:xfrm>
            <a:off x="7162920" y="4435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93" name=""/>
          <p:cNvCxnSpPr/>
          <p:nvPr/>
        </p:nvCxnSpPr>
        <p:spPr>
          <a:xfrm rot="10800000">
            <a:off x="6552360" y="4053600"/>
            <a:ext cx="629640" cy="610560"/>
          </a:xfrm>
          <a:prstGeom prst="bentConnector3">
            <a:avLst>
              <a:gd name="adj1" fmla="val 51258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594" name=""/>
          <p:cNvSpPr/>
          <p:nvPr/>
        </p:nvSpPr>
        <p:spPr>
          <a:xfrm>
            <a:off x="1600200" y="5578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95" name=""/>
          <p:cNvCxnSpPr/>
          <p:nvPr/>
        </p:nvCxnSpPr>
        <p:spPr>
          <a:xfrm flipH="1" flipV="1" rot="5400000">
            <a:off x="2986200" y="5202360"/>
            <a:ext cx="70416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3479760" y="4361040"/>
            <a:ext cx="614520" cy="614160"/>
          </a:xfrm>
          <a:prstGeom prst="cube">
            <a:avLst>
              <a:gd name="adj" fmla="val 28912"/>
            </a:avLst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156200" y="416880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584600" y="416880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13360" y="416880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72000" y="3662280"/>
            <a:ext cx="614160" cy="614520"/>
          </a:xfrm>
          <a:prstGeom prst="cube">
            <a:avLst>
              <a:gd name="adj" fmla="val 28912"/>
            </a:avLst>
          </a:prstGeom>
          <a:solidFill>
            <a:srgbClr val="00000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672000" y="3224160"/>
            <a:ext cx="614160" cy="614520"/>
          </a:xfrm>
          <a:prstGeom prst="cube">
            <a:avLst>
              <a:gd name="adj" fmla="val 28912"/>
            </a:avLst>
          </a:prstGeom>
          <a:solidFill>
            <a:srgbClr val="000000">
              <a:alpha val="72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672000" y="2786040"/>
            <a:ext cx="614160" cy="614520"/>
          </a:xfrm>
          <a:prstGeom prst="cube">
            <a:avLst>
              <a:gd name="adj" fmla="val 28912"/>
            </a:avLst>
          </a:prstGeom>
          <a:solidFill>
            <a:srgbClr val="00000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235400" y="365436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64160" y="365436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92560" y="365436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35400" y="3216240"/>
            <a:ext cx="1465200" cy="614520"/>
          </a:xfrm>
          <a:prstGeom prst="cube">
            <a:avLst>
              <a:gd name="adj" fmla="val 28912"/>
            </a:avLst>
          </a:prstGeom>
          <a:solidFill>
            <a:srgbClr val="f8f8f8"/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35400" y="277812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092560" y="277812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0760" y="4356000"/>
            <a:ext cx="614520" cy="619200"/>
          </a:xfrm>
          <a:prstGeom prst="cube">
            <a:avLst>
              <a:gd name="adj" fmla="val 28912"/>
            </a:avLst>
          </a:prstGeom>
          <a:solidFill>
            <a:srgbClr val="337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971280" y="4643280"/>
            <a:ext cx="270972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869080" y="4646520"/>
            <a:ext cx="2946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664160" y="277812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95680" y="2133720"/>
            <a:ext cx="614520" cy="614160"/>
          </a:xfrm>
          <a:prstGeom prst="cube">
            <a:avLst>
              <a:gd name="adj" fmla="val 28912"/>
            </a:avLst>
          </a:prstGeom>
          <a:solidFill>
            <a:srgbClr val="ffc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074600" y="2433600"/>
            <a:ext cx="271008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30760" y="3662280"/>
            <a:ext cx="614520" cy="603360"/>
          </a:xfrm>
          <a:prstGeom prst="cube">
            <a:avLst>
              <a:gd name="adj" fmla="val 28912"/>
            </a:avLst>
          </a:prstGeom>
          <a:solidFill>
            <a:srgbClr val="00000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30760" y="3224160"/>
            <a:ext cx="614520" cy="603360"/>
          </a:xfrm>
          <a:prstGeom prst="cube">
            <a:avLst>
              <a:gd name="adj" fmla="val 28912"/>
            </a:avLst>
          </a:prstGeom>
          <a:solidFill>
            <a:srgbClr val="000000">
              <a:alpha val="72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30760" y="2786040"/>
            <a:ext cx="614520" cy="603360"/>
          </a:xfrm>
          <a:prstGeom prst="cube">
            <a:avLst>
              <a:gd name="adj" fmla="val 28912"/>
            </a:avLst>
          </a:prstGeom>
          <a:solidFill>
            <a:srgbClr val="00000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237200" y="225252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53000" y="22496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94360" y="225252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46680" y="2133720"/>
            <a:ext cx="614520" cy="614160"/>
          </a:xfrm>
          <a:prstGeom prst="cube">
            <a:avLst>
              <a:gd name="adj" fmla="val 28912"/>
            </a:avLst>
          </a:prstGeom>
          <a:solidFill>
            <a:srgbClr val="ff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69160" y="2433600"/>
            <a:ext cx="2946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57240" y="344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70920" y="213372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8e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08e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82480" y="213372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111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111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96120" y="434340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18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832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900120" y="434340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7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77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77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50840" y="252900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994440" y="252900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50840" y="479124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918480" y="479124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3716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567b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35567b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131d37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02920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399a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"/>
          <p:cNvSpPr/>
          <p:nvPr/>
        </p:nvSpPr>
        <p:spPr>
          <a:xfrm>
            <a:off x="150192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4092480" y="1905120"/>
            <a:ext cx="790560" cy="1976400"/>
            <a:chOff x="4092480" y="1905120"/>
            <a:chExt cx="790560" cy="1976400"/>
          </a:xfrm>
        </p:grpSpPr>
        <p:sp>
          <p:nvSpPr>
            <p:cNvPr id="638" name=""/>
            <p:cNvSpPr/>
            <p:nvPr/>
          </p:nvSpPr>
          <p:spPr>
            <a:xfrm>
              <a:off x="428472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9248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1730520" y="2971800"/>
            <a:ext cx="2438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769000" y="29718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006880" y="1905120"/>
            <a:ext cx="790560" cy="1976400"/>
            <a:chOff x="5006880" y="1905120"/>
            <a:chExt cx="790560" cy="1976400"/>
          </a:xfrm>
        </p:grpSpPr>
        <p:sp>
          <p:nvSpPr>
            <p:cNvPr id="643" name=""/>
            <p:cNvSpPr/>
            <p:nvPr/>
          </p:nvSpPr>
          <p:spPr>
            <a:xfrm>
              <a:off x="519912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3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0688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3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673360" y="1386000"/>
            <a:ext cx="4495320" cy="4514400"/>
            <a:chOff x="2673360" y="1386000"/>
            <a:chExt cx="4495320" cy="4514400"/>
          </a:xfrm>
        </p:grpSpPr>
        <p:sp>
          <p:nvSpPr>
            <p:cNvPr id="647" name="Puzzle3"/>
            <p:cNvSpPr/>
            <p:nvPr/>
          </p:nvSpPr>
          <p:spPr>
            <a:xfrm>
              <a:off x="4862160" y="1386000"/>
              <a:ext cx="1767240" cy="2399040"/>
            </a:xfrm>
            <a:prstGeom prst="pie">
              <a:avLst/>
            </a:prstGeom>
            <a:gradFill rotWithShape="0">
              <a:gsLst>
                <a:gs pos="0">
                  <a:srgbClr val="fe9d5c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48" name="Puzzle2"/>
            <p:cNvSpPr/>
            <p:nvPr/>
          </p:nvSpPr>
          <p:spPr>
            <a:xfrm>
              <a:off x="4348440" y="3133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ee68a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49" name="Puzzle4"/>
            <p:cNvSpPr/>
            <p:nvPr/>
          </p:nvSpPr>
          <p:spPr>
            <a:xfrm>
              <a:off x="3256920" y="3106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d6d6d6"/>
                </a:gs>
                <a:gs pos="100000">
                  <a:srgbClr val="b2b2b2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50" name="Puzzle1"/>
            <p:cNvSpPr/>
            <p:nvPr/>
          </p:nvSpPr>
          <p:spPr>
            <a:xfrm>
              <a:off x="2673360" y="2111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3c464a"/>
                </a:gs>
                <a:gs pos="100000">
                  <a:srgbClr val="8399a1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865200" y="39006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329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2564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54440" y="55767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2471760" y="351468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471760" y="423864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71760" y="496260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71760" y="558180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71760" y="276084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565280" y="45673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542960" y="38196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ed8411"/>
              </a:gs>
              <a:gs pos="100000">
                <a:srgbClr val="6d3c07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86080" y="3051000"/>
            <a:ext cx="1680840" cy="1517760"/>
          </a:xfrm>
          <a:prstGeom prst="diamond">
            <a:avLst/>
          </a:pr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42880" y="2244600"/>
            <a:ext cx="1771920" cy="1598760"/>
          </a:xfrm>
          <a:prstGeom prst="diamond">
            <a:avLst/>
          </a:prstGeom>
          <a:gradFill rotWithShape="0">
            <a:gsLst>
              <a:gs pos="0">
                <a:srgbClr val="ed8411"/>
              </a:gs>
              <a:gs pos="100000">
                <a:srgbClr val="6d3c07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66920" y="2352600"/>
            <a:ext cx="960480" cy="3436920"/>
          </a:xfrm>
          <a:custGeom>
            <a:avLst/>
            <a:gdLst/>
            <a:ahLst/>
            <a:rect l="l" t="t" r="r" b="b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84200" y="152388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3c464a"/>
              </a:gs>
              <a:gs pos="100000">
                <a:srgbClr val="8399a1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76280" y="1981080"/>
            <a:ext cx="1909800" cy="779760"/>
          </a:xfrm>
          <a:custGeom>
            <a:avLst/>
            <a:gdLst/>
            <a:ahLst/>
            <a:rect l="l" t="t" r="r" b="b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07920" y="51642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40960" y="44337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40960" y="37432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740960" y="29368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40960" y="22068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1204560" y="2360160"/>
            <a:ext cx="237960" cy="2938680"/>
          </a:xfrm>
          <a:prstGeom prst="line">
            <a:avLst/>
          </a:prstGeom>
          <a:ln w="9360">
            <a:solidFill>
              <a:srgbClr val="35567b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393360" y="221472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93360" y="297648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393360" y="373860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393360" y="434808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03080" y="503388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"/>
          <p:cNvSpPr/>
          <p:nvPr/>
        </p:nvSpPr>
        <p:spPr>
          <a:xfrm>
            <a:off x="3772080" y="3467160"/>
            <a:ext cx="0" cy="24969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883120" y="3467160"/>
            <a:ext cx="0" cy="24969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967520" y="3160800"/>
            <a:ext cx="0" cy="2803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792440" y="24112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31080" y="5638680"/>
            <a:ext cx="1780920" cy="314280"/>
          </a:xfrm>
          <a:prstGeom prst="bevel">
            <a:avLst>
              <a:gd name="adj" fmla="val 5949"/>
            </a:avLst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851120" y="4392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54360" y="175248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944880" y="5638680"/>
            <a:ext cx="1781280" cy="314280"/>
          </a:xfrm>
          <a:prstGeom prst="bevel">
            <a:avLst>
              <a:gd name="adj" fmla="val 5949"/>
            </a:avLst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839960" y="5638680"/>
            <a:ext cx="1781280" cy="314280"/>
          </a:xfrm>
          <a:prstGeom prst="bevel">
            <a:avLst>
              <a:gd name="adj" fmla="val 5949"/>
            </a:avLst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21040" y="441972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54760" y="44053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20968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090880"/>
            <a:ext cx="685800" cy="685800"/>
          </a:xfrm>
          <a:prstGeom prst="diamond">
            <a:avLst/>
          </a:prstGeom>
          <a:solidFill>
            <a:srgbClr val="74a1de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4680" y="21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04812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ed8411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928960"/>
            <a:ext cx="685800" cy="685800"/>
          </a:xfrm>
          <a:prstGeom prst="diamond">
            <a:avLst/>
          </a:prstGeom>
          <a:solidFill>
            <a:srgbClr val="ed8411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1035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4680" y="302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8862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8399a1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3767040"/>
            <a:ext cx="685800" cy="685800"/>
          </a:xfrm>
          <a:prstGeom prst="diamond">
            <a:avLst/>
          </a:prstGeom>
          <a:solidFill>
            <a:srgbClr val="8399a1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4680" y="386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4767120"/>
            <a:ext cx="49532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7360" y="4648320"/>
            <a:ext cx="685800" cy="685800"/>
          </a:xfrm>
          <a:prstGeom prst="diamond">
            <a:avLst/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3240" y="4746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5567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9D66-D2E7-446C-A689-E72F2E71F2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d your company sloga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133720" y="3505320"/>
            <a:ext cx="4190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31d37"/>
                    </a:gs>
                    <a:gs pos="100000">
                      <a:srgbClr val="35567b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ddddd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31d37"/>
                  </a:gs>
                  <a:gs pos="100000">
                    <a:srgbClr val="35567b"/>
                  </a:gs>
                </a:gsLst>
                <a:lin ang="5400000"/>
              </a:gradFill>
              <a:effectLst>
                <a:outerShdw dist="71785" dir="2700000" blurRad="0" rotWithShape="0">
                  <a:srgbClr val="ddddd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73200" y="1376280"/>
            <a:ext cx="6734160" cy="35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56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5567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8399a1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8399a1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8399a1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8399a1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381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5567b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Title Image  - Medicine Today_PHOTODISC(MULTIBITS),medical perspectives_EYEWIRE(NFINE)</a:t>
            </a:r>
            <a:endParaRPr b="0" lang="en-US" sz="9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95280" y="2209680"/>
            <a:ext cx="1838160" cy="3309840"/>
            <a:chOff x="1295280" y="2209680"/>
            <a:chExt cx="1838160" cy="3309840"/>
          </a:xfrm>
        </p:grpSpPr>
        <p:sp>
          <p:nvSpPr>
            <p:cNvPr id="144" name=""/>
            <p:cNvSpPr/>
            <p:nvPr/>
          </p:nvSpPr>
          <p:spPr>
            <a:xfrm>
              <a:off x="12952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399a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16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99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87800" y="2209680"/>
            <a:ext cx="1838160" cy="3309840"/>
            <a:chOff x="4087800" y="2209680"/>
            <a:chExt cx="1838160" cy="3309840"/>
          </a:xfrm>
        </p:grpSpPr>
        <p:sp>
          <p:nvSpPr>
            <p:cNvPr id="147" name=""/>
            <p:cNvSpPr/>
            <p:nvPr/>
          </p:nvSpPr>
          <p:spPr>
            <a:xfrm>
              <a:off x="40878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841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608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d84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924600" y="2209680"/>
            <a:ext cx="1838160" cy="3309840"/>
            <a:chOff x="6924600" y="2209680"/>
            <a:chExt cx="1838160" cy="3309840"/>
          </a:xfrm>
        </p:grpSpPr>
        <p:sp>
          <p:nvSpPr>
            <p:cNvPr id="150" name=""/>
            <p:cNvSpPr/>
            <p:nvPr/>
          </p:nvSpPr>
          <p:spPr>
            <a:xfrm>
              <a:off x="69246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399a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09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99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371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29000" y="3733920"/>
            <a:ext cx="504000" cy="495720"/>
            <a:chOff x="3429000" y="3733920"/>
            <a:chExt cx="504000" cy="495720"/>
          </a:xfrm>
        </p:grpSpPr>
        <p:grpSp>
          <p:nvGrpSpPr>
            <p:cNvPr id="156" name=""/>
            <p:cNvGrpSpPr/>
            <p:nvPr/>
          </p:nvGrpSpPr>
          <p:grpSpPr>
            <a:xfrm>
              <a:off x="3630600" y="3733920"/>
              <a:ext cx="302400" cy="495720"/>
              <a:chOff x="3630600" y="3733920"/>
              <a:chExt cx="302400" cy="495720"/>
            </a:xfrm>
          </p:grpSpPr>
          <p:sp>
            <p:nvSpPr>
              <p:cNvPr id="157" name=""/>
              <p:cNvSpPr/>
              <p:nvPr/>
            </p:nvSpPr>
            <p:spPr>
              <a:xfrm>
                <a:off x="3630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31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32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1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30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3429000" y="3733920"/>
              <a:ext cx="302400" cy="495720"/>
              <a:chOff x="3429000" y="3733920"/>
              <a:chExt cx="302400" cy="495720"/>
            </a:xfrm>
          </p:grpSpPr>
          <p:sp>
            <p:nvSpPr>
              <p:cNvPr id="163" name=""/>
              <p:cNvSpPr/>
              <p:nvPr/>
            </p:nvSpPr>
            <p:spPr>
              <a:xfrm>
                <a:off x="34290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298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306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298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290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6172200" y="3733920"/>
            <a:ext cx="504000" cy="495720"/>
            <a:chOff x="6172200" y="3733920"/>
            <a:chExt cx="504000" cy="495720"/>
          </a:xfrm>
        </p:grpSpPr>
        <p:grpSp>
          <p:nvGrpSpPr>
            <p:cNvPr id="169" name=""/>
            <p:cNvGrpSpPr/>
            <p:nvPr/>
          </p:nvGrpSpPr>
          <p:grpSpPr>
            <a:xfrm>
              <a:off x="6373800" y="3733920"/>
              <a:ext cx="302400" cy="495720"/>
              <a:chOff x="6373800" y="3733920"/>
              <a:chExt cx="302400" cy="495720"/>
            </a:xfrm>
          </p:grpSpPr>
          <p:sp>
            <p:nvSpPr>
              <p:cNvPr id="170" name=""/>
              <p:cNvSpPr/>
              <p:nvPr/>
            </p:nvSpPr>
            <p:spPr>
              <a:xfrm>
                <a:off x="6373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4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75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4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73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172200" y="3733920"/>
              <a:ext cx="302400" cy="495720"/>
              <a:chOff x="6172200" y="3733920"/>
              <a:chExt cx="302400" cy="495720"/>
            </a:xfrm>
          </p:grpSpPr>
          <p:sp>
            <p:nvSpPr>
              <p:cNvPr id="176" name=""/>
              <p:cNvSpPr/>
              <p:nvPr/>
            </p:nvSpPr>
            <p:spPr>
              <a:xfrm>
                <a:off x="61722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730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3738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730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722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1295280" y="14479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01992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567b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35567b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131d37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493884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5567b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686640" y="401652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5567b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120" y="14479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52120" y="3886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68128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a50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6648120" y="172872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a50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00360" y="211932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c5367"/>
              </a:gs>
              <a:gs pos="50000">
                <a:srgbClr val="131d37"/>
              </a:gs>
              <a:gs pos="100000">
                <a:srgbClr val="4c53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6320" y="4405320"/>
            <a:ext cx="6429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b1b7"/>
              </a:gs>
              <a:gs pos="50000">
                <a:srgbClr val="8399a1"/>
              </a:gs>
              <a:gs pos="100000">
                <a:srgbClr val="a0b1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42756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2160" y="3174840"/>
            <a:ext cx="463320" cy="532080"/>
          </a:xfrm>
          <a:custGeom>
            <a:avLst/>
            <a:gdLst>
              <a:gd name="textAreaLeft" fmla="*/ 0 w 463320"/>
              <a:gd name="textAreaRight" fmla="*/ 463680 w 4633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208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31d3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208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131d3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0240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a0f1d"/>
              </a:gs>
              <a:gs pos="50000">
                <a:srgbClr val="131d37"/>
              </a:gs>
              <a:gs pos="100000">
                <a:srgbClr val="0a0f1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3084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131d37">
                  <a:alpha val="0"/>
                </a:srgbClr>
              </a:gs>
              <a:gs pos="100000">
                <a:srgbClr val="0c122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94560" y="2660760"/>
            <a:ext cx="155556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1440" y="243828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b2b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1440" y="243828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2b2b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71760" y="25686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50000">
                <a:srgbClr val="b2b2b2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7320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7070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7440" y="265572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82640" y="2678040"/>
            <a:ext cx="1503360" cy="1511280"/>
            <a:chOff x="1682640" y="2678040"/>
            <a:chExt cx="1503360" cy="1511280"/>
          </a:xfrm>
        </p:grpSpPr>
        <p:sp>
          <p:nvSpPr>
            <p:cNvPr id="206" name=""/>
            <p:cNvSpPr/>
            <p:nvPr/>
          </p:nvSpPr>
          <p:spPr>
            <a:xfrm>
              <a:off x="168264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0172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1720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892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95748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399a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748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3c464a"/>
              </a:gs>
              <a:gs pos="100000">
                <a:srgbClr val="8399a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8780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65256"/>
              </a:gs>
              <a:gs pos="50000">
                <a:srgbClr val="8399a1"/>
              </a:gs>
              <a:gs pos="100000">
                <a:srgbClr val="46525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89240" y="257796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8399a1">
                  <a:alpha val="0"/>
                </a:srgbClr>
              </a:gs>
              <a:gs pos="100000">
                <a:srgbClr val="52606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7348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99040" y="2678040"/>
            <a:ext cx="1503360" cy="1511280"/>
            <a:chOff x="4199040" y="2678040"/>
            <a:chExt cx="1503360" cy="1511280"/>
          </a:xfrm>
        </p:grpSpPr>
        <p:sp>
          <p:nvSpPr>
            <p:cNvPr id="216" name=""/>
            <p:cNvSpPr/>
            <p:nvPr/>
          </p:nvSpPr>
          <p:spPr>
            <a:xfrm>
              <a:off x="419904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812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3360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532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723000" y="2678040"/>
            <a:ext cx="1505160" cy="1511280"/>
            <a:chOff x="6723000" y="2678040"/>
            <a:chExt cx="1505160" cy="1511280"/>
          </a:xfrm>
        </p:grpSpPr>
        <p:sp>
          <p:nvSpPr>
            <p:cNvPr id="221" name=""/>
            <p:cNvSpPr/>
            <p:nvPr/>
          </p:nvSpPr>
          <p:spPr>
            <a:xfrm>
              <a:off x="6723000" y="267804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42080" y="2686320"/>
              <a:ext cx="14688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57560" y="270072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39640" y="273960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486080" y="493380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00680" y="493380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3112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5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308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941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93760" y="4632480"/>
            <a:ext cx="7653240" cy="847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2b2b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03480" y="3927600"/>
            <a:ext cx="7643520" cy="70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399a1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03480" y="3262320"/>
            <a:ext cx="7643520" cy="66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2b2b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93760" y="2665440"/>
            <a:ext cx="7653240" cy="596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399a1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93760" y="2228760"/>
            <a:ext cx="7653240" cy="436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2b2b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8960" y="266544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8960" y="325584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58960" y="393228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58960" y="463536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125880" y="4478400"/>
            <a:ext cx="3456000" cy="1239840"/>
            <a:chOff x="3125880" y="4478400"/>
            <a:chExt cx="3456000" cy="1239840"/>
          </a:xfrm>
        </p:grpSpPr>
        <p:sp>
          <p:nvSpPr>
            <p:cNvPr id="241" name=""/>
            <p:cNvSpPr/>
            <p:nvPr/>
          </p:nvSpPr>
          <p:spPr>
            <a:xfrm>
              <a:off x="3125880" y="447840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2f3639"/>
                </a:gs>
                <a:gs pos="50000">
                  <a:srgbClr val="8399a1"/>
                </a:gs>
                <a:gs pos="100000">
                  <a:srgbClr val="2f36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5880" y="448524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404b4f"/>
                </a:gs>
                <a:gs pos="100000">
                  <a:srgbClr val="8399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413160" y="3809880"/>
            <a:ext cx="2860560" cy="1062000"/>
            <a:chOff x="3413160" y="3809880"/>
            <a:chExt cx="2860560" cy="1062000"/>
          </a:xfrm>
        </p:grpSpPr>
        <p:sp>
          <p:nvSpPr>
            <p:cNvPr id="244" name=""/>
            <p:cNvSpPr/>
            <p:nvPr/>
          </p:nvSpPr>
          <p:spPr>
            <a:xfrm>
              <a:off x="3413160" y="38098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636363"/>
                </a:gs>
                <a:gs pos="50000">
                  <a:srgbClr val="b2b2b2"/>
                </a:gs>
                <a:gs pos="100000">
                  <a:srgbClr val="6363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3160" y="38156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639960" y="3166920"/>
            <a:ext cx="2364120" cy="1003320"/>
            <a:chOff x="3639960" y="3166920"/>
            <a:chExt cx="2364120" cy="1003320"/>
          </a:xfrm>
        </p:grpSpPr>
        <p:sp>
          <p:nvSpPr>
            <p:cNvPr id="247" name=""/>
            <p:cNvSpPr/>
            <p:nvPr/>
          </p:nvSpPr>
          <p:spPr>
            <a:xfrm>
              <a:off x="3644640" y="31669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495559"/>
                </a:gs>
                <a:gs pos="50000">
                  <a:srgbClr val="8399a1"/>
                </a:gs>
                <a:gs pos="100000">
                  <a:srgbClr val="4955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39960" y="31716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8399a1"/>
                </a:gs>
                <a:gs pos="100000">
                  <a:srgbClr val="49555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892680" y="2619360"/>
            <a:ext cx="1885680" cy="822240"/>
            <a:chOff x="3892680" y="2619360"/>
            <a:chExt cx="1885680" cy="822240"/>
          </a:xfrm>
        </p:grpSpPr>
        <p:sp>
          <p:nvSpPr>
            <p:cNvPr id="250" name=""/>
            <p:cNvSpPr/>
            <p:nvPr/>
          </p:nvSpPr>
          <p:spPr>
            <a:xfrm>
              <a:off x="3892680" y="26193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747474"/>
                </a:gs>
                <a:gs pos="50000">
                  <a:srgbClr val="b2b2b2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99520" y="26193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129200" y="2209680"/>
            <a:ext cx="1473120" cy="560520"/>
          </a:xfrm>
          <a:prstGeom prst="can">
            <a:avLst>
              <a:gd name="adj" fmla="val 36643"/>
            </a:avLst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30510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7260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441648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53132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24526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5720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3328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1908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6500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908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7664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5744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6704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356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5916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70120" y="15667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11430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567b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35567b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131d37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33720" y="1828800"/>
            <a:ext cx="5486400" cy="3962160"/>
            <a:chOff x="2133720" y="1828800"/>
            <a:chExt cx="5486400" cy="3962160"/>
          </a:xfrm>
        </p:grpSpPr>
        <p:sp>
          <p:nvSpPr>
            <p:cNvPr id="273" name=""/>
            <p:cNvSpPr/>
            <p:nvPr/>
          </p:nvSpPr>
          <p:spPr>
            <a:xfrm>
              <a:off x="2133720" y="1828800"/>
              <a:ext cx="5486400" cy="1229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53600" y="1942200"/>
              <a:ext cx="105696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399a1"/>
                </a:gs>
                <a:gs pos="100000">
                  <a:srgbClr val="5b6a6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19120" y="2007000"/>
              <a:ext cx="528480" cy="50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6ca"/>
                </a:gs>
                <a:gs pos="50000">
                  <a:srgbClr val="8399a1">
                    <a:alpha val="0"/>
                  </a:srgbClr>
                </a:gs>
                <a:gs pos="100000">
                  <a:srgbClr val="bac6c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45400" y="22165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6000" y="20188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3187800"/>
              <a:ext cx="5486400" cy="12276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3600" y="3299760"/>
              <a:ext cx="105696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9120" y="3364920"/>
              <a:ext cx="52848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0"/>
                  </a:srgbClr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5400" y="35769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56000" y="33544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33720" y="4561920"/>
              <a:ext cx="548640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53600" y="4675320"/>
              <a:ext cx="1056960" cy="1005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31d37"/>
                </a:gs>
                <a:gs pos="100000">
                  <a:srgbClr val="0d1426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19120" y="4740120"/>
              <a:ext cx="52848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31d37">
                    <a:alpha val="0"/>
                  </a:srgbClr>
                </a:gs>
                <a:gs pos="100000">
                  <a:srgbClr val="8b90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45400" y="4949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56000" y="47296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03160" y="3213000"/>
            <a:ext cx="8347320" cy="110880"/>
            <a:chOff x="803160" y="3213000"/>
            <a:chExt cx="8347320" cy="110880"/>
          </a:xfrm>
        </p:grpSpPr>
        <p:sp>
          <p:nvSpPr>
            <p:cNvPr id="290" name=""/>
            <p:cNvSpPr/>
            <p:nvPr/>
          </p:nvSpPr>
          <p:spPr>
            <a:xfrm>
              <a:off x="803160" y="3213000"/>
              <a:ext cx="8347320" cy="4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3160" y="3255480"/>
              <a:ext cx="8347320" cy="684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565280" y="2685960"/>
            <a:ext cx="1931760" cy="3265200"/>
            <a:chOff x="1565280" y="2685960"/>
            <a:chExt cx="1931760" cy="3265200"/>
          </a:xfrm>
        </p:grpSpPr>
        <p:grpSp>
          <p:nvGrpSpPr>
            <p:cNvPr id="293" name=""/>
            <p:cNvGrpSpPr/>
            <p:nvPr/>
          </p:nvGrpSpPr>
          <p:grpSpPr>
            <a:xfrm>
              <a:off x="1971000" y="3526560"/>
              <a:ext cx="1526040" cy="2424600"/>
              <a:chOff x="1971000" y="3526560"/>
              <a:chExt cx="1526040" cy="242460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1971000" y="3684240"/>
                <a:ext cx="1420200" cy="2266920"/>
                <a:chOff x="1971000" y="3684240"/>
                <a:chExt cx="1420200" cy="2266920"/>
              </a:xfrm>
            </p:grpSpPr>
            <p:sp>
              <p:nvSpPr>
                <p:cNvPr id="295" name=""/>
                <p:cNvSpPr/>
                <p:nvPr/>
              </p:nvSpPr>
              <p:spPr>
                <a:xfrm rot="3876600">
                  <a:off x="154332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3876600">
                  <a:off x="291060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407320" y="3526560"/>
                <a:ext cx="1089720" cy="1739520"/>
                <a:chOff x="2407320" y="3526560"/>
                <a:chExt cx="1089720" cy="1739520"/>
              </a:xfrm>
            </p:grpSpPr>
            <p:sp>
              <p:nvSpPr>
                <p:cNvPr id="298" name=""/>
                <p:cNvSpPr/>
                <p:nvPr/>
              </p:nvSpPr>
              <p:spPr>
                <a:xfrm flipV="1" rot="3876600">
                  <a:off x="2078640" y="42073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 rot="3876600">
                  <a:off x="3112560" y="48895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1565280" y="2685960"/>
              <a:ext cx="1270440" cy="1309320"/>
              <a:chOff x="1565280" y="2685960"/>
              <a:chExt cx="1270440" cy="1309320"/>
            </a:xfrm>
          </p:grpSpPr>
          <p:sp>
            <p:nvSpPr>
              <p:cNvPr id="301" name=""/>
              <p:cNvSpPr/>
              <p:nvPr/>
            </p:nvSpPr>
            <p:spPr>
              <a:xfrm>
                <a:off x="156528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6528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49160" y="27709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49160" y="277380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03880" y="282888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719000" y="2844360"/>
                <a:ext cx="962280" cy="992880"/>
                <a:chOff x="1719000" y="2844360"/>
                <a:chExt cx="962280" cy="992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719000" y="284436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31240" y="284976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40960" y="285912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793520" y="288468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 rot="3925800">
              <a:off x="193212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3925800">
              <a:off x="23936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5567b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313080" y="2685960"/>
            <a:ext cx="1931040" cy="3265200"/>
            <a:chOff x="3313080" y="2685960"/>
            <a:chExt cx="1931040" cy="3265200"/>
          </a:xfrm>
        </p:grpSpPr>
        <p:grpSp>
          <p:nvGrpSpPr>
            <p:cNvPr id="314" name=""/>
            <p:cNvGrpSpPr/>
            <p:nvPr/>
          </p:nvGrpSpPr>
          <p:grpSpPr>
            <a:xfrm>
              <a:off x="3717720" y="3526560"/>
              <a:ext cx="1526400" cy="2424600"/>
              <a:chOff x="3717720" y="3526560"/>
              <a:chExt cx="1526400" cy="24246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3717720" y="3684240"/>
                <a:ext cx="1420200" cy="2266920"/>
                <a:chOff x="3717720" y="3684240"/>
                <a:chExt cx="1420200" cy="2266920"/>
              </a:xfrm>
            </p:grpSpPr>
            <p:sp>
              <p:nvSpPr>
                <p:cNvPr id="316" name=""/>
                <p:cNvSpPr/>
                <p:nvPr/>
              </p:nvSpPr>
              <p:spPr>
                <a:xfrm rot="3876600">
                  <a:off x="329004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3876600">
                  <a:off x="4657320" y="545004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154040" y="3526560"/>
                <a:ext cx="1090080" cy="1739520"/>
                <a:chOff x="4154040" y="3526560"/>
                <a:chExt cx="1090080" cy="1739520"/>
              </a:xfrm>
            </p:grpSpPr>
            <p:sp>
              <p:nvSpPr>
                <p:cNvPr id="319" name=""/>
                <p:cNvSpPr/>
                <p:nvPr/>
              </p:nvSpPr>
              <p:spPr>
                <a:xfrm flipV="1" rot="3876600">
                  <a:off x="382572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 rot="3876600">
                  <a:off x="4859640" y="4888440"/>
                  <a:ext cx="274320" cy="3092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313080" y="2685960"/>
              <a:ext cx="1270440" cy="1309320"/>
              <a:chOff x="3313080" y="2685960"/>
              <a:chExt cx="1270440" cy="1309320"/>
            </a:xfrm>
          </p:grpSpPr>
          <p:sp>
            <p:nvSpPr>
              <p:cNvPr id="322" name=""/>
              <p:cNvSpPr/>
              <p:nvPr/>
            </p:nvSpPr>
            <p:spPr>
              <a:xfrm>
                <a:off x="331308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1308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396960" y="27709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96960" y="277380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51680" y="282888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3466800" y="2844360"/>
                <a:ext cx="962280" cy="992880"/>
                <a:chOff x="3466800" y="2844360"/>
                <a:chExt cx="962280" cy="9928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466800" y="284436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479040" y="284976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488760" y="285912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541320" y="288468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 rot="3925800">
              <a:off x="367344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3925800">
              <a:off x="413568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5567b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116680" y="2685960"/>
            <a:ext cx="1931760" cy="3265200"/>
            <a:chOff x="5116680" y="2685960"/>
            <a:chExt cx="1931760" cy="3265200"/>
          </a:xfrm>
        </p:grpSpPr>
        <p:grpSp>
          <p:nvGrpSpPr>
            <p:cNvPr id="335" name=""/>
            <p:cNvGrpSpPr/>
            <p:nvPr/>
          </p:nvGrpSpPr>
          <p:grpSpPr>
            <a:xfrm>
              <a:off x="5522400" y="3526560"/>
              <a:ext cx="1526040" cy="2424600"/>
              <a:chOff x="5522400" y="3526560"/>
              <a:chExt cx="1526040" cy="242460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5522400" y="3684240"/>
                <a:ext cx="1420200" cy="2266920"/>
                <a:chOff x="5522400" y="3684240"/>
                <a:chExt cx="1420200" cy="2266920"/>
              </a:xfrm>
            </p:grpSpPr>
            <p:sp>
              <p:nvSpPr>
                <p:cNvPr id="337" name=""/>
                <p:cNvSpPr/>
                <p:nvPr/>
              </p:nvSpPr>
              <p:spPr>
                <a:xfrm rot="3876600">
                  <a:off x="509472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3876600">
                  <a:off x="646200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958720" y="3526560"/>
                <a:ext cx="1089720" cy="1739520"/>
                <a:chOff x="5958720" y="3526560"/>
                <a:chExt cx="1089720" cy="1739520"/>
              </a:xfrm>
            </p:grpSpPr>
            <p:sp>
              <p:nvSpPr>
                <p:cNvPr id="340" name=""/>
                <p:cNvSpPr/>
                <p:nvPr/>
              </p:nvSpPr>
              <p:spPr>
                <a:xfrm flipV="1" rot="3876600">
                  <a:off x="5630040" y="42073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 rot="3876600">
                  <a:off x="6663960" y="48895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5116680" y="2685960"/>
              <a:ext cx="1272240" cy="1309320"/>
              <a:chOff x="5116680" y="2685960"/>
              <a:chExt cx="1272240" cy="1309320"/>
            </a:xfrm>
          </p:grpSpPr>
          <p:sp>
            <p:nvSpPr>
              <p:cNvPr id="343" name=""/>
              <p:cNvSpPr/>
              <p:nvPr/>
            </p:nvSpPr>
            <p:spPr>
              <a:xfrm>
                <a:off x="511668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11668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00920" y="277092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00920" y="277380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55640" y="2828880"/>
                <a:ext cx="99396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270760" y="2844360"/>
                <a:ext cx="963720" cy="992880"/>
                <a:chOff x="5270760" y="2844360"/>
                <a:chExt cx="963720" cy="992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270760" y="2844360"/>
                  <a:ext cx="96372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283000" y="2849760"/>
                  <a:ext cx="9406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293080" y="2859120"/>
                  <a:ext cx="89424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345280" y="2884680"/>
                  <a:ext cx="7952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"/>
            <p:cNvSpPr/>
            <p:nvPr/>
          </p:nvSpPr>
          <p:spPr>
            <a:xfrm rot="3925800">
              <a:off x="548676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925800">
              <a:off x="59486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5567b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892920" y="2541600"/>
            <a:ext cx="2122200" cy="3476160"/>
            <a:chOff x="6892920" y="2541600"/>
            <a:chExt cx="2122200" cy="3476160"/>
          </a:xfrm>
        </p:grpSpPr>
        <p:grpSp>
          <p:nvGrpSpPr>
            <p:cNvPr id="356" name=""/>
            <p:cNvGrpSpPr/>
            <p:nvPr/>
          </p:nvGrpSpPr>
          <p:grpSpPr>
            <a:xfrm>
              <a:off x="7489080" y="3593160"/>
              <a:ext cx="1526040" cy="2424600"/>
              <a:chOff x="7489080" y="3593160"/>
              <a:chExt cx="1526040" cy="24246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7489080" y="3750840"/>
                <a:ext cx="1420200" cy="2266920"/>
                <a:chOff x="7489080" y="3750840"/>
                <a:chExt cx="1420200" cy="2266920"/>
              </a:xfrm>
            </p:grpSpPr>
            <p:sp>
              <p:nvSpPr>
                <p:cNvPr id="358" name=""/>
                <p:cNvSpPr/>
                <p:nvPr/>
              </p:nvSpPr>
              <p:spPr>
                <a:xfrm rot="3876600">
                  <a:off x="7061400" y="46378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3876600">
                  <a:off x="8428680" y="55170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7925400" y="3593160"/>
                <a:ext cx="1089720" cy="1739520"/>
                <a:chOff x="7925400" y="3593160"/>
                <a:chExt cx="1089720" cy="1739520"/>
              </a:xfrm>
            </p:grpSpPr>
            <p:sp>
              <p:nvSpPr>
                <p:cNvPr id="361" name=""/>
                <p:cNvSpPr/>
                <p:nvPr/>
              </p:nvSpPr>
              <p:spPr>
                <a:xfrm flipV="1" rot="3876600">
                  <a:off x="7596720" y="42739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 rot="3876600">
                  <a:off x="8630640" y="49561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>
              <a:off x="689292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9292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4440" y="264492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96240" y="2647800"/>
              <a:ext cx="1325880" cy="13633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59600" y="2712960"/>
              <a:ext cx="119412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7078680" y="2732040"/>
              <a:ext cx="1157400" cy="1190160"/>
              <a:chOff x="7078680" y="2732040"/>
              <a:chExt cx="1157400" cy="1190160"/>
            </a:xfrm>
          </p:grpSpPr>
          <p:sp>
            <p:nvSpPr>
              <p:cNvPr id="369" name=""/>
              <p:cNvSpPr/>
              <p:nvPr/>
            </p:nvSpPr>
            <p:spPr>
              <a:xfrm>
                <a:off x="7078680" y="2732040"/>
                <a:ext cx="1157400" cy="1190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93440" y="2738520"/>
                <a:ext cx="112932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105320" y="2750040"/>
                <a:ext cx="1074240" cy="108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168320" y="2780280"/>
                <a:ext cx="954720" cy="88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rot="3925800">
              <a:off x="7439040" y="46461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3925800">
              <a:off x="7899480" y="4366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5567b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904760" y="1828800"/>
            <a:ext cx="6056640" cy="407880"/>
            <a:chOff x="1904760" y="1828800"/>
            <a:chExt cx="6056640" cy="407880"/>
          </a:xfrm>
        </p:grpSpPr>
        <p:sp>
          <p:nvSpPr>
            <p:cNvPr id="376" name=""/>
            <p:cNvSpPr/>
            <p:nvPr/>
          </p:nvSpPr>
          <p:spPr>
            <a:xfrm>
              <a:off x="19047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90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050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953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cxnSp>
          <p:nvCxnSpPr>
            <p:cNvPr id="380" name=""/>
            <p:cNvCxnSpPr>
              <a:stCxn id="376" idx="3"/>
              <a:endCxn id="377" idx="1"/>
            </p:cNvCxnSpPr>
            <p:nvPr/>
          </p:nvCxnSpPr>
          <p:spPr>
            <a:xfrm>
              <a:off x="264096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"/>
            <p:cNvCxnSpPr>
              <a:stCxn id="377" idx="3"/>
              <a:endCxn id="378" idx="1"/>
            </p:cNvCxnSpPr>
            <p:nvPr/>
          </p:nvCxnSpPr>
          <p:spPr>
            <a:xfrm>
              <a:off x="439560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"/>
            <p:cNvCxnSpPr/>
            <p:nvPr/>
          </p:nvCxnSpPr>
          <p:spPr>
            <a:xfrm>
              <a:off x="614196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0:51:2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2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