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0A0-084B-438B-8B30-9DE9DF9E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F467-81D3-4ED0-A486-162F764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AD91-9B25-4178-AE73-8E2FF580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5FD8-0CE4-464F-B7D0-1B70BD795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531CD-8C43-49B7-BF3A-777A8485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A19F-6233-4106-B071-9ED57D3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B1FA-21D5-47DB-A88D-06D14E59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DE13-8B06-45BE-8F08-EA8BA7DE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EB1F-3347-41BB-BC31-3866575D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EA6CB-A57D-4E4E-B3E5-069D4E07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B164-3387-4FF0-8F67-1F041A7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E15-FC4C-4470-9250-CF8868EB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D13D-C482-4B88-A99F-8AD51797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7C22-88D6-4AAB-A750-22AF0A6F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B96E-B393-41A3-B122-1659870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32F7-59D7-457A-AAFD-18C84197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9352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86C7-154C-4270-A2BA-E5D1E6491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C51-1106-4D95-9628-B220A831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3A0D-AFF4-4606-B2FD-B0CC08A6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784-3083-4892-A421-A2C1E1FE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EA3-C183-40B9-B9C2-BC1A4C1D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934E-B37F-469D-AE30-AC3DAE8C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9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92DF-CFFB-464A-BBC0-D20D5D98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9352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517-DAA9-4432-80BC-B759854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nbg11_3_2"/>
          <p:cNvPicPr/>
          <p:nvPr/>
        </p:nvPicPr>
        <p:blipFill>
          <a:blip r:embed="rId2"/>
          <a:stretch/>
        </p:blipFill>
        <p:spPr>
          <a:xfrm>
            <a:off x="0" y="0"/>
            <a:ext cx="2209680" cy="1600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nbg11_3_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ED3-4C26-4A1F-AA90-5B50B1C200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bg11_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nbg11_3_1"/>
          <p:cNvPicPr/>
          <p:nvPr/>
        </p:nvPicPr>
        <p:blipFill>
          <a:blip r:embed="rId3"/>
          <a:stretch/>
        </p:blipFill>
        <p:spPr>
          <a:xfrm>
            <a:off x="0" y="4448160"/>
            <a:ext cx="9144000" cy="885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머리정체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머리정체B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3A581-414D-4BE0-8FD8-AA2D1E0682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108000" y="404640"/>
            <a:ext cx="871380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-머리정체B"/>
                <a:ea typeface="宋体"/>
              </a:rPr>
              <a:t>医疗教育化学试剂精美</a:t>
            </a:r>
            <a:r>
              <a:rPr b="0" lang="zh-CN" sz="4000" spc="-1" strike="noStrike">
                <a:solidFill>
                  <a:srgbClr val="000000"/>
                </a:solidFill>
                <a:latin typeface="-머리정체B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-머리정체B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-머리정체B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-머리정체B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-머리정체B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-머리정체B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-머리정체B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CD56-7D04-484E-9883-651DE1783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000000"/>
              </a:solidFill>
              <a:latin typeface="-머리정체B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263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Gulim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7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