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BD64-ADAB-496A-B6FF-39723184F4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518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2332800"/>
            <a:ext cx="518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56DB-6EA0-4999-9E00-BFA2AE99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3624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6FB3A-F38A-43BC-BCCB-AA230035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133000" y="213372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885120" y="213372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233280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133000" y="233280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3885120" y="233280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0ED2-563D-4D85-A880-6BA9DE5424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AEA27-F203-4D6A-9744-840D6CBB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1AA37-A20C-4B6A-B7BB-31D1FB60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5D8E3-F175-4E23-90E7-EFF1C2C3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4D4D7-FAC9-42CF-8BA6-3F8AC7A2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E96A3-A600-4897-99DE-D3657DF8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33520" y="40381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4DDFC-90C5-4886-BE71-D9793787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67322-71CD-4899-9148-AAFC2D58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130E-346C-4CD7-9DDA-C71C3456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3624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2CFD5-0802-42AD-BAE2-B30B5FA5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2332800"/>
            <a:ext cx="518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025C8-3738-4215-807A-8497A99A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518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0880" y="2332800"/>
            <a:ext cx="518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CC381-9700-4C1E-BA8F-04F933C4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088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3624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49BF6-71BA-4E85-8C1A-0628B3FC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133000" y="213372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85120" y="213372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80880" y="233280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133000" y="233280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3885120" y="2332800"/>
            <a:ext cx="166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B08EF-93B4-4D07-B1C2-4CF8954C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70A0D-81A0-49CD-A1F2-9E6F0E4D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7961-C716-4D56-B285-5795C360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2112-CC4B-46D5-93FD-0D661F9C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0381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594F-2E87-42C8-BF9B-EEDF04C1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5A7E-80C2-461F-B447-3A3817B0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36240" y="233280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94534-7E2A-4355-B476-985ADE79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36240" y="2133720"/>
            <a:ext cx="2528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2332800"/>
            <a:ext cx="518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8E0C-9FED-4FD3-9362-1F8B1F89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2600" y="990720"/>
            <a:ext cx="9131400" cy="5866920"/>
            <a:chOff x="12600" y="990720"/>
            <a:chExt cx="9131400" cy="5866920"/>
          </a:xfrm>
        </p:grpSpPr>
        <p:sp>
          <p:nvSpPr>
            <p:cNvPr id="1" name=""/>
            <p:cNvSpPr/>
            <p:nvPr/>
          </p:nvSpPr>
          <p:spPr>
            <a:xfrm>
              <a:off x="12600" y="1316520"/>
              <a:ext cx="9131400" cy="5541120"/>
            </a:xfrm>
            <a:prstGeom prst="rect">
              <a:avLst/>
            </a:prstGeom>
            <a:solidFill>
              <a:srgbClr val="7a7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600" y="990720"/>
              <a:ext cx="9131400" cy="325800"/>
            </a:xfrm>
            <a:prstGeom prst="rect">
              <a:avLst/>
            </a:prstGeom>
            <a:gradFill rotWithShape="0">
              <a:gsLst>
                <a:gs pos="0">
                  <a:srgbClr val="383623"/>
                </a:gs>
                <a:gs pos="100000">
                  <a:srgbClr val="7a76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2600" y="12600"/>
            <a:ext cx="9131400" cy="457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65040" y="1142640"/>
            <a:ext cx="832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428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73C3-7C17-49FC-B1B2-A1F2210740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04920"/>
            <a:ext cx="8321760" cy="685800"/>
          </a:xfrm>
          <a:prstGeom prst="rect">
            <a:avLst/>
          </a:pr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6248520" y="299880"/>
          <a:ext cx="220968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299880"/>
                    <a:ext cx="22096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7772400" y="0"/>
          <a:ext cx="1371600" cy="131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72400" y="0"/>
                    <a:ext cx="137160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924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743200"/>
            <a:ext cx="9144000" cy="4114800"/>
            <a:chOff x="0" y="2743200"/>
            <a:chExt cx="9144000" cy="4114800"/>
          </a:xfrm>
        </p:grpSpPr>
        <p:sp>
          <p:nvSpPr>
            <p:cNvPr id="50" name=""/>
            <p:cNvSpPr/>
            <p:nvPr/>
          </p:nvSpPr>
          <p:spPr>
            <a:xfrm>
              <a:off x="0" y="2971800"/>
              <a:ext cx="9144000" cy="3886200"/>
            </a:xfrm>
            <a:prstGeom prst="rect">
              <a:avLst/>
            </a:prstGeom>
            <a:solidFill>
              <a:srgbClr val="7a7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27432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383623"/>
                </a:gs>
                <a:gs pos="100000">
                  <a:srgbClr val="7a76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2" name=""/>
          <p:cNvGraphicFramePr/>
          <p:nvPr/>
        </p:nvGraphicFramePr>
        <p:xfrm>
          <a:off x="609480" y="571680"/>
          <a:ext cx="5410440" cy="147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71680"/>
                    <a:ext cx="5410440" cy="14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6172200" y="0"/>
          <a:ext cx="2971800" cy="220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0"/>
                    <a:ext cx="29718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0" y="2057400"/>
            <a:ext cx="9144000" cy="685800"/>
          </a:xfrm>
          <a:prstGeom prst="rect">
            <a:avLst/>
          </a:pr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00" y="2057400"/>
            <a:ext cx="6159600" cy="533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456840" y="63241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580920" y="6324120"/>
            <a:ext cx="266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7924320" y="632412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ABFE-DFC5-4D45-9122-C2AE43D54A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49960" y="21337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0"/>
            <a:ext cx="228600" cy="25909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924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医疗科技幻灯片打包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35" name=""/>
            <p:cNvSpPr/>
            <p:nvPr/>
          </p:nvSpPr>
          <p:spPr>
            <a:xfrm flipH="1" rot="16200000">
              <a:off x="2809440" y="32472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rot="5400000">
              <a:off x="5680440" y="319284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99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6d5200"/>
                </a:gs>
                <a:gs pos="50000">
                  <a:srgbClr val="cc9900"/>
                </a:gs>
                <a:gs pos="100000">
                  <a:srgbClr val="6d52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425"/>
                </a:gs>
                <a:gs pos="50000">
                  <a:srgbClr val="72b852"/>
                </a:gs>
                <a:gs pos="100000">
                  <a:srgbClr val="3454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425"/>
                </a:gs>
                <a:gs pos="50000">
                  <a:srgbClr val="72b852"/>
                </a:gs>
                <a:gs pos="100000">
                  <a:srgbClr val="3454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425"/>
                </a:gs>
                <a:gs pos="50000">
                  <a:srgbClr val="72b852"/>
                </a:gs>
                <a:gs pos="100000">
                  <a:srgbClr val="3454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a58"/>
                </a:gs>
                <a:gs pos="50000">
                  <a:srgbClr val="42a2c0"/>
                </a:gs>
                <a:gs pos="100000">
                  <a:srgbClr val="1e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a58"/>
                </a:gs>
                <a:gs pos="50000">
                  <a:srgbClr val="42a2c0"/>
                </a:gs>
                <a:gs pos="100000">
                  <a:srgbClr val="1e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a58"/>
                </a:gs>
                <a:gs pos="50000">
                  <a:srgbClr val="42a2c0"/>
                </a:gs>
                <a:gs pos="100000">
                  <a:srgbClr val="1e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4600"/>
                </a:gs>
                <a:gs pos="50000">
                  <a:srgbClr val="cc9900"/>
                </a:gs>
                <a:gs pos="100000">
                  <a:srgbClr val="5e46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60" name="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5238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solidFill>
            <a:srgbClr val="080808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b852"/>
              </a:gs>
              <a:gs pos="100000">
                <a:srgbClr val="3454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294" name="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99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cc99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6d5200"/>
                </a:gs>
                <a:gs pos="50000">
                  <a:srgbClr val="cc9900"/>
                </a:gs>
                <a:gs pos="100000">
                  <a:srgbClr val="6d52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cc9900">
                    <a:alpha val="0"/>
                  </a:srgbClr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ccc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d6d00"/>
                </a:gs>
                <a:gs pos="50000">
                  <a:srgbClr val="cccc00"/>
                </a:gs>
                <a:gs pos="100000">
                  <a:srgbClr val="6d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0"/>
                  </a:srgbClr>
                </a:gs>
                <a:gs pos="100000">
                  <a:srgbClr val="81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07" name="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2a2c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1e4a58"/>
                </a:gs>
                <a:gs pos="100000">
                  <a:srgbClr val="42a2c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35767"/>
                </a:gs>
                <a:gs pos="50000">
                  <a:srgbClr val="42a2c0"/>
                </a:gs>
                <a:gs pos="100000">
                  <a:srgbClr val="23576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2a2c0">
                    <a:alpha val="0"/>
                  </a:srgbClr>
                </a:gs>
                <a:gs pos="100000">
                  <a:srgbClr val="2966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17" name="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22" name="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066680" y="1498680"/>
            <a:ext cx="7010280" cy="4521240"/>
            <a:chOff x="1066680" y="1498680"/>
            <a:chExt cx="7010280" cy="4521240"/>
          </a:xfrm>
        </p:grpSpPr>
        <p:sp>
          <p:nvSpPr>
            <p:cNvPr id="334" name=""/>
            <p:cNvSpPr/>
            <p:nvPr/>
          </p:nvSpPr>
          <p:spPr>
            <a:xfrm>
              <a:off x="1066680" y="19814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42a2c0"/>
                </a:gs>
                <a:gs pos="100000">
                  <a:srgbClr val="72b852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62360" y="3276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3314520" y="3708360"/>
              <a:ext cx="1704960" cy="2028960"/>
              <a:chOff x="3314520" y="3708360"/>
              <a:chExt cx="1704960" cy="2028960"/>
            </a:xfrm>
          </p:grpSpPr>
          <p:sp>
            <p:nvSpPr>
              <p:cNvPr id="337" name=""/>
              <p:cNvSpPr/>
              <p:nvPr/>
            </p:nvSpPr>
            <p:spPr>
              <a:xfrm rot="20876400">
                <a:off x="3382920" y="49276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314520" y="37083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35040" y="37177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352680" y="37339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44840" y="37782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32120" y="43354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1477800" y="3327480"/>
              <a:ext cx="1371240" cy="1718640"/>
              <a:chOff x="1477800" y="3327480"/>
              <a:chExt cx="1371240" cy="1718640"/>
            </a:xfrm>
          </p:grpSpPr>
          <p:sp>
            <p:nvSpPr>
              <p:cNvPr id="344" name=""/>
              <p:cNvSpPr/>
              <p:nvPr/>
            </p:nvSpPr>
            <p:spPr>
              <a:xfrm rot="20826600">
                <a:off x="1554120" y="43178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1477800" y="3327480"/>
                <a:ext cx="1371240" cy="1441080"/>
                <a:chOff x="1477800" y="3327480"/>
                <a:chExt cx="1371240" cy="1441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1477800" y="33274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495800" y="33357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508760" y="33490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580400" y="33858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8240" y="38336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1218960" y="1955880"/>
              <a:ext cx="1100160" cy="1139760"/>
              <a:chOff x="1218960" y="1955880"/>
              <a:chExt cx="1100160" cy="1139760"/>
            </a:xfrm>
          </p:grpSpPr>
          <p:sp>
            <p:nvSpPr>
              <p:cNvPr id="352" name=""/>
              <p:cNvSpPr/>
              <p:nvPr/>
            </p:nvSpPr>
            <p:spPr>
              <a:xfrm>
                <a:off x="1218960" y="256248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95280" y="195588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7880" y="19605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19040" y="197172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73040" y="199728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92200" y="23050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2514600" y="1498680"/>
              <a:ext cx="804240" cy="762120"/>
              <a:chOff x="2514600" y="1498680"/>
              <a:chExt cx="804240" cy="762120"/>
            </a:xfrm>
          </p:grpSpPr>
          <p:sp>
            <p:nvSpPr>
              <p:cNvPr id="359" name=""/>
              <p:cNvSpPr/>
              <p:nvPr/>
            </p:nvSpPr>
            <p:spPr>
              <a:xfrm>
                <a:off x="2514600" y="203220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36640" y="149868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646000" y="15019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52480" y="150804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88840" y="15271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06840" y="17226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914760" y="1905120"/>
            <a:ext cx="7282440" cy="3770280"/>
            <a:chOff x="914760" y="1905120"/>
            <a:chExt cx="7282440" cy="3770280"/>
          </a:xfrm>
        </p:grpSpPr>
        <p:sp>
          <p:nvSpPr>
            <p:cNvPr id="368" name=""/>
            <p:cNvSpPr/>
            <p:nvPr/>
          </p:nvSpPr>
          <p:spPr>
            <a:xfrm rot="17973000">
              <a:off x="4723560" y="26103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3465600">
              <a:off x="4773960" y="4720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4368800">
              <a:off x="3555000" y="2632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534800">
              <a:off x="3516840" y="46872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56080" y="368784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0800000">
              <a:off x="2945880" y="368100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66880" y="193068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18240" y="19051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9160" y="19051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32640" y="36576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18240" y="5257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14760" y="36576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52840" y="51958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23960" y="3708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9dbaa"/>
                </a:gs>
                <a:gs pos="100000">
                  <a:srgbClr val="72b8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38360" y="205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9dbaa"/>
                </a:gs>
                <a:gs pos="100000">
                  <a:srgbClr val="72b8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43480" y="205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9dbaa"/>
                </a:gs>
                <a:gs pos="100000">
                  <a:srgbClr val="72b8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62400" y="5257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9dbaa"/>
                </a:gs>
                <a:gs pos="100000">
                  <a:srgbClr val="72b8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43480" y="5257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9dbaa"/>
                </a:gs>
                <a:gs pos="100000">
                  <a:srgbClr val="72b8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57880" y="3695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9dbaa"/>
                </a:gs>
                <a:gs pos="100000">
                  <a:srgbClr val="72b8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06920" y="296064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06920" y="296064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ccc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17800" y="30704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d6d00"/>
                </a:gs>
                <a:gs pos="50000">
                  <a:srgbClr val="cccc00"/>
                </a:gs>
                <a:gs pos="100000">
                  <a:srgbClr val="6d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19600" y="307368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0"/>
                  </a:srgbClr>
                </a:gs>
                <a:gs pos="100000">
                  <a:srgbClr val="81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92320" y="314496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13200" y="3164040"/>
              <a:ext cx="1290600" cy="1278000"/>
              <a:chOff x="3913200" y="3164040"/>
              <a:chExt cx="1290600" cy="1278000"/>
            </a:xfrm>
          </p:grpSpPr>
          <p:sp>
            <p:nvSpPr>
              <p:cNvPr id="393" name=""/>
              <p:cNvSpPr/>
              <p:nvPr/>
            </p:nvSpPr>
            <p:spPr>
              <a:xfrm>
                <a:off x="3913200" y="31640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929760" y="31708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943080" y="31834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12920" y="32158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4176360" y="3637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168560" y="2039760"/>
            <a:ext cx="2163600" cy="3165480"/>
            <a:chOff x="1168560" y="2039760"/>
            <a:chExt cx="2163600" cy="3165480"/>
          </a:xfrm>
        </p:grpSpPr>
        <p:sp>
          <p:nvSpPr>
            <p:cNvPr id="400" name=""/>
            <p:cNvSpPr/>
            <p:nvPr/>
          </p:nvSpPr>
          <p:spPr>
            <a:xfrm>
              <a:off x="116856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0204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1932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1932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1913040" y="2039760"/>
              <a:ext cx="642960" cy="642960"/>
              <a:chOff x="1913040" y="2039760"/>
              <a:chExt cx="642960" cy="642960"/>
            </a:xfrm>
          </p:grpSpPr>
          <p:sp>
            <p:nvSpPr>
              <p:cNvPr id="405" name=""/>
              <p:cNvSpPr/>
              <p:nvPr/>
            </p:nvSpPr>
            <p:spPr>
              <a:xfrm>
                <a:off x="191304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1952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2744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3392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96776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205308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4488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92840" y="2039760"/>
            <a:ext cx="2163600" cy="3165480"/>
            <a:chOff x="5892840" y="2039760"/>
            <a:chExt cx="2163600" cy="3165480"/>
          </a:xfrm>
        </p:grpSpPr>
        <p:sp>
          <p:nvSpPr>
            <p:cNvPr id="413" name=""/>
            <p:cNvSpPr/>
            <p:nvPr/>
          </p:nvSpPr>
          <p:spPr>
            <a:xfrm>
              <a:off x="589284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2632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4360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4360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6637320" y="2039760"/>
              <a:ext cx="642960" cy="642960"/>
              <a:chOff x="6637320" y="2039760"/>
              <a:chExt cx="642960" cy="642960"/>
            </a:xfrm>
          </p:grpSpPr>
          <p:sp>
            <p:nvSpPr>
              <p:cNvPr id="418" name=""/>
              <p:cNvSpPr/>
              <p:nvPr/>
            </p:nvSpPr>
            <p:spPr>
              <a:xfrm>
                <a:off x="663732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4380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5172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5820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9204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677736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6916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530520" y="2039760"/>
            <a:ext cx="2163600" cy="3165480"/>
            <a:chOff x="3530520" y="2039760"/>
            <a:chExt cx="2163600" cy="3165480"/>
          </a:xfrm>
        </p:grpSpPr>
        <p:sp>
          <p:nvSpPr>
            <p:cNvPr id="426" name=""/>
            <p:cNvSpPr/>
            <p:nvPr/>
          </p:nvSpPr>
          <p:spPr>
            <a:xfrm>
              <a:off x="353052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6400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8128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128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75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81480" y="204444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89400" y="204768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95520" y="205416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30800" y="207000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1504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0684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0" y="1600200"/>
            <a:ext cx="9144000" cy="4366080"/>
            <a:chOff x="0" y="1600200"/>
            <a:chExt cx="9144000" cy="4366080"/>
          </a:xfrm>
        </p:grpSpPr>
        <p:sp>
          <p:nvSpPr>
            <p:cNvPr id="439" name=""/>
            <p:cNvSpPr/>
            <p:nvPr/>
          </p:nvSpPr>
          <p:spPr>
            <a:xfrm>
              <a:off x="0" y="28893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29415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396720" y="2292480"/>
              <a:ext cx="2183040" cy="3600720"/>
              <a:chOff x="396720" y="2292480"/>
              <a:chExt cx="2183040" cy="360072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873720" y="3211560"/>
                <a:ext cx="1706040" cy="2681640"/>
                <a:chOff x="873720" y="3211560"/>
                <a:chExt cx="1706040" cy="268164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873720" y="3390480"/>
                  <a:ext cx="1578600" cy="2502720"/>
                  <a:chOff x="873720" y="3390480"/>
                  <a:chExt cx="1578600" cy="25027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rot="3876600">
                    <a:off x="41004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3876600">
                    <a:off x="191592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1368360" y="3211560"/>
                  <a:ext cx="1211400" cy="1920240"/>
                  <a:chOff x="1368360" y="3211560"/>
                  <a:chExt cx="1211400" cy="19202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V="1" rot="3876600">
                    <a:off x="101268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V="1" rot="3876600">
                    <a:off x="215064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9" name=""/>
              <p:cNvGrpSpPr/>
              <p:nvPr/>
            </p:nvGrpSpPr>
            <p:grpSpPr>
              <a:xfrm>
                <a:off x="396720" y="2292480"/>
                <a:ext cx="1441800" cy="1440720"/>
                <a:chOff x="396720" y="2292480"/>
                <a:chExt cx="1441800" cy="14407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9212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9212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5404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571320" y="2467080"/>
                  <a:ext cx="1092240" cy="1092960"/>
                  <a:chOff x="571320" y="2467080"/>
                  <a:chExt cx="1092240" cy="109296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57132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8536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9652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5592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0" name=""/>
              <p:cNvSpPr/>
              <p:nvPr/>
            </p:nvSpPr>
            <p:spPr>
              <a:xfrm rot="3925800">
                <a:off x="89784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3925800">
                <a:off x="14018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379600" y="2292480"/>
              <a:ext cx="2183040" cy="3600720"/>
              <a:chOff x="2379600" y="2292480"/>
              <a:chExt cx="2183040" cy="360072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2856600" y="3211560"/>
                <a:ext cx="1706040" cy="2681640"/>
                <a:chOff x="2856600" y="3211560"/>
                <a:chExt cx="1706040" cy="268164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2856600" y="3390480"/>
                  <a:ext cx="1578600" cy="2502720"/>
                  <a:chOff x="2856600" y="3390480"/>
                  <a:chExt cx="1578600" cy="250272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876600">
                    <a:off x="239292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876600">
                    <a:off x="389880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3351240" y="3211560"/>
                  <a:ext cx="1211400" cy="1920240"/>
                  <a:chOff x="3351240" y="3211560"/>
                  <a:chExt cx="1211400" cy="192024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flipV="1" rot="3876600">
                    <a:off x="299556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V="1" rot="3876600">
                    <a:off x="413352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0" name=""/>
              <p:cNvGrpSpPr/>
              <p:nvPr/>
            </p:nvGrpSpPr>
            <p:grpSpPr>
              <a:xfrm>
                <a:off x="2379600" y="2292480"/>
                <a:ext cx="1441800" cy="1440720"/>
                <a:chOff x="2379600" y="2292480"/>
                <a:chExt cx="1441800" cy="14407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7500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47500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53692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"/>
                <p:cNvGrpSpPr/>
                <p:nvPr/>
              </p:nvGrpSpPr>
              <p:grpSpPr>
                <a:xfrm>
                  <a:off x="2554200" y="2467080"/>
                  <a:ext cx="1092240" cy="1092960"/>
                  <a:chOff x="2554200" y="2467080"/>
                  <a:chExt cx="1092240" cy="109296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255420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56824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57940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63880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1" name=""/>
              <p:cNvSpPr/>
              <p:nvPr/>
            </p:nvSpPr>
            <p:spPr>
              <a:xfrm rot="3925800">
                <a:off x="28749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3925800">
                <a:off x="33782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427640" y="2292480"/>
              <a:ext cx="2182680" cy="3600720"/>
              <a:chOff x="4427640" y="2292480"/>
              <a:chExt cx="2182680" cy="360072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4904280" y="3211560"/>
                <a:ext cx="1706040" cy="2681640"/>
                <a:chOff x="4904280" y="3211560"/>
                <a:chExt cx="1706040" cy="2681640"/>
              </a:xfrm>
            </p:grpSpPr>
            <p:grpSp>
              <p:nvGrpSpPr>
                <p:cNvPr id="485" name=""/>
                <p:cNvGrpSpPr/>
                <p:nvPr/>
              </p:nvGrpSpPr>
              <p:grpSpPr>
                <a:xfrm>
                  <a:off x="4904280" y="3390480"/>
                  <a:ext cx="1578600" cy="2502720"/>
                  <a:chOff x="4904280" y="3390480"/>
                  <a:chExt cx="1578600" cy="250272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rot="3876600">
                    <a:off x="444060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3876600">
                    <a:off x="594648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5398920" y="3211560"/>
                  <a:ext cx="1211400" cy="1920240"/>
                  <a:chOff x="5398920" y="3211560"/>
                  <a:chExt cx="1211400" cy="19202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V="1" rot="3876600">
                    <a:off x="504324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V="1" rot="3876600">
                    <a:off x="618120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4427640" y="2292480"/>
                <a:ext cx="1441440" cy="1440720"/>
                <a:chOff x="4427640" y="2292480"/>
                <a:chExt cx="1441440" cy="14407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523040" y="238608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523040" y="238932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584960" y="244980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7" name=""/>
                <p:cNvGrpSpPr/>
                <p:nvPr/>
              </p:nvGrpSpPr>
              <p:grpSpPr>
                <a:xfrm>
                  <a:off x="4602240" y="2467080"/>
                  <a:ext cx="1091880" cy="1092960"/>
                  <a:chOff x="4602240" y="2467080"/>
                  <a:chExt cx="1091880" cy="109296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4602240" y="246708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4616280" y="247320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4627440" y="248364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4686840" y="251136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2" name=""/>
              <p:cNvSpPr/>
              <p:nvPr/>
            </p:nvSpPr>
            <p:spPr>
              <a:xfrm rot="3925800">
                <a:off x="493200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3925800">
                <a:off x="54356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442200" y="2133720"/>
              <a:ext cx="2399760" cy="3832560"/>
              <a:chOff x="6442200" y="2133720"/>
              <a:chExt cx="2399760" cy="383256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7136280" y="3284640"/>
                <a:ext cx="1705680" cy="2681640"/>
                <a:chOff x="7136280" y="3284640"/>
                <a:chExt cx="1705680" cy="268164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7136280" y="3463560"/>
                  <a:ext cx="1578600" cy="2502720"/>
                  <a:chOff x="7136280" y="3463560"/>
                  <a:chExt cx="1578600" cy="250272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rot="3876600">
                    <a:off x="6672600" y="443556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3876600">
                    <a:off x="8178480" y="540432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7630560" y="3284640"/>
                  <a:ext cx="1211400" cy="1920240"/>
                  <a:chOff x="7630560" y="3284640"/>
                  <a:chExt cx="1211400" cy="19202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flipV="1" rot="3876600">
                    <a:off x="7274880" y="403056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V="1" rot="3876600">
                    <a:off x="8412840" y="4782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2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58120" y="22464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559560" y="224964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32640" y="232272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6653160" y="2343240"/>
                <a:ext cx="1312920" cy="1310400"/>
                <a:chOff x="6653160" y="2343240"/>
                <a:chExt cx="1312920" cy="131040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6653160" y="234324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669720" y="235044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683400" y="236304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54680" y="239652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 rot="3925800">
                <a:off x="7147080" y="43966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3925800">
                <a:off x="7649640" y="4105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77796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6840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4984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9500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8" name=""/>
            <p:cNvCxnSpPr>
              <a:stCxn id="524" idx="3"/>
              <a:endCxn id="525" idx="1"/>
            </p:cNvCxnSpPr>
            <p:nvPr/>
          </p:nvCxnSpPr>
          <p:spPr>
            <a:xfrm>
              <a:off x="1514160" y="18270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9" name=""/>
            <p:cNvCxnSpPr>
              <a:stCxn id="525" idx="3"/>
              <a:endCxn id="526" idx="1"/>
            </p:cNvCxnSpPr>
            <p:nvPr/>
          </p:nvCxnSpPr>
          <p:spPr>
            <a:xfrm>
              <a:off x="3504960" y="18270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30" name=""/>
            <p:cNvCxnSpPr>
              <a:stCxn id="526" idx="3"/>
              <a:endCxn id="527" idx="1"/>
            </p:cNvCxnSpPr>
            <p:nvPr/>
          </p:nvCxnSpPr>
          <p:spPr>
            <a:xfrm>
              <a:off x="5486040" y="18273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142280" y="1173600"/>
            <a:ext cx="6879600" cy="4804560"/>
            <a:chOff x="1142280" y="1173600"/>
            <a:chExt cx="6879600" cy="4804560"/>
          </a:xfrm>
        </p:grpSpPr>
        <p:sp>
          <p:nvSpPr>
            <p:cNvPr id="533" name=""/>
            <p:cNvSpPr/>
            <p:nvPr/>
          </p:nvSpPr>
          <p:spPr>
            <a:xfrm>
              <a:off x="2209680" y="4343400"/>
              <a:ext cx="5562720" cy="1325520"/>
            </a:xfrm>
            <a:prstGeom prst="ellipse">
              <a:avLst/>
            </a:prstGeom>
            <a:solidFill>
              <a:srgbClr val="000000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148428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01600">
              <a:off x="154116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01600">
              <a:off x="145548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rot="20602200">
              <a:off x="1433520" y="20548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01600">
              <a:off x="146520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20602200">
              <a:off x="144756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300204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1732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2244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9860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2448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539200">
              <a:off x="1459800" y="20534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2420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89860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461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4100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310356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7a764c"/>
                </a:gs>
                <a:gs pos="100000">
                  <a:srgbClr val="24231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0060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c99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2b852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42a2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42a2c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72b852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6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2b852"/>
                </a:gs>
                <a:gs pos="100000">
                  <a:srgbClr val="e0efd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2b85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1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9900"/>
                </a:gs>
                <a:gs pos="100000">
                  <a:srgbClr val="f0e2b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6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2b852"/>
                </a:gs>
                <a:gs pos="100000">
                  <a:srgbClr val="e0efd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72b85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1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9900"/>
                </a:gs>
                <a:gs pos="100000">
                  <a:srgbClr val="f3e8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FDC9-B6B9-4631-ABC3-1566BA30FF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924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1676520" y="34290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7a764c"/>
                    </a:gs>
                  </a:gsLst>
                  <a:lin ang="10800000"/>
                </a:gradFill>
                <a:effectLst>
                  <a:outerShdw dist="91658" dir="3382340" blurRad="0" rotWithShape="0">
                    <a:srgbClr val="080808"/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7a764c"/>
                  </a:gs>
                </a:gsLst>
                <a:lin ang="10800000"/>
              </a:gradFill>
              <a:effectLst>
                <a:outerShdw dist="91658" dir="338234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1200" y="1517400"/>
            <a:ext cx="800748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579132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 - Themegalle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219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43000" y="3200400"/>
            <a:ext cx="2286000" cy="2666880"/>
            <a:chOff x="1143000" y="3200400"/>
            <a:chExt cx="2286000" cy="2666880"/>
          </a:xfrm>
        </p:grpSpPr>
        <p:sp>
          <p:nvSpPr>
            <p:cNvPr id="131" name=""/>
            <p:cNvSpPr/>
            <p:nvPr/>
          </p:nvSpPr>
          <p:spPr>
            <a:xfrm>
              <a:off x="114300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8400" y="34005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dddad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35" name="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4a00"/>
                    </a:gs>
                    <a:gs pos="100000">
                      <a:srgbClr val="cc99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e7d08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2a2c0"/>
                  </a:gs>
                  <a:gs pos="100000">
                    <a:srgbClr val="1e4a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cdde8"/>
                  </a:gs>
                  <a:gs pos="100000">
                    <a:srgbClr val="42a2c0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2a2c0">
                      <a:alpha val="48235"/>
                    </a:srgbClr>
                  </a:gs>
                  <a:gs pos="100000">
                    <a:srgbClr val="347f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2a2c0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562720" y="3200400"/>
            <a:ext cx="2286000" cy="2666880"/>
            <a:chOff x="5562720" y="3200400"/>
            <a:chExt cx="2286000" cy="2666880"/>
          </a:xfrm>
        </p:grpSpPr>
        <p:sp>
          <p:nvSpPr>
            <p:cNvPr id="145" name=""/>
            <p:cNvSpPr/>
            <p:nvPr/>
          </p:nvSpPr>
          <p:spPr>
            <a:xfrm>
              <a:off x="556272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15000" y="33814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2e0ea"/>
              </a:gs>
              <a:gs pos="100000">
                <a:srgbClr val="42a2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15600" y="1479600"/>
            <a:ext cx="7932240" cy="5225040"/>
            <a:chOff x="615600" y="1479600"/>
            <a:chExt cx="7932240" cy="5225040"/>
          </a:xfrm>
        </p:grpSpPr>
        <p:sp>
          <p:nvSpPr>
            <p:cNvPr id="150" name=""/>
            <p:cNvSpPr/>
            <p:nvPr/>
          </p:nvSpPr>
          <p:spPr>
            <a:xfrm rot="20241600">
              <a:off x="1236600" y="2690280"/>
              <a:ext cx="6853320" cy="28029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72b852"/>
                </a:gs>
                <a:gs pos="100000">
                  <a:srgbClr val="f0f7ed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4572000" y="2666520"/>
              <a:ext cx="1066680" cy="30420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7467480" y="2895120"/>
              <a:ext cx="1067040" cy="30420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2971800" y="5866920"/>
              <a:ext cx="1066680" cy="30420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5714640" y="5257080"/>
              <a:ext cx="1066680" cy="30456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2057040" y="4190400"/>
              <a:ext cx="1066680" cy="30456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68640" y="182844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7a764c"/>
                </a:gs>
                <a:gs pos="100000">
                  <a:srgbClr val="2928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4040" y="335268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42a2c0"/>
                </a:gs>
                <a:gs pos="100000">
                  <a:srgbClr val="1432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36760" y="5049720"/>
              <a:ext cx="1282680" cy="1274400"/>
            </a:xfrm>
            <a:prstGeom prst="ellipse">
              <a:avLst/>
            </a:prstGeom>
            <a:gradFill rotWithShape="0">
              <a:gsLst>
                <a:gs pos="0">
                  <a:srgbClr val="72b852"/>
                </a:gs>
                <a:gs pos="100000">
                  <a:srgbClr val="2841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11640" y="441936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64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40440" y="2057040"/>
              <a:ext cx="1212840" cy="12744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46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61480" y="3809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07760" y="2285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1400" y="2563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50760" y="4876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9800" y="5500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7760" y="381456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31960" y="211572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8" name=""/>
            <p:cNvCxnSpPr/>
            <p:nvPr/>
          </p:nvCxnSpPr>
          <p:spPr>
            <a:xfrm flipH="1">
              <a:off x="615600" y="211536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9" name=""/>
            <p:cNvSpPr/>
            <p:nvPr/>
          </p:nvSpPr>
          <p:spPr>
            <a:xfrm>
              <a:off x="741600" y="1676520"/>
              <a:ext cx="178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173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92400" y="172548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179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92400" y="3144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185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92400" y="460548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38080" y="1676520"/>
            <a:ext cx="7383960" cy="4420800"/>
            <a:chOff x="838080" y="1676520"/>
            <a:chExt cx="7383960" cy="4420800"/>
          </a:xfrm>
        </p:grpSpPr>
        <p:grpSp>
          <p:nvGrpSpPr>
            <p:cNvPr id="192" name=""/>
            <p:cNvGrpSpPr/>
            <p:nvPr/>
          </p:nvGrpSpPr>
          <p:grpSpPr>
            <a:xfrm>
              <a:off x="2361960" y="1676520"/>
              <a:ext cx="4419360" cy="4376160"/>
              <a:chOff x="2361960" y="1676520"/>
              <a:chExt cx="4419360" cy="4376160"/>
            </a:xfrm>
          </p:grpSpPr>
          <p:sp>
            <p:nvSpPr>
              <p:cNvPr id="193" name="Puzzle3"/>
              <p:cNvSpPr/>
              <p:nvPr/>
            </p:nvSpPr>
            <p:spPr>
              <a:xfrm>
                <a:off x="4513680" y="16765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296679"/>
                  </a:gs>
                  <a:gs pos="100000">
                    <a:srgbClr val="42a2c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Puzzle2"/>
              <p:cNvSpPr/>
              <p:nvPr/>
            </p:nvSpPr>
            <p:spPr>
              <a:xfrm>
                <a:off x="4008960" y="33706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beddaf"/>
                  </a:gs>
                  <a:gs pos="100000">
                    <a:srgbClr val="72b852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Puzzle4"/>
              <p:cNvSpPr/>
              <p:nvPr/>
            </p:nvSpPr>
            <p:spPr>
              <a:xfrm>
                <a:off x="2935800" y="33447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e3c97b"/>
                  </a:gs>
                  <a:gs pos="100000">
                    <a:srgbClr val="cc9900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Puzzle1"/>
              <p:cNvSpPr/>
              <p:nvPr/>
            </p:nvSpPr>
            <p:spPr>
              <a:xfrm>
                <a:off x="2361960" y="23799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5e5e00"/>
                  </a:gs>
                  <a:gs pos="100000">
                    <a:srgbClr val="cccc00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6477840" y="40525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080" y="3443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90560" y="17524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67080" y="57290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143000" y="1752480"/>
            <a:ext cx="7086600" cy="3833640"/>
            <a:chOff x="1143000" y="1752480"/>
            <a:chExt cx="7086600" cy="3833640"/>
          </a:xfrm>
        </p:grpSpPr>
        <p:sp>
          <p:nvSpPr>
            <p:cNvPr id="203" name=""/>
            <p:cNvSpPr/>
            <p:nvPr/>
          </p:nvSpPr>
          <p:spPr>
            <a:xfrm>
              <a:off x="1143000" y="1752480"/>
              <a:ext cx="3833640" cy="3833640"/>
            </a:xfrm>
            <a:prstGeom prst="donut">
              <a:avLst>
                <a:gd name="adj" fmla="val 8861"/>
              </a:avLst>
            </a:prstGeom>
            <a:gradFill rotWithShape="0">
              <a:gsLst>
                <a:gs pos="0">
                  <a:srgbClr val="345425"/>
                </a:gs>
                <a:gs pos="50000">
                  <a:srgbClr val="72b852"/>
                </a:gs>
                <a:gs pos="100000">
                  <a:srgbClr val="3454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47920" y="20574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42a2c0"/>
                </a:gs>
                <a:gs pos="100000">
                  <a:srgbClr val="93c9d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52720" y="20826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8ef"/>
                </a:gs>
                <a:gs pos="100000">
                  <a:srgbClr val="cc99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83200" y="27446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bef"/>
                </a:gs>
                <a:gs pos="100000">
                  <a:srgbClr val="cccc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9600" y="34052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8ef"/>
                </a:gs>
                <a:gs pos="100000">
                  <a:srgbClr val="cc99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83200" y="40654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bef"/>
                </a:gs>
                <a:gs pos="100000">
                  <a:srgbClr val="cccc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52720" y="4727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8ef"/>
                </a:gs>
                <a:gs pos="100000">
                  <a:srgbClr val="cc99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720" y="28191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5b58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3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4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18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24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29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8:26:5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09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