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EE1-7C44-47C3-BE51-1C3D6C70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4E6-8ACA-4264-903C-105181A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463-A928-4C43-819E-B92CF94B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605-9594-455B-A74B-F60C421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513-4156-466C-8BF8-D129707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241-49FA-4881-8359-C4155B0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3EF-0C78-4227-B78A-0FB91CA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401-A1E2-4608-BAC3-D1BB864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C98-433F-4B02-B20C-E35DBC07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074-68EA-4C1F-956A-193F9D3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6C9-7EA5-42A5-8762-F9598EC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96C-6905-4D45-A701-E5F5C649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B4D-EADA-4B1A-BA3E-82C662E4F4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A61-EBEB-4970-896A-FBAB87896A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724960" cy="448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60360" y="3999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科技有限公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1185840"/>
            <a:ext cx="8686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3920" y="1185840"/>
            <a:ext cx="8696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19240" y="1185840"/>
            <a:ext cx="8705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37960" y="1181160"/>
            <a:ext cx="8668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9240" y="1185840"/>
            <a:ext cx="8705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3920" y="1195560"/>
            <a:ext cx="869616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1181160"/>
            <a:ext cx="8686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43000" y="1190520"/>
            <a:ext cx="8658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3920" y="1181160"/>
            <a:ext cx="8696160" cy="4495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8600" y="1190520"/>
            <a:ext cx="86868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33280" y="1190520"/>
            <a:ext cx="8677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33280" y="1190520"/>
            <a:ext cx="86774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7960" y="1195560"/>
            <a:ext cx="8668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8600" y="1195560"/>
            <a:ext cx="868680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14200" y="1190520"/>
            <a:ext cx="8715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3920" y="1176480"/>
            <a:ext cx="8696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3280" y="1190520"/>
            <a:ext cx="8677440" cy="4476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33280" y="1181160"/>
            <a:ext cx="8677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3920" y="1190520"/>
            <a:ext cx="86961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23920" y="1185840"/>
            <a:ext cx="8696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23920" y="1190520"/>
            <a:ext cx="86961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3280" y="1185840"/>
            <a:ext cx="8677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3920" y="1185840"/>
            <a:ext cx="8696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28600" y="1181160"/>
            <a:ext cx="8686800" cy="4495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872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00160" y="1181160"/>
            <a:ext cx="874368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4F5-5A2A-436A-88C3-79076DC8BB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724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200" y="1185840"/>
            <a:ext cx="87156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9240" y="1190520"/>
            <a:ext cx="87055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3920" y="1181160"/>
            <a:ext cx="8696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4840" y="1181160"/>
            <a:ext cx="87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23920" y="1181160"/>
            <a:ext cx="8696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4840" y="1190520"/>
            <a:ext cx="87343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6:23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1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