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FE7F4-5A5C-4A78-AB69-5AC9FCDD1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D1E9-A993-438C-8C31-8EE0EA44E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43BA-42F8-4431-A54C-2A37A5EED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12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59056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51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12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5757-85EF-4A2E-8EC3-ADE258A17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2260-7A23-479D-8F1E-7D46EFE93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2920" y="373356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9056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1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12920" y="4012200"/>
            <a:ext cx="19627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06A7-12AB-414D-99F1-2BDBC5486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85DE-86EA-4DC2-AA72-6A972642B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1BCC-7A54-4642-8898-D91DEB579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2666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50D5F-C4D6-4C52-A321-0CD744F27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9420-0FA3-4257-990B-BA39B1284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4280" y="401220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D0C6-A833-48D1-9D0A-BE35F1466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56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4280" y="3733560"/>
            <a:ext cx="29746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90560" y="4012200"/>
            <a:ext cx="60958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F0B4-5DB3-401F-AF5B-1F59E6A28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843280" y="2749680"/>
            <a:ext cx="6300720" cy="41083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524720" y="7920"/>
            <a:ext cx="1619280" cy="792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596360" cy="79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6526080"/>
            <a:ext cx="8351640" cy="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3352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3a8e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999B-58D2-4860-9E58-4C9697357443}" type="slidenum">
              <a:rPr b="0" lang="zh-CN" sz="1400" spc="-1" strike="noStrike">
                <a:solidFill>
                  <a:srgbClr val="1c3a8e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7849440" y="122400"/>
            <a:ext cx="109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6019560" y="65275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3a8e"/>
                </a:solidFill>
                <a:latin typeface="Verdana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3a8e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251040" y="5867280"/>
            <a:ext cx="23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Arial"/>
                <a:ea typeface="宋体"/>
              </a:rPr>
              <a:t>Compan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a8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1c3a8e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c3a8e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c3a8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c3a8e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c3a8e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3a8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666880"/>
            <a:ext cx="7507440" cy="102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医疗器械蓝色经典幻灯片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5805360"/>
            <a:ext cx="507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59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438fe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e4168"/>
                </a:gs>
                <a:gs pos="100000">
                  <a:srgbClr val="438fe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244d7a"/>
                </a:gs>
                <a:gs pos="50000">
                  <a:srgbClr val="438fe3"/>
                </a:gs>
                <a:gs pos="100000">
                  <a:srgbClr val="244d7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38fe3">
                    <a:alpha val="0"/>
                  </a:srgbClr>
                </a:gs>
                <a:gs pos="100000">
                  <a:srgbClr val="2a5a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85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90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1371600" y="1143000"/>
            <a:ext cx="5715000" cy="5330880"/>
            <a:chOff x="1371600" y="1143000"/>
            <a:chExt cx="5715000" cy="5330880"/>
          </a:xfrm>
        </p:grpSpPr>
        <p:sp>
          <p:nvSpPr>
            <p:cNvPr id="298" name="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10223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1577880" y="444168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81440" y="381312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5800" y="598500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27560" y="212580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28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5cc82"/>
                </a:gs>
                <a:gs pos="100000">
                  <a:srgbClr val="cc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3cc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cc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b6d6d"/>
                </a:gs>
                <a:gs pos="50000">
                  <a:srgbClr val="33cccc"/>
                </a:gs>
                <a:gs pos="100000">
                  <a:srgbClr val="1b6d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3cccc">
                    <a:alpha val="0"/>
                  </a:srgbClr>
                </a:gs>
                <a:gs pos="100000">
                  <a:srgbClr val="20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53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219320" y="1832040"/>
            <a:ext cx="2163600" cy="3165480"/>
            <a:chOff x="1219320" y="1832040"/>
            <a:chExt cx="2163600" cy="3165480"/>
          </a:xfrm>
        </p:grpSpPr>
        <p:sp>
          <p:nvSpPr>
            <p:cNvPr id="360" name=""/>
            <p:cNvSpPr/>
            <p:nvPr/>
          </p:nvSpPr>
          <p:spPr>
            <a:xfrm>
              <a:off x="121932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5280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008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1963800" y="1832040"/>
              <a:ext cx="642960" cy="642960"/>
              <a:chOff x="1963800" y="1832040"/>
              <a:chExt cx="642960" cy="642960"/>
            </a:xfrm>
          </p:grpSpPr>
          <p:sp>
            <p:nvSpPr>
              <p:cNvPr id="365" name=""/>
              <p:cNvSpPr/>
              <p:nvPr/>
            </p:nvSpPr>
            <p:spPr>
              <a:xfrm>
                <a:off x="196380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97028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98468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01852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10384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9564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81280" y="1832040"/>
            <a:ext cx="2163600" cy="3165480"/>
            <a:chOff x="3581280" y="1832040"/>
            <a:chExt cx="2163600" cy="3165480"/>
          </a:xfrm>
        </p:grpSpPr>
        <p:sp>
          <p:nvSpPr>
            <p:cNvPr id="373" name=""/>
            <p:cNvSpPr/>
            <p:nvPr/>
          </p:nvSpPr>
          <p:spPr>
            <a:xfrm>
              <a:off x="358128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1476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3204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3204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25760" y="18320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32240" y="18367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0160" y="18399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46280" y="18464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81560" y="18622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6580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943600" y="1832040"/>
            <a:ext cx="2163600" cy="3165480"/>
            <a:chOff x="5943600" y="1832040"/>
            <a:chExt cx="2163600" cy="3165480"/>
          </a:xfrm>
        </p:grpSpPr>
        <p:sp>
          <p:nvSpPr>
            <p:cNvPr id="385" name=""/>
            <p:cNvSpPr/>
            <p:nvPr/>
          </p:nvSpPr>
          <p:spPr>
            <a:xfrm>
              <a:off x="5943600" y="21398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77080" y="21481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94360" y="42116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4360" y="21700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832040"/>
              <a:ext cx="642960" cy="642960"/>
              <a:chOff x="6688080" y="1832040"/>
              <a:chExt cx="642960" cy="642960"/>
            </a:xfrm>
          </p:grpSpPr>
          <p:sp>
            <p:nvSpPr>
              <p:cNvPr id="390" name=""/>
              <p:cNvSpPr/>
              <p:nvPr/>
            </p:nvSpPr>
            <p:spPr>
              <a:xfrm>
                <a:off x="6688080" y="18320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94560" y="18367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708960" y="18464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42800" y="18619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6828120" y="1924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19920" y="25941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9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00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03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0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1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2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3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0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c3a8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3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1c3a8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6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cxnSp>
            <p:nvCxnSpPr>
              <p:cNvPr id="490" name=""/>
              <p:cNvCxnSpPr>
                <a:stCxn id="486" idx="3"/>
                <a:endCxn id="487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1" name=""/>
              <p:cNvCxnSpPr>
                <a:stCxn id="487" idx="3"/>
                <a:endCxn id="488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5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7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2e639d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c1ee"/>
                  </a:gs>
                  <a:gs pos="50000">
                    <a:srgbClr val="438fe3">
                      <a:alpha val="0"/>
                    </a:srgbClr>
                  </a:gs>
                  <a:gs pos="100000">
                    <a:srgbClr val="97c1e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02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ad9d9"/>
                  </a:gs>
                  <a:gs pos="100000">
                    <a:srgbClr val="33cc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cccc">
                      <a:alpha val="0"/>
                    </a:srgbClr>
                  </a:gs>
                  <a:gs pos="100000">
                    <a:srgbClr val="a7e8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9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11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"/>
          <p:cNvSpPr/>
          <p:nvPr/>
        </p:nvSpPr>
        <p:spPr>
          <a:xfrm>
            <a:off x="6227640" y="32050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32400" y="32050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49400" y="320508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143000" y="32050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203840" y="1634760"/>
            <a:ext cx="6215400" cy="1324800"/>
            <a:chOff x="1203840" y="1634760"/>
            <a:chExt cx="6215400" cy="1324800"/>
          </a:xfrm>
        </p:grpSpPr>
        <p:sp>
          <p:nvSpPr>
            <p:cNvPr id="521" name=""/>
            <p:cNvSpPr/>
            <p:nvPr/>
          </p:nvSpPr>
          <p:spPr>
            <a:xfrm rot="3418800">
              <a:off x="1411560" y="18428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2334600" y="2016000"/>
              <a:ext cx="901080" cy="124200"/>
              <a:chOff x="2334600" y="2016000"/>
              <a:chExt cx="901080" cy="124200"/>
            </a:xfrm>
          </p:grpSpPr>
          <p:sp>
            <p:nvSpPr>
              <p:cNvPr id="523" name=""/>
              <p:cNvSpPr/>
              <p:nvPr/>
            </p:nvSpPr>
            <p:spPr>
              <a:xfrm>
                <a:off x="233460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42100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09924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17232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rot="3418800">
              <a:off x="3076200" y="1780560"/>
              <a:ext cx="874080" cy="97092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3999240" y="2016000"/>
              <a:ext cx="901080" cy="124200"/>
              <a:chOff x="3999240" y="2016000"/>
              <a:chExt cx="901080" cy="12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3999240" y="20160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85640" y="20167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63880" y="20178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836960" y="20566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rot="3418800">
              <a:off x="4672080" y="17802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1980000"/>
            </a:gra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663880" y="2016000"/>
              <a:ext cx="1178640" cy="124200"/>
              <a:chOff x="5663880" y="2016000"/>
              <a:chExt cx="1178640" cy="12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5663880" y="20160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776920" y="20167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63960" y="20178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59360" y="20566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rot="3418800">
              <a:off x="6336720" y="1780200"/>
              <a:ext cx="874080" cy="971280"/>
            </a:xfrm>
            <a:prstGeom prst="rect">
              <a:avLst/>
            </a:prstGeom>
            <a:solidFill>
              <a:srgbClr val="438fe3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151884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140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7602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455880" y="2130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524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1912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143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09960" y="34225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3a8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914400" y="201132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c3a8e"/>
                      </a:solidFill>
                    </a:lnR>
                    <a:lnT>
                      <a:noFill/>
                    </a:lnT>
                    <a:lnB w="5760">
                      <a:solidFill>
                        <a:srgbClr val="1c3a8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438f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c3a8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1c3a8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c3a8e"/>
                      </a:solidFill>
                    </a:lnL>
                    <a:lnR w="5760">
                      <a:solidFill>
                        <a:srgbClr val="1c3a8e"/>
                      </a:solidFill>
                    </a:lnR>
                    <a:lnT w="5760">
                      <a:solidFill>
                        <a:srgbClr val="1c3a8e"/>
                      </a:solidFill>
                    </a:lnT>
                    <a:lnB w="5760">
                      <a:solidFill>
                        <a:srgbClr val="1c3a8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52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6e5300"/>
                </a:gs>
                <a:gs pos="100000">
                  <a:srgbClr val="cc99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6" name=""/>
              <p:cNvSpPr/>
              <p:nvPr/>
            </p:nvSpPr>
            <p:spPr>
              <a:xfrm rot="20601600">
                <a:off x="1388160" y="2001960"/>
                <a:ext cx="5699160" cy="29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395" y="2248"/>
                    </a:moveTo>
                    <a:arcTo wR="10800" hR="10800" stAng="-3141777" swAng="5155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395" y="2248"/>
                    </a:moveTo>
                    <a:arcTo wR="10800" hR="10800" stAng="-3141777" swAng="5155523"/>
                  </a:path>
                </a:pathLst>
              </a:custGeom>
              <a:gradFill rotWithShape="0">
                <a:gsLst>
                  <a:gs pos="0">
                    <a:srgbClr val="76dcdc"/>
                  </a:gs>
                  <a:gs pos="100000">
                    <a:srgbClr val="33cccc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rot="20602200">
                <a:off x="1437840" y="2001240"/>
                <a:ext cx="5644080" cy="2952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28" y="12048"/>
                    </a:moveTo>
                    <a:arcTo wR="10800" hR="10800" stAng="398260" swAng="55868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28" y="12048"/>
                    </a:moveTo>
                    <a:arcTo wR="10800" hR="10800" stAng="398260" swAng="5586891"/>
                  </a:path>
                </a:pathLst>
              </a:custGeom>
              <a:gradFill rotWithShape="0">
                <a:gsLst>
                  <a:gs pos="0">
                    <a:srgbClr val="285689"/>
                  </a:gs>
                  <a:gs pos="100000">
                    <a:srgbClr val="438fe3"/>
                  </a:gs>
                </a:gsLst>
                <a:lin ang="125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20601600">
                <a:off x="1395720" y="2013840"/>
                <a:ext cx="5681520" cy="283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587" y="1342"/>
                    </a:moveTo>
                    <a:arcTo wR="10800" hR="10800" stAng="-7131749" swAng="40321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587" y="1342"/>
                    </a:moveTo>
                    <a:arcTo wR="10800" hR="10800" stAng="-7131749" swAng="4032112"/>
                  </a:path>
                </a:pathLst>
              </a:custGeom>
              <a:gradFill rotWithShape="0">
                <a:gsLst>
                  <a:gs pos="0">
                    <a:srgbClr val="306069"/>
                  </a:gs>
                  <a:gs pos="100000">
                    <a:srgbClr val="5cb8ca"/>
                  </a:gs>
                </a:gsLst>
                <a:lin ang="1449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20601600">
                <a:off x="2933640" y="2730240"/>
                <a:ext cx="2695680" cy="13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50000">
                    <a:srgbClr val="f5f5f5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924560" y="34099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1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29320" y="21909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2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658120" y="249552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3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grpSp>
            <p:nvGrpSpPr>
              <p:cNvPr id="563" name=""/>
              <p:cNvGrpSpPr/>
              <p:nvPr/>
            </p:nvGrpSpPr>
            <p:grpSpPr>
              <a:xfrm>
                <a:off x="604080" y="504360"/>
                <a:ext cx="7379640" cy="5581800"/>
                <a:chOff x="604080" y="504360"/>
                <a:chExt cx="7379640" cy="558180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5448240" y="3448440"/>
                  <a:ext cx="1773000" cy="1776240"/>
                </a:xfrm>
                <a:custGeom>
                  <a:avLst/>
                  <a:gdLst/>
                  <a:ahLst/>
                  <a:rect l="l" t="t" r="r" b="b"/>
                  <a:pathLst>
                    <a:path w="1117" h="1119">
                      <a:moveTo>
                        <a:pt x="21" y="888"/>
                      </a:moveTo>
                      <a:lnTo>
                        <a:pt x="1117" y="0"/>
                      </a:lnTo>
                      <a:lnTo>
                        <a:pt x="1093" y="256"/>
                      </a:lnTo>
                      <a:cubicBezTo>
                        <a:pt x="1026" y="373"/>
                        <a:pt x="896" y="560"/>
                        <a:pt x="717" y="704"/>
                      </a:cubicBezTo>
                      <a:cubicBezTo>
                        <a:pt x="538" y="848"/>
                        <a:pt x="133" y="1088"/>
                        <a:pt x="17" y="1119"/>
                      </a:cubicBezTo>
                      <a:cubicBezTo>
                        <a:pt x="0" y="1037"/>
                        <a:pt x="21" y="888"/>
                        <a:pt x="21" y="888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5a5a5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rot="20539200">
                  <a:off x="1022400" y="1408320"/>
                  <a:ext cx="6542640" cy="3773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9808" y="16758"/>
                      </a:moveTo>
                      <a:arcTo wR="10800" hR="10800" stAng="2008784" swAng="280024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9808" y="16758"/>
                      </a:moveTo>
                      <a:arcTo wR="10800" hR="10800" stAng="2008784" swAng="2800242"/>
                    </a:path>
                  </a:pathLst>
                </a:custGeom>
                <a:gradFill rotWithShape="0">
                  <a:gsLst>
                    <a:gs pos="0">
                      <a:srgbClr val="454545"/>
                    </a:gs>
                    <a:gs pos="100000">
                      <a:srgbClr val="969696"/>
                    </a:gs>
                  </a:gsLst>
                  <a:lin ang="11862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582800" y="3924720"/>
                  <a:ext cx="924120" cy="1311120"/>
                </a:xfrm>
                <a:custGeom>
                  <a:avLst/>
                  <a:gdLst/>
                  <a:ahLst/>
                  <a:rect l="l" t="t" r="r" b="b"/>
                  <a:pathLst>
                    <a:path w="582" h="826">
                      <a:moveTo>
                        <a:pt x="582" y="572"/>
                      </a:moveTo>
                      <a:lnTo>
                        <a:pt x="562" y="826"/>
                      </a:lnTo>
                      <a:lnTo>
                        <a:pt x="0" y="42"/>
                      </a:lnTo>
                      <a:lnTo>
                        <a:pt x="90" y="0"/>
                      </a:lnTo>
                      <a:lnTo>
                        <a:pt x="582" y="5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54545"/>
                    </a:gs>
                    <a:gs pos="100000">
                      <a:srgbClr val="96969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353200" y="3715200"/>
                  <a:ext cx="811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Verdana"/>
                      <a:ea typeface="宋体"/>
                    </a:rPr>
                    <a:t>Text4</a:t>
                  </a:r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3143520" y="440064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5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27280" y="3990960"/>
                <a:ext cx="838440" cy="1108080"/>
              </a:xfrm>
              <a:custGeom>
                <a:avLst/>
                <a:gdLst/>
                <a:ahLst/>
                <a:rect l="l" t="t" r="r" b="b"/>
                <a:pathLst>
                  <a:path w="528" h="698">
                    <a:moveTo>
                      <a:pt x="0" y="34"/>
                    </a:moveTo>
                    <a:lnTo>
                      <a:pt x="248" y="546"/>
                    </a:lnTo>
                    <a:lnTo>
                      <a:pt x="256" y="698"/>
                    </a:lnTo>
                    <a:lnTo>
                      <a:pt x="435" y="642"/>
                    </a:lnTo>
                    <a:lnTo>
                      <a:pt x="528" y="594"/>
                    </a:lnTo>
                    <a:lnTo>
                      <a:pt x="1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1c3a8e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20601600">
                <a:off x="3036600" y="2981520"/>
                <a:ext cx="2587680" cy="1112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573" name="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d4d4d4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8fe3"/>
                </a:gs>
                <a:gs pos="50000">
                  <a:srgbClr val="d0e2f7"/>
                </a:gs>
                <a:gs pos="100000">
                  <a:srgbClr val="438f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656160" y="28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16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582" name="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2760"/>
                <a:ext cx="1523880" cy="1520640"/>
                <a:chOff x="2819520" y="4082760"/>
                <a:chExt cx="1523880" cy="152064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27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1a68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93760" y="41079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33cc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2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fe3"/>
                    </a:gs>
                    <a:gs pos="100000">
                      <a:srgbClr val="22497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438f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905120"/>
            <a:ext cx="5410080" cy="664920"/>
            <a:chOff x="1905120" y="1905120"/>
            <a:chExt cx="5410080" cy="664920"/>
          </a:xfrm>
        </p:grpSpPr>
        <p:grpSp>
          <p:nvGrpSpPr>
            <p:cNvPr id="89" name=""/>
            <p:cNvGrpSpPr/>
            <p:nvPr/>
          </p:nvGrpSpPr>
          <p:grpSpPr>
            <a:xfrm>
              <a:off x="1905120" y="1905120"/>
              <a:ext cx="762120" cy="664920"/>
              <a:chOff x="1905120" y="1905120"/>
              <a:chExt cx="762120" cy="664920"/>
            </a:xfrm>
          </p:grpSpPr>
          <p:sp>
            <p:nvSpPr>
              <p:cNvPr id="90" name=""/>
              <p:cNvSpPr/>
              <p:nvPr/>
            </p:nvSpPr>
            <p:spPr>
              <a:xfrm>
                <a:off x="1911240" y="19162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05120" y="19051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49400" y="19443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2514600" y="251424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08560" y="19810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03840" y="200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905120" y="2819520"/>
            <a:ext cx="5410080" cy="664920"/>
            <a:chOff x="1905120" y="2819520"/>
            <a:chExt cx="5410080" cy="664920"/>
          </a:xfrm>
        </p:grpSpPr>
        <p:grpSp>
          <p:nvGrpSpPr>
            <p:cNvPr id="97" name=""/>
            <p:cNvGrpSpPr/>
            <p:nvPr/>
          </p:nvGrpSpPr>
          <p:grpSpPr>
            <a:xfrm>
              <a:off x="1905120" y="2819520"/>
              <a:ext cx="762120" cy="664920"/>
              <a:chOff x="1905120" y="2819520"/>
              <a:chExt cx="762120" cy="664920"/>
            </a:xfrm>
          </p:grpSpPr>
          <p:sp>
            <p:nvSpPr>
              <p:cNvPr id="98" name=""/>
              <p:cNvSpPr/>
              <p:nvPr/>
            </p:nvSpPr>
            <p:spPr>
              <a:xfrm>
                <a:off x="1911240" y="28306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05120" y="28195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49400" y="28587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2514600" y="342864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8560" y="289548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03840" y="291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905120" y="3711600"/>
            <a:ext cx="5410080" cy="665280"/>
            <a:chOff x="1905120" y="3711600"/>
            <a:chExt cx="5410080" cy="665280"/>
          </a:xfrm>
        </p:grpSpPr>
        <p:grpSp>
          <p:nvGrpSpPr>
            <p:cNvPr id="105" name=""/>
            <p:cNvGrpSpPr/>
            <p:nvPr/>
          </p:nvGrpSpPr>
          <p:grpSpPr>
            <a:xfrm>
              <a:off x="1905120" y="3711600"/>
              <a:ext cx="762120" cy="665280"/>
              <a:chOff x="1905120" y="3711600"/>
              <a:chExt cx="762120" cy="665280"/>
            </a:xfrm>
          </p:grpSpPr>
          <p:sp>
            <p:nvSpPr>
              <p:cNvPr id="106" name=""/>
              <p:cNvSpPr/>
              <p:nvPr/>
            </p:nvSpPr>
            <p:spPr>
              <a:xfrm>
                <a:off x="1911240" y="37227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5120" y="3711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49400" y="375084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2514600" y="4321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8560" y="3787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0384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05120" y="4626000"/>
            <a:ext cx="5410080" cy="665280"/>
            <a:chOff x="1905120" y="4626000"/>
            <a:chExt cx="5410080" cy="665280"/>
          </a:xfrm>
        </p:grpSpPr>
        <p:grpSp>
          <p:nvGrpSpPr>
            <p:cNvPr id="113" name=""/>
            <p:cNvGrpSpPr/>
            <p:nvPr/>
          </p:nvGrpSpPr>
          <p:grpSpPr>
            <a:xfrm>
              <a:off x="1905120" y="4626000"/>
              <a:ext cx="762120" cy="665280"/>
              <a:chOff x="1905120" y="4626000"/>
              <a:chExt cx="762120" cy="665280"/>
            </a:xfrm>
          </p:grpSpPr>
          <p:sp>
            <p:nvSpPr>
              <p:cNvPr id="114" name=""/>
              <p:cNvSpPr/>
              <p:nvPr/>
            </p:nvSpPr>
            <p:spPr>
              <a:xfrm>
                <a:off x="1911240" y="463716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905120" y="4626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949400" y="466524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514600" y="52354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08560" y="47023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03840" y="472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3cc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3a8e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57F3-15E0-400E-96E7-53C3B57027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c3a8e"/>
                    </a:gs>
                    <a:gs pos="100000">
                      <a:srgbClr val="cc99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c3a8e"/>
                  </a:gs>
                  <a:gs pos="100000">
                    <a:srgbClr val="cc9900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259056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1" name=""/>
          <p:cNvSpPr/>
          <p:nvPr/>
        </p:nvSpPr>
        <p:spPr>
          <a:xfrm>
            <a:off x="234000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cccc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1c3a8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8fe3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438fe3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38f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Master]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438fe3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24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d5c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86262"/>
                    </a:gs>
                    <a:gs pos="100000">
                      <a:srgbClr val="33cc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cccc"/>
                    </a:gs>
                    <a:gs pos="100000">
                      <a:srgbClr val="a3e7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c3a8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cd7f4"/>
                  </a:gs>
                  <a:gs pos="100000">
                    <a:srgbClr val="438fe3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38fe3">
                      <a:alpha val="48235"/>
                    </a:srgbClr>
                  </a:gs>
                  <a:gs pos="100000">
                    <a:srgbClr val="3470b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38fe3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38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eded"/>
              </a:gs>
              <a:gs pos="100000">
                <a:srgbClr val="33cc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43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146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38fe3"/>
                </a:gs>
                <a:gs pos="100000">
                  <a:srgbClr val="142c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483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c3a8e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cxnSp>
          <p:nvCxnSpPr>
            <p:cNvPr id="156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c3a8e"/>
              </a:solidFill>
              <a:miter/>
            </a:ln>
          </p:spPr>
        </p:cxnSp>
        <p:sp>
          <p:nvSpPr>
            <p:cNvPr id="157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1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cc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1b6d6d"/>
                  </a:gs>
                  <a:gs pos="50000">
                    <a:srgbClr val="33cccc"/>
                  </a:gs>
                  <a:gs pos="100000">
                    <a:srgbClr val="1b6d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e4168"/>
                </a:gs>
                <a:gs pos="50000">
                  <a:srgbClr val="438fe3"/>
                </a:gs>
                <a:gs pos="100000">
                  <a:srgbClr val="1e41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06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1c3a8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3a8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20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600"/>
                  </a:gs>
                  <a:gs pos="50000">
                    <a:srgbClr val="cc9900"/>
                  </a:gs>
                  <a:gs pos="100000">
                    <a:srgbClr val="5e4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5e5e"/>
                  </a:gs>
                  <a:gs pos="50000">
                    <a:srgbClr val="33cccc"/>
                  </a:gs>
                  <a:gs pos="100000">
                    <a:srgbClr val="175e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e4168"/>
                  </a:gs>
                  <a:gs pos="50000">
                    <a:srgbClr val="438fe3"/>
                  </a:gs>
                  <a:gs pos="100000">
                    <a:srgbClr val="1e416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38f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36e00"/>
                  </a:gs>
                  <a:gs pos="50000">
                    <a:srgbClr val="cc9900"/>
                  </a:gs>
                  <a:gs pos="100000">
                    <a:srgbClr val="936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249393"/>
                  </a:gs>
                  <a:gs pos="50000">
                    <a:srgbClr val="33cccc"/>
                  </a:gs>
                  <a:gs pos="100000">
                    <a:srgbClr val="2493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6c6c6c"/>
                  </a:gs>
                  <a:gs pos="50000">
                    <a:srgbClr val="969696"/>
                  </a:gs>
                  <a:gs pos="100000">
                    <a:srgbClr val="6c6c6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3067a4"/>
                  </a:gs>
                  <a:gs pos="50000">
                    <a:srgbClr val="438fe3"/>
                  </a:gs>
                  <a:gs pos="100000">
                    <a:srgbClr val="3067a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010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35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45cfc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600"/>
                </a:gs>
                <a:gs pos="50000">
                  <a:srgbClr val="cc9900"/>
                </a:gs>
                <a:gs pos="100000">
                  <a:srgbClr val="5e4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75e5e"/>
                </a:gs>
                <a:gs pos="5000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1c1c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1c3a8e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48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1c3a8e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ccc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c3a8e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22:57:0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