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png" ContentType="image/png"/>
  <Override PartName="/ppt/media/image7.gif" ContentType="image/gif"/>
  <Override PartName="/ppt/media/image8.jpeg" ContentType="image/jpeg"/>
  <Override PartName="/ppt/media/image9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8ED-1B4A-461E-8EDE-9945F8BB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60" y="366804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B31-A390-4618-BFC7-709A686E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60" y="366804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35840" y="366804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A30-1230-48CF-9E7B-72609F1C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99200" y="342900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22080" y="342900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60" y="366804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99200" y="366804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22080" y="366804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E27-561F-453B-A0D1-49DA4E7D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58D6-F1E6-4429-B542-66C8327D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3698-FB86-4329-BF10-63F8430D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55FD-298A-4365-BDA5-D1EB31A3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6308-8554-4A14-BA1B-69E6D5F5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BDAB-A766-4E47-A711-C6C3B964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960" y="533160"/>
            <a:ext cx="4800600" cy="130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47C9-ABC7-4CCF-A3AC-B2A799B6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960" y="366804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181B-0DCC-4EFA-8D12-3958165D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258-CF34-4F76-BF47-8B8DE63E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35840" y="366804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1460-6349-4BF6-B708-12952B60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960" y="366804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BEFC-6DE8-415C-BFB5-1523146E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960" y="366804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19BC-E193-46E4-A1A9-2DD45578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960" y="366804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35840" y="366804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56A1-ED3C-438B-9C4D-9E39A5D1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99200" y="342900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22080" y="342900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960" y="366804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699200" y="366804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322080" y="366804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1C27-F757-4A68-B260-8E147F6B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18A-AC80-41C3-93B5-67727A2E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49E-D67B-4419-B4D2-1BBCB751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4C4-5EC5-45E9-99EE-EA9061B9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960" y="533160"/>
            <a:ext cx="4800600" cy="130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511-7BE6-46FE-BABA-D0B4AA48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60" y="366804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C11-491E-4801-9C2C-D15CE763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35840" y="366804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2ED-76B9-4D69-9A85-E3CF3374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60" y="366804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87A-2BC5-4356-AFB2-6E7A6C7B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5027-1B56-4E08-A24B-E58E35AF4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6E30-75E4-4C11-9640-433F83BA8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Hemi Head 426"/>
              </a:rPr>
              <a:t>Click to edit the title text format</a:t>
            </a: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d7e"/>
                </a:solidFill>
                <a:latin typeface="Arial Black"/>
              </a:rPr>
              <a:t>Click to edit the outline text format</a:t>
            </a: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7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vessel" descr=""/>
          <p:cNvPicPr/>
          <p:nvPr/>
        </p:nvPicPr>
        <p:blipFill>
          <a:blip r:embed="rId2"/>
          <a:stretch/>
        </p:blipFill>
        <p:spPr>
          <a:xfrm>
            <a:off x="298440" y="3772080"/>
            <a:ext cx="4745160" cy="2971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66294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d7e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mi Head 426"/>
              </a:rPr>
              <a:t>A Mad Scientist’s Chemistry Presentation</a:t>
            </a:r>
            <a:endParaRPr b="0" lang="en-US" sz="44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320" y="274320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d7e"/>
                </a:solidFill>
                <a:latin typeface="Arial Black"/>
              </a:rPr>
              <a:t>Your Subtitle Goes Here</a:t>
            </a:r>
            <a:endParaRPr b="0" lang="en-US" sz="24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800600"/>
            <a:ext cx="1676520" cy="16765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a8e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mad_scientist_swirling_beaker_example" descr=""/>
          <p:cNvPicPr/>
          <p:nvPr/>
        </p:nvPicPr>
        <p:blipFill>
          <a:blip r:embed="rId3"/>
          <a:stretch/>
        </p:blipFill>
        <p:spPr>
          <a:xfrm>
            <a:off x="7467480" y="5029200"/>
            <a:ext cx="857520" cy="1257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50520" y="33847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医疗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实验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080" y="533520"/>
            <a:ext cx="1828800" cy="18288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a8e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Your Topic Goes Here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mad_scientist_shaking_test_tube_example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93" name="molecule" descr=""/>
          <p:cNvPicPr/>
          <p:nvPr/>
        </p:nvPicPr>
        <p:blipFill>
          <a:blip r:embed="rId3"/>
          <a:stretch/>
        </p:blipFill>
        <p:spPr>
          <a:xfrm>
            <a:off x="6553080" y="5362560"/>
            <a:ext cx="2438640" cy="1371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molecule" descr=""/>
          <p:cNvPicPr/>
          <p:nvPr/>
        </p:nvPicPr>
        <p:blipFill>
          <a:blip r:embed="rId2"/>
          <a:stretch/>
        </p:blipFill>
        <p:spPr>
          <a:xfrm>
            <a:off x="2819520" y="4267080"/>
            <a:ext cx="3276360" cy="1843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0676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d7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mi Head 426"/>
              </a:rPr>
              <a:t>Transitional Page</a:t>
            </a: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040" y="563868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1828800"/>
            <a:ext cx="1600200" cy="1600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a8e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mad_scientist_head_inquisitive_example" descr=""/>
          <p:cNvPicPr/>
          <p:nvPr/>
        </p:nvPicPr>
        <p:blipFill>
          <a:blip r:embed="rId3"/>
          <a:stretch/>
        </p:blipFill>
        <p:spPr>
          <a:xfrm>
            <a:off x="3962520" y="2133720"/>
            <a:ext cx="1028520" cy="97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00560" y="685800"/>
            <a:ext cx="3124440" cy="1527120"/>
          </a:xfrm>
          <a:prstGeom prst="wedgeRectCallout">
            <a:avLst>
              <a:gd name="adj1" fmla="val -53810"/>
              <a:gd name="adj2" fmla="val 747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685800"/>
            <a:ext cx="295272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have several expressions and can provide additional comments for your presentation, search the Premium Gold Site for more animations of m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Mad Scient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87720" y="6310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Your Topic Goes Here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mad_scientist_thinking_equation_example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1143000" cy="1200240"/>
          </a:xfrm>
          <a:prstGeom prst="rect">
            <a:avLst/>
          </a:prstGeom>
          <a:ln w="0">
            <a:noFill/>
          </a:ln>
        </p:spPr>
      </p:pic>
      <p:pic>
        <p:nvPicPr>
          <p:cNvPr id="105" name="molecule" descr=""/>
          <p:cNvPicPr/>
          <p:nvPr/>
        </p:nvPicPr>
        <p:blipFill>
          <a:blip r:embed="rId3"/>
          <a:stretch/>
        </p:blipFill>
        <p:spPr>
          <a:xfrm>
            <a:off x="6553080" y="5362560"/>
            <a:ext cx="2438640" cy="1371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5d7e"/>
                </a:solidFill>
                <a:latin typeface="Hemi Head 426"/>
              </a:rPr>
              <a:t>使用规范说明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133-6BFF-42B1-96B9-C0F33113B6DE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438280" y="1143000"/>
            <a:ext cx="1828800" cy="990720"/>
          </a:xfrm>
          <a:prstGeom prst="wedgeRectCallout">
            <a:avLst>
              <a:gd name="adj1" fmla="val -41231"/>
              <a:gd name="adj2" fmla="val 804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Hemi Head 426"/>
              </a:rPr>
              <a:t>Elements Page</a:t>
            </a: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514240" y="1218960"/>
            <a:ext cx="1676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d7e"/>
                </a:solidFill>
                <a:latin typeface="Arial Black"/>
              </a:rPr>
              <a:t>I’m a real caffeine molecule</a:t>
            </a: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pic>
        <p:nvPicPr>
          <p:cNvPr id="112" name="beeker_coverslide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2438280" cy="1950840"/>
          </a:xfrm>
          <a:prstGeom prst="rect">
            <a:avLst/>
          </a:prstGeom>
          <a:ln w="0">
            <a:noFill/>
          </a:ln>
        </p:spPr>
      </p:pic>
      <p:pic>
        <p:nvPicPr>
          <p:cNvPr id="113" name="printslide" descr=""/>
          <p:cNvPicPr/>
          <p:nvPr/>
        </p:nvPicPr>
        <p:blipFill>
          <a:blip r:embed="rId2"/>
          <a:stretch/>
        </p:blipFill>
        <p:spPr>
          <a:xfrm>
            <a:off x="6400800" y="4648320"/>
            <a:ext cx="2514600" cy="2012760"/>
          </a:xfrm>
          <a:prstGeom prst="rect">
            <a:avLst/>
          </a:prstGeom>
          <a:ln w="0">
            <a:noFill/>
          </a:ln>
        </p:spPr>
      </p:pic>
      <p:pic>
        <p:nvPicPr>
          <p:cNvPr id="114" name="slide" descr=""/>
          <p:cNvPicPr/>
          <p:nvPr/>
        </p:nvPicPr>
        <p:blipFill>
          <a:blip r:embed="rId3"/>
          <a:stretch/>
        </p:blipFill>
        <p:spPr>
          <a:xfrm>
            <a:off x="3581280" y="464832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115" name="vessel" descr=""/>
          <p:cNvPicPr/>
          <p:nvPr/>
        </p:nvPicPr>
        <p:blipFill>
          <a:blip r:embed="rId4"/>
          <a:stretch/>
        </p:blipFill>
        <p:spPr>
          <a:xfrm>
            <a:off x="4191120" y="2438280"/>
            <a:ext cx="2886120" cy="1901880"/>
          </a:xfrm>
          <a:prstGeom prst="rect">
            <a:avLst/>
          </a:prstGeom>
          <a:ln w="0">
            <a:noFill/>
          </a:ln>
        </p:spPr>
      </p:pic>
      <p:pic>
        <p:nvPicPr>
          <p:cNvPr id="116" name="molecule" descr=""/>
          <p:cNvPicPr/>
          <p:nvPr/>
        </p:nvPicPr>
        <p:blipFill>
          <a:blip r:embed="rId5"/>
          <a:stretch/>
        </p:blipFill>
        <p:spPr>
          <a:xfrm>
            <a:off x="762120" y="2362320"/>
            <a:ext cx="3200400" cy="1800000"/>
          </a:xfrm>
          <a:prstGeom prst="rect">
            <a:avLst/>
          </a:prstGeom>
          <a:ln w="0">
            <a:noFill/>
          </a:ln>
        </p:spPr>
      </p:pic>
      <p:pic>
        <p:nvPicPr>
          <p:cNvPr id="117" name="mad_scientist_swirling_beaker_example" descr=""/>
          <p:cNvPicPr/>
          <p:nvPr/>
        </p:nvPicPr>
        <p:blipFill>
          <a:blip r:embed="rId6"/>
          <a:stretch/>
        </p:blipFill>
        <p:spPr>
          <a:xfrm>
            <a:off x="5105520" y="304920"/>
            <a:ext cx="857160" cy="1257120"/>
          </a:xfrm>
          <a:prstGeom prst="rect">
            <a:avLst/>
          </a:prstGeom>
          <a:ln w="0">
            <a:noFill/>
          </a:ln>
        </p:spPr>
      </p:pic>
      <p:pic>
        <p:nvPicPr>
          <p:cNvPr id="118" name="mad_scientist_shaking_test_tube_example" descr=""/>
          <p:cNvPicPr/>
          <p:nvPr/>
        </p:nvPicPr>
        <p:blipFill>
          <a:blip r:embed="rId7"/>
          <a:stretch/>
        </p:blipFill>
        <p:spPr>
          <a:xfrm>
            <a:off x="6095880" y="30492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mad_scientist_head_inquisitive_example" descr=""/>
          <p:cNvPicPr/>
          <p:nvPr/>
        </p:nvPicPr>
        <p:blipFill>
          <a:blip r:embed="rId8"/>
          <a:stretch/>
        </p:blipFill>
        <p:spPr>
          <a:xfrm>
            <a:off x="7162920" y="304920"/>
            <a:ext cx="1028520" cy="971280"/>
          </a:xfrm>
          <a:prstGeom prst="rect">
            <a:avLst/>
          </a:prstGeom>
          <a:ln w="0">
            <a:noFill/>
          </a:ln>
        </p:spPr>
      </p:pic>
      <p:pic>
        <p:nvPicPr>
          <p:cNvPr id="120" name="mad_scientist_thinking_equation_example" descr=""/>
          <p:cNvPicPr/>
          <p:nvPr/>
        </p:nvPicPr>
        <p:blipFill>
          <a:blip r:embed="rId9"/>
          <a:stretch/>
        </p:blipFill>
        <p:spPr>
          <a:xfrm>
            <a:off x="7162920" y="1371600"/>
            <a:ext cx="1143000" cy="1200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15:19:2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00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