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A4A6-074B-4580-80F5-E3943A3EA4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34BC-20CF-4B2A-B9F0-3F4C8FD8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51C2C-02D3-4817-B4F5-C41BAF37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EBF8-E59A-4F9C-B477-0244240E87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3CDB-3FDA-4DDD-8BA8-C66E2CE7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1F60-42B0-452D-B952-C2B97B6B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4A3E-51D8-401A-902C-0B55B3C6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D697E-40ED-4716-AEFB-82FF90C9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4F40-DD47-4774-BDB3-4EB48635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F1D9D-2717-460D-BD58-8131A318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CF71-0928-40C7-8BD2-2B32BC07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C708-F34C-4694-8402-3C2F5862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78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D998-D12B-4417-B46B-7EB1E593294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749B-A611-40C9-B443-92E37FCDD07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760120" y="77796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疗卫生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d7b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28800" y="2000160"/>
            <a:ext cx="4797360" cy="3429000"/>
            <a:chOff x="928800" y="2000160"/>
            <a:chExt cx="4797360" cy="3429000"/>
          </a:xfrm>
        </p:grpSpPr>
        <p:sp>
          <p:nvSpPr>
            <p:cNvPr id="43" name=""/>
            <p:cNvSpPr/>
            <p:nvPr/>
          </p:nvSpPr>
          <p:spPr>
            <a:xfrm>
              <a:off x="928800" y="2387160"/>
              <a:ext cx="4797360" cy="6609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8560" y="2000160"/>
              <a:ext cx="3358080" cy="77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06000" y="2037960"/>
              <a:ext cx="3283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28800" y="3577680"/>
              <a:ext cx="4797360" cy="6609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68560" y="3190320"/>
              <a:ext cx="3358080" cy="77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06000" y="3228120"/>
              <a:ext cx="3283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28800" y="4768200"/>
              <a:ext cx="4797360" cy="6609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68560" y="4380840"/>
              <a:ext cx="3358080" cy="77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06000" y="4418640"/>
              <a:ext cx="3283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" name="直接箭头连接符 15"/>
          <p:cNvCxnSpPr/>
          <p:nvPr/>
        </p:nvCxnSpPr>
        <p:spPr>
          <a:xfrm>
            <a:off x="5725800" y="2571840"/>
            <a:ext cx="1215000" cy="6433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53" name="直接箭头连接符 16"/>
          <p:cNvCxnSpPr/>
          <p:nvPr/>
        </p:nvCxnSpPr>
        <p:spPr>
          <a:xfrm flipV="1">
            <a:off x="5725800" y="3357000"/>
            <a:ext cx="1215000" cy="50076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54" name="直接箭头连接符 17"/>
          <p:cNvCxnSpPr/>
          <p:nvPr/>
        </p:nvCxnSpPr>
        <p:spPr>
          <a:xfrm flipV="1">
            <a:off x="5726160" y="3499560"/>
            <a:ext cx="1357920" cy="17154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55" name="TextBox 18"/>
          <p:cNvSpPr/>
          <p:nvPr/>
        </p:nvSpPr>
        <p:spPr>
          <a:xfrm>
            <a:off x="7226280" y="3143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1746360" y="6216480"/>
            <a:ext cx="56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黑体"/>
                <a:ea typeface="黑体"/>
              </a:rPr>
              <a:t>锐普论坛</a:t>
            </a:r>
            <a:r>
              <a:rPr b="0" lang="en-US" sz="1400" spc="-1" strike="noStrike">
                <a:solidFill>
                  <a:srgbClr val="7f7f7f"/>
                </a:solidFill>
                <a:latin typeface="黑体"/>
                <a:ea typeface="黑体"/>
              </a:rPr>
              <a:t>chinakui</a:t>
            </a:r>
            <a:r>
              <a:rPr b="0" lang="zh-CN" sz="1400" spc="-1" strike="noStrike">
                <a:solidFill>
                  <a:srgbClr val="7f7f7f"/>
                </a:solidFill>
                <a:latin typeface="黑体"/>
                <a:ea typeface="黑体"/>
              </a:rPr>
              <a:t>发布：</a:t>
            </a:r>
            <a:r>
              <a:rPr b="0" lang="en-US" sz="1400" spc="-1" strike="noStrike">
                <a:solidFill>
                  <a:srgbClr val="7f7f7f"/>
                </a:solidFill>
                <a:latin typeface="黑体"/>
                <a:ea typeface="黑体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d7b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066680" y="185724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3386160" y="185724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5715000" y="185724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25"/>
          <p:cNvSpPr/>
          <p:nvPr/>
        </p:nvSpPr>
        <p:spPr>
          <a:xfrm>
            <a:off x="1071720" y="2666880"/>
            <a:ext cx="2071440" cy="2428920"/>
          </a:xfrm>
          <a:custGeom>
            <a:avLst/>
            <a:gdLst>
              <a:gd name="textAreaLeft" fmla="*/ 43560 w 2071440"/>
              <a:gd name="textAreaRight" fmla="*/ 2027880 w 2071440"/>
              <a:gd name="textAreaTop" fmla="*/ 43560 h 2428920"/>
              <a:gd name="textAreaBottom" fmla="*/ 2385360 h 2428920"/>
            </a:gdLst>
            <a:ahLst/>
            <a:rect l="textAreaLeft" t="textAreaTop" r="textAreaRight" b="textAreaBottom"/>
            <a:pathLst>
              <a:path w="21600" h="25327">
                <a:moveTo>
                  <a:pt x="1557" y="0"/>
                </a:moveTo>
                <a:arcTo wR="1557" hR="1557" stAng="16200000" swAng="-5400000"/>
                <a:lnTo>
                  <a:pt x="0" y="23770"/>
                </a:lnTo>
                <a:arcTo wR="1557" hR="1557" stAng="10800000" swAng="-5400000"/>
                <a:lnTo>
                  <a:pt x="20043" y="25327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26"/>
          <p:cNvSpPr/>
          <p:nvPr/>
        </p:nvSpPr>
        <p:spPr>
          <a:xfrm>
            <a:off x="3429000" y="2666880"/>
            <a:ext cx="2071800" cy="2428920"/>
          </a:xfrm>
          <a:custGeom>
            <a:avLst/>
            <a:gdLst>
              <a:gd name="textAreaLeft" fmla="*/ 43560 w 2071800"/>
              <a:gd name="textAreaRight" fmla="*/ 2028240 w 2071800"/>
              <a:gd name="textAreaTop" fmla="*/ 43560 h 2428920"/>
              <a:gd name="textAreaBottom" fmla="*/ 2385360 h 2428920"/>
            </a:gdLst>
            <a:ahLst/>
            <a:rect l="textAreaLeft" t="textAreaTop" r="textAreaRight" b="textAreaBottom"/>
            <a:pathLst>
              <a:path w="21600" h="25323">
                <a:moveTo>
                  <a:pt x="1557" y="0"/>
                </a:moveTo>
                <a:arcTo wR="1557" hR="1557" stAng="16200000" swAng="-5400000"/>
                <a:lnTo>
                  <a:pt x="0" y="23766"/>
                </a:lnTo>
                <a:arcTo wR="1557" hR="1557" stAng="10800000" swAng="-5400000"/>
                <a:lnTo>
                  <a:pt x="20043" y="25323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27"/>
          <p:cNvSpPr/>
          <p:nvPr/>
        </p:nvSpPr>
        <p:spPr>
          <a:xfrm>
            <a:off x="5715000" y="2666880"/>
            <a:ext cx="2071800" cy="2428920"/>
          </a:xfrm>
          <a:custGeom>
            <a:avLst/>
            <a:gdLst>
              <a:gd name="textAreaLeft" fmla="*/ 43560 w 2071800"/>
              <a:gd name="textAreaRight" fmla="*/ 2028240 w 2071800"/>
              <a:gd name="textAreaTop" fmla="*/ 43560 h 2428920"/>
              <a:gd name="textAreaBottom" fmla="*/ 2385360 h 2428920"/>
            </a:gdLst>
            <a:ahLst/>
            <a:rect l="textAreaLeft" t="textAreaTop" r="textAreaRight" b="textAreaBottom"/>
            <a:pathLst>
              <a:path w="21600" h="25323">
                <a:moveTo>
                  <a:pt x="1557" y="0"/>
                </a:moveTo>
                <a:arcTo wR="1557" hR="1557" stAng="16200000" swAng="-5400000"/>
                <a:lnTo>
                  <a:pt x="0" y="23766"/>
                </a:lnTo>
                <a:arcTo wR="1557" hR="1557" stAng="10800000" swAng="-5400000"/>
                <a:lnTo>
                  <a:pt x="20043" y="25323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流程图: 摘录 28"/>
          <p:cNvSpPr/>
          <p:nvPr/>
        </p:nvSpPr>
        <p:spPr>
          <a:xfrm rot="5400000">
            <a:off x="3117240" y="4692600"/>
            <a:ext cx="349200" cy="2984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流程图: 摘录 29"/>
          <p:cNvSpPr/>
          <p:nvPr/>
        </p:nvSpPr>
        <p:spPr>
          <a:xfrm rot="5400000">
            <a:off x="5474160" y="4725000"/>
            <a:ext cx="350640" cy="2984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1746360" y="6216480"/>
            <a:ext cx="56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黑体"/>
                <a:ea typeface="黑体"/>
              </a:rPr>
              <a:t>锐普论坛</a:t>
            </a:r>
            <a:r>
              <a:rPr b="0" lang="en-US" sz="1400" spc="-1" strike="noStrike">
                <a:solidFill>
                  <a:srgbClr val="7f7f7f"/>
                </a:solidFill>
                <a:latin typeface="黑体"/>
                <a:ea typeface="黑体"/>
              </a:rPr>
              <a:t>chinakui</a:t>
            </a:r>
            <a:r>
              <a:rPr b="0" lang="zh-CN" sz="1400" spc="-1" strike="noStrike">
                <a:solidFill>
                  <a:srgbClr val="7f7f7f"/>
                </a:solidFill>
                <a:latin typeface="黑体"/>
                <a:ea typeface="黑体"/>
              </a:rPr>
              <a:t>发布：</a:t>
            </a:r>
            <a:r>
              <a:rPr b="0" lang="en-US" sz="1400" spc="-1" strike="noStrike">
                <a:solidFill>
                  <a:srgbClr val="7f7f7f"/>
                </a:solidFill>
                <a:latin typeface="黑体"/>
                <a:ea typeface="黑体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78ff"/>
                </a:solidFill>
                <a:latin typeface="Calibri"/>
              </a:rPr>
              <a:t>使用规范说明</a:t>
            </a:r>
            <a:endParaRPr b="1" lang="en-US" sz="4400" spc="-1" strike="noStrike">
              <a:solidFill>
                <a:srgbClr val="0078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A34E-9271-44CC-9281-4323D1AE31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6"/>
          <p:cNvSpPr/>
          <p:nvPr/>
        </p:nvSpPr>
        <p:spPr>
          <a:xfrm>
            <a:off x="3393720" y="2714760"/>
            <a:ext cx="55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57760" y="1357200"/>
            <a:ext cx="45720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0d7bff"/>
                </a:solidFill>
                <a:latin typeface="Arial"/>
              </a:rPr>
              <a:t>Thank You!</a:t>
            </a:r>
            <a:endParaRPr b="1" lang="en-US" sz="5400" spc="-1" strike="noStrike">
              <a:solidFill>
                <a:srgbClr val="0078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7:3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57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