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A8D0-D8E7-4F83-9E17-FBFF408715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55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52480" y="5841000"/>
            <a:ext cx="55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1557-8939-4C17-9987-80B5B330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52480" y="584100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2960" y="584100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712F-E3D5-4B01-878B-B5A7CDC9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33480" y="556236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14480" y="556236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52480" y="584100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33480" y="584100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14480" y="584100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75EC-35F6-42C2-90C2-EBF3DDA96B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B5BC1-BAF6-4201-9C38-F2C47D56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52480" y="5562360"/>
            <a:ext cx="5562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F964C-569A-4027-8C01-D6992BB0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5562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FC1A7-92BF-40B5-B697-3DC84D28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CADBF-D945-4C16-8AB8-13CE97A8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86BA8-7AAE-41DB-BE19-DF61F3BD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4849920"/>
            <a:ext cx="7391520" cy="33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44A06-9DFA-42CE-B99C-8DCC3EA1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584100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02327-0B9B-47F6-8070-F1E588C4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52480" y="5562360"/>
            <a:ext cx="5562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39E7-EDB6-4AA5-9ADE-0C4E729F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2960" y="584100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A9CC4-90C9-4A43-95FE-E378C79D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52480" y="5841000"/>
            <a:ext cx="55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BFEBE-28A0-459D-85F3-EDA7A765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55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52480" y="5841000"/>
            <a:ext cx="55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657AC-B39F-4984-9339-441D495F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52480" y="584100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02960" y="584100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B6D8C-7CF5-4E40-926D-88836A15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33480" y="556236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514480" y="556236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52480" y="584100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33480" y="584100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514480" y="584100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997E0-96CE-4B62-BAF9-CDBE4B10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5562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EBC6-85FF-4D9D-810B-01A6298C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1C21-7865-4EE5-94F7-02788F12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0A66-8354-4D32-910B-459532C9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4849920"/>
            <a:ext cx="7391520" cy="33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45F6-31CD-41C7-8603-42775FBA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52480" y="584100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1F63-C6B2-497C-A02C-F46B34D3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2960" y="584100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E902-6CF8-4D4E-88E8-F3BEBAB2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52480" y="5841000"/>
            <a:ext cx="55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9597-8A13-4FD8-A191-549C4E84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90920" y="228600"/>
            <a:ext cx="655308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"/>
            <a:ext cx="5257800" cy="577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380880"/>
            <a:ext cx="7696440" cy="685800"/>
          </a:xfrm>
          <a:prstGeom prst="roundRect">
            <a:avLst>
              <a:gd name="adj" fmla="val 34722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2bb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96c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BCD9-B656-4BB6-BFDF-0C0D905419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334120"/>
            <a:ext cx="70866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4724280"/>
            <a:ext cx="754380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4876920"/>
            <a:ext cx="7467480" cy="685800"/>
          </a:xfrm>
          <a:prstGeom prst="roundRect">
            <a:avLst>
              <a:gd name="adj" fmla="val 3472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3"/>
          </p:nvPr>
        </p:nvSpPr>
        <p:spPr>
          <a:xfrm>
            <a:off x="1066680" y="64609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7009920" y="6476760"/>
            <a:ext cx="1839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5"/>
          </p:nvPr>
        </p:nvSpPr>
        <p:spPr>
          <a:xfrm>
            <a:off x="609120" y="646092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F31B-2759-4C1D-AC34-4211D8CD55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228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52280" y="990720"/>
            <a:ext cx="6858000" cy="33908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596c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Power Temp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752480" y="5562360"/>
            <a:ext cx="5562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1160" y="22860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医疗药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 rot="18480600">
            <a:off x="1344960" y="356112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887480" y="2736720"/>
            <a:ext cx="209700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979880" y="2782800"/>
            <a:ext cx="209736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202280" y="2732040"/>
            <a:ext cx="625320" cy="2103480"/>
            <a:chOff x="4202280" y="2732040"/>
            <a:chExt cx="625320" cy="2103480"/>
          </a:xfrm>
        </p:grpSpPr>
        <p:sp>
          <p:nvSpPr>
            <p:cNvPr id="305" name=""/>
            <p:cNvSpPr/>
            <p:nvPr/>
          </p:nvSpPr>
          <p:spPr>
            <a:xfrm>
              <a:off x="4202280" y="2732040"/>
              <a:ext cx="62532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97040" y="32050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386080" y="2967120"/>
            <a:ext cx="58716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>
                  <a:alpha val="7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996160" y="3083040"/>
            <a:ext cx="529920" cy="56016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413388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65240" y="421308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122480" y="427032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122480" y="427032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4242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242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74760" y="4299120"/>
            <a:ext cx="11653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455120" y="5278320"/>
            <a:ext cx="1082880" cy="492840"/>
            <a:chOff x="1455120" y="5278320"/>
            <a:chExt cx="1082880" cy="492840"/>
          </a:xfrm>
        </p:grpSpPr>
        <p:sp>
          <p:nvSpPr>
            <p:cNvPr id="315" name=""/>
            <p:cNvSpPr/>
            <p:nvPr/>
          </p:nvSpPr>
          <p:spPr>
            <a:xfrm flipH="1" flipV="1" rot="3964800">
              <a:off x="2044800" y="5130720"/>
              <a:ext cx="189720" cy="78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313"/>
                  </a:srgbClr>
                </a:gs>
              </a:gsLst>
              <a:lin ang="55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4780200">
              <a:off x="1923120" y="5179680"/>
              <a:ext cx="189720" cy="78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313"/>
                  </a:srgbClr>
                </a:gs>
              </a:gsLst>
              <a:lin ang="472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 rot="5076000">
              <a:off x="1848600" y="5189040"/>
              <a:ext cx="189720" cy="78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313"/>
                  </a:srgbClr>
                </a:gs>
              </a:gsLst>
              <a:lin ang="44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 rot="5608200">
              <a:off x="1758240" y="5198760"/>
              <a:ext cx="189720" cy="78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313"/>
                  </a:srgbClr>
                </a:gs>
              </a:gsLst>
              <a:lin ang="38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226520" y="5286600"/>
            <a:ext cx="1080720" cy="515520"/>
            <a:chOff x="1226520" y="5286600"/>
            <a:chExt cx="1080720" cy="515520"/>
          </a:xfrm>
        </p:grpSpPr>
        <p:sp>
          <p:nvSpPr>
            <p:cNvPr id="320" name=""/>
            <p:cNvSpPr/>
            <p:nvPr/>
          </p:nvSpPr>
          <p:spPr>
            <a:xfrm flipH="1" flipV="1" rot="5318400">
              <a:off x="1816560" y="5197680"/>
              <a:ext cx="189720" cy="78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 rot="6133800">
              <a:off x="1685160" y="5196240"/>
              <a:ext cx="189720" cy="78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 rot="6429600">
              <a:off x="1612440" y="5176440"/>
              <a:ext cx="189720" cy="78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 rot="6961800">
              <a:off x="1526760" y="5150160"/>
              <a:ext cx="189720" cy="78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08328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56360" y="42130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6215040" y="427032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215040" y="42703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353542">
                  <a:alpha val="90196"/>
                </a:srgbClr>
              </a:gs>
              <a:gs pos="50000">
                <a:srgbClr val="ccccff">
                  <a:alpha val="45098"/>
                </a:srgbClr>
              </a:gs>
              <a:gs pos="100000">
                <a:srgbClr val="35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67320" y="42991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320520" y="5281560"/>
            <a:ext cx="1310040" cy="522000"/>
            <a:chOff x="6320520" y="5281560"/>
            <a:chExt cx="1310040" cy="522000"/>
          </a:xfrm>
        </p:grpSpPr>
        <p:grpSp>
          <p:nvGrpSpPr>
            <p:cNvPr id="330" name=""/>
            <p:cNvGrpSpPr/>
            <p:nvPr/>
          </p:nvGrpSpPr>
          <p:grpSpPr>
            <a:xfrm>
              <a:off x="6549840" y="5281560"/>
              <a:ext cx="1080720" cy="491400"/>
              <a:chOff x="6549840" y="5281560"/>
              <a:chExt cx="1080720" cy="491400"/>
            </a:xfrm>
          </p:grpSpPr>
          <p:sp>
            <p:nvSpPr>
              <p:cNvPr id="331" name=""/>
              <p:cNvSpPr/>
              <p:nvPr/>
            </p:nvSpPr>
            <p:spPr>
              <a:xfrm flipH="1" flipV="1" rot="3964800">
                <a:off x="713808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flipV="1" rot="4780200">
                <a:off x="7017480" y="51818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 rot="5076000">
                <a:off x="6942600" y="5191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 rot="5608200">
                <a:off x="685224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320520" y="5287680"/>
              <a:ext cx="1080000" cy="515880"/>
              <a:chOff x="6320520" y="5287680"/>
              <a:chExt cx="1080000" cy="515880"/>
            </a:xfrm>
          </p:grpSpPr>
          <p:sp>
            <p:nvSpPr>
              <p:cNvPr id="336" name=""/>
              <p:cNvSpPr/>
              <p:nvPr/>
            </p:nvSpPr>
            <p:spPr>
              <a:xfrm flipH="1" flipV="1" rot="5317800">
                <a:off x="6909840" y="51998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 rot="6133800">
                <a:off x="6778800" y="51984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 rot="6429000">
                <a:off x="6706080" y="5180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 rot="6961200">
                <a:off x="661968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"/>
          <p:cNvSpPr/>
          <p:nvPr/>
        </p:nvSpPr>
        <p:spPr>
          <a:xfrm>
            <a:off x="361152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84600" y="42130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3743280" y="427032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743280" y="42703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84235">
                  <a:alpha val="90196"/>
                </a:srgbClr>
              </a:gs>
              <a:gs pos="50000">
                <a:srgbClr val="99ffcc">
                  <a:alpha val="45098"/>
                </a:srgbClr>
              </a:gs>
              <a:gs pos="100000">
                <a:srgbClr val="284235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95560" y="42991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848760" y="5281560"/>
            <a:ext cx="1310040" cy="522000"/>
            <a:chOff x="3848760" y="5281560"/>
            <a:chExt cx="1310040" cy="522000"/>
          </a:xfrm>
        </p:grpSpPr>
        <p:grpSp>
          <p:nvGrpSpPr>
            <p:cNvPr id="346" name=""/>
            <p:cNvGrpSpPr/>
            <p:nvPr/>
          </p:nvGrpSpPr>
          <p:grpSpPr>
            <a:xfrm>
              <a:off x="4078080" y="5281560"/>
              <a:ext cx="1080720" cy="491400"/>
              <a:chOff x="4078080" y="5281560"/>
              <a:chExt cx="1080720" cy="491400"/>
            </a:xfrm>
          </p:grpSpPr>
          <p:sp>
            <p:nvSpPr>
              <p:cNvPr id="347" name=""/>
              <p:cNvSpPr/>
              <p:nvPr/>
            </p:nvSpPr>
            <p:spPr>
              <a:xfrm flipH="1" flipV="1" rot="3964800">
                <a:off x="466632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 rot="4780200">
                <a:off x="4545720" y="51818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 rot="5076000">
                <a:off x="4470840" y="5191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 rot="5608200">
                <a:off x="438048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3848760" y="5287680"/>
              <a:ext cx="1080000" cy="515880"/>
              <a:chOff x="3848760" y="5287680"/>
              <a:chExt cx="1080000" cy="515880"/>
            </a:xfrm>
          </p:grpSpPr>
          <p:sp>
            <p:nvSpPr>
              <p:cNvPr id="352" name=""/>
              <p:cNvSpPr/>
              <p:nvPr/>
            </p:nvSpPr>
            <p:spPr>
              <a:xfrm flipH="1" flipV="1" rot="5317800">
                <a:off x="4438080" y="51998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 rot="6133800">
                <a:off x="4307040" y="51984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 rot="6429000">
                <a:off x="4234320" y="5180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 rot="6961200">
                <a:off x="414792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 rot="3050400">
            <a:off x="4367520" y="3561480"/>
            <a:ext cx="3255840" cy="441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95856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1076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3500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286000" y="1523880"/>
            <a:ext cx="4266720" cy="617400"/>
            <a:chOff x="2286000" y="1523880"/>
            <a:chExt cx="4266720" cy="617400"/>
          </a:xfrm>
        </p:grpSpPr>
        <p:grpSp>
          <p:nvGrpSpPr>
            <p:cNvPr id="361" name=""/>
            <p:cNvGrpSpPr/>
            <p:nvPr/>
          </p:nvGrpSpPr>
          <p:grpSpPr>
            <a:xfrm>
              <a:off x="2286000" y="1523880"/>
              <a:ext cx="4266720" cy="617400"/>
              <a:chOff x="2286000" y="1523880"/>
              <a:chExt cx="4266720" cy="617400"/>
            </a:xfrm>
          </p:grpSpPr>
          <p:sp>
            <p:nvSpPr>
              <p:cNvPr id="362" name=""/>
              <p:cNvSpPr/>
              <p:nvPr/>
            </p:nvSpPr>
            <p:spPr>
              <a:xfrm>
                <a:off x="2286000" y="152388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8b9ca"/>
                  </a:gs>
                  <a:gs pos="50000">
                    <a:srgbClr val="003366">
                      <a:alpha val="90196"/>
                    </a:srgbClr>
                  </a:gs>
                  <a:gs pos="100000">
                    <a:srgbClr val="a8b9c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348640" y="157644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66">
                      <a:alpha val="90196"/>
                    </a:srgbClr>
                  </a:gs>
                  <a:gs pos="50000">
                    <a:srgbClr val="829bb3"/>
                  </a:gs>
                  <a:gs pos="100000">
                    <a:srgbClr val="003366">
                      <a:alpha val="9019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3201480" y="1724040"/>
              <a:ext cx="24681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438280" y="22096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742760" y="861840"/>
            <a:ext cx="4983480" cy="3741840"/>
            <a:chOff x="1742760" y="861840"/>
            <a:chExt cx="4983480" cy="3741840"/>
          </a:xfrm>
        </p:grpSpPr>
        <p:sp>
          <p:nvSpPr>
            <p:cNvPr id="368" name=""/>
            <p:cNvSpPr/>
            <p:nvPr/>
          </p:nvSpPr>
          <p:spPr>
            <a:xfrm>
              <a:off x="277452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601600">
              <a:off x="228348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0601600">
              <a:off x="232200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0601600">
              <a:off x="2265120" y="1869840"/>
              <a:ext cx="3857400" cy="19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ef965f"/>
                </a:gs>
                <a:gs pos="100000">
                  <a:srgbClr val="f3bb9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rot="20602200">
              <a:off x="2301480" y="1863360"/>
              <a:ext cx="3819600" cy="196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42bb39"/>
                </a:gs>
                <a:gs pos="100000">
                  <a:srgbClr val="2d8227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20601600">
              <a:off x="2268000" y="1874160"/>
              <a:ext cx="3845520" cy="189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ac6c44"/>
                </a:gs>
                <a:gs pos="100000">
                  <a:srgbClr val="ef965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rot="20602200">
              <a:off x="2276280" y="1868400"/>
              <a:ext cx="3859560" cy="195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1f455e"/>
                </a:gs>
                <a:gs pos="100000">
                  <a:srgbClr val="4596c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2596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c6b3e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20539200">
              <a:off x="2019960" y="1474560"/>
              <a:ext cx="4428720" cy="251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3d2964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5672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c6b3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20601600">
              <a:off x="331092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8228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7288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0948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84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0740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0164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0601600">
              <a:off x="337968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884920" y="15066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"/>
          <p:cNvCxnSpPr/>
          <p:nvPr/>
        </p:nvCxnSpPr>
        <p:spPr>
          <a:xfrm flipV="1" rot="10800000">
            <a:off x="569196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066680" y="22147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2494080" y="2332080"/>
            <a:ext cx="1800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2494080" y="14479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"/>
          <p:cNvCxnSpPr/>
          <p:nvPr/>
        </p:nvCxnSpPr>
        <p:spPr>
          <a:xfrm>
            <a:off x="392256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6421320" y="34513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"/>
          <p:cNvCxnSpPr/>
          <p:nvPr/>
        </p:nvCxnSpPr>
        <p:spPr>
          <a:xfrm rot="10800000">
            <a:off x="588420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137160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94" idx="3"/>
          </p:cNvCxnSpPr>
          <p:nvPr/>
        </p:nvCxnSpPr>
        <p:spPr>
          <a:xfrm flipV="1">
            <a:off x="3200040" y="3938400"/>
            <a:ext cx="34380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1295280" y="4487400"/>
            <a:ext cx="6359400" cy="1708560"/>
            <a:chOff x="1295280" y="4487400"/>
            <a:chExt cx="6359400" cy="1708560"/>
          </a:xfrm>
        </p:grpSpPr>
        <p:grpSp>
          <p:nvGrpSpPr>
            <p:cNvPr id="397" name=""/>
            <p:cNvGrpSpPr/>
            <p:nvPr/>
          </p:nvGrpSpPr>
          <p:grpSpPr>
            <a:xfrm>
              <a:off x="1295280" y="4724280"/>
              <a:ext cx="6359400" cy="1471680"/>
              <a:chOff x="1295280" y="4724280"/>
              <a:chExt cx="6359400" cy="1471680"/>
            </a:xfrm>
          </p:grpSpPr>
          <p:sp>
            <p:nvSpPr>
              <p:cNvPr id="398" name=""/>
              <p:cNvSpPr/>
              <p:nvPr/>
            </p:nvSpPr>
            <p:spPr>
              <a:xfrm>
                <a:off x="129528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9528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ef96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4290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4290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788480" y="47736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21840" y="47829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295280" y="52545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29000" y="52545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54328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54328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42bb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36480" y="477972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543280" y="5251320"/>
                <a:ext cx="2035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129528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dddddd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425760" y="4487400"/>
              <a:ext cx="187200" cy="20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343120" y="4492440"/>
              <a:ext cx="190440" cy="22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12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4f4f4"/>
              </a:gs>
              <a:gs pos="100000">
                <a:srgbClr val="c0c0c0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12960" y="5365800"/>
            <a:ext cx="193644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A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39000" y="21337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53200" y="18288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"/>
          <p:cNvCxnSpPr>
            <a:stCxn id="417" idx="1"/>
            <a:endCxn id="419" idx="0"/>
          </p:cNvCxnSpPr>
          <p:nvPr/>
        </p:nvCxnSpPr>
        <p:spPr>
          <a:xfrm flipV="1" rot="10800000">
            <a:off x="5104800" y="1980000"/>
            <a:ext cx="248400" cy="3819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420" name=""/>
          <p:cNvCxnSpPr>
            <a:stCxn id="416" idx="1"/>
            <a:endCxn id="421" idx="0"/>
          </p:cNvCxnSpPr>
          <p:nvPr/>
        </p:nvCxnSpPr>
        <p:spPr>
          <a:xfrm flipV="1" rot="10800000">
            <a:off x="5601600" y="2284920"/>
            <a:ext cx="437400" cy="367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422" name=""/>
          <p:cNvGrpSpPr/>
          <p:nvPr/>
        </p:nvGrpSpPr>
        <p:grpSpPr>
          <a:xfrm>
            <a:off x="457200" y="2202120"/>
            <a:ext cx="2881800" cy="2881800"/>
            <a:chOff x="457200" y="2202120"/>
            <a:chExt cx="2881800" cy="2881800"/>
          </a:xfrm>
        </p:grpSpPr>
        <p:pic>
          <p:nvPicPr>
            <p:cNvPr id="423" name="" descr=""/>
            <p:cNvPicPr/>
            <p:nvPr/>
          </p:nvPicPr>
          <p:blipFill>
            <a:blip r:embed="rId1"/>
            <a:stretch/>
          </p:blipFill>
          <p:spPr>
            <a:xfrm>
              <a:off x="533520" y="2306520"/>
              <a:ext cx="26985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flipV="1" rot="5400000">
              <a:off x="561600" y="2281680"/>
              <a:ext cx="2667240" cy="271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9" y="7224"/>
                  </a:moveTo>
                  <a:arcTo wR="10800" hR="10800" stAng="-9639693" swAng="9670153"/>
                  <a:lnTo>
                    <a:pt x="10800" y="10800"/>
                  </a:lnTo>
                  <a:close/>
                </a:path>
                <a:path fill="none" w="21600" h="21600">
                  <a:moveTo>
                    <a:pt x="609" y="7224"/>
                  </a:moveTo>
                  <a:arcTo wR="10800" hR="10800" stAng="-9639693" swAng="9670153"/>
                </a:path>
              </a:pathLst>
            </a:custGeom>
            <a:solidFill>
              <a:srgbClr val="42bb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 rot="16490400">
              <a:off x="563760" y="2310840"/>
              <a:ext cx="2666160" cy="266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" y="11649"/>
                  </a:moveTo>
                  <a:arcTo wR="10800" hR="10800" stAng="10529578" swAng="11948203"/>
                  <a:lnTo>
                    <a:pt x="10800" y="10800"/>
                  </a:lnTo>
                  <a:close/>
                </a:path>
                <a:path fill="none" w="21600" h="21600">
                  <a:moveTo>
                    <a:pt x="33" y="11649"/>
                  </a:moveTo>
                  <a:arcTo wR="10800" hR="10800" stAng="10529578" swAng="11948203"/>
                </a:path>
              </a:pathLst>
            </a:custGeom>
            <a:solidFill>
              <a:srgbClr val="4596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1760" y="314064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81080" y="359856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1441440" y="3259080"/>
              <a:ext cx="1897560" cy="1729440"/>
              <a:chOff x="1441440" y="3259080"/>
              <a:chExt cx="1897560" cy="172944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1879200" y="3259080"/>
                <a:ext cx="1459800" cy="1712880"/>
                <a:chOff x="1879200" y="3259080"/>
                <a:chExt cx="1459800" cy="1712880"/>
              </a:xfrm>
            </p:grpSpPr>
            <p:sp>
              <p:nvSpPr>
                <p:cNvPr id="430" name=""/>
                <p:cNvSpPr/>
                <p:nvPr/>
              </p:nvSpPr>
              <p:spPr>
                <a:xfrm flipH="1" flipV="1" rot="1528800">
                  <a:off x="2692080" y="3264480"/>
                  <a:ext cx="3474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 flipV="1" rot="2344200">
                  <a:off x="2581920" y="3473640"/>
                  <a:ext cx="3474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 flipV="1" rot="2640000">
                  <a:off x="2490840" y="3574440"/>
                  <a:ext cx="3474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 flipV="1" rot="3172200">
                  <a:off x="2377080" y="3692880"/>
                  <a:ext cx="34704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1441440" y="3729600"/>
                <a:ext cx="1833840" cy="1258920"/>
                <a:chOff x="1441440" y="3729600"/>
                <a:chExt cx="1833840" cy="1258920"/>
              </a:xfrm>
            </p:grpSpPr>
            <p:sp>
              <p:nvSpPr>
                <p:cNvPr id="435" name=""/>
                <p:cNvSpPr/>
                <p:nvPr/>
              </p:nvSpPr>
              <p:spPr>
                <a:xfrm flipH="1" flipV="1" rot="2881800">
                  <a:off x="2454840" y="3623760"/>
                  <a:ext cx="34920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 flipV="1" rot="3697200">
                  <a:off x="2272680" y="3774960"/>
                  <a:ext cx="34920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 flipV="1" rot="3993000">
                  <a:off x="2148480" y="3832920"/>
                  <a:ext cx="34920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 flipV="1" rot="4525200">
                  <a:off x="1999440" y="3898440"/>
                  <a:ext cx="34920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9" name=""/>
          <p:cNvGrpSpPr/>
          <p:nvPr/>
        </p:nvGrpSpPr>
        <p:grpSpPr>
          <a:xfrm>
            <a:off x="2835720" y="1779480"/>
            <a:ext cx="3745800" cy="3744720"/>
            <a:chOff x="2835720" y="1779480"/>
            <a:chExt cx="3745800" cy="3744720"/>
          </a:xfrm>
        </p:grpSpPr>
        <p:pic>
          <p:nvPicPr>
            <p:cNvPr id="440" name="" descr=""/>
            <p:cNvPicPr/>
            <p:nvPr/>
          </p:nvPicPr>
          <p:blipFill>
            <a:blip r:embed="rId2"/>
            <a:stretch/>
          </p:blipFill>
          <p:spPr>
            <a:xfrm>
              <a:off x="3352680" y="2306880"/>
              <a:ext cx="2702160" cy="267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 flipH="1" flipV="1" rot="5400000">
              <a:off x="3382920" y="2280240"/>
              <a:ext cx="2666160" cy="272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9" y="7224"/>
                  </a:moveTo>
                  <a:arcTo wR="10800" hR="10800" stAng="-9639693" swAng="9670153"/>
                  <a:lnTo>
                    <a:pt x="10800" y="10800"/>
                  </a:lnTo>
                  <a:close/>
                </a:path>
                <a:path fill="none" w="21600" h="21600">
                  <a:moveTo>
                    <a:pt x="609" y="7224"/>
                  </a:moveTo>
                  <a:arcTo wR="10800" hR="10800" stAng="-9639693" swAng="9670153"/>
                </a:path>
              </a:pathLst>
            </a:custGeom>
            <a:solidFill>
              <a:srgbClr val="42bb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 rot="16490400">
              <a:off x="3385080" y="2309400"/>
              <a:ext cx="2667240" cy="266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8" y="36"/>
                  </a:moveTo>
                  <a:arcTo wR="10800" hR="10800" stAng="-5681096" swAng="6558877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8" y="36"/>
                  </a:moveTo>
                  <a:arcTo wR="10800" hR="10800" stAng="-5681096" swAng="6558877"/>
                </a:path>
              </a:pathLst>
            </a:custGeom>
            <a:solidFill>
              <a:srgbClr val="855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 rot="11090400">
              <a:off x="3380760" y="2313000"/>
              <a:ext cx="2666160" cy="266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82" y="244"/>
                  </a:moveTo>
                  <a:arcTo wR="10800" hR="10800" stAng="-4667986" swAng="14880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82" y="244"/>
                  </a:moveTo>
                  <a:arcTo wR="10800" hR="10800" stAng="-4667986" swAng="1488023"/>
                </a:path>
              </a:pathLst>
            </a:custGeom>
            <a:solidFill>
              <a:srgbClr val="4596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 rot="13924200">
              <a:off x="3375360" y="2315520"/>
              <a:ext cx="2665440" cy="267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881" y="172"/>
                  </a:moveTo>
                  <a:arcTo wR="10800" hR="10800" stAng="-6013970" swAng="2874677"/>
                  <a:lnTo>
                    <a:pt x="10800" y="10800"/>
                  </a:lnTo>
                  <a:close/>
                </a:path>
                <a:path fill="none" w="21600" h="21600">
                  <a:moveTo>
                    <a:pt x="8881" y="172"/>
                  </a:moveTo>
                  <a:arcTo wR="10800" hR="10800" stAng="-6013970" swAng="2874677"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 rot="9746400">
              <a:off x="3384000" y="2305440"/>
              <a:ext cx="2667600" cy="266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16" y="522"/>
                  </a:moveTo>
                  <a:arcTo wR="10800" hR="10800" stAng="-4327303" swAng="9994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16" y="522"/>
                  </a:moveTo>
                  <a:arcTo wR="10800" hR="10800" stAng="-4327303" swAng="999462"/>
                </a:path>
              </a:pathLst>
            </a:custGeom>
            <a:solidFill>
              <a:srgbClr val="ef96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52840" y="3217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97280" y="390384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02560" y="3141000"/>
              <a:ext cx="106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4263120" y="3259440"/>
              <a:ext cx="1898640" cy="1729800"/>
              <a:chOff x="4263120" y="3259440"/>
              <a:chExt cx="1898640" cy="172980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4700880" y="3259440"/>
                <a:ext cx="1460880" cy="1712880"/>
                <a:chOff x="4700880" y="3259440"/>
                <a:chExt cx="1460880" cy="1712880"/>
              </a:xfrm>
            </p:grpSpPr>
            <p:sp>
              <p:nvSpPr>
                <p:cNvPr id="449" name=""/>
                <p:cNvSpPr/>
                <p:nvPr/>
              </p:nvSpPr>
              <p:spPr>
                <a:xfrm flipH="1" flipV="1" rot="1528800">
                  <a:off x="5514120" y="3264840"/>
                  <a:ext cx="34776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flipV="1" rot="2344200">
                  <a:off x="5403960" y="3474000"/>
                  <a:ext cx="34776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 flipV="1" rot="2640000">
                  <a:off x="5312520" y="3575160"/>
                  <a:ext cx="34776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 flipV="1" rot="3172200">
                  <a:off x="5198400" y="3692880"/>
                  <a:ext cx="34776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4263120" y="3730320"/>
                <a:ext cx="1834560" cy="1258920"/>
                <a:chOff x="4263120" y="3730320"/>
                <a:chExt cx="1834560" cy="1258920"/>
              </a:xfrm>
            </p:grpSpPr>
            <p:sp>
              <p:nvSpPr>
                <p:cNvPr id="454" name=""/>
                <p:cNvSpPr/>
                <p:nvPr/>
              </p:nvSpPr>
              <p:spPr>
                <a:xfrm flipH="1" flipV="1" rot="2881800">
                  <a:off x="5276520" y="3623760"/>
                  <a:ext cx="34956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 flipV="1" rot="3697200">
                  <a:off x="5093640" y="3775680"/>
                  <a:ext cx="34920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 flipV="1" rot="3993000">
                  <a:off x="4970160" y="3834720"/>
                  <a:ext cx="34956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 rot="4525200">
                  <a:off x="4820400" y="3898800"/>
                  <a:ext cx="34956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8" name=""/>
          <p:cNvSpPr/>
          <p:nvPr/>
        </p:nvSpPr>
        <p:spPr>
          <a:xfrm>
            <a:off x="358128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4f4f4"/>
              </a:gs>
              <a:gs pos="100000">
                <a:srgbClr val="c0c0c0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786120" y="5365800"/>
            <a:ext cx="193680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B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00800" y="27432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400800" y="32767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42bb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2bb3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2bb3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00800" y="3809880"/>
            <a:ext cx="2209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4596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596c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596cd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00800" y="43434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ef96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965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f965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48769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855a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5ada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855ada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3825720"/>
            <a:ext cx="4362480" cy="1265400"/>
          </a:xfrm>
          <a:prstGeom prst="ellipse">
            <a:avLst/>
          </a:prstGeom>
          <a:gradFill rotWithShape="0">
            <a:gsLst>
              <a:gs pos="0">
                <a:srgbClr val="b4b4b4"/>
              </a:gs>
              <a:gs pos="100000">
                <a:srgbClr val="c0c0c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2536560" y="1866600"/>
            <a:ext cx="1536480" cy="40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16200000">
            <a:off x="2673360" y="1765440"/>
            <a:ext cx="1379160" cy="390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f7d1ba"/>
              </a:gs>
              <a:gs pos="100000">
                <a:srgbClr val="ef96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2610720" y="1865880"/>
            <a:ext cx="1379160" cy="385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855ada"/>
              </a:gs>
              <a:gs pos="100000">
                <a:srgbClr val="c2ae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2603160" y="1854720"/>
            <a:ext cx="1414080" cy="384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b3d3e9"/>
              </a:gs>
              <a:gs pos="100000">
                <a:srgbClr val="4596c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14880" y="38736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14920" y="35672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33960" y="4006800"/>
            <a:ext cx="0" cy="11592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9600" y="4265640"/>
            <a:ext cx="0" cy="6984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476440" y="375768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16200000">
            <a:off x="2567520" y="1484280"/>
            <a:ext cx="1844280" cy="47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15f1d"/>
              </a:gs>
              <a:gs pos="100000">
                <a:srgbClr val="42bb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486400" y="3216240"/>
            <a:ext cx="22392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42b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2577600" y="1319760"/>
            <a:ext cx="184500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42bb39"/>
              </a:gs>
              <a:gs pos="100000">
                <a:srgbClr val="b2e2a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71800" y="2987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"/>
          <p:cNvCxnSpPr>
            <a:endCxn id="479" idx="3"/>
          </p:cNvCxnSpPr>
          <p:nvPr/>
        </p:nvCxnSpPr>
        <p:spPr>
          <a:xfrm flipV="1" rot="10800000">
            <a:off x="3907800" y="2301480"/>
            <a:ext cx="2416680" cy="884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endCxn id="472" idx="3"/>
          </p:cNvCxnSpPr>
          <p:nvPr/>
        </p:nvCxnSpPr>
        <p:spPr>
          <a:xfrm rot="10800000">
            <a:off x="5250600" y="3718800"/>
            <a:ext cx="1226520" cy="183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3282840" y="39877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141768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6324480" y="2119320"/>
            <a:ext cx="2028960" cy="482400"/>
            <a:chOff x="6324480" y="2119320"/>
            <a:chExt cx="2028960" cy="482400"/>
          </a:xfrm>
        </p:grpSpPr>
        <p:sp>
          <p:nvSpPr>
            <p:cNvPr id="485" name=""/>
            <p:cNvSpPr/>
            <p:nvPr/>
          </p:nvSpPr>
          <p:spPr>
            <a:xfrm>
              <a:off x="6444000" y="23972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24480" y="21193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33922c"/>
                </a:gs>
                <a:gs pos="100000">
                  <a:srgbClr val="42bb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324480" y="3673440"/>
            <a:ext cx="2028960" cy="482400"/>
            <a:chOff x="6324480" y="3673440"/>
            <a:chExt cx="2028960" cy="482400"/>
          </a:xfrm>
        </p:grpSpPr>
        <p:sp>
          <p:nvSpPr>
            <p:cNvPr id="488" name=""/>
            <p:cNvSpPr/>
            <p:nvPr/>
          </p:nvSpPr>
          <p:spPr>
            <a:xfrm>
              <a:off x="6444000" y="39513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24480" y="36734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bb754a"/>
                </a:gs>
                <a:gs pos="100000">
                  <a:srgbClr val="ef96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324480" y="5045040"/>
            <a:ext cx="2028960" cy="482400"/>
            <a:chOff x="6324480" y="5045040"/>
            <a:chExt cx="2028960" cy="482400"/>
          </a:xfrm>
        </p:grpSpPr>
        <p:sp>
          <p:nvSpPr>
            <p:cNvPr id="491" name=""/>
            <p:cNvSpPr/>
            <p:nvPr/>
          </p:nvSpPr>
          <p:spPr>
            <a:xfrm>
              <a:off x="6444000" y="53229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24480" y="50450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846ab"/>
                </a:gs>
                <a:gs pos="100000">
                  <a:srgbClr val="855ad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5273640"/>
            <a:ext cx="2028960" cy="482400"/>
            <a:chOff x="1143000" y="5273640"/>
            <a:chExt cx="2028960" cy="482400"/>
          </a:xfrm>
        </p:grpSpPr>
        <p:sp>
          <p:nvSpPr>
            <p:cNvPr id="494" name=""/>
            <p:cNvSpPr/>
            <p:nvPr/>
          </p:nvSpPr>
          <p:spPr>
            <a:xfrm>
              <a:off x="1262520" y="55515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43000" y="52736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3675a0"/>
                </a:gs>
                <a:gs pos="100000">
                  <a:srgbClr val="4596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96" name=""/>
          <p:cNvCxnSpPr/>
          <p:nvPr/>
        </p:nvCxnSpPr>
        <p:spPr>
          <a:xfrm rot="10800000">
            <a:off x="4799880" y="405360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"/>
          <p:cNvCxnSpPr/>
          <p:nvPr/>
        </p:nvCxnSpPr>
        <p:spPr>
          <a:xfrm flipH="1" flipV="1" rot="5400000">
            <a:off x="2698560" y="4755600"/>
            <a:ext cx="1204200" cy="25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6628320" y="41306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675840" y="25765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04280" y="55022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051640" y="2271600"/>
            <a:ext cx="996120" cy="1294560"/>
            <a:chOff x="2051640" y="2271600"/>
            <a:chExt cx="996120" cy="1294560"/>
          </a:xfrm>
        </p:grpSpPr>
        <p:grpSp>
          <p:nvGrpSpPr>
            <p:cNvPr id="502" name=""/>
            <p:cNvGrpSpPr/>
            <p:nvPr/>
          </p:nvGrpSpPr>
          <p:grpSpPr>
            <a:xfrm>
              <a:off x="2051640" y="2274120"/>
              <a:ext cx="991080" cy="1292040"/>
              <a:chOff x="2051640" y="2274120"/>
              <a:chExt cx="991080" cy="1292040"/>
            </a:xfrm>
          </p:grpSpPr>
          <p:sp>
            <p:nvSpPr>
              <p:cNvPr id="503" name=""/>
              <p:cNvSpPr/>
              <p:nvPr/>
            </p:nvSpPr>
            <p:spPr>
              <a:xfrm>
                <a:off x="2051640" y="2780640"/>
                <a:ext cx="991080" cy="78552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19480" y="227412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2057400" y="2776320"/>
              <a:ext cx="990360" cy="7880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51800" y="282600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24880" y="227160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73480" y="228060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2305800" y="2277720"/>
              <a:ext cx="344880" cy="359280"/>
              <a:chOff x="2305800" y="2277720"/>
              <a:chExt cx="344880" cy="35928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2314080" y="2277720"/>
                <a:ext cx="336600" cy="273960"/>
                <a:chOff x="2314080" y="2277720"/>
                <a:chExt cx="336600" cy="273960"/>
              </a:xfrm>
            </p:grpSpPr>
            <p:sp>
              <p:nvSpPr>
                <p:cNvPr id="511" name=""/>
                <p:cNvSpPr/>
                <p:nvPr/>
              </p:nvSpPr>
              <p:spPr>
                <a:xfrm flipH="1" rot="15040200">
                  <a:off x="2466720" y="224460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 rot="14224200">
                  <a:off x="2427480" y="226008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 rot="13928400">
                  <a:off x="2409120" y="227700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 rot="13396200">
                  <a:off x="2387520" y="229932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305800" y="2299320"/>
                <a:ext cx="271800" cy="337680"/>
                <a:chOff x="2305800" y="2299320"/>
                <a:chExt cx="271800" cy="337680"/>
              </a:xfrm>
            </p:grpSpPr>
            <p:sp>
              <p:nvSpPr>
                <p:cNvPr id="516" name=""/>
                <p:cNvSpPr/>
                <p:nvPr/>
              </p:nvSpPr>
              <p:spPr>
                <a:xfrm flipH="1" rot="13687200">
                  <a:off x="2402280" y="22928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 rot="12871200">
                  <a:off x="2372040" y="23223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 rot="12576000">
                  <a:off x="2361600" y="23450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 rot="12043800">
                  <a:off x="2350080" y="23745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0" name=""/>
            <p:cNvGrpSpPr/>
            <p:nvPr/>
          </p:nvGrpSpPr>
          <p:grpSpPr>
            <a:xfrm>
              <a:off x="2125440" y="2813400"/>
              <a:ext cx="429120" cy="517320"/>
              <a:chOff x="2125440" y="2813400"/>
              <a:chExt cx="429120" cy="51732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2125440" y="2813400"/>
                <a:ext cx="429120" cy="405000"/>
                <a:chOff x="2125440" y="2813400"/>
                <a:chExt cx="429120" cy="405000"/>
              </a:xfrm>
            </p:grpSpPr>
            <p:sp>
              <p:nvSpPr>
                <p:cNvPr id="522" name=""/>
                <p:cNvSpPr/>
                <p:nvPr/>
              </p:nvSpPr>
              <p:spPr>
                <a:xfrm flipH="1" rot="14424600">
                  <a:off x="2321280" y="276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 rot="13608600">
                  <a:off x="2269080" y="279396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 rot="13313400">
                  <a:off x="2245680" y="282024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 rot="12781200">
                  <a:off x="2217600" y="285264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2126880" y="2841840"/>
                <a:ext cx="307800" cy="488880"/>
                <a:chOff x="2126880" y="2841840"/>
                <a:chExt cx="307800" cy="488880"/>
              </a:xfrm>
            </p:grpSpPr>
            <p:sp>
              <p:nvSpPr>
                <p:cNvPr id="527" name=""/>
                <p:cNvSpPr/>
                <p:nvPr/>
              </p:nvSpPr>
              <p:spPr>
                <a:xfrm flipH="1" rot="13071600">
                  <a:off x="2234160" y="283248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 rot="12256200">
                  <a:off x="2198520" y="28818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 rot="11960400">
                  <a:off x="2185200" y="2914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 rot="11428200">
                  <a:off x="2172600" y="2955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1" name=""/>
          <p:cNvSpPr/>
          <p:nvPr/>
        </p:nvSpPr>
        <p:spPr>
          <a:xfrm>
            <a:off x="1596240" y="35672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518480" y="2271600"/>
            <a:ext cx="995760" cy="1294560"/>
            <a:chOff x="1518480" y="2271600"/>
            <a:chExt cx="995760" cy="1294560"/>
          </a:xfrm>
        </p:grpSpPr>
        <p:grpSp>
          <p:nvGrpSpPr>
            <p:cNvPr id="533" name=""/>
            <p:cNvGrpSpPr/>
            <p:nvPr/>
          </p:nvGrpSpPr>
          <p:grpSpPr>
            <a:xfrm>
              <a:off x="1518480" y="2274120"/>
              <a:ext cx="990720" cy="1292040"/>
              <a:chOff x="1518480" y="2274120"/>
              <a:chExt cx="990720" cy="1292040"/>
            </a:xfrm>
          </p:grpSpPr>
          <p:sp>
            <p:nvSpPr>
              <p:cNvPr id="534" name=""/>
              <p:cNvSpPr/>
              <p:nvPr/>
            </p:nvSpPr>
            <p:spPr>
              <a:xfrm>
                <a:off x="1518480" y="2780640"/>
                <a:ext cx="990720" cy="78552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785960" y="227412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1524240" y="2776320"/>
              <a:ext cx="990000" cy="7880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4596cd"/>
                </a:gs>
                <a:gs pos="100000">
                  <a:srgbClr val="1227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18280" y="282600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91360" y="227160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265372"/>
                </a:gs>
                <a:gs pos="50000">
                  <a:srgbClr val="4596cd"/>
                </a:gs>
                <a:gs pos="100000">
                  <a:srgbClr val="265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40320" y="228060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1772280" y="2277720"/>
              <a:ext cx="344880" cy="359280"/>
              <a:chOff x="1772280" y="2277720"/>
              <a:chExt cx="344880" cy="35928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1780920" y="2277720"/>
                <a:ext cx="336240" cy="273960"/>
                <a:chOff x="1780920" y="2277720"/>
                <a:chExt cx="336240" cy="273960"/>
              </a:xfrm>
            </p:grpSpPr>
            <p:sp>
              <p:nvSpPr>
                <p:cNvPr id="542" name=""/>
                <p:cNvSpPr/>
                <p:nvPr/>
              </p:nvSpPr>
              <p:spPr>
                <a:xfrm flipH="1" rot="15040200">
                  <a:off x="1933200" y="224460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 rot="14224200">
                  <a:off x="1893960" y="226008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 rot="13928400">
                  <a:off x="1875240" y="227772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rot="13396200">
                  <a:off x="1854000" y="230004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1772280" y="2299320"/>
                <a:ext cx="271800" cy="337680"/>
                <a:chOff x="1772280" y="2299320"/>
                <a:chExt cx="271800" cy="337680"/>
              </a:xfrm>
            </p:grpSpPr>
            <p:sp>
              <p:nvSpPr>
                <p:cNvPr id="547" name=""/>
                <p:cNvSpPr/>
                <p:nvPr/>
              </p:nvSpPr>
              <p:spPr>
                <a:xfrm flipH="1" rot="13687200">
                  <a:off x="1868760" y="22928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rot="12871200">
                  <a:off x="1838880" y="23223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rot="12576000">
                  <a:off x="1828080" y="23457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 rot="12043800">
                  <a:off x="1816920" y="23745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1" name=""/>
            <p:cNvGrpSpPr/>
            <p:nvPr/>
          </p:nvGrpSpPr>
          <p:grpSpPr>
            <a:xfrm>
              <a:off x="1592280" y="2813400"/>
              <a:ext cx="429120" cy="517320"/>
              <a:chOff x="1592280" y="2813400"/>
              <a:chExt cx="429120" cy="517320"/>
            </a:xfrm>
          </p:grpSpPr>
          <p:grpSp>
            <p:nvGrpSpPr>
              <p:cNvPr id="552" name=""/>
              <p:cNvGrpSpPr/>
              <p:nvPr/>
            </p:nvGrpSpPr>
            <p:grpSpPr>
              <a:xfrm>
                <a:off x="1592280" y="2813400"/>
                <a:ext cx="429120" cy="405000"/>
                <a:chOff x="1592280" y="2813400"/>
                <a:chExt cx="429120" cy="405000"/>
              </a:xfrm>
            </p:grpSpPr>
            <p:sp>
              <p:nvSpPr>
                <p:cNvPr id="553" name=""/>
                <p:cNvSpPr/>
                <p:nvPr/>
              </p:nvSpPr>
              <p:spPr>
                <a:xfrm flipH="1" rot="14424600">
                  <a:off x="1788120" y="276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H="1" rot="13608600">
                  <a:off x="1735920" y="279396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H="1" rot="13313400">
                  <a:off x="1712520" y="282024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H="1" rot="12781200">
                  <a:off x="1684440" y="285264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1593720" y="2841840"/>
                <a:ext cx="307800" cy="488880"/>
                <a:chOff x="1593720" y="2841840"/>
                <a:chExt cx="307800" cy="488880"/>
              </a:xfrm>
            </p:grpSpPr>
            <p:sp>
              <p:nvSpPr>
                <p:cNvPr id="558" name=""/>
                <p:cNvSpPr/>
                <p:nvPr/>
              </p:nvSpPr>
              <p:spPr>
                <a:xfrm flipH="1" rot="13071600">
                  <a:off x="1701000" y="283248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 rot="12256200">
                  <a:off x="1665360" y="28818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 rot="11960400">
                  <a:off x="1652040" y="2914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 rot="11428200">
                  <a:off x="1639440" y="2955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2" name=""/>
          <p:cNvSpPr/>
          <p:nvPr/>
        </p:nvSpPr>
        <p:spPr>
          <a:xfrm>
            <a:off x="1446480" y="57610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23880" y="144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883080" y="2358720"/>
            <a:ext cx="7348320" cy="3819240"/>
            <a:chOff x="883080" y="2358720"/>
            <a:chExt cx="7348320" cy="3819240"/>
          </a:xfrm>
        </p:grpSpPr>
        <p:sp>
          <p:nvSpPr>
            <p:cNvPr id="566" name=""/>
            <p:cNvSpPr/>
            <p:nvPr/>
          </p:nvSpPr>
          <p:spPr>
            <a:xfrm>
              <a:off x="2883600" y="3536640"/>
              <a:ext cx="3808440" cy="1524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4374000" y="2703600"/>
              <a:ext cx="1141200" cy="12330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4373640" y="3770640"/>
              <a:ext cx="3079080" cy="131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4408200" y="3902400"/>
              <a:ext cx="1314000" cy="14324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574720" y="3902760"/>
              <a:ext cx="1833480" cy="16322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501920" y="3902400"/>
              <a:ext cx="2906280" cy="1004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1182400">
              <a:off x="2608920" y="3036600"/>
              <a:ext cx="3425040" cy="164592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08080"/>
                </a:gs>
              </a:gsLst>
              <a:lin ang="139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1256800">
              <a:off x="1327320" y="2667960"/>
              <a:ext cx="6233040" cy="3035160"/>
            </a:xfrm>
            <a:prstGeom prst="ellipse">
              <a:avLst/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1256800">
              <a:off x="1291320" y="2662560"/>
              <a:ext cx="6250320" cy="300456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38280" y="3363120"/>
              <a:ext cx="2139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ThemeGallery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is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Design Digital Content &amp; Contents mall develop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883080" y="3661560"/>
              <a:ext cx="1391040" cy="770400"/>
              <a:chOff x="883080" y="3661560"/>
              <a:chExt cx="1391040" cy="770400"/>
            </a:xfrm>
          </p:grpSpPr>
          <p:sp>
            <p:nvSpPr>
              <p:cNvPr id="577" name=""/>
              <p:cNvSpPr/>
              <p:nvPr/>
            </p:nvSpPr>
            <p:spPr>
              <a:xfrm rot="21204600">
                <a:off x="917280" y="3783240"/>
                <a:ext cx="1328040" cy="574560"/>
              </a:xfrm>
              <a:prstGeom prst="ellipse">
                <a:avLst/>
              </a:prstGeom>
              <a:gradFill rotWithShape="0">
                <a:gsLst>
                  <a:gs pos="0">
                    <a:srgbClr val="6a6a6a"/>
                  </a:gs>
                  <a:gs pos="50000">
                    <a:srgbClr val="c0c0c0"/>
                  </a:gs>
                  <a:gs pos="100000">
                    <a:srgbClr val="6a6a6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1204600">
                <a:off x="911520" y="3735720"/>
                <a:ext cx="1328760" cy="5745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486880" y="2616120"/>
              <a:ext cx="1206720" cy="542160"/>
              <a:chOff x="2486880" y="2616120"/>
              <a:chExt cx="1206720" cy="542160"/>
            </a:xfrm>
          </p:grpSpPr>
          <p:sp>
            <p:nvSpPr>
              <p:cNvPr id="580" name=""/>
              <p:cNvSpPr/>
              <p:nvPr/>
            </p:nvSpPr>
            <p:spPr>
              <a:xfrm rot="21274800">
                <a:off x="2506680" y="2703240"/>
                <a:ext cx="1170720" cy="400320"/>
              </a:xfrm>
              <a:prstGeom prst="ellipse">
                <a:avLst/>
              </a:prstGeom>
              <a:gradFill rotWithShape="0">
                <a:gsLst>
                  <a:gs pos="0">
                    <a:srgbClr val="6a6a6a"/>
                  </a:gs>
                  <a:gs pos="50000">
                    <a:srgbClr val="c0c0c0"/>
                  </a:gs>
                  <a:gs pos="100000">
                    <a:srgbClr val="6a6a6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1274800">
                <a:off x="2503080" y="2670120"/>
                <a:ext cx="1171080" cy="400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4834440" y="2389680"/>
              <a:ext cx="1365840" cy="650880"/>
              <a:chOff x="4834440" y="2389680"/>
              <a:chExt cx="1365840" cy="650880"/>
            </a:xfrm>
          </p:grpSpPr>
          <p:sp>
            <p:nvSpPr>
              <p:cNvPr id="583" name=""/>
              <p:cNvSpPr/>
              <p:nvPr/>
            </p:nvSpPr>
            <p:spPr>
              <a:xfrm rot="21345000">
                <a:off x="4854960" y="2480040"/>
                <a:ext cx="1328040" cy="51192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21345000">
                <a:off x="4851360" y="2438280"/>
                <a:ext cx="1328760" cy="511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6459120" y="3286080"/>
              <a:ext cx="1772280" cy="1010160"/>
              <a:chOff x="6459120" y="3286080"/>
              <a:chExt cx="1772280" cy="1010160"/>
            </a:xfrm>
          </p:grpSpPr>
          <p:sp>
            <p:nvSpPr>
              <p:cNvPr id="586" name=""/>
              <p:cNvSpPr/>
              <p:nvPr/>
            </p:nvSpPr>
            <p:spPr>
              <a:xfrm rot="21391800">
                <a:off x="6487920" y="3405960"/>
                <a:ext cx="1719720" cy="83880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21391800">
                <a:off x="6482880" y="3337200"/>
                <a:ext cx="1720440" cy="8388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4473720" y="4668120"/>
              <a:ext cx="2449080" cy="1498320"/>
              <a:chOff x="4473720" y="4668120"/>
              <a:chExt cx="2449080" cy="1498320"/>
            </a:xfrm>
          </p:grpSpPr>
          <p:sp>
            <p:nvSpPr>
              <p:cNvPr id="589" name=""/>
              <p:cNvSpPr/>
              <p:nvPr/>
            </p:nvSpPr>
            <p:spPr>
              <a:xfrm rot="21401400">
                <a:off x="4515120" y="4839120"/>
                <a:ext cx="2373120" cy="125964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21401400">
                <a:off x="4507920" y="4735440"/>
                <a:ext cx="2374200" cy="12596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1598760" y="4957560"/>
              <a:ext cx="1954440" cy="1220400"/>
              <a:chOff x="1598760" y="4957560"/>
              <a:chExt cx="1954440" cy="1220400"/>
            </a:xfrm>
          </p:grpSpPr>
          <p:sp>
            <p:nvSpPr>
              <p:cNvPr id="592" name=""/>
              <p:cNvSpPr/>
              <p:nvPr/>
            </p:nvSpPr>
            <p:spPr>
              <a:xfrm rot="21307200">
                <a:off x="1644840" y="5116320"/>
                <a:ext cx="1869480" cy="98352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1307200">
                <a:off x="1636920" y="5035320"/>
                <a:ext cx="1870560" cy="9835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2643120" y="267228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00480" y="250416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68520" y="353664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73640" y="516348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089800" y="5335560"/>
              <a:ext cx="86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21400" y="383652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3505320"/>
            <a:ext cx="8305920" cy="2971800"/>
          </a:xfrm>
          <a:custGeom>
            <a:avLst/>
            <a:gdLst/>
            <a:ahLst/>
            <a:rect l="l" t="t" r="r" b="b"/>
            <a:pathLst>
              <a:path w="5016" h="2256">
                <a:moveTo>
                  <a:pt x="0" y="2240"/>
                </a:moveTo>
                <a:cubicBezTo>
                  <a:pt x="276" y="2109"/>
                  <a:pt x="1182" y="1474"/>
                  <a:pt x="1122" y="702"/>
                </a:cubicBezTo>
                <a:lnTo>
                  <a:pt x="972" y="744"/>
                </a:lnTo>
                <a:cubicBezTo>
                  <a:pt x="988" y="702"/>
                  <a:pt x="1140" y="436"/>
                  <a:pt x="1140" y="438"/>
                </a:cubicBezTo>
                <a:lnTo>
                  <a:pt x="1422" y="642"/>
                </a:lnTo>
                <a:cubicBezTo>
                  <a:pt x="1422" y="642"/>
                  <a:pt x="1260" y="672"/>
                  <a:pt x="1272" y="672"/>
                </a:cubicBezTo>
                <a:cubicBezTo>
                  <a:pt x="1428" y="1008"/>
                  <a:pt x="1620" y="1350"/>
                  <a:pt x="1968" y="1284"/>
                </a:cubicBezTo>
                <a:cubicBezTo>
                  <a:pt x="2316" y="1218"/>
                  <a:pt x="2460" y="576"/>
                  <a:pt x="2466" y="318"/>
                </a:cubicBezTo>
                <a:lnTo>
                  <a:pt x="2280" y="318"/>
                </a:lnTo>
                <a:lnTo>
                  <a:pt x="2598" y="0"/>
                </a:lnTo>
                <a:lnTo>
                  <a:pt x="2898" y="330"/>
                </a:lnTo>
                <a:lnTo>
                  <a:pt x="2724" y="324"/>
                </a:lnTo>
                <a:cubicBezTo>
                  <a:pt x="2724" y="325"/>
                  <a:pt x="2760" y="1284"/>
                  <a:pt x="3210" y="1302"/>
                </a:cubicBezTo>
                <a:cubicBezTo>
                  <a:pt x="3660" y="1320"/>
                  <a:pt x="3816" y="912"/>
                  <a:pt x="3870" y="654"/>
                </a:cubicBezTo>
                <a:lnTo>
                  <a:pt x="3702" y="642"/>
                </a:lnTo>
                <a:lnTo>
                  <a:pt x="3984" y="420"/>
                </a:lnTo>
                <a:lnTo>
                  <a:pt x="4182" y="678"/>
                </a:lnTo>
                <a:lnTo>
                  <a:pt x="4026" y="672"/>
                </a:lnTo>
                <a:cubicBezTo>
                  <a:pt x="4032" y="678"/>
                  <a:pt x="3960" y="1862"/>
                  <a:pt x="5016" y="2225"/>
                </a:cubicBezTo>
                <a:cubicBezTo>
                  <a:pt x="3438" y="2232"/>
                  <a:pt x="1092" y="2256"/>
                  <a:pt x="0" y="224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9966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3900600" y="1523880"/>
            <a:ext cx="1498320" cy="148428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3900600" y="152388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4242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242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54320" y="15541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4003560" y="2554920"/>
            <a:ext cx="1317960" cy="527760"/>
            <a:chOff x="4003560" y="2554920"/>
            <a:chExt cx="1317960" cy="527760"/>
          </a:xfrm>
        </p:grpSpPr>
        <p:grpSp>
          <p:nvGrpSpPr>
            <p:cNvPr id="606" name=""/>
            <p:cNvGrpSpPr/>
            <p:nvPr/>
          </p:nvGrpSpPr>
          <p:grpSpPr>
            <a:xfrm>
              <a:off x="4234320" y="2554920"/>
              <a:ext cx="1087200" cy="496800"/>
              <a:chOff x="4234320" y="2554920"/>
              <a:chExt cx="1087200" cy="496800"/>
            </a:xfrm>
          </p:grpSpPr>
          <p:sp>
            <p:nvSpPr>
              <p:cNvPr id="607" name=""/>
              <p:cNvSpPr/>
              <p:nvPr/>
            </p:nvSpPr>
            <p:spPr>
              <a:xfrm flipH="1" flipV="1" rot="3964800">
                <a:off x="4824360" y="240840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4780200">
                <a:off x="4703040" y="24562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5076000">
                <a:off x="4626720" y="24656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 rot="5608200">
                <a:off x="4537080" y="24753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4003560" y="2561760"/>
              <a:ext cx="1084680" cy="520920"/>
              <a:chOff x="4003560" y="2561760"/>
              <a:chExt cx="1084680" cy="520920"/>
            </a:xfrm>
          </p:grpSpPr>
          <p:sp>
            <p:nvSpPr>
              <p:cNvPr id="612" name=""/>
              <p:cNvSpPr/>
              <p:nvPr/>
            </p:nvSpPr>
            <p:spPr>
              <a:xfrm flipH="1" flipV="1" rot="5318400">
                <a:off x="4593600" y="2475720"/>
                <a:ext cx="19404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 rot="6133800">
                <a:off x="4462920" y="247356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 rot="6429600">
                <a:off x="4389480" y="2454120"/>
                <a:ext cx="194040" cy="78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 rot="6961800">
                <a:off x="4303080" y="242748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4038480" y="2139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495440" y="213372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1495440" y="213372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422835">
                  <a:alpha val="90196"/>
                </a:srgbClr>
              </a:gs>
              <a:gs pos="50000">
                <a:srgbClr val="ff99cc">
                  <a:alpha val="45098"/>
                </a:srgbClr>
              </a:gs>
              <a:gs pos="100000">
                <a:srgbClr val="422835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649520" y="2163600"/>
            <a:ext cx="1170000" cy="5162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598400" y="3164760"/>
            <a:ext cx="1317960" cy="527760"/>
            <a:chOff x="1598400" y="3164760"/>
            <a:chExt cx="1317960" cy="527760"/>
          </a:xfrm>
        </p:grpSpPr>
        <p:grpSp>
          <p:nvGrpSpPr>
            <p:cNvPr id="621" name=""/>
            <p:cNvGrpSpPr/>
            <p:nvPr/>
          </p:nvGrpSpPr>
          <p:grpSpPr>
            <a:xfrm>
              <a:off x="1829160" y="3164760"/>
              <a:ext cx="1087200" cy="496800"/>
              <a:chOff x="1829160" y="3164760"/>
              <a:chExt cx="1087200" cy="496800"/>
            </a:xfrm>
          </p:grpSpPr>
          <p:sp>
            <p:nvSpPr>
              <p:cNvPr id="622" name=""/>
              <p:cNvSpPr/>
              <p:nvPr/>
            </p:nvSpPr>
            <p:spPr>
              <a:xfrm flipH="1" flipV="1" rot="3964800">
                <a:off x="2419200" y="30182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 rot="4780200">
                <a:off x="2297880" y="30661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 rot="5076000">
                <a:off x="2221560" y="307548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 rot="5608200">
                <a:off x="2131920" y="308520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1598400" y="3171600"/>
              <a:ext cx="1084680" cy="520920"/>
              <a:chOff x="1598400" y="3171600"/>
              <a:chExt cx="1084680" cy="520920"/>
            </a:xfrm>
          </p:grpSpPr>
          <p:sp>
            <p:nvSpPr>
              <p:cNvPr id="627" name=""/>
              <p:cNvSpPr/>
              <p:nvPr/>
            </p:nvSpPr>
            <p:spPr>
              <a:xfrm flipH="1" flipV="1" rot="5318400">
                <a:off x="2188440" y="3085560"/>
                <a:ext cx="19404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 rot="6133800">
                <a:off x="2057760" y="308340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 rot="6429600">
                <a:off x="1984320" y="3063960"/>
                <a:ext cx="194040" cy="78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 rot="6961800">
                <a:off x="1897920" y="303732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1" name=""/>
          <p:cNvSpPr/>
          <p:nvPr/>
        </p:nvSpPr>
        <p:spPr>
          <a:xfrm>
            <a:off x="1758960" y="2760840"/>
            <a:ext cx="1009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6165720" y="220968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165720" y="2209680"/>
            <a:ext cx="1489320" cy="1487520"/>
          </a:xfrm>
          <a:prstGeom prst="ellipse">
            <a:avLst/>
          </a:prstGeom>
          <a:gradFill rotWithShape="0">
            <a:gsLst>
              <a:gs pos="0">
                <a:srgbClr val="0d2842">
                  <a:alpha val="90196"/>
                </a:srgbClr>
              </a:gs>
              <a:gs pos="50000">
                <a:srgbClr val="3399ff">
                  <a:alpha val="45098"/>
                </a:srgbClr>
              </a:gs>
              <a:gs pos="100000">
                <a:srgbClr val="0d28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19800" y="22399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6268680" y="3240720"/>
            <a:ext cx="1317960" cy="527760"/>
            <a:chOff x="6268680" y="3240720"/>
            <a:chExt cx="1317960" cy="527760"/>
          </a:xfrm>
        </p:grpSpPr>
        <p:grpSp>
          <p:nvGrpSpPr>
            <p:cNvPr id="636" name=""/>
            <p:cNvGrpSpPr/>
            <p:nvPr/>
          </p:nvGrpSpPr>
          <p:grpSpPr>
            <a:xfrm>
              <a:off x="6499440" y="3240720"/>
              <a:ext cx="1087200" cy="496800"/>
              <a:chOff x="6499440" y="3240720"/>
              <a:chExt cx="1087200" cy="496800"/>
            </a:xfrm>
          </p:grpSpPr>
          <p:sp>
            <p:nvSpPr>
              <p:cNvPr id="637" name=""/>
              <p:cNvSpPr/>
              <p:nvPr/>
            </p:nvSpPr>
            <p:spPr>
              <a:xfrm flipH="1" flipV="1" rot="3964800">
                <a:off x="7089480" y="309420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 rot="4780200">
                <a:off x="6968160" y="31420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 rot="5076000">
                <a:off x="6891840" y="31514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 flipV="1" rot="5608200">
                <a:off x="6802200" y="31611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6268680" y="3247560"/>
              <a:ext cx="1084680" cy="520920"/>
              <a:chOff x="6268680" y="3247560"/>
              <a:chExt cx="1084680" cy="520920"/>
            </a:xfrm>
          </p:grpSpPr>
          <p:sp>
            <p:nvSpPr>
              <p:cNvPr id="642" name=""/>
              <p:cNvSpPr/>
              <p:nvPr/>
            </p:nvSpPr>
            <p:spPr>
              <a:xfrm flipH="1" flipV="1" rot="5318400">
                <a:off x="6858720" y="3161520"/>
                <a:ext cx="19404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 flipV="1" rot="6133800">
                <a:off x="6728040" y="315936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 flipV="1" rot="6429600">
                <a:off x="6654600" y="3139920"/>
                <a:ext cx="194040" cy="78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 flipV="1" rot="6961800">
                <a:off x="6568200" y="311328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6" name=""/>
          <p:cNvSpPr/>
          <p:nvPr/>
        </p:nvSpPr>
        <p:spPr>
          <a:xfrm>
            <a:off x="6265800" y="2760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5591160"/>
            <a:ext cx="477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3124080"/>
            <a:ext cx="2666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3724200"/>
            <a:ext cx="2208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715000" y="3809880"/>
            <a:ext cx="251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f965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95480" y="2209680"/>
            <a:ext cx="3200400" cy="3200400"/>
          </a:xfrm>
          <a:prstGeom prst="ellipse">
            <a:avLst/>
          </a:prstGeom>
          <a:noFill/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33520" y="1905120"/>
            <a:ext cx="2163600" cy="386532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5f5f5f">
                <a:alpha val="8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828720" y="2642760"/>
            <a:ext cx="1773360" cy="2410200"/>
            <a:chOff x="828720" y="2642760"/>
            <a:chExt cx="1773360" cy="2410200"/>
          </a:xfrm>
        </p:grpSpPr>
        <p:sp>
          <p:nvSpPr>
            <p:cNvPr id="656" name=""/>
            <p:cNvSpPr/>
            <p:nvPr/>
          </p:nvSpPr>
          <p:spPr>
            <a:xfrm flipV="1">
              <a:off x="828720" y="2642400"/>
              <a:ext cx="1773360" cy="101412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68686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32680" y="4038840"/>
              <a:ext cx="1769400" cy="101412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533520" y="3432240"/>
            <a:ext cx="2719440" cy="812880"/>
          </a:xfrm>
          <a:prstGeom prst="rightArrow">
            <a:avLst>
              <a:gd name="adj1" fmla="val 54000"/>
              <a:gd name="adj2" fmla="val 68612"/>
            </a:avLst>
          </a:prstGeom>
          <a:gradFill rotWithShape="0">
            <a:gsLst>
              <a:gs pos="0">
                <a:srgbClr val="e5c037"/>
              </a:gs>
              <a:gs pos="100000">
                <a:srgbClr val="695819"/>
              </a:gs>
            </a:gsLst>
            <a:lin ang="108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28560" y="2637000"/>
            <a:ext cx="1828800" cy="2447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3e3e3"/>
              </a:gs>
              <a:gs pos="100000">
                <a:srgbClr val="c0c0c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281640" y="1925640"/>
            <a:ext cx="2162160" cy="3865680"/>
          </a:xfrm>
          <a:prstGeom prst="rect">
            <a:avLst/>
          </a:prstGeom>
          <a:solidFill>
            <a:srgbClr val="f8f8f8">
              <a:alpha val="10000"/>
            </a:srgbClr>
          </a:solidFill>
          <a:ln w="9360">
            <a:solidFill>
              <a:srgbClr val="5f5f5f">
                <a:alpha val="8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6408360" y="2668320"/>
            <a:ext cx="1819800" cy="2401920"/>
            <a:chOff x="6408360" y="2668320"/>
            <a:chExt cx="1819800" cy="2401920"/>
          </a:xfrm>
        </p:grpSpPr>
        <p:sp>
          <p:nvSpPr>
            <p:cNvPr id="662" name=""/>
            <p:cNvSpPr/>
            <p:nvPr/>
          </p:nvSpPr>
          <p:spPr>
            <a:xfrm flipH="1" flipV="1">
              <a:off x="6408720" y="2667960"/>
              <a:ext cx="181944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38383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6408000" y="4059000"/>
              <a:ext cx="179892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38383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 flipH="1">
            <a:off x="5784840" y="3473280"/>
            <a:ext cx="2673360" cy="717840"/>
          </a:xfrm>
          <a:prstGeom prst="rightArrow">
            <a:avLst>
              <a:gd name="adj1" fmla="val 62213"/>
              <a:gd name="adj2" fmla="val 69397"/>
            </a:avLst>
          </a:prstGeom>
          <a:gradFill rotWithShape="0">
            <a:gsLst>
              <a:gs pos="0">
                <a:srgbClr val="4596cd"/>
              </a:gs>
              <a:gs pos="100000">
                <a:srgbClr val="1f455e"/>
              </a:gs>
            </a:gsLst>
            <a:lin ang="108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41240" y="190512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554880" y="192564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98320" y="2967120"/>
            <a:ext cx="184176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ef96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ef96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546960" y="2666880"/>
            <a:ext cx="182880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9e9e9"/>
              </a:gs>
              <a:gs pos="100000">
                <a:srgbClr val="c0c0c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524640" y="2949480"/>
            <a:ext cx="1881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ef96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ef96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124080" y="2438280"/>
            <a:ext cx="2819160" cy="2819520"/>
            <a:chOff x="3124080" y="2438280"/>
            <a:chExt cx="2819160" cy="2819520"/>
          </a:xfrm>
        </p:grpSpPr>
        <p:grpSp>
          <p:nvGrpSpPr>
            <p:cNvPr id="671" name=""/>
            <p:cNvGrpSpPr/>
            <p:nvPr/>
          </p:nvGrpSpPr>
          <p:grpSpPr>
            <a:xfrm>
              <a:off x="3960000" y="2438280"/>
              <a:ext cx="1147320" cy="938880"/>
              <a:chOff x="3960000" y="2438280"/>
              <a:chExt cx="1147320" cy="93888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3960000" y="2438280"/>
                <a:ext cx="1147320" cy="938880"/>
                <a:chOff x="3960000" y="2438280"/>
                <a:chExt cx="1147320" cy="93888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3969360" y="2454120"/>
                  <a:ext cx="1137960" cy="923040"/>
                </a:xfrm>
                <a:prstGeom prst="hexagon">
                  <a:avLst>
                    <a:gd name="adj" fmla="val 30821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960000" y="243828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026600" y="2493720"/>
                  <a:ext cx="1000080" cy="811440"/>
                </a:xfrm>
                <a:prstGeom prst="hexagon">
                  <a:avLst>
                    <a:gd name="adj" fmla="val 30812"/>
                    <a:gd name="vf" fmla="val 115470"/>
                  </a:avLst>
                </a:prstGeom>
                <a:gradFill rotWithShape="0">
                  <a:gsLst>
                    <a:gs pos="0">
                      <a:srgbClr val="2614aa"/>
                    </a:gs>
                    <a:gs pos="100000">
                      <a:srgbClr val="7262ec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4207680" y="27014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3124080" y="2906280"/>
              <a:ext cx="1148400" cy="938880"/>
              <a:chOff x="3124080" y="2906280"/>
              <a:chExt cx="1148400" cy="938880"/>
            </a:xfrm>
          </p:grpSpPr>
          <p:grpSp>
            <p:nvGrpSpPr>
              <p:cNvPr id="678" name=""/>
              <p:cNvGrpSpPr/>
              <p:nvPr/>
            </p:nvGrpSpPr>
            <p:grpSpPr>
              <a:xfrm>
                <a:off x="3124080" y="2906280"/>
                <a:ext cx="1148400" cy="938880"/>
                <a:chOff x="3124080" y="2906280"/>
                <a:chExt cx="1148400" cy="9388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133440" y="292212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124080" y="290628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190680" y="296172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115d16"/>
                    </a:gs>
                    <a:gs pos="100000">
                      <a:srgbClr val="24b443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2" name=""/>
              <p:cNvSpPr/>
              <p:nvPr/>
            </p:nvSpPr>
            <p:spPr>
              <a:xfrm>
                <a:off x="3379320" y="31636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3960000" y="3377160"/>
              <a:ext cx="1147320" cy="938880"/>
              <a:chOff x="3960000" y="3377160"/>
              <a:chExt cx="1147320" cy="93888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3960000" y="3377160"/>
                <a:ext cx="1147320" cy="938880"/>
                <a:chOff x="3960000" y="3377160"/>
                <a:chExt cx="1147320" cy="93888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3969360" y="3393000"/>
                  <a:ext cx="1137960" cy="923040"/>
                </a:xfrm>
                <a:prstGeom prst="hexagon">
                  <a:avLst>
                    <a:gd name="adj" fmla="val 30821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960000" y="337716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026600" y="3432600"/>
                  <a:ext cx="1000080" cy="811440"/>
                </a:xfrm>
                <a:prstGeom prst="hexagon">
                  <a:avLst>
                    <a:gd name="adj" fmla="val 30812"/>
                    <a:gd name="vf" fmla="val 115470"/>
                  </a:avLst>
                </a:prstGeom>
                <a:gradFill rotWithShape="0">
                  <a:gsLst>
                    <a:gs pos="0">
                      <a:srgbClr val="844820"/>
                    </a:gs>
                    <a:gs pos="100000">
                      <a:srgbClr val="cc7032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4188240" y="36453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794840" y="2906280"/>
              <a:ext cx="1148400" cy="938880"/>
              <a:chOff x="4794840" y="2906280"/>
              <a:chExt cx="1148400" cy="93888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4794840" y="2906280"/>
                <a:ext cx="1148400" cy="938880"/>
                <a:chOff x="4794840" y="2906280"/>
                <a:chExt cx="1148400" cy="93888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4804200" y="292212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794840" y="290628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861440" y="296172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85b9c3"/>
                    </a:gs>
                    <a:gs pos="100000">
                      <a:srgbClr val="3d5559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5050080" y="31762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4794840" y="3848040"/>
              <a:ext cx="1148400" cy="938880"/>
              <a:chOff x="4794840" y="3848040"/>
              <a:chExt cx="1148400" cy="93888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4794840" y="3848040"/>
                <a:ext cx="1148400" cy="938880"/>
                <a:chOff x="4794840" y="3848040"/>
                <a:chExt cx="1148400" cy="9388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4804200" y="386388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794840" y="384804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861440" y="390348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4dc9b1"/>
                    </a:gs>
                    <a:gs pos="100000">
                      <a:srgbClr val="235c51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0" name=""/>
              <p:cNvSpPr/>
              <p:nvPr/>
            </p:nvSpPr>
            <p:spPr>
              <a:xfrm>
                <a:off x="5065560" y="41493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3124080" y="3848040"/>
              <a:ext cx="1148400" cy="938880"/>
              <a:chOff x="3124080" y="3848040"/>
              <a:chExt cx="1148400" cy="938880"/>
            </a:xfrm>
          </p:grpSpPr>
          <p:grpSp>
            <p:nvGrpSpPr>
              <p:cNvPr id="702" name=""/>
              <p:cNvGrpSpPr/>
              <p:nvPr/>
            </p:nvGrpSpPr>
            <p:grpSpPr>
              <a:xfrm>
                <a:off x="3124080" y="3848040"/>
                <a:ext cx="1148400" cy="938880"/>
                <a:chOff x="3124080" y="3848040"/>
                <a:chExt cx="1148400" cy="93888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133440" y="386388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124080" y="384804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190680" y="390348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>
                <a:off x="3379320" y="41032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3960000" y="4318920"/>
              <a:ext cx="1147320" cy="938880"/>
              <a:chOff x="3960000" y="4318920"/>
              <a:chExt cx="1147320" cy="938880"/>
            </a:xfrm>
          </p:grpSpPr>
          <p:grpSp>
            <p:nvGrpSpPr>
              <p:cNvPr id="708" name=""/>
              <p:cNvGrpSpPr/>
              <p:nvPr/>
            </p:nvGrpSpPr>
            <p:grpSpPr>
              <a:xfrm>
                <a:off x="3960000" y="4318920"/>
                <a:ext cx="1147320" cy="938880"/>
                <a:chOff x="3960000" y="4318920"/>
                <a:chExt cx="1147320" cy="93888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3969360" y="4334760"/>
                  <a:ext cx="1137960" cy="923040"/>
                </a:xfrm>
                <a:prstGeom prst="hexagon">
                  <a:avLst>
                    <a:gd name="adj" fmla="val 30821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960000" y="431892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026600" y="4374360"/>
                  <a:ext cx="1000080" cy="811440"/>
                </a:xfrm>
                <a:prstGeom prst="hexagon">
                  <a:avLst>
                    <a:gd name="adj" fmla="val 30812"/>
                    <a:gd name="vf" fmla="val 115470"/>
                  </a:avLst>
                </a:prstGeom>
                <a:gradFill rotWithShape="0">
                  <a:gsLst>
                    <a:gs pos="0">
                      <a:srgbClr val="bfaa4f"/>
                    </a:gs>
                    <a:gs pos="100000">
                      <a:srgbClr val="584e24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"/>
              <p:cNvSpPr/>
              <p:nvPr/>
            </p:nvSpPr>
            <p:spPr>
              <a:xfrm>
                <a:off x="4210560" y="45889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022480" y="2976480"/>
            <a:ext cx="930240" cy="2430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69960" y="6005520"/>
            <a:ext cx="1679760" cy="3952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880240" y="4552920"/>
            <a:ext cx="1182600" cy="27936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168720" y="4410000"/>
            <a:ext cx="2089080" cy="5479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 rot="17752800">
            <a:off x="5634360" y="2925720"/>
            <a:ext cx="1677600" cy="17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2" y="16773"/>
                </a:moveTo>
                <a:arcTo wR="10800" hR="10800" stAng="8785564" swAng="18754729"/>
                <a:lnTo>
                  <a:pt x="10800" y="10800"/>
                </a:lnTo>
                <a:close/>
              </a:path>
              <a:path fill="none" w="21600" h="21600">
                <a:moveTo>
                  <a:pt x="1802" y="16773"/>
                </a:moveTo>
                <a:arcTo wR="10800" hR="10800" stAng="8785564" swAng="18754729"/>
              </a:path>
            </a:pathLst>
          </a:custGeom>
          <a:noFill/>
          <a:ln w="19080">
            <a:solidFill>
              <a:srgbClr val="1c1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1817280" y="1512000"/>
            <a:ext cx="1380240" cy="142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14" y="20987"/>
                </a:moveTo>
                <a:arcTo wR="10800" hR="10800" stAng="6563447" swAng="19875067"/>
                <a:lnTo>
                  <a:pt x="10800" y="10800"/>
                </a:lnTo>
                <a:close/>
              </a:path>
              <a:path fill="none" w="21600" h="21600">
                <a:moveTo>
                  <a:pt x="7214" y="20987"/>
                </a:moveTo>
                <a:arcTo wR="10800" hR="10800" stAng="6563447" swAng="19875067"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5789520" y="3108240"/>
            <a:ext cx="1365480" cy="13525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5789520" y="3108240"/>
            <a:ext cx="1357560" cy="1355760"/>
          </a:xfrm>
          <a:prstGeom prst="ellipse">
            <a:avLst/>
          </a:prstGeom>
          <a:gradFill rotWithShape="0">
            <a:gsLst>
              <a:gs pos="0">
                <a:srgbClr val="00351a">
                  <a:alpha val="90196"/>
                </a:srgbClr>
              </a:gs>
              <a:gs pos="50000">
                <a:srgbClr val="00cc66">
                  <a:alpha val="45098"/>
                </a:srgbClr>
              </a:gs>
              <a:gs pos="100000">
                <a:srgbClr val="00351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929200" y="3135240"/>
            <a:ext cx="1067040" cy="4716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5885640" y="4049640"/>
            <a:ext cx="1201680" cy="479160"/>
            <a:chOff x="5885640" y="4049640"/>
            <a:chExt cx="1201680" cy="479160"/>
          </a:xfrm>
        </p:grpSpPr>
        <p:grpSp>
          <p:nvGrpSpPr>
            <p:cNvPr id="724" name=""/>
            <p:cNvGrpSpPr/>
            <p:nvPr/>
          </p:nvGrpSpPr>
          <p:grpSpPr>
            <a:xfrm>
              <a:off x="6096240" y="4049640"/>
              <a:ext cx="991080" cy="453240"/>
              <a:chOff x="6096240" y="4049640"/>
              <a:chExt cx="991080" cy="453240"/>
            </a:xfrm>
          </p:grpSpPr>
          <p:sp>
            <p:nvSpPr>
              <p:cNvPr id="725" name=""/>
              <p:cNvSpPr/>
              <p:nvPr/>
            </p:nvSpPr>
            <p:spPr>
              <a:xfrm flipH="1" flipV="1" rot="3964800">
                <a:off x="6633720" y="3915720"/>
                <a:ext cx="17676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 rot="4780200">
                <a:off x="6522120" y="396072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 flipV="1" rot="5076000">
                <a:off x="6453720" y="396972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 flipV="1" rot="5608200">
                <a:off x="6371280" y="397764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5885640" y="4053240"/>
              <a:ext cx="988920" cy="475560"/>
              <a:chOff x="5885640" y="4053240"/>
              <a:chExt cx="988920" cy="475560"/>
            </a:xfrm>
          </p:grpSpPr>
          <p:sp>
            <p:nvSpPr>
              <p:cNvPr id="730" name=""/>
              <p:cNvSpPr/>
              <p:nvPr/>
            </p:nvSpPr>
            <p:spPr>
              <a:xfrm flipH="1" flipV="1" rot="5317800">
                <a:off x="6423480" y="3975840"/>
                <a:ext cx="17784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 rot="6133800">
                <a:off x="6303600" y="3974040"/>
                <a:ext cx="17784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 rot="6429000">
                <a:off x="6237720" y="3956760"/>
                <a:ext cx="17784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 rot="6961200">
                <a:off x="6158160" y="3931200"/>
                <a:ext cx="177840" cy="718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1920960" y="1644480"/>
            <a:ext cx="1179360" cy="116856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1920960" y="1644480"/>
            <a:ext cx="1171440" cy="1171800"/>
          </a:xfrm>
          <a:prstGeom prst="ellipse">
            <a:avLst/>
          </a:prstGeom>
          <a:gradFill rotWithShape="0">
            <a:gsLst>
              <a:gs pos="0">
                <a:srgbClr val="361501">
                  <a:alpha val="90196"/>
                </a:srgbClr>
              </a:gs>
              <a:gs pos="50000">
                <a:srgbClr val="d15305">
                  <a:alpha val="45098"/>
                </a:srgbClr>
              </a:gs>
              <a:gs pos="100000">
                <a:srgbClr val="361501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41560" y="1668600"/>
            <a:ext cx="920880" cy="4064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85560" y="202896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179760" y="36036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87240" y="2138400"/>
            <a:ext cx="12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215120" y="356544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679480" y="2505240"/>
            <a:ext cx="1036440" cy="1048680"/>
            <a:chOff x="2679480" y="2505240"/>
            <a:chExt cx="1036440" cy="1048680"/>
          </a:xfrm>
        </p:grpSpPr>
        <p:sp>
          <p:nvSpPr>
            <p:cNvPr id="742" name=""/>
            <p:cNvSpPr/>
            <p:nvPr/>
          </p:nvSpPr>
          <p:spPr>
            <a:xfrm rot="19090200">
              <a:off x="2674800" y="2552400"/>
              <a:ext cx="160200" cy="4752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c198c1"/>
                </a:gs>
                <a:gs pos="100000">
                  <a:srgbClr val="660066"/>
                </a:gs>
              </a:gsLst>
              <a:lin ang="133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8122200">
              <a:off x="3166200" y="2366640"/>
              <a:ext cx="87480" cy="13510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26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521600" y="3813840"/>
            <a:ext cx="1479240" cy="150120"/>
            <a:chOff x="4521600" y="3813840"/>
            <a:chExt cx="1479240" cy="150120"/>
          </a:xfrm>
        </p:grpSpPr>
        <p:sp>
          <p:nvSpPr>
            <p:cNvPr id="745" name=""/>
            <p:cNvSpPr/>
            <p:nvPr/>
          </p:nvSpPr>
          <p:spPr>
            <a:xfrm rot="5607000">
              <a:off x="5894640" y="3860280"/>
              <a:ext cx="139320" cy="6444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50000">
                  <a:srgbClr val="00ffff"/>
                </a:gs>
                <a:gs pos="100000">
                  <a:srgbClr val="003232"/>
                </a:gs>
              </a:gsLst>
              <a:lin ang="51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rot="16242000">
              <a:off x="5201640" y="3141360"/>
              <a:ext cx="100800" cy="14608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54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" descr=""/>
          <p:cNvPicPr/>
          <p:nvPr/>
        </p:nvPicPr>
        <p:blipFill>
          <a:blip r:embed="rId3"/>
          <a:stretch/>
        </p:blipFill>
        <p:spPr>
          <a:xfrm>
            <a:off x="3352680" y="3043080"/>
            <a:ext cx="1654200" cy="164160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3352680" y="3043080"/>
            <a:ext cx="1643040" cy="1644840"/>
          </a:xfrm>
          <a:prstGeom prst="ellipse">
            <a:avLst/>
          </a:prstGeom>
          <a:gradFill rotWithShape="0">
            <a:gsLst>
              <a:gs pos="0">
                <a:srgbClr val="424200">
                  <a:alpha val="90196"/>
                </a:srgbClr>
              </a:gs>
              <a:gs pos="100000">
                <a:srgbClr val="ffff00">
                  <a:alpha val="4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522600" y="3076560"/>
            <a:ext cx="1292400" cy="569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467160" y="4184640"/>
            <a:ext cx="1455480" cy="580320"/>
            <a:chOff x="3467160" y="4184640"/>
            <a:chExt cx="1455480" cy="580320"/>
          </a:xfrm>
        </p:grpSpPr>
        <p:grpSp>
          <p:nvGrpSpPr>
            <p:cNvPr id="751" name=""/>
            <p:cNvGrpSpPr/>
            <p:nvPr/>
          </p:nvGrpSpPr>
          <p:grpSpPr>
            <a:xfrm>
              <a:off x="3722040" y="4184640"/>
              <a:ext cx="1200600" cy="549000"/>
              <a:chOff x="3722040" y="4184640"/>
              <a:chExt cx="1200600" cy="549000"/>
            </a:xfrm>
          </p:grpSpPr>
          <p:sp>
            <p:nvSpPr>
              <p:cNvPr id="752" name=""/>
              <p:cNvSpPr/>
              <p:nvPr/>
            </p:nvSpPr>
            <p:spPr>
              <a:xfrm flipH="1" flipV="1" rot="3964800">
                <a:off x="4373640" y="4023000"/>
                <a:ext cx="21384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 flipV="1" rot="4780200">
                <a:off x="4238280" y="4077000"/>
                <a:ext cx="21384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flipV="1" rot="5076000">
                <a:off x="4155840" y="4087440"/>
                <a:ext cx="21384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flipV="1" rot="5608200">
                <a:off x="4056480" y="4097160"/>
                <a:ext cx="21384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3467160" y="4190400"/>
              <a:ext cx="1198440" cy="574560"/>
              <a:chOff x="3467160" y="4190400"/>
              <a:chExt cx="1198440" cy="574560"/>
            </a:xfrm>
          </p:grpSpPr>
          <p:sp>
            <p:nvSpPr>
              <p:cNvPr id="757" name=""/>
              <p:cNvSpPr/>
              <p:nvPr/>
            </p:nvSpPr>
            <p:spPr>
              <a:xfrm flipH="1" flipV="1" rot="5317800">
                <a:off x="4119840" y="409572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 flipV="1" rot="6133800">
                <a:off x="3975120" y="4093920"/>
                <a:ext cx="21420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 flipV="1" rot="6429000">
                <a:off x="3893760" y="407268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 flipV="1" rot="6961200">
                <a:off x="3798720" y="404172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1" name=""/>
          <p:cNvSpPr/>
          <p:nvPr/>
        </p:nvSpPr>
        <p:spPr>
          <a:xfrm>
            <a:off x="3848760" y="363384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2501280" y="4129920"/>
            <a:ext cx="1258560" cy="1019880"/>
            <a:chOff x="2501280" y="4129920"/>
            <a:chExt cx="1258560" cy="1019880"/>
          </a:xfrm>
        </p:grpSpPr>
        <p:sp>
          <p:nvSpPr>
            <p:cNvPr id="763" name=""/>
            <p:cNvSpPr/>
            <p:nvPr/>
          </p:nvSpPr>
          <p:spPr>
            <a:xfrm rot="3460800">
              <a:off x="3585600" y="4181400"/>
              <a:ext cx="174600" cy="954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d5c198"/>
                </a:gs>
                <a:gs pos="100000">
                  <a:srgbClr val="996600"/>
                </a:gs>
              </a:gsLst>
              <a:lin ang="73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rot="13956000">
              <a:off x="3058920" y="3934080"/>
              <a:ext cx="108000" cy="14590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3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 flipH="1" rot="5910600">
            <a:off x="1591200" y="4469400"/>
            <a:ext cx="1677600" cy="17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1" y="20943"/>
                </a:moveTo>
                <a:arcTo wR="10800" hR="10800" stAng="6605145" swAng="19472499"/>
                <a:lnTo>
                  <a:pt x="10800" y="10800"/>
                </a:lnTo>
                <a:close/>
              </a:path>
              <a:path fill="none" w="21600" h="21600">
                <a:moveTo>
                  <a:pt x="7091" y="20943"/>
                </a:moveTo>
                <a:arcTo wR="10800" hR="10800" stAng="6605145" swAng="19472499"/>
              </a:path>
            </a:pathLst>
          </a:custGeom>
          <a:noFill/>
          <a:ln w="19080">
            <a:solidFill>
              <a:srgbClr val="1c1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3520" y="506268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1724040" y="4643280"/>
            <a:ext cx="1432080" cy="141948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1724040" y="4643280"/>
            <a:ext cx="1422360" cy="1422720"/>
          </a:xfrm>
          <a:prstGeom prst="ellipse">
            <a:avLst/>
          </a:prstGeom>
          <a:gradFill rotWithShape="0">
            <a:gsLst>
              <a:gs pos="0">
                <a:srgbClr val="351a42">
                  <a:alpha val="90196"/>
                </a:srgbClr>
              </a:gs>
              <a:gs pos="50000">
                <a:srgbClr val="cc66ff">
                  <a:alpha val="45098"/>
                </a:srgbClr>
              </a:gs>
              <a:gs pos="100000">
                <a:srgbClr val="351a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71640" y="4672080"/>
            <a:ext cx="1117800" cy="4935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596cd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1824480" y="5631480"/>
            <a:ext cx="1258200" cy="502560"/>
            <a:chOff x="1824480" y="5631480"/>
            <a:chExt cx="1258200" cy="502560"/>
          </a:xfrm>
        </p:grpSpPr>
        <p:grpSp>
          <p:nvGrpSpPr>
            <p:cNvPr id="771" name=""/>
            <p:cNvGrpSpPr/>
            <p:nvPr/>
          </p:nvGrpSpPr>
          <p:grpSpPr>
            <a:xfrm>
              <a:off x="2045160" y="5631480"/>
              <a:ext cx="1037520" cy="474480"/>
              <a:chOff x="2045160" y="5631480"/>
              <a:chExt cx="1037520" cy="474480"/>
            </a:xfrm>
          </p:grpSpPr>
          <p:sp>
            <p:nvSpPr>
              <p:cNvPr id="772" name=""/>
              <p:cNvSpPr/>
              <p:nvPr/>
            </p:nvSpPr>
            <p:spPr>
              <a:xfrm flipH="1" flipV="1" rot="3964800">
                <a:off x="2608200" y="5491440"/>
                <a:ext cx="18468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 rot="4780200">
                <a:off x="2491560" y="5537880"/>
                <a:ext cx="18468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flipV="1" rot="5076000">
                <a:off x="2419920" y="5547240"/>
                <a:ext cx="184680" cy="753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 flipV="1" rot="5608200">
                <a:off x="2334240" y="5554800"/>
                <a:ext cx="18468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1824480" y="5636520"/>
              <a:ext cx="1036080" cy="497520"/>
              <a:chOff x="1824480" y="5636520"/>
              <a:chExt cx="1036080" cy="497520"/>
            </a:xfrm>
          </p:grpSpPr>
          <p:sp>
            <p:nvSpPr>
              <p:cNvPr id="777" name=""/>
              <p:cNvSpPr/>
              <p:nvPr/>
            </p:nvSpPr>
            <p:spPr>
              <a:xfrm flipH="1" flipV="1" rot="5317800">
                <a:off x="2388240" y="555480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 flipV="1" rot="6133800">
                <a:off x="2263680" y="555228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 flipV="1" rot="6429000">
                <a:off x="2193480" y="553392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 flipV="1" rot="6961200">
                <a:off x="2111040" y="550764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1" name=""/>
          <p:cNvSpPr/>
          <p:nvPr/>
        </p:nvSpPr>
        <p:spPr>
          <a:xfrm>
            <a:off x="2107800" y="51786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2003760" y="2457720"/>
            <a:ext cx="1036080" cy="414360"/>
            <a:chOff x="2003760" y="2457720"/>
            <a:chExt cx="1036080" cy="414360"/>
          </a:xfrm>
        </p:grpSpPr>
        <p:grpSp>
          <p:nvGrpSpPr>
            <p:cNvPr id="783" name=""/>
            <p:cNvGrpSpPr/>
            <p:nvPr/>
          </p:nvGrpSpPr>
          <p:grpSpPr>
            <a:xfrm>
              <a:off x="2184840" y="2457720"/>
              <a:ext cx="855000" cy="390600"/>
              <a:chOff x="2184840" y="2457720"/>
              <a:chExt cx="855000" cy="390600"/>
            </a:xfrm>
          </p:grpSpPr>
          <p:sp>
            <p:nvSpPr>
              <p:cNvPr id="784" name=""/>
              <p:cNvSpPr/>
              <p:nvPr/>
            </p:nvSpPr>
            <p:spPr>
              <a:xfrm flipH="1" flipV="1" rot="3964800">
                <a:off x="2649240" y="234216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 flipV="1" rot="4780200">
                <a:off x="2553120" y="238104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 flipV="1" rot="5076000">
                <a:off x="2494080" y="2387880"/>
                <a:ext cx="15156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 flipV="1" rot="5608200">
                <a:off x="2423160" y="239508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2003760" y="2462400"/>
              <a:ext cx="853200" cy="409680"/>
              <a:chOff x="2003760" y="2462400"/>
              <a:chExt cx="853200" cy="409680"/>
            </a:xfrm>
          </p:grpSpPr>
          <p:sp>
            <p:nvSpPr>
              <p:cNvPr id="789" name=""/>
              <p:cNvSpPr/>
              <p:nvPr/>
            </p:nvSpPr>
            <p:spPr>
              <a:xfrm flipH="1" flipV="1" rot="5317800">
                <a:off x="2468520" y="239508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 flipV="1" rot="6133800">
                <a:off x="2365200" y="239292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 flipV="1" rot="6429000">
                <a:off x="2307600" y="2378160"/>
                <a:ext cx="15228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 flipV="1" rot="6961200">
                <a:off x="2239200" y="235656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3" name=""/>
          <p:cNvSpPr/>
          <p:nvPr/>
        </p:nvSpPr>
        <p:spPr>
          <a:xfrm>
            <a:off x="3497400" y="53942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5448240" y="289548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ef965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343320" y="31510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4596c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21932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42bb3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27492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8632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470720" y="30351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195560" y="2114640"/>
            <a:ext cx="693864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53392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ef9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353960" y="4267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257560" y="162720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4480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ef9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2952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ef9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324240" y="4294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5796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533520" y="1752480"/>
            <a:ext cx="8001000" cy="4084560"/>
            <a:chOff x="533520" y="1752480"/>
            <a:chExt cx="8001000" cy="4084560"/>
          </a:xfrm>
        </p:grpSpPr>
        <p:grpSp>
          <p:nvGrpSpPr>
            <p:cNvPr id="811" name=""/>
            <p:cNvGrpSpPr/>
            <p:nvPr/>
          </p:nvGrpSpPr>
          <p:grpSpPr>
            <a:xfrm>
              <a:off x="3990960" y="2143080"/>
              <a:ext cx="771840" cy="687240"/>
              <a:chOff x="3990960" y="2143080"/>
              <a:chExt cx="771840" cy="687240"/>
            </a:xfrm>
          </p:grpSpPr>
          <p:sp>
            <p:nvSpPr>
              <p:cNvPr id="812" name=""/>
              <p:cNvSpPr/>
              <p:nvPr/>
            </p:nvSpPr>
            <p:spPr>
              <a:xfrm>
                <a:off x="3990960" y="2261160"/>
                <a:ext cx="77184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990960" y="2203920"/>
                <a:ext cx="771840" cy="57024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990960" y="2143080"/>
                <a:ext cx="77184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4397400" y="1758960"/>
              <a:ext cx="2385720" cy="2094840"/>
              <a:chOff x="4397400" y="1758960"/>
              <a:chExt cx="2385720" cy="2094840"/>
            </a:xfrm>
          </p:grpSpPr>
          <p:sp>
            <p:nvSpPr>
              <p:cNvPr id="816" name=""/>
              <p:cNvSpPr/>
              <p:nvPr/>
            </p:nvSpPr>
            <p:spPr>
              <a:xfrm>
                <a:off x="4397400" y="2102040"/>
                <a:ext cx="2369520" cy="1751760"/>
              </a:xfrm>
              <a:prstGeom prst="diamond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98480" y="1916280"/>
                <a:ext cx="2369880" cy="1751400"/>
              </a:xfrm>
              <a:prstGeom prst="diamond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413600" y="1758960"/>
                <a:ext cx="2369520" cy="1751760"/>
              </a:xfrm>
              <a:prstGeom prst="diamond">
                <a:avLst/>
              </a:prstGeom>
              <a:gradFill rotWithShape="0">
                <a:gsLst>
                  <a:gs pos="0">
                    <a:srgbClr val="a865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2033640" y="1752480"/>
              <a:ext cx="2385720" cy="2082600"/>
              <a:chOff x="2033640" y="1752480"/>
              <a:chExt cx="2385720" cy="2082600"/>
            </a:xfrm>
          </p:grpSpPr>
          <p:sp>
            <p:nvSpPr>
              <p:cNvPr id="820" name=""/>
              <p:cNvSpPr/>
              <p:nvPr/>
            </p:nvSpPr>
            <p:spPr>
              <a:xfrm>
                <a:off x="203364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034720" y="1909800"/>
                <a:ext cx="2369880" cy="175212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4984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83855"/>
                  </a:gs>
                  <a:gs pos="100000">
                    <a:srgbClr val="66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270792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06196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02336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083040" y="2047680"/>
              <a:ext cx="480960" cy="4590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24800" y="2082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45360" y="2047680"/>
              <a:ext cx="482400" cy="4590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91800" y="208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5615280" y="3452760"/>
              <a:ext cx="771480" cy="689040"/>
              <a:chOff x="5615280" y="3452760"/>
              <a:chExt cx="771480" cy="689040"/>
            </a:xfrm>
          </p:grpSpPr>
          <p:sp>
            <p:nvSpPr>
              <p:cNvPr id="831" name=""/>
              <p:cNvSpPr/>
              <p:nvPr/>
            </p:nvSpPr>
            <p:spPr>
              <a:xfrm>
                <a:off x="561528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61528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61528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6b6b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4397400" y="3747960"/>
              <a:ext cx="2385720" cy="2089080"/>
              <a:chOff x="4397400" y="3747960"/>
              <a:chExt cx="2385720" cy="2089080"/>
            </a:xfrm>
          </p:grpSpPr>
          <p:sp>
            <p:nvSpPr>
              <p:cNvPr id="835" name=""/>
              <p:cNvSpPr/>
              <p:nvPr/>
            </p:nvSpPr>
            <p:spPr>
              <a:xfrm>
                <a:off x="439740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398480" y="3914280"/>
                <a:ext cx="236988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41360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6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8" name=""/>
            <p:cNvSpPr/>
            <p:nvPr/>
          </p:nvSpPr>
          <p:spPr>
            <a:xfrm>
              <a:off x="50684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32400" y="4103640"/>
              <a:ext cx="481320" cy="45864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87120" y="414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2457720" y="3500280"/>
              <a:ext cx="771480" cy="687240"/>
              <a:chOff x="2457720" y="3500280"/>
              <a:chExt cx="771480" cy="687240"/>
            </a:xfrm>
          </p:grpSpPr>
          <p:sp>
            <p:nvSpPr>
              <p:cNvPr id="842" name=""/>
              <p:cNvSpPr/>
              <p:nvPr/>
            </p:nvSpPr>
            <p:spPr>
              <a:xfrm>
                <a:off x="245772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45772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45772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2032200" y="3744720"/>
              <a:ext cx="2385720" cy="2080800"/>
              <a:chOff x="2032200" y="3744720"/>
              <a:chExt cx="2385720" cy="2080800"/>
            </a:xfrm>
          </p:grpSpPr>
          <p:sp>
            <p:nvSpPr>
              <p:cNvPr id="846" name=""/>
              <p:cNvSpPr/>
              <p:nvPr/>
            </p:nvSpPr>
            <p:spPr>
              <a:xfrm>
                <a:off x="2032200" y="407232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033280" y="3902040"/>
                <a:ext cx="2369880" cy="175284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48400" y="374472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a4d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27158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83040" y="4103640"/>
              <a:ext cx="480960" cy="45864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29480" y="414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3990960" y="4852800"/>
              <a:ext cx="771840" cy="689040"/>
              <a:chOff x="3990960" y="4852800"/>
              <a:chExt cx="771840" cy="689040"/>
            </a:xfrm>
          </p:grpSpPr>
          <p:sp>
            <p:nvSpPr>
              <p:cNvPr id="853" name=""/>
              <p:cNvSpPr/>
              <p:nvPr/>
            </p:nvSpPr>
            <p:spPr>
              <a:xfrm>
                <a:off x="3990960" y="4971240"/>
                <a:ext cx="77184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990960" y="4913640"/>
                <a:ext cx="77184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990960" y="4852800"/>
                <a:ext cx="77184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6435720" y="200808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07360" y="406404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3352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42880" y="4135320"/>
              <a:ext cx="19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f965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057400" y="2019240"/>
            <a:ext cx="5114880" cy="457200"/>
            <a:chOff x="2057400" y="2019240"/>
            <a:chExt cx="5114880" cy="457200"/>
          </a:xfrm>
        </p:grpSpPr>
        <p:sp>
          <p:nvSpPr>
            <p:cNvPr id="97" name=""/>
            <p:cNvSpPr/>
            <p:nvPr/>
          </p:nvSpPr>
          <p:spPr>
            <a:xfrm>
              <a:off x="2057400" y="21240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a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286000" y="2019240"/>
              <a:ext cx="4886280" cy="457200"/>
              <a:chOff x="2286000" y="2019240"/>
              <a:chExt cx="4886280" cy="45720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2286000" y="2229840"/>
                <a:ext cx="345960" cy="8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23960" y="2019240"/>
                <a:ext cx="4648320" cy="4572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057400" y="2705040"/>
            <a:ext cx="5114880" cy="457200"/>
            <a:chOff x="2057400" y="2705040"/>
            <a:chExt cx="5114880" cy="457200"/>
          </a:xfrm>
        </p:grpSpPr>
        <p:sp>
          <p:nvSpPr>
            <p:cNvPr id="102" name=""/>
            <p:cNvSpPr/>
            <p:nvPr/>
          </p:nvSpPr>
          <p:spPr>
            <a:xfrm>
              <a:off x="2057400" y="28004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2922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286000" y="2705040"/>
              <a:ext cx="4886280" cy="457200"/>
              <a:chOff x="2286000" y="2705040"/>
              <a:chExt cx="4886280" cy="457200"/>
            </a:xfrm>
          </p:grpSpPr>
          <p:sp>
            <p:nvSpPr>
              <p:cNvPr id="104" name=""/>
              <p:cNvSpPr/>
              <p:nvPr/>
            </p:nvSpPr>
            <p:spPr>
              <a:xfrm flipV="1">
                <a:off x="2286000" y="2915640"/>
                <a:ext cx="345960" cy="8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523960" y="2705040"/>
                <a:ext cx="4648320" cy="4572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057400" y="3400560"/>
            <a:ext cx="5114880" cy="457200"/>
            <a:chOff x="2057400" y="3400560"/>
            <a:chExt cx="5114880" cy="457200"/>
          </a:xfrm>
        </p:grpSpPr>
        <p:sp>
          <p:nvSpPr>
            <p:cNvPr id="107" name=""/>
            <p:cNvSpPr/>
            <p:nvPr/>
          </p:nvSpPr>
          <p:spPr>
            <a:xfrm>
              <a:off x="2057400" y="35053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4596cd"/>
                </a:gs>
                <a:gs pos="100000">
                  <a:srgbClr val="2d6388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286000" y="3400560"/>
              <a:ext cx="4886280" cy="457200"/>
              <a:chOff x="2286000" y="3400560"/>
              <a:chExt cx="4886280" cy="45720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2286000" y="3611160"/>
                <a:ext cx="345960" cy="8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23960" y="3400560"/>
                <a:ext cx="4648320" cy="4572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4105440"/>
            <a:ext cx="5114880" cy="457200"/>
            <a:chOff x="2057400" y="4105440"/>
            <a:chExt cx="5114880" cy="457200"/>
          </a:xfrm>
        </p:grpSpPr>
        <p:sp>
          <p:nvSpPr>
            <p:cNvPr id="112" name=""/>
            <p:cNvSpPr/>
            <p:nvPr/>
          </p:nvSpPr>
          <p:spPr>
            <a:xfrm>
              <a:off x="2057400" y="42148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42bb39"/>
                </a:gs>
                <a:gs pos="100000">
                  <a:srgbClr val="2b7c25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286000" y="4105440"/>
              <a:ext cx="4886280" cy="457200"/>
              <a:chOff x="2286000" y="4105440"/>
              <a:chExt cx="4886280" cy="45720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2286000" y="4316040"/>
                <a:ext cx="345960" cy="8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523960" y="4105440"/>
                <a:ext cx="4648320" cy="4572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057400" y="4800600"/>
            <a:ext cx="5114880" cy="457200"/>
            <a:chOff x="2057400" y="4800600"/>
            <a:chExt cx="5114880" cy="457200"/>
          </a:xfrm>
        </p:grpSpPr>
        <p:sp>
          <p:nvSpPr>
            <p:cNvPr id="117" name=""/>
            <p:cNvSpPr/>
            <p:nvPr/>
          </p:nvSpPr>
          <p:spPr>
            <a:xfrm>
              <a:off x="2057400" y="49006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ef965f"/>
                </a:gs>
                <a:gs pos="100000">
                  <a:srgbClr val="9e633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286000" y="4800600"/>
              <a:ext cx="4886280" cy="457200"/>
              <a:chOff x="2286000" y="4800600"/>
              <a:chExt cx="4886280" cy="457200"/>
            </a:xfrm>
          </p:grpSpPr>
          <p:sp>
            <p:nvSpPr>
              <p:cNvPr id="119" name=""/>
              <p:cNvSpPr/>
              <p:nvPr/>
            </p:nvSpPr>
            <p:spPr>
              <a:xfrm flipV="1">
                <a:off x="2286000" y="5011200"/>
                <a:ext cx="345960" cy="8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23960" y="4800600"/>
                <a:ext cx="4648320" cy="4572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3660120" y="20574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60120" y="27525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60120" y="34527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60120" y="41911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60120" y="48150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3E4F-2961-4D14-8EB9-6CBF1FB261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2701440" y="5638320"/>
            <a:ext cx="298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 Add your company slogan 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1676520" y="4952880"/>
            <a:ext cx="457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42bb3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66"/>
                  </a:gs>
                  <a:gs pos="100000">
                    <a:srgbClr val="42bb3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4800" y="1568520"/>
            <a:ext cx="7788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2bb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42bb39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42bb39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42bb39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42bb39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5073480"/>
            <a:ext cx="6324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f965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38080" y="1676520"/>
            <a:ext cx="6400800" cy="990360"/>
            <a:chOff x="838080" y="1676520"/>
            <a:chExt cx="6400800" cy="990360"/>
          </a:xfrm>
        </p:grpSpPr>
        <p:sp>
          <p:nvSpPr>
            <p:cNvPr id="132" name=""/>
            <p:cNvSpPr/>
            <p:nvPr/>
          </p:nvSpPr>
          <p:spPr>
            <a:xfrm>
              <a:off x="914400" y="1676520"/>
              <a:ext cx="6324480" cy="99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f965f"/>
                </a:gs>
                <a:gs pos="100000">
                  <a:srgbClr val="f7d4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38080" y="2209320"/>
              <a:ext cx="6400800" cy="22824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838080" y="3124080"/>
            <a:ext cx="6400800" cy="990720"/>
            <a:chOff x="838080" y="3124080"/>
            <a:chExt cx="6400800" cy="990720"/>
          </a:xfrm>
        </p:grpSpPr>
        <p:sp>
          <p:nvSpPr>
            <p:cNvPr id="135" name=""/>
            <p:cNvSpPr/>
            <p:nvPr/>
          </p:nvSpPr>
          <p:spPr>
            <a:xfrm>
              <a:off x="914400" y="3124080"/>
              <a:ext cx="6324480" cy="9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2bb39"/>
                </a:gs>
                <a:gs pos="100000">
                  <a:srgbClr val="b2e2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838080" y="3656520"/>
              <a:ext cx="6400800" cy="22860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838080" y="4572000"/>
            <a:ext cx="6400800" cy="990720"/>
            <a:chOff x="838080" y="4572000"/>
            <a:chExt cx="6400800" cy="990720"/>
          </a:xfrm>
        </p:grpSpPr>
        <p:sp>
          <p:nvSpPr>
            <p:cNvPr id="138" name=""/>
            <p:cNvSpPr/>
            <p:nvPr/>
          </p:nvSpPr>
          <p:spPr>
            <a:xfrm>
              <a:off x="914400" y="4572000"/>
              <a:ext cx="6324480" cy="9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596cd"/>
                </a:gs>
                <a:gs pos="100000">
                  <a:srgbClr val="b3d4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838080" y="5104440"/>
              <a:ext cx="6400800" cy="22860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066320" y="1752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22860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ef96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320" y="32004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37339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2b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320" y="46483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518148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59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48112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e7e7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38080" y="2209680"/>
            <a:ext cx="1838160" cy="3309840"/>
            <a:chOff x="838080" y="2209680"/>
            <a:chExt cx="1838160" cy="3309840"/>
          </a:xfrm>
        </p:grpSpPr>
        <p:sp>
          <p:nvSpPr>
            <p:cNvPr id="149" name=""/>
            <p:cNvSpPr/>
            <p:nvPr/>
          </p:nvSpPr>
          <p:spPr>
            <a:xfrm>
              <a:off x="83808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f965f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630600" y="2209680"/>
            <a:ext cx="1838160" cy="3309840"/>
            <a:chOff x="3630600" y="2209680"/>
            <a:chExt cx="1838160" cy="3309840"/>
          </a:xfrm>
        </p:grpSpPr>
        <p:sp>
          <p:nvSpPr>
            <p:cNvPr id="152" name=""/>
            <p:cNvSpPr/>
            <p:nvPr/>
          </p:nvSpPr>
          <p:spPr>
            <a:xfrm>
              <a:off x="36306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596cd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368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467400" y="2209680"/>
            <a:ext cx="1838160" cy="3309840"/>
            <a:chOff x="6467400" y="2209680"/>
            <a:chExt cx="1838160" cy="3309840"/>
          </a:xfrm>
        </p:grpSpPr>
        <p:sp>
          <p:nvSpPr>
            <p:cNvPr id="155" name=""/>
            <p:cNvSpPr/>
            <p:nvPr/>
          </p:nvSpPr>
          <p:spPr>
            <a:xfrm>
              <a:off x="64674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2bb3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43720" y="22572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9144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971800" y="3733920"/>
            <a:ext cx="504000" cy="495720"/>
            <a:chOff x="2971800" y="3733920"/>
            <a:chExt cx="504000" cy="495720"/>
          </a:xfrm>
        </p:grpSpPr>
        <p:grpSp>
          <p:nvGrpSpPr>
            <p:cNvPr id="161" name=""/>
            <p:cNvGrpSpPr/>
            <p:nvPr/>
          </p:nvGrpSpPr>
          <p:grpSpPr>
            <a:xfrm>
              <a:off x="3173400" y="3733920"/>
              <a:ext cx="302400" cy="495720"/>
              <a:chOff x="3173400" y="3733920"/>
              <a:chExt cx="302400" cy="495720"/>
            </a:xfrm>
          </p:grpSpPr>
          <p:sp>
            <p:nvSpPr>
              <p:cNvPr id="162" name=""/>
              <p:cNvSpPr/>
              <p:nvPr/>
            </p:nvSpPr>
            <p:spPr>
              <a:xfrm>
                <a:off x="31734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742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750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742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1734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971800" y="3733920"/>
              <a:ext cx="302400" cy="495720"/>
              <a:chOff x="2971800" y="3733920"/>
              <a:chExt cx="302400" cy="495720"/>
            </a:xfrm>
          </p:grpSpPr>
          <p:sp>
            <p:nvSpPr>
              <p:cNvPr id="168" name=""/>
              <p:cNvSpPr/>
              <p:nvPr/>
            </p:nvSpPr>
            <p:spPr>
              <a:xfrm>
                <a:off x="29718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726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734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726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9718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5715000" y="3733920"/>
            <a:ext cx="504000" cy="495720"/>
            <a:chOff x="5715000" y="3733920"/>
            <a:chExt cx="504000" cy="495720"/>
          </a:xfrm>
        </p:grpSpPr>
        <p:grpSp>
          <p:nvGrpSpPr>
            <p:cNvPr id="174" name=""/>
            <p:cNvGrpSpPr/>
            <p:nvPr/>
          </p:nvGrpSpPr>
          <p:grpSpPr>
            <a:xfrm>
              <a:off x="5916600" y="3733920"/>
              <a:ext cx="302400" cy="495720"/>
              <a:chOff x="5916600" y="3733920"/>
              <a:chExt cx="302400" cy="495720"/>
            </a:xfrm>
          </p:grpSpPr>
          <p:sp>
            <p:nvSpPr>
              <p:cNvPr id="175" name=""/>
              <p:cNvSpPr/>
              <p:nvPr/>
            </p:nvSpPr>
            <p:spPr>
              <a:xfrm>
                <a:off x="59166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174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182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174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166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5715000" y="3733920"/>
              <a:ext cx="302400" cy="495720"/>
              <a:chOff x="5715000" y="3733920"/>
              <a:chExt cx="302400" cy="495720"/>
            </a:xfrm>
          </p:grpSpPr>
          <p:sp>
            <p:nvSpPr>
              <p:cNvPr id="181" name=""/>
              <p:cNvSpPr/>
              <p:nvPr/>
            </p:nvSpPr>
            <p:spPr>
              <a:xfrm>
                <a:off x="57150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158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9166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158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150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990720" y="152388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600200"/>
            <a:ext cx="5499360" cy="4495680"/>
          </a:xfrm>
          <a:prstGeom prst="rightArrow">
            <a:avLst>
              <a:gd name="adj1" fmla="val 79306"/>
              <a:gd name="adj2" fmla="val 30298"/>
            </a:avLst>
          </a:prstGeom>
          <a:gradFill rotWithShape="0">
            <a:gsLst>
              <a:gs pos="0">
                <a:srgbClr val="42bb39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c83b3"/>
              </a:gs>
              <a:gs pos="100000">
                <a:srgbClr val="4596c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a546"/>
              </a:gs>
              <a:gs pos="100000">
                <a:srgbClr val="e8bd50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18353"/>
              </a:gs>
              <a:gs pos="100000">
                <a:srgbClr val="ef965f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95880" y="2176560"/>
            <a:ext cx="2285640" cy="3309840"/>
            <a:chOff x="6095880" y="2176560"/>
            <a:chExt cx="2285640" cy="3309840"/>
          </a:xfrm>
        </p:grpSpPr>
        <p:sp>
          <p:nvSpPr>
            <p:cNvPr id="193" name=""/>
            <p:cNvSpPr/>
            <p:nvPr/>
          </p:nvSpPr>
          <p:spPr>
            <a:xfrm>
              <a:off x="6095880" y="217656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596cd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90560" y="221472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400800" y="3090960"/>
            <a:ext cx="175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85800" y="2438280"/>
            <a:ext cx="547560" cy="513000"/>
            <a:chOff x="685800" y="2438280"/>
            <a:chExt cx="547560" cy="513000"/>
          </a:xfrm>
        </p:grpSpPr>
        <p:sp>
          <p:nvSpPr>
            <p:cNvPr id="197" name=""/>
            <p:cNvSpPr/>
            <p:nvPr/>
          </p:nvSpPr>
          <p:spPr>
            <a:xfrm>
              <a:off x="68580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100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9656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9100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9656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9100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9656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85800" y="3581280"/>
            <a:ext cx="547560" cy="513000"/>
            <a:chOff x="685800" y="3581280"/>
            <a:chExt cx="547560" cy="513000"/>
          </a:xfrm>
        </p:grpSpPr>
        <p:sp>
          <p:nvSpPr>
            <p:cNvPr id="207" name=""/>
            <p:cNvSpPr/>
            <p:nvPr/>
          </p:nvSpPr>
          <p:spPr>
            <a:xfrm>
              <a:off x="68580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9100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9656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580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100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9656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80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9100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656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5800" y="4724280"/>
            <a:ext cx="547560" cy="513000"/>
            <a:chOff x="685800" y="4724280"/>
            <a:chExt cx="547560" cy="513000"/>
          </a:xfrm>
        </p:grpSpPr>
        <p:sp>
          <p:nvSpPr>
            <p:cNvPr id="217" name=""/>
            <p:cNvSpPr/>
            <p:nvPr/>
          </p:nvSpPr>
          <p:spPr>
            <a:xfrm>
              <a:off x="68580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9100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656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9100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656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100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656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736720" y="1884960"/>
            <a:ext cx="3689640" cy="3697200"/>
            <a:chOff x="2736720" y="1884960"/>
            <a:chExt cx="3689640" cy="3697200"/>
          </a:xfrm>
        </p:grpSpPr>
        <p:sp>
          <p:nvSpPr>
            <p:cNvPr id="228" name=""/>
            <p:cNvSpPr/>
            <p:nvPr/>
          </p:nvSpPr>
          <p:spPr>
            <a:xfrm>
              <a:off x="2903400" y="2057400"/>
              <a:ext cx="3332520" cy="3322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895480" y="2057400"/>
              <a:ext cx="334692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917080" y="2061360"/>
              <a:ext cx="3328560" cy="334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435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43579"/>
                </a:path>
              </a:pathLst>
            </a:custGeom>
            <a:solidFill>
              <a:srgbClr val="855ada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2908080" y="2058480"/>
              <a:ext cx="3342240" cy="333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5" y="2"/>
                  </a:moveTo>
                  <a:arcTo wR="10800" hR="10800" stAng="-5465392" swAng="547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5" y="2"/>
                  </a:moveTo>
                  <a:arcTo wR="10800" hR="10800" stAng="-5465392" swAng="5476597"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 rot="5400000">
              <a:off x="2904840" y="2072160"/>
              <a:ext cx="3335400" cy="332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013" y="2"/>
                  </a:moveTo>
                  <a:arcTo wR="10800" hR="10800" stAng="-5332190" swAng="5362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013" y="2"/>
                  </a:moveTo>
                  <a:arcTo wR="10800" hR="10800" stAng="-5332190" swAng="5362650"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0419000">
              <a:off x="2911680" y="2059200"/>
              <a:ext cx="3339720" cy="334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87" y="65"/>
                  </a:moveTo>
                  <a:arcTo wR="10800" hR="10800" stAng="-5021536" swAng="54764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87" y="65"/>
                  </a:moveTo>
                  <a:arcTo wR="10800" hR="10800" stAng="-5021536" swAng="5476435"/>
                </a:path>
              </a:pathLst>
            </a:custGeom>
            <a:solidFill>
              <a:srgbClr val="855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 rot="18976800">
              <a:off x="3287160" y="2675160"/>
              <a:ext cx="168012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 rot="2686800">
              <a:off x="4247640" y="2697480"/>
              <a:ext cx="167616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 rot="2760000">
              <a:off x="3161520" y="4056120"/>
              <a:ext cx="1551240" cy="62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 rot="19083600">
              <a:off x="4456440" y="4030920"/>
              <a:ext cx="154476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676680" y="2819880"/>
              <a:ext cx="1791000" cy="1841040"/>
              <a:chOff x="3676680" y="2819880"/>
              <a:chExt cx="1791000" cy="1841040"/>
            </a:xfrm>
          </p:grpSpPr>
          <p:pic>
            <p:nvPicPr>
              <p:cNvPr id="23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76680" y="2819880"/>
                <a:ext cx="1791000" cy="17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>
                <a:off x="3676680" y="2819880"/>
                <a:ext cx="1779480" cy="1754640"/>
              </a:xfrm>
              <a:prstGeom prst="ellipse">
                <a:avLst/>
              </a:prstGeom>
              <a:gradFill rotWithShape="0">
                <a:gsLst>
                  <a:gs pos="0">
                    <a:srgbClr val="404040">
                      <a:alpha val="90196"/>
                    </a:srgbClr>
                  </a:gs>
                  <a:gs pos="50000">
                    <a:srgbClr val="f8f8f8">
                      <a:alpha val="45098"/>
                    </a:srgbClr>
                  </a:gs>
                  <a:gs pos="100000">
                    <a:srgbClr val="40404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861360" y="2855160"/>
                <a:ext cx="1397520" cy="608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3803040" y="4033800"/>
                <a:ext cx="1571760" cy="627120"/>
                <a:chOff x="3803040" y="4033800"/>
                <a:chExt cx="1571760" cy="62712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077360" y="4033800"/>
                  <a:ext cx="1297440" cy="590040"/>
                  <a:chOff x="4077360" y="4033800"/>
                  <a:chExt cx="1297440" cy="5900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 flipH="1" flipV="1" rot="3964800">
                    <a:off x="4783680" y="385704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 flipV="1" rot="4780200">
                    <a:off x="4638240" y="3915720"/>
                    <a:ext cx="227160" cy="9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flipV="1" rot="5076000">
                    <a:off x="4548600" y="392760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 rot="5608200">
                    <a:off x="4440240" y="393732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3803040" y="4042440"/>
                  <a:ext cx="1296000" cy="618480"/>
                  <a:chOff x="3803040" y="4042440"/>
                  <a:chExt cx="1296000" cy="6184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 flipV="1" rot="5317800">
                    <a:off x="4510440" y="3938040"/>
                    <a:ext cx="22824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flipV="1" rot="6133800">
                    <a:off x="4353120" y="393552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 rot="6429000">
                    <a:off x="4265640" y="391212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 rot="6961200">
                    <a:off x="4162680" y="3880080"/>
                    <a:ext cx="22824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3" name=""/>
            <p:cNvSpPr/>
            <p:nvPr/>
          </p:nvSpPr>
          <p:spPr>
            <a:xfrm>
              <a:off x="4222800" y="3476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324480" y="1676520"/>
            <a:ext cx="236232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5ada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5181480"/>
            <a:ext cx="2361960" cy="83844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96cd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66640" y="1684440"/>
            <a:ext cx="228600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96cd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5216400"/>
            <a:ext cx="2361960" cy="80352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5ada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57360" y="1969920"/>
            <a:ext cx="3956040" cy="38815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74800" y="2176560"/>
            <a:ext cx="3490920" cy="34909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0800" y="2503440"/>
            <a:ext cx="2973600" cy="297360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9043800">
            <a:off x="2133000" y="38016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45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411720" y="160776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42b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788000">
            <a:off x="4679640" y="38149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ef9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19640" y="3468600"/>
            <a:ext cx="185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22800" y="235116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55920" y="4535640"/>
            <a:ext cx="116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22800" y="453564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04040" y="202104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2bb3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2bb3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37656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596c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596cd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94400" y="407844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965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f965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74124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872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4596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944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175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348444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76600" y="37623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42bb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376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07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618948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7552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ef96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4264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6580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378240" y="1787400"/>
            <a:ext cx="2382840" cy="538200"/>
            <a:chOff x="3378240" y="1787400"/>
            <a:chExt cx="2382840" cy="538200"/>
          </a:xfrm>
        </p:grpSpPr>
        <p:sp>
          <p:nvSpPr>
            <p:cNvPr id="286" name=""/>
            <p:cNvSpPr/>
            <p:nvPr/>
          </p:nvSpPr>
          <p:spPr>
            <a:xfrm>
              <a:off x="337824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0668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2bb39">
                    <a:alpha val="90196"/>
                  </a:srgbClr>
                </a:gs>
                <a:gs pos="50000">
                  <a:srgbClr val="bee7bb"/>
                </a:gs>
                <a:gs pos="100000">
                  <a:srgbClr val="42bb3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84876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105600" y="1787400"/>
            <a:ext cx="2384280" cy="538200"/>
            <a:chOff x="6105600" y="1787400"/>
            <a:chExt cx="2384280" cy="538200"/>
          </a:xfrm>
        </p:grpSpPr>
        <p:sp>
          <p:nvSpPr>
            <p:cNvPr id="290" name=""/>
            <p:cNvSpPr/>
            <p:nvPr/>
          </p:nvSpPr>
          <p:spPr>
            <a:xfrm>
              <a:off x="61056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3584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965f">
                    <a:alpha val="90196"/>
                  </a:srgbClr>
                </a:gs>
                <a:gs pos="50000">
                  <a:srgbClr val="f8dac8"/>
                </a:gs>
                <a:gs pos="100000">
                  <a:srgbClr val="ef965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57828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85800" y="1787400"/>
            <a:ext cx="2384280" cy="538200"/>
            <a:chOff x="685800" y="1787400"/>
            <a:chExt cx="2384280" cy="538200"/>
          </a:xfrm>
        </p:grpSpPr>
        <p:sp>
          <p:nvSpPr>
            <p:cNvPr id="294" name=""/>
            <p:cNvSpPr/>
            <p:nvPr/>
          </p:nvSpPr>
          <p:spPr>
            <a:xfrm>
              <a:off x="6858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3549"/>
                </a:gs>
                <a:gs pos="50000">
                  <a:srgbClr val="4596cd"/>
                </a:gs>
                <a:gs pos="100000">
                  <a:srgbClr val="183549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604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96cd">
                    <a:alpha val="90196"/>
                  </a:srgbClr>
                </a:gs>
                <a:gs pos="50000">
                  <a:srgbClr val="bfdaed"/>
                </a:gs>
                <a:gs pos="100000">
                  <a:srgbClr val="4596cd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15884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87156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596c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5384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2bb3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2816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f965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17:45:2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1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